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813B-2721-4CAC-9240-9892C6E2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CC7-4E0A-4E46-928E-4CC8BB31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F59-123A-4065-802E-A22F673C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827-FAEB-45E5-8CFE-A7771BEF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F0C1-F894-47AB-B908-D4F99FB4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FB8E-F7DA-4F97-9027-06A4B28A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3D10-CCE4-46C9-B9AE-2271E8AA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4157-90A9-4185-9CB9-9E12E28E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D780-3B34-4949-BA07-D1811785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F8C3-A0E1-4EB1-825E-EA51896E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BC68-4943-406B-823A-B4F83CAA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E9E-304E-483E-984C-76311C87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0AB2-D961-4E19-9C8A-C88B7C14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252B-BF1D-445B-B783-2AD57BE7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5FF1-63A7-48DC-9292-1663EDD6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DD2E-5C55-40BE-BF2A-66715053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C988-3833-4FF7-92F9-DE16B207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CB4-864E-485F-97F0-33EAE6D7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BE2-5181-453D-A04C-D3691C9D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77BB-742C-4D3E-8AEE-F8DB5877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D95-E464-49F6-9C1F-8E17CB81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642-6191-4442-AEE4-AA1390A1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F98-F02A-4D26-9D10-79F969ED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064-A611-4948-ABDF-88708AB2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9195-3D3B-4DEC-B027-3773F30721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C12A-2743-4E2B-9854-F14B203C858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Жанры изобразительного искусства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28560" y="5214960"/>
            <a:ext cx="67150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И.В.Корпусенко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d4d"/>
                </a:solidFill>
                <a:latin typeface="Verdana"/>
              </a:rPr>
              <a:t>учитель ИЗО МБОУ СШ №18 г.Волгодонс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Бытовой жанр (жанровая живопись)  – это изображение повседневной жизни людей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4" descr="Сватовство майора"/>
          <p:cNvPicPr/>
          <p:nvPr/>
        </p:nvPicPr>
        <p:blipFill>
          <a:blip r:embed="rId1"/>
          <a:stretch/>
        </p:blipFill>
        <p:spPr>
          <a:xfrm>
            <a:off x="1979640" y="2185920"/>
            <a:ext cx="590544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72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предели жанр картины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Picture 4" descr="Неизвестная"/>
          <p:cNvPicPr/>
          <p:nvPr/>
        </p:nvPicPr>
        <p:blipFill>
          <a:blip r:embed="rId1"/>
          <a:stretch/>
        </p:blipFill>
        <p:spPr>
          <a:xfrm>
            <a:off x="1476360" y="1557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предели жанр картины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4" descr="Истор"/>
          <p:cNvPicPr/>
          <p:nvPr/>
        </p:nvPicPr>
        <p:blipFill>
          <a:blip r:embed="rId1"/>
          <a:stretch/>
        </p:blipFill>
        <p:spPr>
          <a:xfrm>
            <a:off x="971640" y="1335240"/>
            <a:ext cx="698508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предели жанр картины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4" descr="Бытовой ж"/>
          <p:cNvPicPr/>
          <p:nvPr/>
        </p:nvPicPr>
        <p:blipFill>
          <a:blip r:embed="rId1"/>
          <a:stretch/>
        </p:blipFill>
        <p:spPr>
          <a:xfrm>
            <a:off x="900000" y="1628640"/>
            <a:ext cx="7620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предели жанр картины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LEVIT4P1"/>
          <p:cNvPicPr/>
          <p:nvPr/>
        </p:nvPicPr>
        <p:blipFill>
          <a:blip r:embed="rId1"/>
          <a:stretch/>
        </p:blipFill>
        <p:spPr>
          <a:xfrm>
            <a:off x="1619280" y="1628640"/>
            <a:ext cx="604188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предели жанр картины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476360" y="1585800"/>
            <a:ext cx="612000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1428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33"/>
                </a:solidFill>
                <a:latin typeface="Arial"/>
              </a:rPr>
              <a:t>Анималистический жанр </a:t>
            </a:r>
            <a:br>
              <a:rPr sz="3600"/>
            </a:br>
            <a:r>
              <a:rPr b="0" lang="ru-RU" sz="2900" spc="-1" strike="noStrike">
                <a:solidFill>
                  <a:srgbClr val="003333"/>
                </a:solidFill>
                <a:latin typeface="Arial"/>
              </a:rPr>
              <a:t>(от</a:t>
            </a:r>
            <a:r>
              <a:rPr b="0" lang="ru-RU" sz="3600" spc="-1" strike="noStrike">
                <a:solidFill>
                  <a:srgbClr val="003333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3333"/>
                </a:solidFill>
                <a:latin typeface="Arial"/>
              </a:rPr>
              <a:t>лат.</a:t>
            </a:r>
            <a:r>
              <a:rPr b="0" lang="en-US" sz="2900" spc="-1" strike="noStrike">
                <a:solidFill>
                  <a:srgbClr val="003333"/>
                </a:solidFill>
                <a:latin typeface="Arial"/>
              </a:rPr>
              <a:t>animal</a:t>
            </a:r>
            <a:r>
              <a:rPr b="0" lang="ru-RU" sz="2900" spc="-1" strike="noStrike">
                <a:solidFill>
                  <a:srgbClr val="003333"/>
                </a:solidFill>
                <a:latin typeface="Arial"/>
              </a:rPr>
              <a:t>-животное) – жанр изобразительного искусства, связанный с изображением животных в живописи, скульптуре и графики.</a:t>
            </a:r>
            <a:br>
              <a:rPr sz="2900"/>
            </a:br>
            <a:r>
              <a:rPr b="0" lang="ru-RU" sz="3600" spc="-1" strike="noStrike">
                <a:solidFill>
                  <a:srgbClr val="00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669960" y="3886200"/>
            <a:ext cx="850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33"/>
                </a:solidFill>
                <a:latin typeface="Verdana"/>
              </a:rPr>
              <a:t>Художника, который специализируется 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33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3333"/>
                </a:solidFill>
                <a:latin typeface="Verdana"/>
              </a:rPr>
              <a:t>анималистическом жанре, называют </a:t>
            </a:r>
            <a:r>
              <a:rPr b="1" lang="ru-RU" sz="3200" spc="-1" strike="noStrike">
                <a:solidFill>
                  <a:srgbClr val="003333"/>
                </a:solidFill>
                <a:latin typeface="Verdana"/>
              </a:rPr>
              <a:t>анималист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4"/>
          <p:cNvPicPr/>
          <p:nvPr/>
        </p:nvPicPr>
        <p:blipFill>
          <a:blip r:embed="rId1"/>
          <a:stretch/>
        </p:blipFill>
        <p:spPr>
          <a:xfrm>
            <a:off x="762120" y="121932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523880" y="380880"/>
            <a:ext cx="69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Роспись гробницы в Медум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12BYK"/>
          <p:cNvPicPr/>
          <p:nvPr/>
        </p:nvPicPr>
        <p:blipFill>
          <a:blip r:embed="rId1"/>
          <a:stretch/>
        </p:blipFill>
        <p:spPr>
          <a:xfrm>
            <a:off x="2362320" y="1228680"/>
            <a:ext cx="4038480" cy="5486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380880" y="3049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«Чёрный буйвол». Фрагмент настенной живопис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5"/>
          <p:cNvPicPr/>
          <p:nvPr/>
        </p:nvPicPr>
        <p:blipFill>
          <a:blip r:embed="rId1"/>
          <a:stretch/>
        </p:blipFill>
        <p:spPr>
          <a:xfrm>
            <a:off x="1500120" y="1400040"/>
            <a:ext cx="6396120" cy="52768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457200" y="533520"/>
            <a:ext cx="860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«Антилопы». Фреска с острова Фера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ередина 16 в. до н.э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Жанр в изобразительном искусстве  – это совокупность произведений, объединенных одной темой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T014_1"/>
          <p:cNvPicPr/>
          <p:nvPr/>
        </p:nvPicPr>
        <p:blipFill>
          <a:blip r:embed="rId1"/>
          <a:stretch/>
        </p:blipFill>
        <p:spPr>
          <a:xfrm>
            <a:off x="1600200" y="1447920"/>
            <a:ext cx="5638680" cy="5181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249920" y="228600"/>
            <a:ext cx="755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. Торвальдсен. «Ганимед», кормящий зевсова орла»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Мрамор.1817 г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Музей Торвальдсена. Копенгаге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10"/>
          <p:cNvPicPr/>
          <p:nvPr/>
        </p:nvPicPr>
        <p:blipFill>
          <a:blip r:embed="rId1"/>
          <a:stretch/>
        </p:blipFill>
        <p:spPr>
          <a:xfrm>
            <a:off x="1523880" y="995400"/>
            <a:ext cx="6248520" cy="5791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85800" y="228600"/>
            <a:ext cx="847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«Сцена охоты». Фрагмент настенной живописи. Маньчжур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P033_2"/>
          <p:cNvPicPr/>
          <p:nvPr/>
        </p:nvPicPr>
        <p:blipFill>
          <a:blip r:embed="rId1"/>
          <a:stretch/>
        </p:blipFill>
        <p:spPr>
          <a:xfrm>
            <a:off x="1523880" y="1219320"/>
            <a:ext cx="6446880" cy="54244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533520" y="228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П. Поттер. «Ферма». 1649 г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Государственный Эрмитаж. Санкт-Петербург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B002_1"/>
          <p:cNvPicPr/>
          <p:nvPr/>
        </p:nvPicPr>
        <p:blipFill>
          <a:blip r:embed="rId1"/>
          <a:stretch/>
        </p:blipFill>
        <p:spPr>
          <a:xfrm>
            <a:off x="1071720" y="1482840"/>
            <a:ext cx="7213320" cy="5089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28600" y="5335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А.Л.Барри. «Лев и змея». Бронза. Парк Тюильри. Париж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838080" y="6858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33"/>
                </a:solidFill>
                <a:latin typeface="Comic Sans MS"/>
              </a:rPr>
              <a:t>Этот зверь живёт лишь дом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33"/>
                </a:solidFill>
                <a:latin typeface="Comic Sans MS"/>
              </a:rPr>
              <a:t>С этим зверем все знаком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33"/>
                </a:solidFill>
                <a:latin typeface="Comic Sans MS"/>
              </a:rPr>
              <a:t>У него усы, как спиц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33"/>
                </a:solidFill>
                <a:latin typeface="Comic Sans MS"/>
              </a:rPr>
              <a:t>Он мурлыча песнь поёт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33"/>
                </a:solidFill>
                <a:latin typeface="Comic Sans MS"/>
              </a:rPr>
              <a:t>Только мышь его боится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33"/>
                </a:solidFill>
                <a:latin typeface="Comic Sans MS"/>
              </a:rPr>
              <a:t>Угадали?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Прямоугольник 2"/>
          <p:cNvSpPr/>
          <p:nvPr/>
        </p:nvSpPr>
        <p:spPr>
          <a:xfrm>
            <a:off x="2025000" y="312408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Comic Sans MS"/>
              </a:rPr>
              <a:t>Это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6021720" y="3048120"/>
            <a:ext cx="14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Comic Sans MS"/>
              </a:rPr>
              <a:t>кот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762120" y="419112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33"/>
                </a:solidFill>
                <a:latin typeface="Comic Sans MS"/>
                <a:ea typeface="Times New Roman"/>
              </a:rPr>
              <a:t>В мире известно около 60 пород кошек. Большинство всех кошек, которые живут в наших квартирах, ни к какой породе не относятся. Их называют просто – домашние кош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1" descr="Рисунок1_0.tmp"/>
          <p:cNvPicPr/>
          <p:nvPr/>
        </p:nvPicPr>
        <p:blipFill>
          <a:blip r:embed="rId1"/>
          <a:stretch/>
        </p:blipFill>
        <p:spPr>
          <a:xfrm>
            <a:off x="0" y="357120"/>
            <a:ext cx="91756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1" descr="Рисунок1_1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" descr="Рисунок1_2.tmp"/>
          <p:cNvPicPr/>
          <p:nvPr/>
        </p:nvPicPr>
        <p:blipFill>
          <a:blip r:embed="rId1"/>
          <a:stretch/>
        </p:blipFill>
        <p:spPr>
          <a:xfrm>
            <a:off x="320760" y="-7920"/>
            <a:ext cx="85024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" descr="Рисунок1_5.tmp"/>
          <p:cNvPicPr/>
          <p:nvPr/>
        </p:nvPicPr>
        <p:blipFill>
          <a:blip r:embed="rId1"/>
          <a:stretch/>
        </p:blipFill>
        <p:spPr>
          <a:xfrm>
            <a:off x="1785960" y="0"/>
            <a:ext cx="5572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" descr="Рисунок3_0.tmp"/>
          <p:cNvPicPr/>
          <p:nvPr/>
        </p:nvPicPr>
        <p:blipFill>
          <a:blip r:embed="rId1"/>
          <a:stretch/>
        </p:blipFill>
        <p:spPr>
          <a:xfrm>
            <a:off x="-14400" y="9360"/>
            <a:ext cx="91584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ейзаж – это изображение природы, вида местности, ландшафт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4" descr="Шторм в ночи"/>
          <p:cNvPicPr/>
          <p:nvPr/>
        </p:nvPicPr>
        <p:blipFill>
          <a:blip r:embed="rId1"/>
          <a:stretch/>
        </p:blipFill>
        <p:spPr>
          <a:xfrm>
            <a:off x="900000" y="1700280"/>
            <a:ext cx="3162240" cy="23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Золотая осень"/>
          <p:cNvPicPr/>
          <p:nvPr/>
        </p:nvPicPr>
        <p:blipFill>
          <a:blip r:embed="rId2"/>
          <a:stretch/>
        </p:blipFill>
        <p:spPr>
          <a:xfrm>
            <a:off x="900000" y="4221000"/>
            <a:ext cx="3167280" cy="237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Куинджи"/>
          <p:cNvPicPr/>
          <p:nvPr/>
        </p:nvPicPr>
        <p:blipFill>
          <a:blip r:embed="rId3"/>
          <a:stretch/>
        </p:blipFill>
        <p:spPr>
          <a:xfrm>
            <a:off x="4932360" y="1700280"/>
            <a:ext cx="33606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16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16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16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Рисунок1_4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f0f"/>
                </a:solidFill>
                <a:latin typeface="Arial"/>
              </a:rPr>
              <a:t>Задание:</a:t>
            </a:r>
            <a:br>
              <a:rPr sz="4400"/>
            </a:br>
            <a:r>
              <a:rPr b="0" lang="ru-RU" sz="4400" spc="-1" strike="noStrike">
                <a:solidFill>
                  <a:srgbClr val="000f0f"/>
                </a:solidFill>
                <a:latin typeface="Arial"/>
              </a:rPr>
              <a:t>выполнить зарисовку домашней кошки. Рисунок можно выполнить любым материал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42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атюрморт – это изображение вещей, своеобразный «портрет» вещи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5" descr="Натюрм"/>
          <p:cNvPicPr/>
          <p:nvPr/>
        </p:nvPicPr>
        <p:blipFill>
          <a:blip r:embed="rId1"/>
          <a:stretch/>
        </p:blipFill>
        <p:spPr>
          <a:xfrm>
            <a:off x="1908000" y="2276640"/>
            <a:ext cx="54007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8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ортрет – это изображение одного человека или группы людей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6" descr="Пушкин"/>
          <p:cNvPicPr/>
          <p:nvPr/>
        </p:nvPicPr>
        <p:blipFill>
          <a:blip r:embed="rId1"/>
          <a:stretch/>
        </p:blipFill>
        <p:spPr>
          <a:xfrm>
            <a:off x="539640" y="2060640"/>
            <a:ext cx="3522600" cy="424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Левицкий 2"/>
          <p:cNvPicPr/>
          <p:nvPr/>
        </p:nvPicPr>
        <p:blipFill>
          <a:blip r:embed="rId2"/>
          <a:stretch/>
        </p:blipFill>
        <p:spPr>
          <a:xfrm>
            <a:off x="5148360" y="2205000"/>
            <a:ext cx="3402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8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8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нималистический жанр – это изображение животных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855720" y="1817640"/>
            <a:ext cx="74311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сторический жанр – это изображение событий прошлого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4" descr="История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92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Батальный жанр – изображение битв и эпизодов военной жизни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4" descr="Батальный"/>
          <p:cNvPicPr/>
          <p:nvPr/>
        </p:nvPicPr>
        <p:blipFill>
          <a:blip r:embed="rId1"/>
          <a:stretch/>
        </p:blipFill>
        <p:spPr>
          <a:xfrm>
            <a:off x="2771640" y="1557360"/>
            <a:ext cx="3980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8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2060640"/>
            <a:ext cx="4176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ифологи-ческий жанр – это картины, написанные на сказочные и былинные темы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Picture 4" descr="Сказка"/>
          <p:cNvPicPr/>
          <p:nvPr/>
        </p:nvPicPr>
        <p:blipFill>
          <a:blip r:embed="rId1"/>
          <a:stretch/>
        </p:blipFill>
        <p:spPr>
          <a:xfrm>
            <a:off x="4427640" y="260280"/>
            <a:ext cx="43545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68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0:05:17Z</dcterms:created>
  <dc:creator>Klass</dc:creator>
  <dc:description/>
  <dc:language>en-US</dc:language>
  <cp:lastModifiedBy>pk28</cp:lastModifiedBy>
  <dcterms:modified xsi:type="dcterms:W3CDTF">2020-04-11T03:50:56Z</dcterms:modified>
  <cp:revision>12</cp:revision>
  <dc:subject/>
  <dc:title>Жанры изобразительного искусства</dc:title>
</cp:coreProperties>
</file>