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0E2-7A9E-4733-B1DA-556E3CF2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783-804C-4769-856C-17860A0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A22-EBED-493A-A060-0010FD3F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8F7-9B70-416B-A196-8E4D3097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63C-6818-4D27-B62A-7E25246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0C2-52A2-4D38-9B9D-D5E8787A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7DA-D1DA-4F16-B94B-0E99B2E6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043-CCBD-4997-816B-6B95020E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D6D-BB2C-4C80-83ED-86C8D398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123-6A3C-459A-A753-4FBCCC3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4B1-335F-4AC5-AE41-37C7F41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AF3-EC7D-4576-8F0D-0C95F3A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98C7-79CC-4527-8AC7-5B6CA5FB2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8000" y="5373720"/>
            <a:ext cx="88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ица как часть реч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1341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Что(бы) вы хотели узнать о частицах?  2)Что(бы) правильно писать частицы, надо уметь отличать их от других часте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31840" y="208080"/>
            <a:ext cx="74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Запишите  предложения, раскрывая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270828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) Выпишите слова с проверяемой гласной в корн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050920" y="321300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ели, писать, отличать,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1840" y="39528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) Выпишите слово с неизменяемой приста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03640" y="436572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л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31840" y="510552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) Укажите номер сложноподчине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924360" y="5516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187280" y="260280"/>
            <a:ext cx="61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тся через дефис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557360"/>
          <a:ext cx="8964720" cy="435276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41720"/>
                <a:gridCol w="2239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илага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наре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ёлто-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цв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-солё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горький и соле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-к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нибу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ли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-осенн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-друже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-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-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-нибу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-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еси-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052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А между тем заря разгорается; вот уже золотые полосы потянулись по небу, жаворонки поют, предрассветный ветер подул – и тихо всплывает багровое солнце. 2.Свежо, весело, любо! 3.Далеко видно кругом. 4.Вон за рощей деревня, вон подальше другая с белой церковью, вон берёзовый лесок на горе. 5.Как вольно дышит грудь, как крепнет человек, охваченный свежим дыханием ве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зительно прочитайте текст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8760" y="380844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) Впишите из текста частицы, укажите, что они выраж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40000" y="407664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, вон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08000" y="450864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) Выпишите слова с приставками, правописание которых зависит от глухости (звонкости) последующего согл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04292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рается, предрассветный, вспл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79280" y="566100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) Выпишите из предложения № 1 слово с чередующейся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348000" y="609300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р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1052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А между тем заря разгорается; вот уже золотые полосы потянулись по небу, жаворонки поют, предрассветный ветер подул – и тихо всплывает багровое солнце. 2.Свежо, весело, любо! 3.Далеко видно кругом. 4.Вон за рощей деревня, вон подальше другая с белой церковью, вон берёзовый лесок на горе. 5.Как вольно дышит грудь, как крепнет человек, охваченный свежим дыханием ве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зительно прочитайте текст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8760" y="380844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) Укажите № предложения с причастным обо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40000" y="407664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8000" y="4508640"/>
            <a:ext cx="88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) Сколько грамматических основ в предложении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08000" y="4797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– заря разгор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908000" y="508464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– полосы п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908000" y="5373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– жаворонки по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8000" y="566100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– ветер под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908000" y="602136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– солнце вспл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1268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он за рощей деревня, вон подальше другая с белой церковью, вон берёзовый лесок на гор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фологический разбор частицы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19120" y="236844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н – час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519120" y="2944800"/>
            <a:ext cx="55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оп.значение у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39640" y="364500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Смыс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7104629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148360" y="3357720"/>
            <a:ext cx="3200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11592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ицательны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и НИ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4000" y="1844640"/>
            <a:ext cx="8569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ЧАСТИЦА 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СЛУЖИТ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Для придания отрицательного смы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е пис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е рабо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79280" y="1628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ля  придания положительн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ысла, если частица НЕ стоит при двух глаголах, один из которых МО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Я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не мог н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прочитать эту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908000" y="260280"/>
            <a:ext cx="51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Е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79280" y="1413000"/>
            <a:ext cx="882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 Для придания положительного смысла в вопросительных и восклицательных  предложениях с обобщающим смыс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де он только не бывал!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езде он бы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то не знает имени Льва Толстого?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се знают имя Льва Толст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124000" y="26028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Е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79280" y="1700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выражения отрицания в предложениях без подлежащего (при существительном в родительном падеж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ругом ни дере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189000"/>
            <a:ext cx="48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41380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79280" y="155736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ля усиления отрицания, которое выражено частицей НЕ  или словом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лышно ни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332000" y="189000"/>
            <a:ext cx="590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авните предложени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979640" y="1413000"/>
            <a:ext cx="477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Я выучил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Я не выучил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Я бы выучил уро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Вряд ли я выучу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2771640" y="22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771640" y="270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411280" y="321300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ook005"/>
          <p:cNvPicPr/>
          <p:nvPr/>
        </p:nvPicPr>
        <p:blipFill>
          <a:blip r:embed="rId1"/>
          <a:stretch/>
        </p:blipFill>
        <p:spPr>
          <a:xfrm>
            <a:off x="1908000" y="3860640"/>
            <a:ext cx="4557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24000" y="1557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Для выражения утверждения, после сл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, ЧТО, КАК, КУДА  и т.п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то ни взглянет на Машино рукоделие, всякий залюб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5852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1557360"/>
            <a:ext cx="878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опустить частицу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смысл предложения не изменяется, пропадает лишь оттенок уси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отличие от частицы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ую нельзя опустить, так как получится обратный смыс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им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 меня не было ни минуты свободно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 меня не было минуты свободн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258920" y="189000"/>
            <a:ext cx="6049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о-помощник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одержимое 2"/>
          <p:cNvSpPr/>
          <p:nvPr/>
        </p:nvSpPr>
        <p:spPr>
          <a:xfrm>
            <a:off x="108000" y="1197000"/>
            <a:ext cx="87850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и спешили дачники к поезду, все равно опоз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шили дачники к поезду? да. Выбираем 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я не приехал вечерним поездом, родители заволнов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хал я вечерним поездом? нет. — Выбираем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195640" y="11592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826920" y="260280"/>
            <a:ext cx="6936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различными частями речи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1052640"/>
            <a:ext cx="25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глаго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и деепричас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да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оме тех глаголов, которые без 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употреб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навид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год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700360" y="1052640"/>
            <a:ext cx="387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существительными, прилагательными и нареч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без НЕ  не употреб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ш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ш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можно заменить синони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правда (лож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лживый (правди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лживо (правди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ть противопо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правда, а 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громко, а ти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есть слова НИСКОЛЬКО НЕ, НИЧУТЬ НЕ, ВОВС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исколько не интересная книг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овсе не тих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300720" y="105264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местоим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к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в 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763640" y="18900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причастиям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126828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.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исан – не напи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написанные, а сказа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написанное вовремя 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003640" y="126828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годующая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екращающийся дож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одержимое 2"/>
          <p:cNvSpPr/>
          <p:nvPr/>
        </p:nvSpPr>
        <p:spPr>
          <a:xfrm>
            <a:off x="179280" y="134136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День был совершенно (не)обыкно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Мясо оказалось (не)прожа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ни виделись (не)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Трудно жить в чужой стране, (не)зная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395280" y="115920"/>
            <a:ext cx="72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В каком предложении НЕ со словом 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"/>
          <p:cNvSpPr/>
          <p:nvPr/>
        </p:nvSpPr>
        <p:spPr>
          <a:xfrm>
            <a:off x="3924360" y="443700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одержимое 2"/>
          <p:cNvSpPr/>
          <p:nvPr/>
        </p:nvSpPr>
        <p:spPr>
          <a:xfrm>
            <a:off x="108000" y="11592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. В каком предложении НЕ(НИ) со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Кто (не)проклинал станционных смотрителей, кто с ними (не)бранив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(Не)правдою счастья вряд ли добуд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(Ни)кому не поверю, что другую ты люб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(Ни)кто не слыхивал о путях-дорогах в Беловодское ц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3"/>
          <p:cNvSpPr/>
          <p:nvPr/>
        </p:nvSpPr>
        <p:spPr>
          <a:xfrm>
            <a:off x="5148360" y="4869000"/>
            <a:ext cx="1295280" cy="1295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одержимое 2"/>
          <p:cNvSpPr/>
          <p:nvPr/>
        </p:nvSpPr>
        <p:spPr>
          <a:xfrm>
            <a:off x="179280" y="11592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В каком предложении НЕ(НИ) со сл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ишется слит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(Не) получается вовремя телеграмма заставила нас изменить пл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В (не)которых селах до сих пор из гоняют из домов всякую (не)чи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Воевода был (не)молод и (не)ст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(Ни)у кого (не) хватило смелости признать свои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3"/>
          <p:cNvSpPr/>
          <p:nvPr/>
        </p:nvSpPr>
        <p:spPr>
          <a:xfrm>
            <a:off x="3924360" y="472428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08000" y="18900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. В каком предложении НЕ со сл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Жених её, (не)ласковый и (не)добрый человек, был известен на всю округу своим жестоким н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Громкие речи отнюдь (не)всегда признак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(Не)грамотность инженера-конструктора стала причиной его (не)легкого разговора с директором за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Владимир был худ и (не)хорош со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3851280" y="508464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одержимое 2"/>
          <p:cNvSpPr/>
          <p:nvPr/>
        </p:nvSpPr>
        <p:spPr>
          <a:xfrm>
            <a:off x="179280" y="18900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. В каком предложении НЕ со словом (или словами) 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(Не)стыдно и (не)вредно (не)знать — стыдно лениться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(Не)дружелюбие хозяина смутило г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(Не)вежественность есть (не)достаток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(Не)званый гость хуже тат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3"/>
          <p:cNvSpPr/>
          <p:nvPr/>
        </p:nvSpPr>
        <p:spPr>
          <a:xfrm>
            <a:off x="3419640" y="4365720"/>
            <a:ext cx="1295280" cy="1295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206064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это служебная часть речи, которая вносит различные оттенки значения в предложение или служит для образования наклонений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340000" y="189000"/>
            <a:ext cx="4103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ица -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1"/>
          <a:stretch/>
        </p:blipFill>
        <p:spPr>
          <a:xfrm>
            <a:off x="1547640" y="4869000"/>
            <a:ext cx="59770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08000" y="1341360"/>
            <a:ext cx="453708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ельзя убрать (меняется смыс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упал  - у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Е+НЕ (двойное отрицание) = 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мог не сказать = ска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Обобщающее утвердитель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то не слышал? = все слы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643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Можно убрать (смысл не меня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т НИ звука – нет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Можно заменить  И, НЕТ ДАЖЕ, ДА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т и звука, нет даже зву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Частицы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и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692360" y="333360"/>
            <a:ext cx="53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 частиц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84360" y="2133720"/>
            <a:ext cx="3240000" cy="129528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осят раз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тенки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219640" y="2133720"/>
            <a:ext cx="3095640" cy="1224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ат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я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050560" y="1197000"/>
            <a:ext cx="24498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500720" y="1197000"/>
            <a:ext cx="21589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84360" y="3860640"/>
            <a:ext cx="3240000" cy="914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219640" y="3860640"/>
            <a:ext cx="3097440" cy="914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у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стре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читал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619280" y="26028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яды частиц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9280" y="2276640"/>
            <a:ext cx="273708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203640" y="2276640"/>
            <a:ext cx="273672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227640" y="2276640"/>
            <a:ext cx="273708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00720" y="1197000"/>
            <a:ext cx="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H="1">
            <a:off x="1332000" y="1197000"/>
            <a:ext cx="316872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4500720" y="1197000"/>
            <a:ext cx="287964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7104629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87640" y="3573360"/>
            <a:ext cx="32734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755640" y="260280"/>
            <a:ext cx="676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ообразующи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484280"/>
          <a:ext cx="8713800" cy="4508640"/>
        </p:xfrm>
        <a:graphic>
          <a:graphicData uri="http://schemas.openxmlformats.org/drawingml/2006/table">
            <a:tbl>
              <a:tblPr/>
              <a:tblGrid>
                <a:gridCol w="5833800"/>
                <a:gridCol w="28800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наклонение глаг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лительное наклонение глаг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и сравнения прилагательных и наре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 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давай, давайте, пусть, пуск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, менее, сам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045800" y="1622520"/>
            <a:ext cx="25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о </a:t>
            </a:r>
            <a:r>
              <a:rPr b="1" lang="ru-RU" sz="4800" spc="-1" strike="noStrike" u="sng">
                <a:solidFill>
                  <a:srgbClr val="800000"/>
                </a:solidFill>
                <a:uFillTx/>
                <a:latin typeface="Times New Roman"/>
              </a:rPr>
              <a:t>_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79280" y="639720"/>
            <a:ext cx="777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й слова с частицей и союз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295600" y="1628640"/>
            <a:ext cx="19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</a:t>
            </a:r>
            <a:r>
              <a:rPr b="1" lang="ru-RU" sz="4800" spc="-1" strike="noStrike" u="sng">
                <a:solidFill>
                  <a:srgbClr val="800000"/>
                </a:solidFill>
                <a:uFillTx/>
                <a:latin typeface="Times New Roman"/>
              </a:rPr>
              <a:t>об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72680" y="328464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 бы  предприн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791600" y="321300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 что-то предприн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хорошо поду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58920" y="930240"/>
            <a:ext cx="87850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Выраж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, неужели,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осклиц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за, как, ну и, вот 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си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же, ведь, –то, все-таки, же, 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каз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н, вот,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ыдел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лько, л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огранич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почти, ис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омн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ряд ли, едва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точн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именно, как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мягчение требован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116000" y="260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ысловы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8000" y="1413000"/>
            <a:ext cx="60483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за прелесть эти сказ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 бы узнать, что там делается за воро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от эта детская тетрадь с моими детскими стих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еужели в самом деле все сгорели карус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ак  же мне не весел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260280"/>
            <a:ext cx="83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пределите значение частиц в предлож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156360" y="1413000"/>
            <a:ext cx="280836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156360" y="2133720"/>
            <a:ext cx="280836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образ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227640" y="314172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227640" y="429264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227640" y="537372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54:15Z</dcterms:created>
  <dc:creator>Евгения</dc:creator>
  <dc:description/>
  <dc:language>en-US</dc:language>
  <cp:lastModifiedBy>Elena</cp:lastModifiedBy>
  <dcterms:modified xsi:type="dcterms:W3CDTF">2020-04-14T00:55:53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50000000000010243100207f6000400038000</vt:lpwstr>
  </property>
</Properties>
</file>