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D95E-AF7C-403A-B12E-E788D712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B31-51F1-4D75-AB3D-C96B4965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68D-481D-4FE2-8AEA-1172584D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DD1-BC5F-403E-B0D9-E16EACBB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B47C-1730-4C2A-A186-AD12BA4A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424-602D-46A2-A9BB-11B167F3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27AF-D1B1-42DC-B319-6C86CED5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DB6-9245-4FA5-8020-8596FF41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552-198B-4BBC-BCD8-8B7447DC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1A9-ADFD-44CB-AB4E-497A58E7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4C72-5095-49A8-8843-F0006686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FF4-A58D-4951-8DEF-C12CDDD7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CE2F-D410-4F94-B6CF-337050BEB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8000" y="5373720"/>
            <a:ext cx="885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ица как часть речи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79280" y="134136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Что(бы) вы хотели узнать о частицах?  2)Что(бы) правильно писать частицы, надо уметь отличать их от других часте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31840" y="208080"/>
            <a:ext cx="74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Запишите  предложения, раскрывая ско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9280" y="2708280"/>
            <a:ext cx="86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1) Выпишите слова с проверяемой гласной в корн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050920" y="3213000"/>
            <a:ext cx="51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тели, писать, отличать, ч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31840" y="3952800"/>
            <a:ext cx="78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2) Выпишите слово с неизменяемой пристав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203640" y="4365720"/>
            <a:ext cx="21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ли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231840" y="5105520"/>
            <a:ext cx="85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3) Укажите номер сложноподчиненного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3924360" y="551664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1187280" y="260280"/>
            <a:ext cx="619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шутся через дефис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1557360"/>
          <a:ext cx="8964720" cy="4352760"/>
        </p:xfrm>
        <a:graphic>
          <a:graphicData uri="http://schemas.openxmlformats.org/drawingml/2006/table">
            <a:tbl>
              <a:tblPr/>
              <a:tblGrid>
                <a:gridCol w="2241720"/>
                <a:gridCol w="2241360"/>
                <a:gridCol w="2241720"/>
                <a:gridCol w="2239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прилага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местоим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нареч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част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ёлто-си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цве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ько-солё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горький и солены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е-к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о-нибу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о-либ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о-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-осенне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-дружес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-перв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е-к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де-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гда-нибу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-е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еси-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250920" y="1052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А между тем заря разгорается; вот уже золотые полосы потянулись по небу, жаворонки поют, предрассветный ветер подул – и тихо всплывает багровое солнце. 2.Свежо, весело, любо! 3.Далеко видно кругом. 4.Вон за рощей деревня, вон подальше другая с белой церковью, вон берёзовый лесок на горе. 5.Как вольно дышит грудь, как крепнет человек, охваченный свежим дыханием вес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755640" y="189000"/>
            <a:ext cx="67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разительно прочитайте текст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8760" y="3808440"/>
            <a:ext cx="87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1) Впишите из текста частицы, укажите, что они выраж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340000" y="4076640"/>
            <a:ext cx="41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т, вон,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08000" y="4508640"/>
            <a:ext cx="880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2) Выпишите слова с приставками, правописание которых зависит от глухости (звонкости) последующего соглас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042920" y="51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горается, предрассветный, всплы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179280" y="5661000"/>
            <a:ext cx="880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3) Выпишите из предложения № 1 слово с чередующейся гласной в кор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3040200" y="6184800"/>
            <a:ext cx="599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3348000" y="6093000"/>
            <a:ext cx="24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гор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50920" y="1052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А между тем заря разгорается; вот уже золотые полосы потянулись по небу, жаворонки поют, предрассветный ветер подул – и тихо всплывает багровое солнце. 2.Свежо, весело, любо! 3.Далеко видно кругом. 4.Вон за рощей деревня, вон подальше другая с белой церковью, вон берёзовый лесок на горе. 5.Как вольно дышит грудь, как крепнет человек, охваченный свежим дыханием вес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755640" y="189000"/>
            <a:ext cx="67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разительно прочитайте текст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58760" y="3808440"/>
            <a:ext cx="87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4) Укажите № предложения с причастным оборо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40000" y="4076640"/>
            <a:ext cx="41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8000" y="4508640"/>
            <a:ext cx="88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5) Сколько грамматических основ в предложении №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908000" y="4797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– заря разгор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040200" y="6184800"/>
            <a:ext cx="599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908000" y="5084640"/>
            <a:ext cx="35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– полосы потяну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908000" y="5373720"/>
            <a:ext cx="35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 – жаворонки по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908000" y="5661000"/>
            <a:ext cx="35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 – ветер под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1908000" y="6021360"/>
            <a:ext cx="35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 – солнце всплы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79280" y="12682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Вон за рощей деревня, вон подальше другая с белой церковью, вон берёзовый лесок на горе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755640" y="189000"/>
            <a:ext cx="67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фологический разбор частицы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040200" y="6184800"/>
            <a:ext cx="599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19120" y="2368440"/>
            <a:ext cx="57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н – част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519120" y="2944800"/>
            <a:ext cx="55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Доп.значение указ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539640" y="364500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Смысл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6" descr="71046298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148360" y="3357720"/>
            <a:ext cx="32004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539640" y="115920"/>
            <a:ext cx="712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рицательные частицы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и НИ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24000" y="1844640"/>
            <a:ext cx="85690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ЧАСТИЦА 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НЕ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СЛУЖИТ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Для придания отрицательного смыс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не пис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не рабо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179280" y="162864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Для  придания положительног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ысла, если частица НЕ стоит при двух глаголах, один из которых МОЧ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Я 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не мог не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прочитать эту кни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908000" y="260280"/>
            <a:ext cx="51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Частица НЕ служ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179280" y="1413000"/>
            <a:ext cx="882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 Для придания положительного смысла в вопросительных и восклицательных  предложениях с обобщающим смысл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Где он только не бывал!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Везде он быв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Кто не знает имени Льва Толстого?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Все знают имя Льва Толсто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124000" y="260280"/>
            <a:ext cx="47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Частица НЕ служ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179280" y="1700280"/>
            <a:ext cx="885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я выражения отрицания в предложениях без подлежащего (при существительном в родительном падеже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Кругом ни дерев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63640" y="189000"/>
            <a:ext cx="48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Частица НИ служ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2413800" y="189000"/>
            <a:ext cx="43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Частица НИ служ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79280" y="1557360"/>
            <a:ext cx="86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Для усиления отрицания, которое выражено частицей НЕ  или словом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слышно ни зв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1332000" y="189000"/>
            <a:ext cx="5904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равните предложения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979640" y="1413000"/>
            <a:ext cx="477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Я выучил у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Я не выучил у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Я бы выучил урок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Вряд ли я выучу у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2771640" y="2276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2771640" y="2708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2411280" y="321300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book005"/>
          <p:cNvPicPr/>
          <p:nvPr/>
        </p:nvPicPr>
        <p:blipFill>
          <a:blip r:embed="rId1"/>
          <a:stretch/>
        </p:blipFill>
        <p:spPr>
          <a:xfrm>
            <a:off x="1908000" y="3860640"/>
            <a:ext cx="45579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324000" y="1557360"/>
            <a:ext cx="835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Для выражения утверждения, после сл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ТО, ЧТО, КАК, КУДА  и т.п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Кто ни взглянет на Машино рукоделие, всякий залюбу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558520" y="189000"/>
            <a:ext cx="43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Частица НИ служ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179280" y="1557360"/>
            <a:ext cx="8785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опустить частицу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Н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смысл предложения не изменяется, пропадает лишь оттенок уси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отличие от частицы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которую нельзя опустить, так как получится обратный смыс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равним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У меня не было ни минуты свободного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У меня не было минуты свободно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1258920" y="189000"/>
            <a:ext cx="6049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ило-помощник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Содержимое 2"/>
          <p:cNvSpPr/>
          <p:nvPr/>
        </p:nvSpPr>
        <p:spPr>
          <a:xfrm>
            <a:off x="108000" y="1197000"/>
            <a:ext cx="878508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ни спешили дачники к поезду, все равно опозд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ешили дачники к поезду? да. Выбираем 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я не приехал вечерним поездом, родители заволнова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ехал я вечерним поездом? нет. — Выбираем 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2195640" y="11592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Сравни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826920" y="260280"/>
            <a:ext cx="6936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с различными частями речи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79280" y="1052640"/>
            <a:ext cx="252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</a:rPr>
              <a:t>НЕ с глаго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</a:rPr>
              <a:t>и деепричаст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егда разд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 бы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оме тех глаголов, которые без Н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употребл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навид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год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700360" y="1052640"/>
            <a:ext cx="387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</a:rPr>
              <a:t>НЕ с существительными, прилагательными и нареч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ли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 без НЕ  не употребл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ря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ряшл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ряшли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) можно заменить синони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правда (лож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лживый (правдив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лживо (правди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ть противопост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 правда, а лож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 громко, а ти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) есть слова НИСКОЛЬКО НЕ, НИЧУТЬ НЕ, ВОВСЕ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исколько не интересная книг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вовсе не тих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6300720" y="105264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</a:rPr>
              <a:t>НЕ с местоим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и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кото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к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е в ч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1763640" y="189000"/>
            <a:ext cx="590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с причастиями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50920" y="1268280"/>
            <a:ext cx="4176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00"/>
                </a:solidFill>
                <a:uFillTx/>
                <a:latin typeface="Times New Roman"/>
              </a:rPr>
              <a:t>РАЗД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.пр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писан – не напи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написанные, а сказанны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написанное вовремя пись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003640" y="1268280"/>
            <a:ext cx="360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00"/>
                </a:solidFill>
                <a:uFillTx/>
                <a:latin typeface="Times New Roman"/>
              </a:rPr>
              <a:t>СЛИ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годующая ре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прекращающийся дож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Содержимое 2"/>
          <p:cNvSpPr/>
          <p:nvPr/>
        </p:nvSpPr>
        <p:spPr>
          <a:xfrm>
            <a:off x="179280" y="1341360"/>
            <a:ext cx="82296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День был совершенно (не)обыкнов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Мясо оказалось (не)прожарен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Они виделись (не)ча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Трудно жить в чужой стране, (не)зная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395280" y="115920"/>
            <a:ext cx="7272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1.В каком предложении НЕ со словом пишется раздель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3"/>
          <p:cNvSpPr/>
          <p:nvPr/>
        </p:nvSpPr>
        <p:spPr>
          <a:xfrm>
            <a:off x="3924360" y="4437000"/>
            <a:ext cx="1295280" cy="129564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одержимое 2"/>
          <p:cNvSpPr/>
          <p:nvPr/>
        </p:nvSpPr>
        <p:spPr>
          <a:xfrm>
            <a:off x="108000" y="115920"/>
            <a:ext cx="8229600" cy="56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2. В каком предложении НЕ(НИ) со сло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ишется раздель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Кто (не)проклинал станционных смотрителей, кто с ними (не)бранивал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(Не)правдою счастья вряд ли добуд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(Ни)кому не поверю, что другую ты люби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 (Ни)кто не слыхивал о путях-дорогах в Беловодское цар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3"/>
          <p:cNvSpPr/>
          <p:nvPr/>
        </p:nvSpPr>
        <p:spPr>
          <a:xfrm>
            <a:off x="5148360" y="4869000"/>
            <a:ext cx="1295280" cy="1295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Содержимое 2"/>
          <p:cNvSpPr/>
          <p:nvPr/>
        </p:nvSpPr>
        <p:spPr>
          <a:xfrm>
            <a:off x="179280" y="11592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3. В каком предложении НЕ(НИ) со слов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  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ишется слит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(Не) получается вовремя телеграмма заставила нас изменить пл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В (не)которых селах до сих пор из гоняют из домов всякую (не)чи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Воевода был (не)молод и (не)ст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(Ни)у кого (не) хватило смелости признать свои оши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3"/>
          <p:cNvSpPr/>
          <p:nvPr/>
        </p:nvSpPr>
        <p:spPr>
          <a:xfrm>
            <a:off x="3924360" y="4724280"/>
            <a:ext cx="1295280" cy="129564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108000" y="189000"/>
            <a:ext cx="828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4. В каком предложении НЕ со слов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ишется раздель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Жених её, (не)ласковый и (не)добрый человек, был известен на всю округу своим жестоким нра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Громкие речи отнюдь (не)всегда признак у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(Не)грамотность инженера-конструктора стала причиной его (не)легкого разговора с директором зав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Владимир был худ и (не)хорош соб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3"/>
          <p:cNvSpPr/>
          <p:nvPr/>
        </p:nvSpPr>
        <p:spPr>
          <a:xfrm>
            <a:off x="3851280" y="5084640"/>
            <a:ext cx="1295280" cy="129564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Содержимое 2"/>
          <p:cNvSpPr/>
          <p:nvPr/>
        </p:nvSpPr>
        <p:spPr>
          <a:xfrm>
            <a:off x="179280" y="189000"/>
            <a:ext cx="8229600" cy="56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5. В каком предложении НЕ со словом (или словами) пишется раздель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(Не)стыдно и (не)вредно (не)знать — стыдно лениться уч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(Не)дружелюбие хозяина смутило г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(Не)вежественность есть (не)достаток у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(Не)званый гость хуже татар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3"/>
          <p:cNvSpPr/>
          <p:nvPr/>
        </p:nvSpPr>
        <p:spPr>
          <a:xfrm>
            <a:off x="3419640" y="4365720"/>
            <a:ext cx="1295280" cy="1295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50920" y="2060640"/>
            <a:ext cx="86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это служебная часть речи, которая вносит различные оттенки значения в предложение или служит для образования наклонений глаг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2340000" y="189000"/>
            <a:ext cx="410364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ица -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6" descr="10"/>
          <p:cNvPicPr/>
          <p:nvPr/>
        </p:nvPicPr>
        <p:blipFill>
          <a:blip r:embed="rId1"/>
          <a:stretch/>
        </p:blipFill>
        <p:spPr>
          <a:xfrm>
            <a:off x="1547640" y="4869000"/>
            <a:ext cx="59770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108000" y="1341360"/>
            <a:ext cx="4537080" cy="47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95360" indent="-4953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Нельзя убрать (меняется смыс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е упал  - уп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НЕ+НЕ (двойное отрицание) = утвер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е мог не сказать = сказ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Обобщающее утвердительное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Кто не слышал? = все слыш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64328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Можно убрать (смысл не меняетс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ет НИ звука – нет зв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 Можно заменить  И, НЕТ ДАЖЕ, ДА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ет и звука, нет даже зву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18900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Частицы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НЕ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 и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1692360" y="333360"/>
            <a:ext cx="53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ункции частиц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84360" y="2133720"/>
            <a:ext cx="3240000" cy="1295280"/>
          </a:xfrm>
          <a:prstGeom prst="rect">
            <a:avLst/>
          </a:prstGeom>
          <a:solidFill>
            <a:srgbClr val="99ff99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осят различ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тенки зна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219640" y="2133720"/>
            <a:ext cx="3095640" cy="1224000"/>
          </a:xfrm>
          <a:prstGeom prst="rect">
            <a:avLst/>
          </a:prstGeom>
          <a:solidFill>
            <a:srgbClr val="99ff99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ужат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зования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2050560" y="1197000"/>
            <a:ext cx="244980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4500720" y="1197000"/>
            <a:ext cx="215892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684360" y="3860640"/>
            <a:ext cx="3240000" cy="914400"/>
          </a:xfrm>
          <a:prstGeom prst="rect">
            <a:avLst/>
          </a:prstGeom>
          <a:solidFill>
            <a:srgbClr val="99ff99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орош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219640" y="3860640"/>
            <a:ext cx="3097440" cy="914400"/>
          </a:xfrm>
          <a:prstGeom prst="rect">
            <a:avLst/>
          </a:prstGeom>
          <a:solidFill>
            <a:srgbClr val="99ff99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у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стрет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читал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1619280" y="260280"/>
            <a:ext cx="5689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ряды частиц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79280" y="2276640"/>
            <a:ext cx="2737080" cy="1008000"/>
          </a:xfrm>
          <a:prstGeom prst="rect">
            <a:avLst/>
          </a:prstGeom>
          <a:solidFill>
            <a:srgbClr val="99ff99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ообраз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203640" y="2276640"/>
            <a:ext cx="2736720" cy="1008000"/>
          </a:xfrm>
          <a:prstGeom prst="rect">
            <a:avLst/>
          </a:prstGeom>
          <a:solidFill>
            <a:srgbClr val="99ff99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ыс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227640" y="2276640"/>
            <a:ext cx="2737080" cy="1008000"/>
          </a:xfrm>
          <a:prstGeom prst="rect">
            <a:avLst/>
          </a:prstGeom>
          <a:solidFill>
            <a:srgbClr val="99ff99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риц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500720" y="1197000"/>
            <a:ext cx="0" cy="10080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 flipH="1">
            <a:off x="1332000" y="1197000"/>
            <a:ext cx="3168720" cy="10080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4500720" y="1197000"/>
            <a:ext cx="2879640" cy="10080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5" descr="71046298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987640" y="3573360"/>
            <a:ext cx="327348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4"/>
          <p:cNvSpPr txBox="1"/>
          <p:nvPr/>
        </p:nvSpPr>
        <p:spPr>
          <a:xfrm>
            <a:off x="755640" y="260280"/>
            <a:ext cx="676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ообразующие частицы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1484280"/>
          <a:ext cx="8713800" cy="4508640"/>
        </p:xfrm>
        <a:graphic>
          <a:graphicData uri="http://schemas.openxmlformats.org/drawingml/2006/table">
            <a:tbl>
              <a:tblPr/>
              <a:tblGrid>
                <a:gridCol w="5833800"/>
                <a:gridCol w="288000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ую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ное наклонение глаго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лительное наклонение глаго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и сравнения прилагательных и нареч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 (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, давай, давайте, пусть, пуск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, менее, сам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1045800" y="1622520"/>
            <a:ext cx="251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что </a:t>
            </a:r>
            <a:r>
              <a:rPr b="1" lang="ru-RU" sz="4800" spc="-1" strike="noStrike" u="sng">
                <a:solidFill>
                  <a:srgbClr val="800000"/>
                </a:solidFill>
                <a:uFillTx/>
                <a:latin typeface="Times New Roman"/>
              </a:rPr>
              <a:t>_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б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179280" y="639720"/>
            <a:ext cx="777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личай слова с частицей и союзы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5295600" y="1628640"/>
            <a:ext cx="19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чт</a:t>
            </a:r>
            <a:r>
              <a:rPr b="1" lang="ru-RU" sz="4800" spc="-1" strike="noStrike" u="sng">
                <a:solidFill>
                  <a:srgbClr val="800000"/>
                </a:solidFill>
                <a:uFillTx/>
                <a:latin typeface="Times New Roman"/>
              </a:rPr>
              <a:t>об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472680" y="3284640"/>
            <a:ext cx="33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 бы  предприня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791600" y="3213000"/>
            <a:ext cx="408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ы что-то предприня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о хорошо поду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358920" y="930240"/>
            <a:ext cx="87850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Выраж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вопрос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е, неужели, 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восклица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то за, как, ну и, вот т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усиле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же, ведь, –то, все-таки, же, 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указа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н, вот,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выделение: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олько, л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ограничение: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почти, исключ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сомне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ряд ли, едва 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уточнение: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именно, как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смягчение требования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1116000" y="260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мысловые частицы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08000" y="1413000"/>
            <a:ext cx="604836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за прелесть эти сказ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ак бы узнать, что там делается за ворот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Вот эта детская тетрадь с моими детскими стих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Неужели в самом деле все сгорели карус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Как  же мне не весели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79280" y="260280"/>
            <a:ext cx="83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Определите значение частиц в предлож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6156360" y="1413000"/>
            <a:ext cx="2808360" cy="433440"/>
          </a:xfrm>
          <a:prstGeom prst="rect">
            <a:avLst/>
          </a:prstGeom>
          <a:solidFill>
            <a:srgbClr val="99ff66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кл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6156360" y="2133720"/>
            <a:ext cx="2808360" cy="433440"/>
          </a:xfrm>
          <a:prstGeom prst="rect">
            <a:avLst/>
          </a:prstGeom>
          <a:solidFill>
            <a:srgbClr val="99ff66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ообразу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227640" y="3141720"/>
            <a:ext cx="2737080" cy="433440"/>
          </a:xfrm>
          <a:prstGeom prst="rect">
            <a:avLst/>
          </a:prstGeom>
          <a:solidFill>
            <a:srgbClr val="99ff66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каз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6227640" y="4292640"/>
            <a:ext cx="2737080" cy="433440"/>
          </a:xfrm>
          <a:prstGeom prst="rect">
            <a:avLst/>
          </a:prstGeom>
          <a:solidFill>
            <a:srgbClr val="99ff66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6227640" y="5373720"/>
            <a:ext cx="2737080" cy="433440"/>
          </a:xfrm>
          <a:prstGeom prst="rect">
            <a:avLst/>
          </a:prstGeom>
          <a:solidFill>
            <a:srgbClr val="99ff66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кл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3:54:15Z</dcterms:created>
  <dc:creator>Евгения</dc:creator>
  <dc:description/>
  <dc:language>en-US</dc:language>
  <cp:lastModifiedBy>Elena</cp:lastModifiedBy>
  <dcterms:modified xsi:type="dcterms:W3CDTF">2020-04-14T00:55:53Z</dcterms:modified>
  <cp:revision>5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50000000000010243100207f6000400038000</vt:lpwstr>
  </property>
</Properties>
</file>