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867-D23A-4997-88A7-0A2E82A2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C1F-3C3F-4762-99CF-9CBF2BC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815-2419-4A8B-8855-190C2DB2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D63-BF90-4511-B535-9CA2709D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6E5-51DC-4316-AED9-E50F3E79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97D-34F4-40D5-AC2C-A9263C3B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B69-933E-4127-BFCE-D0DCCA59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2E1-00C1-4045-BCB6-F722E1F5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669-B4BF-4327-AB8E-F169965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A9D-E077-412B-B739-E6F00163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9C0-4A63-4D21-8709-C221CE1E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503-AABD-41CE-913E-2697A159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88E-FF58-4E77-8347-356B0B7B7B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Проект </a:t>
            </a:r>
            <a:br>
              <a:rPr sz="5400"/>
            </a:b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«Моя малая Родин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7859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и ученики  2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БОУ «Большеустинская основная шко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тьяна Александровна Тырык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9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4" descr="https://hr.government-nnov.ru/render/storage/c4/be/4eff1c8aaf0427bfbe9d45fc84e7281f6ee1363d.jpg"/>
          <p:cNvPicPr/>
          <p:nvPr/>
        </p:nvPicPr>
        <p:blipFill>
          <a:blip r:embed="rId1"/>
          <a:stretch/>
        </p:blipFill>
        <p:spPr>
          <a:xfrm>
            <a:off x="785880" y="3571920"/>
            <a:ext cx="33145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http://letopisi.org/images/thumb/a/a0/%D0%90%D0%BD%D1%86%D1%8B%D0%B3%D0%B8%D0%BD_%D0%9F.%D0%93.png/180px-%D0%90%D0%BD%D1%86%D1%8B%D0%B3%D0%B8%D0%BD_%D0%9F.%D0%93.png"/>
          <p:cNvPicPr/>
          <p:nvPr/>
        </p:nvPicPr>
        <p:blipFill>
          <a:blip r:embed="rId1"/>
          <a:stretch/>
        </p:blipFill>
        <p:spPr>
          <a:xfrm>
            <a:off x="642960" y="114300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http://letopisi.org/images/thumb/7/7f/%D0%9A%D0%B0%D1%81%D1%8C%D1%8F%D0%BD%D0%BE%D0%B2_%D0%9F.%D0%95.png/180px-%D0%9A%D0%B0%D1%81%D1%8C%D1%8F%D0%BD%D0%BE%D0%B2_%D0%9F.%D0%95.png"/>
          <p:cNvPicPr/>
          <p:nvPr/>
        </p:nvPicPr>
        <p:blipFill>
          <a:blip r:embed="rId2"/>
          <a:stretch/>
        </p:blipFill>
        <p:spPr>
          <a:xfrm>
            <a:off x="6286680" y="3214800"/>
            <a:ext cx="2071440" cy="259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071360" y="4071600"/>
            <a:ext cx="47862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сьянов Павел Ефремо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астник Великой Отечественной войны 1941-1945 гг. Капит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71880" y="1217880"/>
            <a:ext cx="492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цыгин Петр Григорье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астник Великой Отечественной войны 1941-1945 гг. Старший лейтенан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http://letopisi.org/images/thumb/d/d4/%D0%92%D1%8B%D1%87%D1%83%D0%B6%D0%B0%D0%BD%D0%B8%D0%BD_%D0%92.%D0%90.png/180px-%D0%92%D1%8B%D1%87%D1%83%D0%B6%D0%B0%D0%BD%D0%B8%D0%BD_%D0%92.%D0%90.png"/>
          <p:cNvPicPr/>
          <p:nvPr/>
        </p:nvPicPr>
        <p:blipFill>
          <a:blip r:embed="rId1"/>
          <a:stretch/>
        </p:blipFill>
        <p:spPr>
          <a:xfrm>
            <a:off x="642960" y="1143000"/>
            <a:ext cx="2214720" cy="2714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letopisi.org/images/thumb/1/16/%D0%90%D0%BD%D1%86%D1%8B%D0%B3%D0%B8%D0%BD_%D0%90.%D0%93.png/180px-%D0%90%D0%BD%D1%86%D1%8B%D0%B3%D0%B8%D0%BD_%D0%90.%D0%93.png"/>
          <p:cNvPicPr/>
          <p:nvPr/>
        </p:nvPicPr>
        <p:blipFill>
          <a:blip r:embed="rId2"/>
          <a:stretch/>
        </p:blipFill>
        <p:spPr>
          <a:xfrm>
            <a:off x="5929200" y="3429000"/>
            <a:ext cx="200052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857160" y="4146840"/>
            <a:ext cx="485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цыгин Александр Григорьевич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Великой Отечественной войны 1941-1945 гг. Лейтенан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00240" y="1217880"/>
            <a:ext cx="485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чужанин Николай Александро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астник Великой Отечественной войны 1941-1945 гг. Капит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вый сад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одержимое 5" descr="I:\DCIM\108NIKON\DSCN4579.JPG"/>
          <p:cNvPicPr/>
          <p:nvPr/>
        </p:nvPicPr>
        <p:blipFill>
          <a:blip r:embed="rId1"/>
          <a:stretch/>
        </p:blipFill>
        <p:spPr>
          <a:xfrm>
            <a:off x="1500120" y="1571760"/>
            <a:ext cx="6000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1964 году открыли новую школу, в которой мы учимс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раньше это был купеческий дом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C:\Users\home\Desktop\snv83388.jpg"/>
          <p:cNvPicPr/>
          <p:nvPr/>
        </p:nvPicPr>
        <p:blipFill>
          <a:blip r:embed="rId1"/>
          <a:stretch/>
        </p:blipFill>
        <p:spPr>
          <a:xfrm>
            <a:off x="1500120" y="2214720"/>
            <a:ext cx="57625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avatars.mds.yandex.net/get-altay/1633000/2a00000168e7859fa23321c28fa2fe3d4c33/XXL"/>
          <p:cNvPicPr/>
          <p:nvPr/>
        </p:nvPicPr>
        <p:blipFill>
          <a:blip r:embed="rId1"/>
          <a:stretch/>
        </p:blipFill>
        <p:spPr>
          <a:xfrm>
            <a:off x="3643200" y="3500280"/>
            <a:ext cx="4484880" cy="29908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6" descr="F:\DCIM\107NIKON\DSCN4411.JPG"/>
          <p:cNvPicPr/>
          <p:nvPr/>
        </p:nvPicPr>
        <p:blipFill>
          <a:blip r:embed="rId2"/>
          <a:stretch/>
        </p:blipFill>
        <p:spPr>
          <a:xfrm>
            <a:off x="785880" y="1285920"/>
            <a:ext cx="4572000" cy="334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скурсия в школьный муз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 куль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3" descr="I:\DCIM\108NIKON\DSCN4578.JPG"/>
          <p:cNvPicPr/>
          <p:nvPr/>
        </p:nvPicPr>
        <p:blipFill>
          <a:blip r:embed="rId1"/>
          <a:stretch/>
        </p:blipFill>
        <p:spPr>
          <a:xfrm>
            <a:off x="1500120" y="1571760"/>
            <a:ext cx="58579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sobory.ru/pic/12550/12595_20140219_224505.jpg"/>
          <p:cNvPicPr/>
          <p:nvPr/>
        </p:nvPicPr>
        <p:blipFill>
          <a:blip r:embed="rId1"/>
          <a:stretch/>
        </p:blipFill>
        <p:spPr>
          <a:xfrm>
            <a:off x="4000680" y="3000240"/>
            <a:ext cx="4711680" cy="3143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071720"/>
            <a:ext cx="75438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нас дома одноэтаж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по линейке – два ря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ревья мудрые и важ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удят, как в ветер пров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смотрите, как зде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л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садик, шко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раж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наши дали за окол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овторимо хорош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153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257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9120" y="1356840"/>
            <a:ext cx="3214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йду служить я  в арм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альние кра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будет сниться  Родина м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лая моя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:\Users\Admin\Desktop\images.jpg"/>
          <p:cNvPicPr/>
          <p:nvPr/>
        </p:nvPicPr>
        <p:blipFill>
          <a:blip r:embed="rId1"/>
          <a:stretch/>
        </p:blipFill>
        <p:spPr>
          <a:xfrm>
            <a:off x="571680" y="1214280"/>
            <a:ext cx="4071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508280"/>
            <a:ext cx="403848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лю тебя, село моё родно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й уголок, родная Ру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11280" y="836280"/>
            <a:ext cx="447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на-это место, где человек чувствует себя  частью этого места. Та страна, куда он стремится возвращаться независимо от возраста и обстоятельств. Родина-тот уголок, который мы стремимся сберечь, защитить, сохранить. Малая Родина-это место, где находится наш дом, наши родители, где мы растем, учимся, играем с друзь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Содержимое 5" descr="I:\DCIM\108NIKON\DSCN4589.JPG"/>
          <p:cNvPicPr/>
          <p:nvPr/>
        </p:nvPicPr>
        <p:blipFill>
          <a:blip r:embed="rId1"/>
          <a:stretch/>
        </p:blipFill>
        <p:spPr>
          <a:xfrm>
            <a:off x="571680" y="1600200"/>
            <a:ext cx="392904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делаем вывод, что малая родина-это село, в котором мы живём, это Большое Устинско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760" y="1928520"/>
            <a:ext cx="3495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о моё родн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сивей его не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 этом се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у уж 8 ле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Users\home\Desktop\школа фото\день ходьбы\DSCN4541.JPG"/>
          <p:cNvPicPr/>
          <p:nvPr/>
        </p:nvPicPr>
        <p:blipFill>
          <a:blip r:embed="rId1"/>
          <a:stretch/>
        </p:blipFill>
        <p:spPr>
          <a:xfrm>
            <a:off x="1208160" y="1671480"/>
            <a:ext cx="3301920" cy="4403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4929120" y="58579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курсия по сел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ся с историей нашего с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 чего начинается Родин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чему наше село называется Большое Устинско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Что мы можем рассказать о достопримечательностях  нашего сел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чему наше село мы называем малой Родиной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чему место, где МЫ родились, нам так дорого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4" descr=""/>
          <p:cNvPicPr/>
          <p:nvPr/>
        </p:nvPicPr>
        <p:blipFill>
          <a:blip r:embed="rId1"/>
          <a:stretch/>
        </p:blipFill>
        <p:spPr>
          <a:xfrm>
            <a:off x="1279440" y="1305000"/>
            <a:ext cx="70106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Развитие у учащихся интереса к изучению и сохранению культурного наследия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Развитие интереса к проектно-исследовательской деятельности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Создание стенгазе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названием  «Моя малая Родин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3" descr="http://letopisi.org/images/thumb/e/eb/%D0%92%D0%B8%D0%B4_%D1%81%D0%B5%D0%BB%D0%B0_%D1%81_%D0%B4%D0%BE%D1%80%D0%BE%D0%B3%D0%B8.jpg/180px-%D0%92%D0%B8%D0%B4_%D1%81%D0%B5%D0%BB%D0%B0_%D1%81_%D0%B4%D0%BE%D1%80%D0%BE%D0%B3%D0%B8.jpg"/>
          <p:cNvPicPr/>
          <p:nvPr/>
        </p:nvPicPr>
        <p:blipFill>
          <a:blip r:embed="rId1"/>
          <a:stretch/>
        </p:blipFill>
        <p:spPr>
          <a:xfrm>
            <a:off x="4714920" y="4143240"/>
            <a:ext cx="3214800" cy="2224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Данный проект имеет большое значение в деле воспитания и формирования личности учащихся, воспитания Гражданина и Патриота. 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Ребёнок, который будет знать историю своего села, памятников культуры, архитектуры, никогда не совершит акта вандализма. Он просто будет знать им це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оект «Моя малая Роди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 Россия-Родина твоя!»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ала мне моя сем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 маленькую родин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овут Большое Устинско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Содержимое 5" descr="с.Большое Устинское.ул.Советская.авт.Галина Чемоданова"/>
          <p:cNvPicPr/>
          <p:nvPr/>
        </p:nvPicPr>
        <p:blipFill>
          <a:blip r:embed="rId1"/>
          <a:stretch/>
        </p:blipFill>
        <p:spPr>
          <a:xfrm>
            <a:off x="4929120" y="2071800"/>
            <a:ext cx="3357720" cy="2863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4071960" y="52862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лица Совет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11" descr="I:\DCIM\108NIKON\DSCN4579.JPG"/>
          <p:cNvPicPr/>
          <p:nvPr/>
        </p:nvPicPr>
        <p:blipFill>
          <a:blip r:embed="rId1"/>
          <a:stretch/>
        </p:blipFill>
        <p:spPr>
          <a:xfrm rot="21013200">
            <a:off x="1093680" y="1803240"/>
            <a:ext cx="2909880" cy="21862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12" descr="I:\DCIM\108NIKON\DSCN4577.JPG"/>
          <p:cNvPicPr/>
          <p:nvPr/>
        </p:nvPicPr>
        <p:blipFill>
          <a:blip r:embed="rId2"/>
          <a:stretch/>
        </p:blipFill>
        <p:spPr>
          <a:xfrm rot="1434000">
            <a:off x="5389200" y="1996560"/>
            <a:ext cx="2914560" cy="2186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я данный проект, у нас прошел классный час на тему «Моя Родина», мы провели экскурсию по нашей деревне,  искали информацию в интернете, посещали библиотеку, беседовали с родителями, рисовали свою малую родину, писали сочинения. Результатом нашей деятельности стала данная презентация и стенгаз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Содержимое 13" descr="I:\DCIM\108NIKON\DSCN4578.JPG"/>
          <p:cNvPicPr/>
          <p:nvPr/>
        </p:nvPicPr>
        <p:blipFill>
          <a:blip r:embed="rId3"/>
          <a:stretch/>
        </p:blipFill>
        <p:spPr>
          <a:xfrm rot="20713200">
            <a:off x="1017720" y="3857400"/>
            <a:ext cx="3268440" cy="226836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14" descr="C:\Users\home\Desktop\школа фото\DSCN4575.JPG"/>
          <p:cNvPicPr/>
          <p:nvPr/>
        </p:nvPicPr>
        <p:blipFill>
          <a:blip r:embed="rId4"/>
          <a:stretch/>
        </p:blipFill>
        <p:spPr>
          <a:xfrm rot="577200">
            <a:off x="4392360" y="3755880"/>
            <a:ext cx="32684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схождение нашей деревни уходит своими корнями в глуб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стори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воспоминаний старожилов П.Г. Анцыгина, И.Г. Береснева, Д.В. Рязановой «…село возникло в 1454 году на правом берегу реки Уста. Коренными жителями села были племена марийцев, родиной которых являлся город Казань (Казанская губерния). Прежнее название села марийское – Кугу-Шта (в переводе с марийского – большая река)…» А еще существует легенда о том, что «… по территории Шарангского района и лесам Большеустинска проходит ратная тропа войска Ивана Грозного, шедшего завоевывать Казань». В прошлом веке на этой тропе находили подковы, металлические пуговицы, зам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7" descr="C:\Users\home\Desktop\img2.jpg"/>
          <p:cNvPicPr/>
          <p:nvPr/>
        </p:nvPicPr>
        <p:blipFill>
          <a:blip r:embed="rId1"/>
          <a:stretch/>
        </p:blipFill>
        <p:spPr>
          <a:xfrm>
            <a:off x="2286000" y="3714840"/>
            <a:ext cx="44751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центре села, архитектурным украшением навсегда с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окаменная Никольская церковь, построенная в феврале 1898 г. архитектором Ф.А. Макаровым (1812-1898 гг.). Высота колокольни – 33 мет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5" descr="http://temples.ru/private/f000264/264_0088222b.jpg"/>
          <p:cNvPicPr/>
          <p:nvPr/>
        </p:nvPicPr>
        <p:blipFill>
          <a:blip r:embed="rId1"/>
          <a:stretch/>
        </p:blipFill>
        <p:spPr>
          <a:xfrm>
            <a:off x="2143080" y="2143080"/>
            <a:ext cx="4714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мы не забудем о тех кто погиб, защищая Родину. В Устинске поставлен памятник погибшим воинам-землякам, где перечислены их и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4" descr="I:\DCIM\108NIKON\DSCN4576.JPG"/>
          <p:cNvPicPr/>
          <p:nvPr/>
        </p:nvPicPr>
        <p:blipFill>
          <a:blip r:embed="rId1"/>
          <a:stretch/>
        </p:blipFill>
        <p:spPr>
          <a:xfrm>
            <a:off x="1714680" y="1857240"/>
            <a:ext cx="5572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home</cp:lastModifiedBy>
  <dcterms:modified xsi:type="dcterms:W3CDTF">2020-04-14T11:13:36Z</dcterms:modified>
  <cp:revision>59</cp:revision>
  <dc:subject/>
  <dc:title>Слайд 1</dc:title>
</cp:coreProperties>
</file>