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B43-0AA8-4B5E-B0E6-63CAAA8A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987-9577-4F72-BCBC-7ED15C4A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E07-D864-4454-8D8B-604B38B4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BA9-306C-4A98-82B9-8C4CF044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D4E-0FFD-41D8-AEB8-511447C9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665-6A81-487E-8911-4E395A32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7D9-5F98-4727-AE01-19E8143E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4FD-9F1B-468A-BC39-85BB6F1B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19BC-EFF4-4699-B26C-B6DCC454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AC40-A1E7-4127-B678-375E038C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130-E653-4B88-A79E-BD3A325A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91E-2373-4CB7-A989-6A18D267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A9A5-10F3-49FE-A60C-386873A7E4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5400" spc="-1" strike="noStrike">
                <a:solidFill>
                  <a:srgbClr val="002060"/>
                </a:solidFill>
                <a:latin typeface="Times New Roman"/>
              </a:rPr>
              <a:t>Проект </a:t>
            </a:r>
            <a:br>
              <a:rPr sz="5400"/>
            </a:br>
            <a:r>
              <a:rPr b="1" i="1" lang="ru-RU" sz="5400" spc="-1" strike="noStrike">
                <a:solidFill>
                  <a:srgbClr val="002060"/>
                </a:solidFill>
                <a:latin typeface="Times New Roman"/>
              </a:rPr>
              <a:t>«Моя малая Родина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7859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и ученики  2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БОУ «Большеустинская основная школ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ководитель про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тьяна Александровна Тырык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19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4" descr="https://hr.government-nnov.ru/render/storage/c4/be/4eff1c8aaf0427bfbe9d45fc84e7281f6ee1363d.jpg"/>
          <p:cNvPicPr/>
          <p:nvPr/>
        </p:nvPicPr>
        <p:blipFill>
          <a:blip r:embed="rId1"/>
          <a:stretch/>
        </p:blipFill>
        <p:spPr>
          <a:xfrm>
            <a:off x="785880" y="3571920"/>
            <a:ext cx="33145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http://letopisi.org/images/thumb/a/a0/%D0%90%D0%BD%D1%86%D1%8B%D0%B3%D0%B8%D0%BD_%D0%9F.%D0%93.png/180px-%D0%90%D0%BD%D1%86%D1%8B%D0%B3%D0%B8%D0%BD_%D0%9F.%D0%93.png"/>
          <p:cNvPicPr/>
          <p:nvPr/>
        </p:nvPicPr>
        <p:blipFill>
          <a:blip r:embed="rId1"/>
          <a:stretch/>
        </p:blipFill>
        <p:spPr>
          <a:xfrm>
            <a:off x="642960" y="1143000"/>
            <a:ext cx="2143080" cy="27860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http://letopisi.org/images/thumb/7/7f/%D0%9A%D0%B0%D1%81%D1%8C%D1%8F%D0%BD%D0%BE%D0%B2_%D0%9F.%D0%95.png/180px-%D0%9A%D0%B0%D1%81%D1%8C%D1%8F%D0%BD%D0%BE%D0%B2_%D0%9F.%D0%95.png"/>
          <p:cNvPicPr/>
          <p:nvPr/>
        </p:nvPicPr>
        <p:blipFill>
          <a:blip r:embed="rId2"/>
          <a:stretch/>
        </p:blipFill>
        <p:spPr>
          <a:xfrm>
            <a:off x="6286680" y="3214800"/>
            <a:ext cx="2071440" cy="2590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071360" y="4071600"/>
            <a:ext cx="47862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сьянов Павел Ефремович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частник Великой Отечественной войны 1941-1945 гг. Капит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071880" y="1217880"/>
            <a:ext cx="492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цыгин Петр Григорьевич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частник Великой Отечественной войны 1941-1945 гг. Старший лейтенан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http://letopisi.org/images/thumb/d/d4/%D0%92%D1%8B%D1%87%D1%83%D0%B6%D0%B0%D0%BD%D0%B8%D0%BD_%D0%92.%D0%90.png/180px-%D0%92%D1%8B%D1%87%D1%83%D0%B6%D0%B0%D0%BD%D0%B8%D0%BD_%D0%92.%D0%90.png"/>
          <p:cNvPicPr/>
          <p:nvPr/>
        </p:nvPicPr>
        <p:blipFill>
          <a:blip r:embed="rId1"/>
          <a:stretch/>
        </p:blipFill>
        <p:spPr>
          <a:xfrm>
            <a:off x="642960" y="1143000"/>
            <a:ext cx="2214720" cy="27147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letopisi.org/images/thumb/1/16/%D0%90%D0%BD%D1%86%D1%8B%D0%B3%D0%B8%D0%BD_%D0%90.%D0%93.png/180px-%D0%90%D0%BD%D1%86%D1%8B%D0%B3%D0%B8%D0%BD_%D0%90.%D0%93.png"/>
          <p:cNvPicPr/>
          <p:nvPr/>
        </p:nvPicPr>
        <p:blipFill>
          <a:blip r:embed="rId2"/>
          <a:stretch/>
        </p:blipFill>
        <p:spPr>
          <a:xfrm>
            <a:off x="5929200" y="3429000"/>
            <a:ext cx="2000520" cy="2666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857160" y="4146840"/>
            <a:ext cx="485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цыгин Александр Григорьевич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Великой Отечественной войны 1941-1945 гг. Лейтенан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000240" y="1217880"/>
            <a:ext cx="485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чужанин Николай Александрович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частник Великой Отечественной войны 1941-1945 гг. Капит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овый сад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Содержимое 5" descr="I:\DCIM\108NIKON\DSCN4579.JPG"/>
          <p:cNvPicPr/>
          <p:nvPr/>
        </p:nvPicPr>
        <p:blipFill>
          <a:blip r:embed="rId1"/>
          <a:stretch/>
        </p:blipFill>
        <p:spPr>
          <a:xfrm>
            <a:off x="1500120" y="1571760"/>
            <a:ext cx="60008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1964 году открыли новую школу, в которой мы учимс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раньше это был купеческий дом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" descr="C:\Users\home\Desktop\snv83388.jpg"/>
          <p:cNvPicPr/>
          <p:nvPr/>
        </p:nvPicPr>
        <p:blipFill>
          <a:blip r:embed="rId1"/>
          <a:stretch/>
        </p:blipFill>
        <p:spPr>
          <a:xfrm>
            <a:off x="1500120" y="2214720"/>
            <a:ext cx="576252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s://avatars.mds.yandex.net/get-altay/1633000/2a00000168e7859fa23321c28fa2fe3d4c33/XXL"/>
          <p:cNvPicPr/>
          <p:nvPr/>
        </p:nvPicPr>
        <p:blipFill>
          <a:blip r:embed="rId1"/>
          <a:stretch/>
        </p:blipFill>
        <p:spPr>
          <a:xfrm>
            <a:off x="3643200" y="3500280"/>
            <a:ext cx="4484880" cy="29908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5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6" descr="F:\DCIM\107NIKON\DSCN4411.JPG"/>
          <p:cNvPicPr/>
          <p:nvPr/>
        </p:nvPicPr>
        <p:blipFill>
          <a:blip r:embed="rId2"/>
          <a:stretch/>
        </p:blipFill>
        <p:spPr>
          <a:xfrm>
            <a:off x="785880" y="1285920"/>
            <a:ext cx="4572000" cy="334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кскурсия в школьный муз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м куль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3" descr="I:\DCIM\108NIKON\DSCN4578.JPG"/>
          <p:cNvPicPr/>
          <p:nvPr/>
        </p:nvPicPr>
        <p:blipFill>
          <a:blip r:embed="rId1"/>
          <a:stretch/>
        </p:blipFill>
        <p:spPr>
          <a:xfrm>
            <a:off x="1500120" y="1571760"/>
            <a:ext cx="585792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http://sobory.ru/pic/12550/12595_20140219_224505.jpg"/>
          <p:cNvPicPr/>
          <p:nvPr/>
        </p:nvPicPr>
        <p:blipFill>
          <a:blip r:embed="rId1"/>
          <a:stretch/>
        </p:blipFill>
        <p:spPr>
          <a:xfrm>
            <a:off x="4000680" y="3000240"/>
            <a:ext cx="4711680" cy="3143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071720"/>
            <a:ext cx="75438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нас дома одноэтажн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по линейке – два ря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ревья мудрые и важн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удят, как в ветер пров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посмотрите, как зде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или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тсадик, школ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ражи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наши дали за околиц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повторимо хорош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1533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2577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9120" y="1356840"/>
            <a:ext cx="32148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йду служить я  в арми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дальние кра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м будет сниться  Родина м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лая моя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C:\Users\Admin\Desktop\images.jpg"/>
          <p:cNvPicPr/>
          <p:nvPr/>
        </p:nvPicPr>
        <p:blipFill>
          <a:blip r:embed="rId1"/>
          <a:stretch/>
        </p:blipFill>
        <p:spPr>
          <a:xfrm>
            <a:off x="571680" y="1214280"/>
            <a:ext cx="4071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4508280"/>
            <a:ext cx="403848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лю тебя, село моё родно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й уголок, родная Рус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11280" y="836280"/>
            <a:ext cx="4475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на-это место, где человек чувствует себя  частью этого места. Та страна, куда он стремится возвращаться независимо от возраста и обстоятельств. Родина-тот уголок, который мы стремимся сберечь, защитить, сохранить. Малая Родина-это место, где находится наш дом, наши родители, где мы растем, учимся, играем с друзь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Содержимое 5" descr="I:\DCIM\108NIKON\DSCN4589.JPG"/>
          <p:cNvPicPr/>
          <p:nvPr/>
        </p:nvPicPr>
        <p:blipFill>
          <a:blip r:embed="rId1"/>
          <a:stretch/>
        </p:blipFill>
        <p:spPr>
          <a:xfrm>
            <a:off x="571680" y="1600200"/>
            <a:ext cx="392904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 делаем вывод, что малая родина-это село, в котором мы живём, это Большое Устинско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760" y="1928520"/>
            <a:ext cx="34956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о моё родно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сивей его нет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в этом се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ву уж 8 лет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C:\Users\home\Desktop\школа фото\день ходьбы\DSCN4541.JPG"/>
          <p:cNvPicPr/>
          <p:nvPr/>
        </p:nvPicPr>
        <p:blipFill>
          <a:blip r:embed="rId1"/>
          <a:stretch/>
        </p:blipFill>
        <p:spPr>
          <a:xfrm>
            <a:off x="1208160" y="1671480"/>
            <a:ext cx="3301920" cy="44038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4929120" y="585792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курсия по сел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ся с историей нашего с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знат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 чего начинается Родин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Почему наше село называется Большое Устинское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Что мы можем рассказать о достопримечательностях  нашего села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Почему наше село мы называем малой Родиной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Почему место, где МЫ родились, нам так дорого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4" descr=""/>
          <p:cNvPicPr/>
          <p:nvPr/>
        </p:nvPicPr>
        <p:blipFill>
          <a:blip r:embed="rId1"/>
          <a:stretch/>
        </p:blipFill>
        <p:spPr>
          <a:xfrm>
            <a:off x="1279440" y="1305000"/>
            <a:ext cx="70106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Развитие у учащихся интереса к изучению и сохранению культурного наследия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Развитие интереса к проектно-исследовательской деятельности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Создание стенгазе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названием  «Моя малая Родина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3" descr="http://letopisi.org/images/thumb/e/eb/%D0%92%D0%B8%D0%B4_%D1%81%D0%B5%D0%BB%D0%B0_%D1%81_%D0%B4%D0%BE%D1%80%D0%BE%D0%B3%D0%B8.jpg/180px-%D0%92%D0%B8%D0%B4_%D1%81%D0%B5%D0%BB%D0%B0_%D1%81_%D0%B4%D0%BE%D1%80%D0%BE%D0%B3%D0%B8.jpg"/>
          <p:cNvPicPr/>
          <p:nvPr/>
        </p:nvPicPr>
        <p:blipFill>
          <a:blip r:embed="rId1"/>
          <a:stretch/>
        </p:blipFill>
        <p:spPr>
          <a:xfrm>
            <a:off x="4714920" y="4143240"/>
            <a:ext cx="3214800" cy="2224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Актуальность проект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Данный проект имеет большое значение в деле воспитания и формирования личности учащихся, воспитания Гражданина и Патриота. 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Ребёнок, который будет знать историю своего села, памятников культуры, архитектуры, никогда не совершит акта вандализма. Он просто будет знать им цен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роект «Моя малая Родин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 Россия-Родина твоя!»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зала мне моя сем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А маленькую родину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овут Большое Устинско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Содержимое 5" descr="с.Большое Устинское.ул.Советская.авт.Галина Чемоданова"/>
          <p:cNvPicPr/>
          <p:nvPr/>
        </p:nvPicPr>
        <p:blipFill>
          <a:blip r:embed="rId1"/>
          <a:stretch/>
        </p:blipFill>
        <p:spPr>
          <a:xfrm>
            <a:off x="4929120" y="2071800"/>
            <a:ext cx="3357720" cy="286380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4071960" y="528624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лица Совет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11" descr="I:\DCIM\108NIKON\DSCN4579.JPG"/>
          <p:cNvPicPr/>
          <p:nvPr/>
        </p:nvPicPr>
        <p:blipFill>
          <a:blip r:embed="rId1"/>
          <a:stretch/>
        </p:blipFill>
        <p:spPr>
          <a:xfrm rot="21013200">
            <a:off x="1093680" y="1803240"/>
            <a:ext cx="2909880" cy="218628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12" descr="I:\DCIM\108NIKON\DSCN4577.JPG"/>
          <p:cNvPicPr/>
          <p:nvPr/>
        </p:nvPicPr>
        <p:blipFill>
          <a:blip r:embed="rId2"/>
          <a:stretch/>
        </p:blipFill>
        <p:spPr>
          <a:xfrm rot="1434000">
            <a:off x="5389200" y="1996560"/>
            <a:ext cx="2914560" cy="2186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яя данный проект, у нас прошел классный час на тему «Моя Родина», мы провели экскурсию по нашей деревне,  искали информацию в интернете, посещали библиотеку, беседовали с родителями, рисовали свою малую родину, писали сочинения. Результатом нашей деятельности стала данная презентация и стенгазе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Содержимое 13" descr="I:\DCIM\108NIKON\DSCN4578.JPG"/>
          <p:cNvPicPr/>
          <p:nvPr/>
        </p:nvPicPr>
        <p:blipFill>
          <a:blip r:embed="rId3"/>
          <a:stretch/>
        </p:blipFill>
        <p:spPr>
          <a:xfrm rot="20713200">
            <a:off x="1017720" y="3857400"/>
            <a:ext cx="3268440" cy="226836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14" descr="C:\Users\home\Desktop\школа фото\DSCN4575.JPG"/>
          <p:cNvPicPr/>
          <p:nvPr/>
        </p:nvPicPr>
        <p:blipFill>
          <a:blip r:embed="rId4"/>
          <a:stretch/>
        </p:blipFill>
        <p:spPr>
          <a:xfrm rot="577200">
            <a:off x="4392360" y="3755880"/>
            <a:ext cx="326844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схождение нашей деревни уходит своими корнями в глуб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стории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воспоминаний старожилов П.Г. Анцыгина, И.Г. Береснева, Д.В. Рязановой «…село возникло в 1454 году на правом берегу реки Уста. Коренными жителями села были племена марийцев, родиной которых являлся город Казань (Казанская губерния). Прежнее название села марийское – Кугу-Шта (в переводе с марийского – большая река)…» А еще существует легенда о том, что «… по территории Шарангского района и лесам Большеустинска проходит ратная тропа войска Ивана Грозного, шедшего завоевывать Казань». В прошлом веке на этой тропе находили подковы, металлические пуговицы, зам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Рисунок 7" descr="C:\Users\home\Desktop\img2.jpg"/>
          <p:cNvPicPr/>
          <p:nvPr/>
        </p:nvPicPr>
        <p:blipFill>
          <a:blip r:embed="rId1"/>
          <a:stretch/>
        </p:blipFill>
        <p:spPr>
          <a:xfrm>
            <a:off x="2286000" y="3714840"/>
            <a:ext cx="44751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центре села, архитектурным украшением навсегда ст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окаменная Никольская церковь, построенная в феврале 1898 г. архитектором Ф.А. Макаровым (1812-1898 гг.). Высота колокольни – 33 мет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5" descr="http://temples.ru/private/f000264/264_0088222b.jpg"/>
          <p:cNvPicPr/>
          <p:nvPr/>
        </p:nvPicPr>
        <p:blipFill>
          <a:blip r:embed="rId1"/>
          <a:stretch/>
        </p:blipFill>
        <p:spPr>
          <a:xfrm>
            <a:off x="2143080" y="2143080"/>
            <a:ext cx="4714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гда мы не забудем о тех кто погиб, защищая Родину. В Устинске поставлен памятник погибшим воинам-землякам, где перечислены их и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4" descr="I:\DCIM\108NIKON\DSCN4576.JPG"/>
          <p:cNvPicPr/>
          <p:nvPr/>
        </p:nvPicPr>
        <p:blipFill>
          <a:blip r:embed="rId1"/>
          <a:stretch/>
        </p:blipFill>
        <p:spPr>
          <a:xfrm>
            <a:off x="1714680" y="1857240"/>
            <a:ext cx="55720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home</cp:lastModifiedBy>
  <dcterms:modified xsi:type="dcterms:W3CDTF">2020-04-14T11:13:36Z</dcterms:modified>
  <cp:revision>59</cp:revision>
  <dc:subject/>
  <dc:title>Слайд 1</dc:title>
</cp:coreProperties>
</file>