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15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C665-804A-4B16-A119-ECCD6217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1B43-5FD8-455F-A007-05B97ADA3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2584-61B3-4A99-97E0-B8FB1B13F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BC25-E5BB-4451-B012-B9082EA5C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71DA-8BC4-46A6-819C-C1F55E07B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6E44-2119-401B-9887-A7EEB050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E2A-997E-42CF-B020-C0234CA4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AA86-6300-4D13-B244-CADBC23B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5FDFA-AD7B-44DE-B537-1CEC0B727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DF19-CBD2-44F7-A890-479B69527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EB8A-5201-4D3E-B924-3D32F9B4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0055-90C6-4DF7-84C5-07286D90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E5BA-CA97-4118-AC9E-9C07CD2B17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Проект </a:t>
            </a:r>
            <a:br>
              <a:rPr sz="5400"/>
            </a:br>
            <a:r>
              <a:rPr b="1" i="1" lang="ru-RU" sz="5400" spc="-1" strike="noStrike">
                <a:solidFill>
                  <a:srgbClr val="002060"/>
                </a:solidFill>
                <a:latin typeface="Times New Roman"/>
              </a:rPr>
              <a:t>«Моя малая Родина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785988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полнили ученики  2 класс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БОУ «Большеустинская основная школа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уководитель проек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атьяна Александровна Тырыкин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019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Рисунок 4" descr="https://hr.government-nnov.ru/render/storage/c4/be/4eff1c8aaf0427bfbe9d45fc84e7281f6ee1363d.jpg"/>
          <p:cNvPicPr/>
          <p:nvPr/>
        </p:nvPicPr>
        <p:blipFill>
          <a:blip r:embed="rId1"/>
          <a:stretch/>
        </p:blipFill>
        <p:spPr>
          <a:xfrm>
            <a:off x="785880" y="3571920"/>
            <a:ext cx="33145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Рисунок 3" descr="http://letopisi.org/images/thumb/a/a0/%D0%90%D0%BD%D1%86%D1%8B%D0%B3%D0%B8%D0%BD_%D0%9F.%D0%93.png/180px-%D0%90%D0%BD%D1%86%D1%8B%D0%B3%D0%B8%D0%BD_%D0%9F.%D0%93.png"/>
          <p:cNvPicPr/>
          <p:nvPr/>
        </p:nvPicPr>
        <p:blipFill>
          <a:blip r:embed="rId1"/>
          <a:stretch/>
        </p:blipFill>
        <p:spPr>
          <a:xfrm>
            <a:off x="642960" y="1143000"/>
            <a:ext cx="2143080" cy="278604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4" descr="http://letopisi.org/images/thumb/7/7f/%D0%9A%D0%B0%D1%81%D1%8C%D1%8F%D0%BD%D0%BE%D0%B2_%D0%9F.%D0%95.png/180px-%D0%9A%D0%B0%D1%81%D1%8C%D1%8F%D0%BD%D0%BE%D0%B2_%D0%9F.%D0%95.png"/>
          <p:cNvPicPr/>
          <p:nvPr/>
        </p:nvPicPr>
        <p:blipFill>
          <a:blip r:embed="rId2"/>
          <a:stretch/>
        </p:blipFill>
        <p:spPr>
          <a:xfrm>
            <a:off x="6286680" y="3214800"/>
            <a:ext cx="2071440" cy="25905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071360" y="4071600"/>
            <a:ext cx="4786200" cy="16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сьянов Павел Ефремо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Капит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3071880" y="1217880"/>
            <a:ext cx="4929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цыгин Петр Григорье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Старший лейтена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Рисунок 3" descr="http://letopisi.org/images/thumb/d/d4/%D0%92%D1%8B%D1%87%D1%83%D0%B6%D0%B0%D0%BD%D0%B8%D0%BD_%D0%92.%D0%90.png/180px-%D0%92%D1%8B%D1%87%D1%83%D0%B6%D0%B0%D0%BD%D0%B8%D0%BD_%D0%92.%D0%90.png"/>
          <p:cNvPicPr/>
          <p:nvPr/>
        </p:nvPicPr>
        <p:blipFill>
          <a:blip r:embed="rId1"/>
          <a:stretch/>
        </p:blipFill>
        <p:spPr>
          <a:xfrm>
            <a:off x="642960" y="1143000"/>
            <a:ext cx="2214720" cy="271476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http://letopisi.org/images/thumb/1/16/%D0%90%D0%BD%D1%86%D1%8B%D0%B3%D0%B8%D0%BD_%D0%90.%D0%93.png/180px-%D0%90%D0%BD%D1%86%D1%8B%D0%B3%D0%B8%D0%BD_%D0%90.%D0%93.png"/>
          <p:cNvPicPr/>
          <p:nvPr/>
        </p:nvPicPr>
        <p:blipFill>
          <a:blip r:embed="rId2"/>
          <a:stretch/>
        </p:blipFill>
        <p:spPr>
          <a:xfrm>
            <a:off x="5929200" y="3429000"/>
            <a:ext cx="2000520" cy="266688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"/>
          <p:cNvSpPr/>
          <p:nvPr/>
        </p:nvSpPr>
        <p:spPr>
          <a:xfrm>
            <a:off x="857160" y="4146840"/>
            <a:ext cx="48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цыгин Александр Григорьевич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астник Великой Отечественной войны 1941-1945 гг. Лейтенан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3000240" y="1217880"/>
            <a:ext cx="4857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чужанин Николай Александрович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частник Великой Отечественной войны 1941-1945 гг. Капитан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вый сад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Содержимое 5" descr="I:\DCIM\108NIKON\DSCN4579.JPG"/>
          <p:cNvPicPr/>
          <p:nvPr/>
        </p:nvPicPr>
        <p:blipFill>
          <a:blip r:embed="rId1"/>
          <a:stretch/>
        </p:blipFill>
        <p:spPr>
          <a:xfrm>
            <a:off x="1500120" y="1571760"/>
            <a:ext cx="600084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 1964 году открыли новую школу, в которой мы учимся.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раньше это был купеческий дом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0" descr="C:\Users\home\Desktop\snv83388.jpg"/>
          <p:cNvPicPr/>
          <p:nvPr/>
        </p:nvPicPr>
        <p:blipFill>
          <a:blip r:embed="rId1"/>
          <a:stretch/>
        </p:blipFill>
        <p:spPr>
          <a:xfrm>
            <a:off x="1500120" y="2214720"/>
            <a:ext cx="5762520" cy="33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https://avatars.mds.yandex.net/get-altay/1633000/2a00000168e7859fa23321c28fa2fe3d4c33/XXL"/>
          <p:cNvPicPr/>
          <p:nvPr/>
        </p:nvPicPr>
        <p:blipFill>
          <a:blip r:embed="rId1"/>
          <a:stretch/>
        </p:blipFill>
        <p:spPr>
          <a:xfrm>
            <a:off x="3643200" y="3500280"/>
            <a:ext cx="4484880" cy="299088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5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7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Рисунок 6" descr="F:\DCIM\107NIKON\DSCN4411.JPG"/>
          <p:cNvPicPr/>
          <p:nvPr/>
        </p:nvPicPr>
        <p:blipFill>
          <a:blip r:embed="rId2"/>
          <a:stretch/>
        </p:blipFill>
        <p:spPr>
          <a:xfrm>
            <a:off x="785880" y="1285920"/>
            <a:ext cx="4572000" cy="334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скурсия в школьный муз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м культур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Рисунок 3" descr="I:\DCIM\108NIKON\DSCN4578.JPG"/>
          <p:cNvPicPr/>
          <p:nvPr/>
        </p:nvPicPr>
        <p:blipFill>
          <a:blip r:embed="rId1"/>
          <a:stretch/>
        </p:blipFill>
        <p:spPr>
          <a:xfrm>
            <a:off x="1500120" y="1571760"/>
            <a:ext cx="5857920" cy="43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http://sobory.ru/pic/12550/12595_20140219_224505.jpg"/>
          <p:cNvPicPr/>
          <p:nvPr/>
        </p:nvPicPr>
        <p:blipFill>
          <a:blip r:embed="rId1"/>
          <a:stretch/>
        </p:blipFill>
        <p:spPr>
          <a:xfrm>
            <a:off x="4000680" y="3000240"/>
            <a:ext cx="4711680" cy="31435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06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6840" y="1071720"/>
            <a:ext cx="75438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 нас дома одноэтажные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к по линейке – два ря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ревья мудрые и важн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удят, как в ветер провод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 посмотрите, как зде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оилис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етсадик, школ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аражи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А наши дали за околиц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еповторимо хорош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24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0040" y="1533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285560"/>
            <a:ext cx="425772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9120" y="1356840"/>
            <a:ext cx="32148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йду служить я  в арми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дальние кра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ам будет сниться  Родина мн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лая моя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C:\Users\Admin\Desktop\images.jpg"/>
          <p:cNvPicPr/>
          <p:nvPr/>
        </p:nvPicPr>
        <p:blipFill>
          <a:blip r:embed="rId1"/>
          <a:stretch/>
        </p:blipFill>
        <p:spPr>
          <a:xfrm>
            <a:off x="571680" y="1214280"/>
            <a:ext cx="40716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57200" y="4508280"/>
            <a:ext cx="4038480" cy="161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юблю тебя, село моё родно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й уголок, родная Рус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211280" y="836280"/>
            <a:ext cx="447516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дина-это место, где человек чувствует себя  частью этого места. Та страна, куда он стремится возвращаться независимо от возраста и обстоятельств. Родина-тот уголок, который мы стремимся сберечь, защитить, сохранить. Малая Родина-это место, где находится наш дом, наши родители, где мы растем, учимся, играем с друзьям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Содержимое 5" descr="I:\DCIM\108NIKON\DSCN4589.JPG"/>
          <p:cNvPicPr/>
          <p:nvPr/>
        </p:nvPicPr>
        <p:blipFill>
          <a:blip r:embed="rId1"/>
          <a:stretch/>
        </p:blipFill>
        <p:spPr>
          <a:xfrm>
            <a:off x="571680" y="1600200"/>
            <a:ext cx="392904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ы делаем вывод, что малая родина-это село, в котором мы живём, это Большое Устинско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760" y="1928520"/>
            <a:ext cx="349560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но моё родное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расивей его не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 в этом сел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Живу уж 8 лет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" descr="C:\Users\home\Desktop\школа фото\день ходьбы\DSCN4541.JPG"/>
          <p:cNvPicPr/>
          <p:nvPr/>
        </p:nvPicPr>
        <p:blipFill>
          <a:blip r:embed="rId1"/>
          <a:stretch/>
        </p:blipFill>
        <p:spPr>
          <a:xfrm>
            <a:off x="1208160" y="1671480"/>
            <a:ext cx="3301920" cy="4403880"/>
          </a:xfrm>
          <a:prstGeom prst="rect">
            <a:avLst/>
          </a:prstGeom>
          <a:ln w="0">
            <a:noFill/>
          </a:ln>
        </p:spPr>
      </p:pic>
      <p:sp>
        <p:nvSpPr>
          <p:cNvPr id="102" name="TextBox 6"/>
          <p:cNvSpPr/>
          <p:nvPr/>
        </p:nvSpPr>
        <p:spPr>
          <a:xfrm>
            <a:off x="4929120" y="58579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курсия по сел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 проект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знакомиться с историей нашего с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знать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 чего начинается Родина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наше село называется Большое Устинско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Что мы можем рассказать о достопримечательностях  нашего села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наше село мы называем малой Родиной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Почему место, где МЫ родились, нам так дорого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Прямоугольник 4" descr=""/>
          <p:cNvPicPr/>
          <p:nvPr/>
        </p:nvPicPr>
        <p:blipFill>
          <a:blip r:embed="rId1"/>
          <a:stretch/>
        </p:blipFill>
        <p:spPr>
          <a:xfrm>
            <a:off x="1279440" y="1305000"/>
            <a:ext cx="70106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азвитие у учащихся интереса к изучению и сохранению культурного наследия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Развитие интереса к проектно-исследовательской деятельности.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100" spc="-1" strike="noStrike">
                <a:solidFill>
                  <a:srgbClr val="000000"/>
                </a:solidFill>
                <a:latin typeface="Times New Roman"/>
              </a:rPr>
              <a:t>Создание стенгазет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названием  «Моя малая Родина»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Рисунок 3" descr="http://letopisi.org/images/thumb/e/eb/%D0%92%D0%B8%D0%B4_%D1%81%D0%B5%D0%BB%D0%B0_%D1%81_%D0%B4%D0%BE%D1%80%D0%BE%D0%B3%D0%B8.jpg/180px-%D0%92%D0%B8%D0%B4_%D1%81%D0%B5%D0%BB%D0%B0_%D1%81_%D0%B4%D0%BE%D1%80%D0%BE%D0%B3%D0%B8.jpg"/>
          <p:cNvPicPr/>
          <p:nvPr/>
        </p:nvPicPr>
        <p:blipFill>
          <a:blip r:embed="rId1"/>
          <a:stretch/>
        </p:blipFill>
        <p:spPr>
          <a:xfrm>
            <a:off x="4714920" y="4143240"/>
            <a:ext cx="3214800" cy="22240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</a:rPr>
              <a:t>Задачи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Times New Roman"/>
              </a:rPr>
              <a:t>Актуальность проект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Данный проект имеет большое значение в деле воспитания и формирования личности учащихся, воспитания Гражданина и Патриота. 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3500" spc="-1" strike="noStrike">
                <a:solidFill>
                  <a:srgbClr val="000000"/>
                </a:solidFill>
                <a:latin typeface="Times New Roman"/>
              </a:rPr>
              <a:t>Ребёнок, который будет знать историю своего села, памятников культуры, архитектуры, никогда не совершит акта вандализма. Он просто будет знать им цену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Проект «Моя малая Род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 Россия-Родина твоя!»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азала мне моя семь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А маленькую родину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овут Большое Устинское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Содержимое 5" descr="с.Большое Устинское.ул.Советская.авт.Галина Чемоданова"/>
          <p:cNvPicPr/>
          <p:nvPr/>
        </p:nvPicPr>
        <p:blipFill>
          <a:blip r:embed="rId1"/>
          <a:stretch/>
        </p:blipFill>
        <p:spPr>
          <a:xfrm>
            <a:off x="4929120" y="2071800"/>
            <a:ext cx="3357720" cy="286380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4071960" y="528624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лица Советск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Содержимое 11" descr="I:\DCIM\108NIKON\DSCN4579.JPG"/>
          <p:cNvPicPr/>
          <p:nvPr/>
        </p:nvPicPr>
        <p:blipFill>
          <a:blip r:embed="rId1"/>
          <a:stretch/>
        </p:blipFill>
        <p:spPr>
          <a:xfrm rot="21013200">
            <a:off x="1093680" y="1803240"/>
            <a:ext cx="2909880" cy="2186280"/>
          </a:xfrm>
          <a:prstGeom prst="rect">
            <a:avLst/>
          </a:prstGeom>
          <a:ln w="0">
            <a:noFill/>
          </a:ln>
        </p:spPr>
      </p:pic>
      <p:pic>
        <p:nvPicPr>
          <p:cNvPr id="56" name="Содержимое 12" descr="I:\DCIM\108NIKON\DSCN4577.JPG"/>
          <p:cNvPicPr/>
          <p:nvPr/>
        </p:nvPicPr>
        <p:blipFill>
          <a:blip r:embed="rId2"/>
          <a:stretch/>
        </p:blipFill>
        <p:spPr>
          <a:xfrm rot="1434000">
            <a:off x="5389200" y="1996560"/>
            <a:ext cx="2914560" cy="2186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8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ыполняя данный проект, у нас прошел классный час на тему «Моя Родина», мы провели экскурсию по нашей деревне,  искали информацию в интернете, посещали библиотеку, беседовали с родителями, рисовали свою малую родину, писали сочинения. Результатом нашей деятельности стала данная презентация и стенгазет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Содержимое 13" descr="I:\DCIM\108NIKON\DSCN4578.JPG"/>
          <p:cNvPicPr/>
          <p:nvPr/>
        </p:nvPicPr>
        <p:blipFill>
          <a:blip r:embed="rId3"/>
          <a:stretch/>
        </p:blipFill>
        <p:spPr>
          <a:xfrm rot="20713200">
            <a:off x="1017720" y="3857400"/>
            <a:ext cx="3268440" cy="2268360"/>
          </a:xfrm>
          <a:prstGeom prst="rect">
            <a:avLst/>
          </a:prstGeom>
          <a:ln w="0">
            <a:noFill/>
          </a:ln>
        </p:spPr>
      </p:pic>
      <p:pic>
        <p:nvPicPr>
          <p:cNvPr id="59" name="Содержимое 14" descr="C:\Users\home\Desktop\школа фото\DSCN4575.JPG"/>
          <p:cNvPicPr/>
          <p:nvPr/>
        </p:nvPicPr>
        <p:blipFill>
          <a:blip r:embed="rId4"/>
          <a:stretch/>
        </p:blipFill>
        <p:spPr>
          <a:xfrm rot="577200">
            <a:off x="4392360" y="3755880"/>
            <a:ext cx="3268440" cy="24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исхождение нашей деревни уходит своими корнями в глуб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стории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з воспоминаний старожилов П.Г. Анцыгина, И.Г. Береснева, Д.В. Рязановой «…село возникло в 1454 году на правом берегу реки Уста. Коренными жителями села были племена марийцев, родиной которых являлся город Казань (Казанская губерния). Прежнее название села марийское – Кугу-Шта (в переводе с марийского – большая река)…» А еще существует легенда о том, что «… по территории Шарангского района и лесам Большеустинска проходит ратная тропа войска Ивана Грозного, шедшего завоевывать Казань». В прошлом веке на этой тропе находили подковы, металлические пуговицы, замк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7" descr="C:\Users\home\Desktop\img2.jpg"/>
          <p:cNvPicPr/>
          <p:nvPr/>
        </p:nvPicPr>
        <p:blipFill>
          <a:blip r:embed="rId1"/>
          <a:stretch/>
        </p:blipFill>
        <p:spPr>
          <a:xfrm>
            <a:off x="2286000" y="3714840"/>
            <a:ext cx="4475160" cy="26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центре села, архитектурным украшением навсегда стал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локаменная Никольская церковь, построенная в феврале 1898 г. архитектором Ф.А. Макаровым (1812-1898 гг.). Высота колокольни – 33 метр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Рисунок 5" descr="http://temples.ru/private/f000264/264_0088222b.jpg"/>
          <p:cNvPicPr/>
          <p:nvPr/>
        </p:nvPicPr>
        <p:blipFill>
          <a:blip r:embed="rId1"/>
          <a:stretch/>
        </p:blipFill>
        <p:spPr>
          <a:xfrm>
            <a:off x="2143080" y="2143080"/>
            <a:ext cx="471492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мы не забудем о тех кто погиб, защищая Родину. В Устинске поставлен памятник погибшим воинам-землякам, где перечислены их име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4" descr="I:\DCIM\108NIKON\DSCN4576.JPG"/>
          <p:cNvPicPr/>
          <p:nvPr/>
        </p:nvPicPr>
        <p:blipFill>
          <a:blip r:embed="rId1"/>
          <a:stretch/>
        </p:blipFill>
        <p:spPr>
          <a:xfrm>
            <a:off x="1714680" y="1857240"/>
            <a:ext cx="5572080" cy="41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6T20:41:41Z</dcterms:created>
  <dc:creator>Елена</dc:creator>
  <dc:description/>
  <dc:language>en-US</dc:language>
  <cp:lastModifiedBy>home</cp:lastModifiedBy>
  <dcterms:modified xsi:type="dcterms:W3CDTF">2020-04-14T11:13:36Z</dcterms:modified>
  <cp:revision>59</cp:revision>
  <dc:subject/>
  <dc:title>Слайд 1</dc:title>
</cp:coreProperties>
</file>