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E9C-569F-4EA9-942B-EEA94F04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C6C-708F-42B6-BF4F-7D7993B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D47-AD69-4BA6-8763-D3DC39ED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6C3-E4D9-4A7C-A1CA-2367F384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BDB6-EF72-4946-8D30-BA015206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0549-B7D2-461F-A8B4-F85DBAF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DEF0-D052-49BF-9D3F-937D144F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06C6-5FC1-42BC-9C5D-F95CF01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967-F0F5-4AAC-A54F-FC72CAA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FDB8-CC87-48CB-8959-01C6832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2BD6-87E4-44E6-8419-E7BA5CD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F3F-0324-4ECE-99EE-38660A8B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D826-C00B-4089-A39A-6C09E89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572-BE6D-41F5-A33D-D2D41913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3663-3B99-4696-AA60-8B38B1E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E115-A5C0-4DFB-9D62-D5F2452C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B38F-D3E1-42AC-8FA2-A70CCED1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0DFE-F00A-4BF7-A50C-002A2073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C6BC-F5B4-4132-9A38-CB6F558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BD1A-ACBC-4515-B12C-D5167CB4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3FF1-C0F9-4839-85EB-00ADAA9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2836-602B-44EC-9BF3-16967A3D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413-8A06-45C6-BE6A-DE09FED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D497-CD4E-495E-A99B-C5466E8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FE7E-D456-4B9C-9852-054DDE8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A1D0-7CD3-4008-B07B-BF75B8B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2F67-096E-42F3-909B-1A673D7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80B5-02AD-4711-8230-8C80F19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4361-ABBE-4C3A-A32E-C17108D2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4944-0B05-4F32-A090-90C1A169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E4EA-D52D-4839-9EA1-82591034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FC00-58DD-4B24-9DD3-AB82036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5ACD-10FF-4FF8-9DF8-9321B2B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AC2-8078-4454-B0DE-7B6C31F2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EFBC-6D15-42E9-AED3-E8AEF7C4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3A44-0B71-4D55-AAA5-A2E5961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D5B8-629A-4C93-B26E-A8AC8607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EDC3-952B-45B7-AC9C-0B3C477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8E2D-3B22-4632-AABE-509C0CD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97B2-086A-4AFF-AC39-AA1B5B1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E8D1-7BC3-4080-A34C-2C3D129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CA33-F5B4-4F31-A609-9DEB573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BF5D-3BC5-49FA-9BE0-6FB29AB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7C0D-BE5C-44CA-8E40-96F06DC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FE9-9570-4774-B9BD-D5BAAD1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B868-1C1C-4A1B-A931-3EC2EB67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162B-FE58-4E72-B61B-38C7289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9FE4-8748-486B-9437-F2402965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DC03-249A-496D-96FF-38412AE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DB68-C773-457C-89B7-DEE7981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5CC4-A757-41F9-810E-ABDF68A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EBDCC-53DE-4A76-8A02-489B069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F08A-66BF-4FF8-9AD1-D363BE2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CC37D-E65B-4C12-AAA7-F3CA86F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C80C-2B9B-4D8D-BC72-6FE0BD6D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44C-E931-463E-B99F-11A4280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92C1-B863-4A26-A3B7-CD0A7A35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804E-A459-4252-AC8A-998E76F7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08D8D-B68F-4300-88A4-A2B83D3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BFBD-B818-42ED-AF21-A9475D45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21DB-B17F-419D-BB50-FA7CA710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AEB4-56CE-44FC-A06B-56E4A27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A0B9-D144-4B8F-80FF-F0C5AFF0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7E7B-73C2-493C-8595-DB555A2D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6564-761B-4616-BBEE-4126544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E216-155B-4BFA-B10A-9DB4DBB2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18E-2630-4E17-AECB-F7BBCFF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DC420-E64E-4D77-9E1A-EF521597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D667-B419-4EF0-A3FC-AFB41A07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5E9B-FD69-4EAB-84DB-7C1CAE1F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265-77DE-4060-9DE7-25263DC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3C7-3270-4BD8-B8A4-933D10D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a0c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95D0-AF89-4857-95D2-D18FA8CF3F5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16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2811-EEE3-4A4B-8FB5-46A40516D5F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16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9C5D-8C1A-4DF8-AEAF-7EAD73876D3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a0c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217-29CA-4ADD-AF5F-CD7C56955BE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a0c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4C8-0816-41E3-A73B-66FC541E372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a0c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F239-2DE2-4713-A11B-CEA784B5531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9" descr=""/>
          <p:cNvPicPr/>
          <p:nvPr/>
        </p:nvPicPr>
        <p:blipFill>
          <a:blip r:embed="rId1"/>
          <a:stretch/>
        </p:blipFill>
        <p:spPr>
          <a:xfrm>
            <a:off x="689040" y="835200"/>
            <a:ext cx="8076960" cy="20174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"/>
          <p:cNvSpPr/>
          <p:nvPr/>
        </p:nvSpPr>
        <p:spPr>
          <a:xfrm>
            <a:off x="3132000" y="296712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Цеденова А.А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Средняя школа № 8»г.Ког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6" descr=""/>
          <p:cNvPicPr/>
          <p:nvPr/>
        </p:nvPicPr>
        <p:blipFill>
          <a:blip r:embed="rId1"/>
          <a:stretch/>
        </p:blipFill>
        <p:spPr>
          <a:xfrm>
            <a:off x="3151080" y="500040"/>
            <a:ext cx="5353200" cy="1042920"/>
          </a:xfrm>
          <a:prstGeom prst="rect">
            <a:avLst/>
          </a:prstGeom>
          <a:ln w="0">
            <a:noFill/>
          </a:ln>
        </p:spPr>
      </p:pic>
      <p:sp>
        <p:nvSpPr>
          <p:cNvPr id="313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Заголовок 6" descr=""/>
          <p:cNvPicPr/>
          <p:nvPr/>
        </p:nvPicPr>
        <p:blipFill>
          <a:blip r:embed="rId2"/>
          <a:stretch/>
        </p:blipFill>
        <p:spPr>
          <a:xfrm>
            <a:off x="30240" y="73080"/>
            <a:ext cx="26827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3143160" y="1643040"/>
          <a:ext cx="5746680" cy="3568680"/>
        </p:xfrm>
        <a:graphic>
          <a:graphicData uri="http://schemas.openxmlformats.org/drawingml/2006/table">
            <a:tbl>
              <a:tblPr/>
              <a:tblGrid>
                <a:gridCol w="2286000"/>
                <a:gridCol w="34606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88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 период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for three months,  for ten years, for five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8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uring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 сущест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during  our voyage, during the war, during the fil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hil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+ глаг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while we were eating,  while they were t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12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efore/aft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+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агол с окончанием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–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before the film, after the film, before eating breakfast, after reading the news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16" name="Текст 5"/>
          <p:cNvSpPr/>
          <p:nvPr/>
        </p:nvSpPr>
        <p:spPr>
          <a:xfrm>
            <a:off x="142920" y="1643040"/>
            <a:ext cx="246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Corbel"/>
              </a:rPr>
              <a:t>For</a:t>
            </a:r>
            <a:r>
              <a:rPr b="1" i="1" lang="en-US" sz="18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в течение к-л. периода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Corbel"/>
              </a:rPr>
              <a:t>During</a:t>
            </a: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 – в течение, в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Corbel"/>
              </a:rPr>
              <a:t>While</a:t>
            </a: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 – пока, в то время,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Corbel"/>
              </a:rPr>
              <a:t>Before</a:t>
            </a: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 -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Corbel"/>
              </a:rPr>
              <a:t>After</a:t>
            </a: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 - по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Текст 5"/>
          <p:cNvSpPr/>
          <p:nvPr/>
        </p:nvSpPr>
        <p:spPr>
          <a:xfrm>
            <a:off x="2928960" y="5429160"/>
            <a:ext cx="5857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Предлог </a:t>
            </a: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for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часто входит в состав фразовых глаголов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или предложных конструк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look for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– искать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wait for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ждать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1" i="1" lang="en-US" sz="1500" spc="-1" strike="noStrike">
                <a:solidFill>
                  <a:srgbClr val="ffcc00"/>
                </a:solidFill>
                <a:latin typeface="Corbel"/>
              </a:rPr>
              <a:t>blame smb.  for 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стыдить к-л. за, </a:t>
            </a: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thank smb. for 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благодарить к-л. за, </a:t>
            </a: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praise smb. for 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 хвалить к-л. за, 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i="1" lang="en-US" sz="1500" spc="-1" strike="noStrike">
                <a:solidFill>
                  <a:srgbClr val="ffc000"/>
                </a:solidFill>
                <a:latin typeface="Corbel"/>
              </a:rPr>
              <a:t>be responsible for 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отвечать 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F:\PICTURES\Anima\foto_20392.gif"/>
          <p:cNvPicPr/>
          <p:nvPr/>
        </p:nvPicPr>
        <p:blipFill>
          <a:blip r:embed="rId3"/>
          <a:stretch/>
        </p:blipFill>
        <p:spPr>
          <a:xfrm>
            <a:off x="1785960" y="5786280"/>
            <a:ext cx="92880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06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71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724" nodeType="afterEffect" fill="hold" presetClass="entr" presetID="3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7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20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ll in the gaps with the right preposition of time – for, during, while, before, af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999880" y="1714320"/>
            <a:ext cx="592956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7000"/>
          </a:bodyPr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We didn’t speak ___ we were eating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We didn’t speak ___ the me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Mike and Nell played tennis ___ three hou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___ doing the shopping, they went ho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___ eating the apple, I washed it carefull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George phoned ___ you were ou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Everybody was nervous ___ the ex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I always have breakfast ___ going to schoo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Sally wrote a lot of letters ___ she was on holi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Yesterday evening I watched TV ___ two hou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Do you ever watch TV ___ you are having dinner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Little Mike fell out of bed ___ he was sleeping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Kate stayed in Rome ___ five day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The student looked very bored ___ the less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I don’t usually watch TV ___ the 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6. Henry started work ___ reading the newspape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Заголовок 6" descr=""/>
          <p:cNvPicPr/>
          <p:nvPr/>
        </p:nvPicPr>
        <p:blipFill>
          <a:blip r:embed="rId2"/>
          <a:stretch/>
        </p:blipFill>
        <p:spPr>
          <a:xfrm>
            <a:off x="30240" y="146160"/>
            <a:ext cx="2682720" cy="1377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F:\PICTURES\Anima\foto_20392.gif"/>
          <p:cNvPicPr/>
          <p:nvPr/>
        </p:nvPicPr>
        <p:blipFill>
          <a:blip r:embed="rId3"/>
          <a:stretch/>
        </p:blipFill>
        <p:spPr>
          <a:xfrm>
            <a:off x="214200" y="5786280"/>
            <a:ext cx="92880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74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5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76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7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385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7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7850"/>
                            </p:stCondLst>
                            <p:childTnLst>
                              <p:par>
                                <p:cTn id="80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9850"/>
                            </p:stCondLst>
                            <p:childTnLst>
                              <p:par>
                                <p:cTn id="80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1850"/>
                            </p:stCondLst>
                            <p:childTnLst>
                              <p:par>
                                <p:cTn id="81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5850"/>
                            </p:stCondLst>
                            <p:childTnLst>
                              <p:par>
                                <p:cTn id="8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9850"/>
                            </p:stCondLst>
                            <p:childTnLst>
                              <p:par>
                                <p:cTn id="83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185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3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33850"/>
                            </p:stCondLst>
                            <p:childTnLst>
                              <p:par>
                                <p:cTn id="85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35850"/>
                            </p:stCondLst>
                            <p:childTnLst>
                              <p:par>
                                <p:cTn id="8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26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999880" y="1714320"/>
            <a:ext cx="592956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2000"/>
          </a:bodyPr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We didn’t spea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we were eating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We didn’t spea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during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me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Mike and Nell played tenni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ree hou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doing the shopping, they went ho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eating the apple, I washed it carefull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George phon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you were ou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Everybody was nervou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ex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I always have breakfast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going to schoo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Sally wrote a lot of letter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she was on holi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Yesterday evening I watched TV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wo hou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Do you ever watch TV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you are having dinner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Little Mike fell out of b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e was sleeping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Kate stayed in Rom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five day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The student looked very bor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during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less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I don’t usually watch TV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during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6. Henry started wor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reading the newspape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Заголовок 6" descr=""/>
          <p:cNvPicPr/>
          <p:nvPr/>
        </p:nvPicPr>
        <p:blipFill>
          <a:blip r:embed="rId2"/>
          <a:stretch/>
        </p:blipFill>
        <p:spPr>
          <a:xfrm>
            <a:off x="30240" y="146160"/>
            <a:ext cx="2682720" cy="1377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F:\PICTURES\Anima\foto_20392.gif"/>
          <p:cNvPicPr/>
          <p:nvPr/>
        </p:nvPicPr>
        <p:blipFill>
          <a:blip r:embed="rId3"/>
          <a:stretch/>
        </p:blipFill>
        <p:spPr>
          <a:xfrm>
            <a:off x="1000080" y="5286240"/>
            <a:ext cx="85716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87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8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8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8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90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90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91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2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9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0650"/>
                            </p:stCondLst>
                            <p:childTnLst>
                              <p:par>
                                <p:cTn id="9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4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6650"/>
                            </p:stCondLst>
                            <p:childTnLst>
                              <p:par>
                                <p:cTn id="95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8650"/>
                            </p:stCondLst>
                            <p:childTnLst>
                              <p:par>
                                <p:cTn id="95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0" dur="10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0650"/>
                            </p:stCondLst>
                            <p:childTnLst>
                              <p:par>
                                <p:cTn id="96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32650"/>
                            </p:stCondLst>
                            <p:childTnLst>
                              <p:par>
                                <p:cTn id="96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1000"/>
                                        <p:tgtEl>
                                          <p:spTgt spid="3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34650"/>
                            </p:stCondLst>
                            <p:childTnLst>
                              <p:par>
                                <p:cTn id="9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6" descr=""/>
          <p:cNvPicPr/>
          <p:nvPr/>
        </p:nvPicPr>
        <p:blipFill>
          <a:blip r:embed="rId1"/>
          <a:stretch/>
        </p:blipFill>
        <p:spPr>
          <a:xfrm>
            <a:off x="3151080" y="500040"/>
            <a:ext cx="5353200" cy="104292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Заголовок 6" descr=""/>
          <p:cNvPicPr/>
          <p:nvPr/>
        </p:nvPicPr>
        <p:blipFill>
          <a:blip r:embed="rId2"/>
          <a:stretch/>
        </p:blipFill>
        <p:spPr>
          <a:xfrm>
            <a:off x="-30240" y="165240"/>
            <a:ext cx="2882880" cy="13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3071880" y="1768320"/>
          <a:ext cx="5746680" cy="2687760"/>
        </p:xfrm>
        <a:graphic>
          <a:graphicData uri="http://schemas.openxmlformats.org/drawingml/2006/table">
            <a:tbl>
              <a:tblPr/>
              <a:tblGrid>
                <a:gridCol w="1676160"/>
                <a:gridCol w="4070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om...to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... до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from Tuesday to Sunday,  from  early morning till late  evening, from 1999 to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n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until  Saturday, until December, until 6 o’clock, till late at night, till I come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88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 каких-либо п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since  I arrived, since Monday, since 1987, since 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35" name="Текст 5"/>
          <p:cNvSpPr/>
          <p:nvPr/>
        </p:nvSpPr>
        <p:spPr>
          <a:xfrm>
            <a:off x="142920" y="1643040"/>
            <a:ext cx="246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Corbel"/>
              </a:rPr>
              <a:t>From...to… = From…till…  </a:t>
            </a: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с… д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Corbel"/>
              </a:rPr>
              <a:t>Until </a:t>
            </a:r>
            <a:r>
              <a:rPr b="1" i="1" lang="ru-RU" sz="2000" spc="-1" strike="noStrike">
                <a:solidFill>
                  <a:srgbClr val="ffcc00"/>
                </a:solidFill>
                <a:latin typeface="Corbel"/>
              </a:rPr>
              <a:t>= </a:t>
            </a:r>
            <a:r>
              <a:rPr b="1" i="1" lang="en-US" sz="2000" spc="-1" strike="noStrike">
                <a:solidFill>
                  <a:srgbClr val="ffcc00"/>
                </a:solidFill>
                <a:latin typeface="Corbel"/>
              </a:rPr>
              <a:t>till </a:t>
            </a: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до какого-либо периода,  до какого-либ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Corbel"/>
              </a:rPr>
              <a:t>Since</a:t>
            </a: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1" i="1" lang="ru-RU" sz="2000" spc="-1" strike="noStrike">
                <a:solidFill>
                  <a:srgbClr val="ffffff"/>
                </a:solidFill>
                <a:latin typeface="Corbel"/>
              </a:rPr>
              <a:t>с какого-либо времени в прошлом до настоящего мо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F:\PICTURES\Anima\foto_20392.gif"/>
          <p:cNvPicPr/>
          <p:nvPr/>
        </p:nvPicPr>
        <p:blipFill>
          <a:blip r:embed="rId3"/>
          <a:stretch/>
        </p:blipFill>
        <p:spPr>
          <a:xfrm flipH="1">
            <a:off x="3071880" y="5786280"/>
            <a:ext cx="92880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90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02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0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38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ll in the gaps with the right preposition of time – until, since, from…to…,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999880" y="1571400"/>
            <a:ext cx="59295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1000"/>
          </a:bodyPr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Mr and Mrs Kelly have been married ___ 1978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I was tired this morning. I stayed in bed ___ 10 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I work ____ Monday___ Satur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We waited for Sue ___ half an hour but she didn’t co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“Have you just arrived?” – “No, I’ve been here ___ half past seven.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David and Joe are good friends. They have known each other ___ ten yea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I’m tired. I’m going to lie down ___ a few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Don’t open the door of the train ___ the train stop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This is my house. I’ve lived here ___ I was 7 years ol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Jack has gone away. He’ll be away ___ Wednes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Next week I’m going to London ___ a fortnigh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I usually finish work at 5.30, but sometimes I work __ 6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“How long have you known Ann?” – “___ we were at school together.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Where have you been? I’ve been waiting for you ___ twenty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F:\PICTURES\Anima\foto_20392.gif"/>
          <p:cNvPicPr/>
          <p:nvPr/>
        </p:nvPicPr>
        <p:blipFill>
          <a:blip r:embed="rId2"/>
          <a:stretch/>
        </p:blipFill>
        <p:spPr>
          <a:xfrm>
            <a:off x="214200" y="5786280"/>
            <a:ext cx="857520" cy="866880"/>
          </a:xfrm>
          <a:prstGeom prst="rect">
            <a:avLst/>
          </a:prstGeom>
          <a:ln w="0">
            <a:noFill/>
          </a:ln>
        </p:spPr>
      </p:pic>
      <p:pic>
        <p:nvPicPr>
          <p:cNvPr id="342" name="Заголовок 6" descr=""/>
          <p:cNvPicPr/>
          <p:nvPr/>
        </p:nvPicPr>
        <p:blipFill>
          <a:blip r:embed="rId3"/>
          <a:stretch/>
        </p:blipFill>
        <p:spPr>
          <a:xfrm>
            <a:off x="-30240" y="92160"/>
            <a:ext cx="2882880" cy="134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02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1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104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104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105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06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13850"/>
                            </p:stCondLst>
                            <p:childTnLst>
                              <p:par>
                                <p:cTn id="106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10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17850"/>
                            </p:stCondLst>
                            <p:childTnLst>
                              <p:par>
                                <p:cTn id="10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19850"/>
                            </p:stCondLst>
                            <p:childTnLst>
                              <p:par>
                                <p:cTn id="10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21850"/>
                            </p:stCondLst>
                            <p:childTnLst>
                              <p:par>
                                <p:cTn id="10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109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5850"/>
                            </p:stCondLst>
                            <p:childTnLst>
                              <p:par>
                                <p:cTn id="110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11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9850"/>
                            </p:stCondLst>
                            <p:childTnLst>
                              <p:par>
                                <p:cTn id="111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3185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999880" y="1571400"/>
            <a:ext cx="59295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3000"/>
          </a:bodyPr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Mr and Mrs Kelly have been marri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sinc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1978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I was tired this morning. I stayed in b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until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10 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I wor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Monday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Satur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We waited for Su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alf an hour but she didn’t co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“Have you just arrived?” – “No, I’ve been her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sinc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alf past seven.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David and Joe are good friends. They have known each oth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en year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I’m tired. I’m going to lie down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a few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Don’t open the door of the train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until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train stop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This is my house. I’ve lived her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sinc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I was 7 years ol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Jack has gone away. He’ll be away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until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Wednes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Next week I’m going to London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a fortnigh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I usually finish work at 5.30, but sometimes I wor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until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6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“How long have you known Ann?” – “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Since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we were at school together.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Where have you been? I’ve been waiting for you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wenty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F:\PICTURES\Anima\foto_20392.gif"/>
          <p:cNvPicPr/>
          <p:nvPr/>
        </p:nvPicPr>
        <p:blipFill>
          <a:blip r:embed="rId2"/>
          <a:stretch/>
        </p:blipFill>
        <p:spPr>
          <a:xfrm>
            <a:off x="1000080" y="2143080"/>
            <a:ext cx="857160" cy="866880"/>
          </a:xfrm>
          <a:prstGeom prst="rect">
            <a:avLst/>
          </a:prstGeom>
          <a:ln w="0">
            <a:noFill/>
          </a:ln>
        </p:spPr>
      </p:pic>
      <p:pic>
        <p:nvPicPr>
          <p:cNvPr id="348" name="Заголовок 6" descr=""/>
          <p:cNvPicPr/>
          <p:nvPr/>
        </p:nvPicPr>
        <p:blipFill>
          <a:blip r:embed="rId3"/>
          <a:stretch/>
        </p:blipFill>
        <p:spPr>
          <a:xfrm>
            <a:off x="-30240" y="92160"/>
            <a:ext cx="2882880" cy="13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F:\ART+\64257147_pruygayuschiy_kolobok.gif"/>
          <p:cNvPicPr/>
          <p:nvPr/>
        </p:nvPicPr>
        <p:blipFill>
          <a:blip r:embed="rId4"/>
          <a:stretch/>
        </p:blipFill>
        <p:spPr>
          <a:xfrm>
            <a:off x="0" y="3000240"/>
            <a:ext cx="2709720" cy="186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1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114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7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4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115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116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5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16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1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11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11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3" dur="10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1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9" dur="10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11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20650"/>
                            </p:stCondLst>
                            <p:childTnLst>
                              <p:par>
                                <p:cTn id="119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1" dur="10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120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120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26650"/>
                            </p:stCondLst>
                            <p:childTnLst>
                              <p:par>
                                <p:cTn id="121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8650"/>
                            </p:stCondLst>
                            <p:childTnLst>
                              <p:par>
                                <p:cTn id="122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30650"/>
                            </p:stCondLst>
                            <p:childTnLst>
                              <p:par>
                                <p:cTn id="12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3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51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99880" y="1571400"/>
            <a:ext cx="59295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rbe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Vince M., Language practice (Elementary, Intermediate, First Certificate Star), Macmillan,  2007-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urphy R., English in Use (Elementary, Intermediate), Cambridge University Press, 2003, 199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Дроздова Т., Маилова В.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English Grammar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, СПб, Триада, 199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узьменкова Ю.Б., Жаворонкова А.Р., Извольская И.В.,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evising, Reading and Reasoning,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Титул, 200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rbel"/>
              </a:rPr>
              <a:t>Анимаци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http://img1.liveinternet.ru/images/attach/c/2//64/257/64257147_pruygayuschiy_kolobok.gi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http://thumbnail062.mylivepage.com/chunk62/1745963/1450/small_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егущий%20%3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D)).gif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Заголовок 6" descr=""/>
          <p:cNvPicPr/>
          <p:nvPr/>
        </p:nvPicPr>
        <p:blipFill>
          <a:blip r:embed="rId2"/>
          <a:stretch/>
        </p:blipFill>
        <p:spPr>
          <a:xfrm>
            <a:off x="-30240" y="212760"/>
            <a:ext cx="2816280" cy="1225440"/>
          </a:xfrm>
          <a:prstGeom prst="rect">
            <a:avLst/>
          </a:prstGeom>
          <a:ln w="0">
            <a:noFill/>
          </a:ln>
        </p:spPr>
      </p:pic>
      <p:pic>
        <p:nvPicPr>
          <p:cNvPr id="354" name="Заголовок 1" descr=""/>
          <p:cNvPicPr/>
          <p:nvPr/>
        </p:nvPicPr>
        <p:blipFill>
          <a:blip r:embed="rId3"/>
          <a:stretch/>
        </p:blipFill>
        <p:spPr>
          <a:xfrm>
            <a:off x="0" y="1712880"/>
            <a:ext cx="285912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0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9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5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1" dur="5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одержимое 2"/>
          <p:cNvSpPr/>
          <p:nvPr/>
        </p:nvSpPr>
        <p:spPr>
          <a:xfrm>
            <a:off x="42876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едлоги в английском и русском языках не совпадают в своих значения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редлоги очень важны для построения и понимания английского предложения, т.к. являются одним из основных средств, указывающих на связь слов в предложен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Английский предлог обычно имеет больше одного значения - один и тот же предлог может быть и предлогом времени, и предлогом места и его значение при этом меняе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Английский предлог, как и в русском языке, обычно стоит перед существительным или местоимением. Но, если существительное или местоимение относиться к глагольным сочетаниям или фразовым глаголам, то предлог может стоять в конце предлож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Английские предлоги могут выражать те значения, которые в русском языке передаются окончаниями косвенных падежей: </a:t>
            </a:r>
            <a:r>
              <a:rPr b="0" i="1" lang="en-US" sz="1900" spc="-1" strike="noStrike">
                <a:solidFill>
                  <a:srgbClr val="ffc000"/>
                </a:solidFill>
                <a:latin typeface="Corbel"/>
              </a:rPr>
              <a:t>of</a:t>
            </a:r>
            <a:r>
              <a:rPr b="0" i="1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родительным, </a:t>
            </a:r>
            <a:r>
              <a:rPr b="0" i="1" lang="en-US" sz="1900" spc="-1" strike="noStrike">
                <a:solidFill>
                  <a:srgbClr val="ffc000"/>
                </a:solidFill>
                <a:latin typeface="Corbel"/>
              </a:rPr>
              <a:t>to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дательным, </a:t>
            </a:r>
            <a:r>
              <a:rPr b="0" i="1" lang="en-US" sz="1900" spc="-1" strike="noStrike">
                <a:solidFill>
                  <a:srgbClr val="ffc000"/>
                </a:solidFill>
                <a:latin typeface="Corbel"/>
              </a:rPr>
              <a:t>with, by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– творительны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Заголовок 9" descr=""/>
          <p:cNvPicPr/>
          <p:nvPr/>
        </p:nvPicPr>
        <p:blipFill>
          <a:blip r:embed="rId1"/>
          <a:stretch/>
        </p:blipFill>
        <p:spPr>
          <a:xfrm>
            <a:off x="639720" y="5284800"/>
            <a:ext cx="8077320" cy="1360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F:\PICTURES\Anima\foto_20392.gif"/>
          <p:cNvPicPr/>
          <p:nvPr/>
        </p:nvPicPr>
        <p:blipFill>
          <a:blip r:embed="rId2"/>
          <a:stretch/>
        </p:blipFill>
        <p:spPr>
          <a:xfrm>
            <a:off x="500040" y="55720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15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Содержимое 2"/>
          <p:cNvSpPr/>
          <p:nvPr/>
        </p:nvSpPr>
        <p:spPr>
          <a:xfrm>
            <a:off x="428760" y="214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, внутри, по; через;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n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, по,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t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, за, у, рядом;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rom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з, с,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f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из, о; предлог притяжательного пад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r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для, за, в, из, из-за, по причине, ради, в обмен, в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коло, к; посредством, через, с помощью; предлог творительного падежа (кем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ith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– с, со, предлог творительного падежа (чем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0ad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–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, во, к (обозначает направлен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Заголовок 9" descr=""/>
          <p:cNvPicPr/>
          <p:nvPr/>
        </p:nvPicPr>
        <p:blipFill>
          <a:blip r:embed="rId1"/>
          <a:stretch/>
        </p:blipFill>
        <p:spPr>
          <a:xfrm>
            <a:off x="639720" y="5357880"/>
            <a:ext cx="8077320" cy="121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F:\PICTURES\Anima\foto_20392.gif"/>
          <p:cNvPicPr/>
          <p:nvPr/>
        </p:nvPicPr>
        <p:blipFill>
          <a:blip r:embed="rId2"/>
          <a:stretch/>
        </p:blipFill>
        <p:spPr>
          <a:xfrm flipH="1">
            <a:off x="8072280" y="5715000"/>
            <a:ext cx="82872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96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31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277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3071880" y="1785960"/>
          <a:ext cx="5746680" cy="4390920"/>
        </p:xfrm>
        <a:graphic>
          <a:graphicData uri="http://schemas.openxmlformats.org/drawingml/2006/table">
            <a:tbl>
              <a:tblPr/>
              <a:tblGrid>
                <a:gridCol w="1676160"/>
                <a:gridCol w="407052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12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ольшие размеры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cc"/>
                          </a:solidFill>
                          <a:latin typeface="Corbel"/>
                        </a:rPr>
                        <a:t>in the country, in the state, in the region, in the region, in the city, in the street, in the north. In the world, in the s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12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сто средних разм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cc"/>
                          </a:solidFill>
                          <a:latin typeface="Corbel"/>
                        </a:rPr>
                        <a:t>on(at) the corner of the street, on the shore, on the bank, on the coast, on the river, on the ship, on the train, on the plane, on the 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очка» на кар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cc"/>
                          </a:solidFill>
                          <a:latin typeface="Corbel"/>
                        </a:rPr>
                        <a:t>at 35, Carnival Drive, at the theatre, at the cinema, at the station, at the shop, at the stop, at the lesson, at school, at universi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12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чень маленькие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cc"/>
                          </a:solidFill>
                          <a:latin typeface="Corbel"/>
                        </a:rPr>
                        <a:t>in the corner of the room, in the room, in the building, in the park, in the car, in the boat, in bed, in  a newspaper, in book, in a photo, in a pi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80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Использование каждого из данных предлогов зависит от размеров упоминаемого мест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c000"/>
                </a:solidFill>
                <a:uFillTx/>
                <a:latin typeface="Corbel"/>
              </a:rPr>
              <a:t>In</a:t>
            </a: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– местонахождение или в очень большом, или в очень маленьком мес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c000"/>
                </a:solidFill>
                <a:uFillTx/>
                <a:latin typeface="Corbel"/>
              </a:rPr>
              <a:t>On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rbe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 месте средних размер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c000"/>
                </a:solidFill>
                <a:uFillTx/>
                <a:latin typeface="Corbel"/>
              </a:rPr>
              <a:t>At</a:t>
            </a: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при упоминании «точки» на карте, конкретного адреса</a:t>
            </a: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 или места, в котором одновременно может находиться много люд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F:\PICTURES\Anima\foto_20392.gif"/>
          <p:cNvPicPr/>
          <p:nvPr/>
        </p:nvPicPr>
        <p:blipFill>
          <a:blip r:embed="rId3"/>
          <a:stretch/>
        </p:blipFill>
        <p:spPr>
          <a:xfrm flipH="1">
            <a:off x="7858080" y="428760"/>
            <a:ext cx="828720" cy="86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54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283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sp>
        <p:nvSpPr>
          <p:cNvPr id="285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ll in the gaps with the right preposition of place –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in, on, at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99880" y="1714320"/>
            <a:ext cx="600084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Her brother lives ___ a small town ___ the south coast of Spai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The sports results are ___ the back page of the pape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They got married ___ Birmingh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Vienna is ___ the river Danub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His office is ___ the fifth flo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Tom is sitting ___ an armchai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The picture is ___ the wal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We meet ___ the station at 7pm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She was ill and stayed ___ be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Are there any good films ___ the cinema this week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We went to see a play ___ the National Theat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She is still ___ hospital and recovers from her holi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We were ___ sea for ten week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Because of delay we had to wait for three hours ___ the airpor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 I didn’t see her ___ part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2" descr="F:\PICTURES\Anima\foto_20392.gif"/>
          <p:cNvPicPr/>
          <p:nvPr/>
        </p:nvPicPr>
        <p:blipFill>
          <a:blip r:embed="rId3"/>
          <a:stretch/>
        </p:blipFill>
        <p:spPr>
          <a:xfrm>
            <a:off x="928800" y="4857840"/>
            <a:ext cx="785880" cy="86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35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35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35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735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289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sp>
        <p:nvSpPr>
          <p:cNvPr id="291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999880" y="1714320"/>
            <a:ext cx="600084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Her brother live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 small town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south coast of Spai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The sports results are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back page of the pape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They got married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Birmingh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Vienna i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river Danub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His office is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fifth flo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Tom is sitting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an armchai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The picture is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wal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We meet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station at 7pm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She was ill and staye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be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Are there any good films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e cinema this week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We went to see a play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National Theat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She is still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ospital and recovers from her holi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We wer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ea for ten week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Because of delay we had to wait for three hours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airpor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 I didn’t see her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part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3" name="Picture 2" descr="F:\PICTURES\Anima\foto_20392.gif"/>
          <p:cNvPicPr/>
          <p:nvPr/>
        </p:nvPicPr>
        <p:blipFill>
          <a:blip r:embed="rId3"/>
          <a:stretch/>
        </p:blipFill>
        <p:spPr>
          <a:xfrm>
            <a:off x="1000080" y="5500800"/>
            <a:ext cx="857160" cy="86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165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65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65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6" descr=""/>
          <p:cNvPicPr/>
          <p:nvPr/>
        </p:nvPicPr>
        <p:blipFill>
          <a:blip r:embed="rId1"/>
          <a:stretch/>
        </p:blipFill>
        <p:spPr>
          <a:xfrm>
            <a:off x="3151080" y="500040"/>
            <a:ext cx="5353200" cy="1042920"/>
          </a:xfrm>
          <a:prstGeom prst="rect">
            <a:avLst/>
          </a:prstGeom>
          <a:ln w="0">
            <a:noFill/>
          </a:ln>
        </p:spPr>
      </p:pic>
      <p:sp>
        <p:nvSpPr>
          <p:cNvPr id="295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3071880" y="1643040"/>
          <a:ext cx="5746680" cy="5056200"/>
        </p:xfrm>
        <a:graphic>
          <a:graphicData uri="http://schemas.openxmlformats.org/drawingml/2006/table">
            <a:tbl>
              <a:tblPr/>
              <a:tblGrid>
                <a:gridCol w="1676160"/>
                <a:gridCol w="4070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5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очка» на циферблате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at  6 o’clock, at midnight, at noon, at sun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яд конструкций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at  first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 - сначала</a:t>
                      </a: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, at last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 - наконец</a:t>
                      </a: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, at once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 - сразу</a:t>
                      </a: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, at our approach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 – при нашем прибли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8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ь, день  недели, 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on  Thursday, on the  16</a:t>
                      </a:r>
                      <a:r>
                        <a:rPr b="1" i="1" lang="en-US" sz="1600" spc="-1" strike="noStrike" baseline="30000">
                          <a:solidFill>
                            <a:srgbClr val="0066cc"/>
                          </a:solidFill>
                          <a:latin typeface="Corbel"/>
                        </a:rPr>
                        <a:t>th</a:t>
                      </a: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 of Ju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on  holiday, on my day off, on  the week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 , месяц, период суток, время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in  2009, in February,  in the  afternoon, in sp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ожет иметь значение «через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in two hours,  in a year, in a few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конструкц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In time – 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пришедший успел и имеет в запасе время до начала события, к которому спешил; </a:t>
                      </a: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On time – 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Corbel"/>
                        </a:rPr>
                        <a:t>пришедший явился точно в срок – не поздно и не р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98" name="Текст 5"/>
          <p:cNvSpPr/>
          <p:nvPr/>
        </p:nvSpPr>
        <p:spPr>
          <a:xfrm>
            <a:off x="142920" y="1643040"/>
            <a:ext cx="25718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ажно помнить, что ряд словосочетаний , в отличие от русского языка, не требуют употребления предлог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this year/month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/week 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–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в этом году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месяце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,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на этой неделе</a:t>
            </a: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- last year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/month/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week 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–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в прошлом году, месяце, на прошлой неделе</a:t>
            </a: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next year/month/week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– в следующем году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 месяце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,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на следующей неделе</a:t>
            </a:r>
            <a:r>
              <a:rPr b="1" i="1" lang="ru-RU" sz="1700" spc="-1" strike="noStrike">
                <a:solidFill>
                  <a:srgbClr val="ffc000"/>
                </a:solidFill>
                <a:latin typeface="Corbe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c000"/>
                </a:solidFill>
                <a:latin typeface="Corbel"/>
              </a:rPr>
              <a:t>every  year/month/week 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– 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каждый год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месяц</a:t>
            </a:r>
            <a:r>
              <a:rPr b="1" i="1" lang="en-US" sz="1700" spc="-1" strike="noStrike">
                <a:solidFill>
                  <a:srgbClr val="ffffff"/>
                </a:solidFill>
                <a:latin typeface="Corbel"/>
              </a:rPr>
              <a:t>/</a:t>
            </a:r>
            <a:r>
              <a:rPr b="1" i="1" lang="ru-RU" sz="1700" spc="-1" strike="noStrike">
                <a:solidFill>
                  <a:srgbClr val="ffffff"/>
                </a:solidFill>
                <a:latin typeface="Corbel"/>
              </a:rPr>
              <a:t>недел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F:\PICTURES\Anima\foto_20392.gif"/>
          <p:cNvPicPr/>
          <p:nvPr/>
        </p:nvPicPr>
        <p:blipFill>
          <a:blip r:embed="rId3"/>
          <a:stretch/>
        </p:blipFill>
        <p:spPr>
          <a:xfrm flipH="1">
            <a:off x="8001000" y="428760"/>
            <a:ext cx="828720" cy="86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19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01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sp>
        <p:nvSpPr>
          <p:cNvPr id="303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Fill in the gaps with the right preposition of time where necessary –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in, on, at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999880" y="1714320"/>
            <a:ext cx="592956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My cousin often visits me ___ her holiday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___ Sunday I usually get up ___ nine 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My brother’s birthday is ___ the thirteenth of Febru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Lev Tolstoy liked to get up ___ sunri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I’m leaving ___ next Sunday ___ no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We used to meet ___ our days of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She said she would return ___ a few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 Mr. Smith is quite punctual, he always arrives ___ ti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I was looking for my keys and ___ last found them in my pur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We had a lot to do and went to bed quite late ___ nigh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George isn’t here ___ the mom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Will you be at home ___ this evening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I’m going out. I’ll be back ___ an hou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Where will you be ___ Christmas ___ this year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Kevin phoned me ___ every Satur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6. Emma left school ten years ago, ___ 1999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F:\PICTURES\Anima\foto_20392.gif"/>
          <p:cNvPicPr/>
          <p:nvPr/>
        </p:nvPicPr>
        <p:blipFill>
          <a:blip r:embed="rId3"/>
          <a:stretch/>
        </p:blipFill>
        <p:spPr>
          <a:xfrm flipH="1">
            <a:off x="214200" y="5715000"/>
            <a:ext cx="828720" cy="8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45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47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4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4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385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785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985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185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85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985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185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3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385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85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8850"/>
                            </p:stCondLst>
                            <p:childTnLst>
                              <p:par>
                                <p:cTn id="567" nodeType="afterEffect" fill="hold" presetClass="exit" presetID="51" repeatCount="200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70" dur="123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71" dur="123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73" dur="123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6" descr=""/>
          <p:cNvPicPr/>
          <p:nvPr/>
        </p:nvPicPr>
        <p:blipFill>
          <a:blip r:embed="rId1"/>
          <a:stretch/>
        </p:blipFill>
        <p:spPr>
          <a:xfrm>
            <a:off x="3151080" y="285840"/>
            <a:ext cx="5353200" cy="1257120"/>
          </a:xfrm>
          <a:prstGeom prst="rect">
            <a:avLst/>
          </a:prstGeom>
          <a:ln w="0">
            <a:noFill/>
          </a:ln>
        </p:spPr>
      </p:pic>
      <p:sp>
        <p:nvSpPr>
          <p:cNvPr id="307" name="Заголовок 6"/>
          <p:cNvSpPr/>
          <p:nvPr/>
        </p:nvSpPr>
        <p:spPr>
          <a:xfrm>
            <a:off x="285840" y="214200"/>
            <a:ext cx="235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Заголовок 6" descr=""/>
          <p:cNvPicPr/>
          <p:nvPr/>
        </p:nvPicPr>
        <p:blipFill>
          <a:blip r:embed="rId2"/>
          <a:stretch/>
        </p:blipFill>
        <p:spPr>
          <a:xfrm>
            <a:off x="-92160" y="285840"/>
            <a:ext cx="2908440" cy="1287360"/>
          </a:xfrm>
          <a:prstGeom prst="rect">
            <a:avLst/>
          </a:prstGeom>
          <a:ln w="0">
            <a:noFill/>
          </a:ln>
        </p:spPr>
      </p:pic>
      <p:sp>
        <p:nvSpPr>
          <p:cNvPr id="309" name="Текст 5"/>
          <p:cNvSpPr/>
          <p:nvPr/>
        </p:nvSpPr>
        <p:spPr>
          <a:xfrm>
            <a:off x="214200" y="1571760"/>
            <a:ext cx="2468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Corbel"/>
              </a:rPr>
              <a:t>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999880" y="1714320"/>
            <a:ext cx="5929560" cy="485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54720" tIns="9144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My cousin often visits m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er holiday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unday I usually get up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nine am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My brother’s birthday is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he thirteenth of Febru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Lev Tolstoy liked to get up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sunri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I’m leaving next Sunday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no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We used to meet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our days of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7. She said she would return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a few minute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8.  Mr. Smith is quite punctual, he always arrives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ti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9. I was looking for my keys and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last found them in my pur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0. We had a lot to do and went to bed quite lat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nigh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1. George isn’t here 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he mom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2. Will you be at home this evening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3. I’m going out. I’ll be back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an hou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4. Where will you be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Christmas this year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5. Kevin phoned me every Saturd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6. Emma left school ten years ago,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Corbe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1999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2" descr="F:\PICTURES\Anima\foto_20392.gif"/>
          <p:cNvPicPr/>
          <p:nvPr/>
        </p:nvPicPr>
        <p:blipFill>
          <a:blip r:embed="rId3"/>
          <a:stretch/>
        </p:blipFill>
        <p:spPr>
          <a:xfrm flipH="1">
            <a:off x="1071360" y="2071800"/>
            <a:ext cx="828360" cy="86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8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9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60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60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61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265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63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63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64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650"/>
                            </p:stCondLst>
                            <p:childTnLst>
                              <p:par>
                                <p:cTn id="64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65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66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665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8650"/>
                            </p:stCondLst>
                            <p:childTnLst>
                              <p:par>
                                <p:cTn id="67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065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265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465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20:29Z</dcterms:created>
  <dc:creator>Elanta</dc:creator>
  <dc:description/>
  <dc:language>en-US</dc:language>
  <cp:lastModifiedBy>Windows User</cp:lastModifiedBy>
  <dcterms:modified xsi:type="dcterms:W3CDTF">2020-04-13T19:33:37Z</dcterms:modified>
  <cp:revision>52</cp:revision>
  <dc:subject/>
  <dc:title>Слайд 1</dc:title>
</cp:coreProperties>
</file>