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49A-D201-4131-983B-3601127F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00176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8DE-8877-4156-A4CD-44808890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028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1A8-614E-41BD-8B42-376C73FF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48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80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48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80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294-D3A9-483B-A4AB-9B8A3A72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21F25-8535-4FBE-9BD1-138293812B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6E5F0-094F-4230-8870-D172EE8F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5DF54-53FB-4DDE-94A6-063B7D00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C812D-F34A-47D0-B690-B3D3B9AC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DD2C6-6577-473A-AFB6-B5929F2B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057400" y="579240"/>
            <a:ext cx="6324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03327-F611-4ACB-BF62-DDB3CB84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87B15-C07A-4621-908A-551073DE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F0D-56FA-4E49-B3AD-19B909AE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028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D805F-ADFD-41AD-A696-65E40921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97A1B-DEBE-4DCE-B5D0-6A1EC0BB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00176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A1FB8-41DC-4719-BC88-604F9CFC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028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375BE-6E28-4BDE-BD07-ED9565D5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48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80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48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80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8E80B-67B1-4883-A553-74B286D9FD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CDC-3095-42F9-9D4E-3E68125D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715-032E-49B3-B7DE-3FA37411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659-72A4-4AE3-8503-AA5A0189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7400" y="579240"/>
            <a:ext cx="6324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24D-781D-4938-AEBF-5851A357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63C-7C4E-481A-840A-84FEDA25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028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66F-DDB5-425E-812D-047F8A4E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F69-D96E-4359-AEA7-35F53CBA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gradFill rotWithShape="0">
            <a:gsLst>
              <a:gs pos="0">
                <a:srgbClr val="aabbdd"/>
              </a:gs>
              <a:gs pos="100000">
                <a:srgbClr val="00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969696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Oval 5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969696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27F6-0FD3-45C4-B3C9-DA52EE0ED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684360" y="33336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f26075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1160" y="4437000"/>
            <a:ext cx="9132840" cy="17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969696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3851280" y="4005360"/>
            <a:ext cx="1438200" cy="1511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969696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9" name="Oval 9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969696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0" name="Oval 10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324000" y="1268280"/>
            <a:ext cx="1582560" cy="1582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969696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755280" y="645336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5"/>
          </p:nvPr>
        </p:nvSpPr>
        <p:spPr>
          <a:xfrm>
            <a:off x="380520" y="6400800"/>
            <a:ext cx="68580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09CB-1E77-44EC-8A97-81BA61DEBE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0.jpeg"/><Relationship Id="rId3" Type="http://schemas.openxmlformats.org/officeDocument/2006/relationships/slide" Target=""/><Relationship Id="rId4" Type="http://schemas.openxmlformats.org/officeDocument/2006/relationships/image" Target="../media/image21.jpeg"/><Relationship Id="rId5" Type="http://schemas.openxmlformats.org/officeDocument/2006/relationships/slide" Target="slide8.xml"/><Relationship Id="rId6" Type="http://schemas.openxmlformats.org/officeDocument/2006/relationships/image" Target="../media/image22.jpeg"/><Relationship Id="rId7" Type="http://schemas.openxmlformats.org/officeDocument/2006/relationships/slide" Target="slide11.xml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87280" y="1196640"/>
            <a:ext cx="74901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Monotype Corsiva"/>
              </a:rPr>
              <a:t>Сервировка – это подготовка стола к приему пищи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49676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85107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авила поведения за столом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3715920"/>
            <a:ext cx="87138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Все, что едят  ложкой, едят от себя, тарелку наклоняют от себя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Не едят ложкой то, что едят вилкой, мягкую пищу едят только вилкой, без нож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Вилку держат в левой руке, нож в правой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Горячее мясо не нарезают сразу, а отрезают по кусочку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71880" cy="2406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250920" y="1484280"/>
            <a:ext cx="48956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Не класть локти на стол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Сидеть прямо, не раскачиваясь на стул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Жевать с закрытым ртом, не чавкать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Не дуть на горячую пищу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авила поведения за столом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73152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Если еда прервана, приборы кладут на тарелку накрест, если закончена – параллельно ручками в одну сторону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Хлеб кладут не на скатерть, а на тарелку, отламывая маленькие кусочки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8" name="Picture 4" descr="22"/>
          <p:cNvPicPr/>
          <p:nvPr/>
        </p:nvPicPr>
        <p:blipFill>
          <a:blip r:embed="rId1"/>
          <a:stretch/>
        </p:blipFill>
        <p:spPr>
          <a:xfrm>
            <a:off x="250920" y="2924280"/>
            <a:ext cx="4249800" cy="2692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23"/>
          <p:cNvPicPr/>
          <p:nvPr/>
        </p:nvPicPr>
        <p:blipFill>
          <a:blip r:embed="rId2"/>
          <a:stretch/>
        </p:blipFill>
        <p:spPr>
          <a:xfrm>
            <a:off x="4716360" y="2924280"/>
            <a:ext cx="42134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5640" y="404640"/>
            <a:ext cx="4681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Столовые приборы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18-1"/>
          <p:cNvPicPr/>
          <p:nvPr/>
        </p:nvPicPr>
        <p:blipFill>
          <a:blip r:embed="rId1"/>
          <a:stretch/>
        </p:blipFill>
        <p:spPr>
          <a:xfrm>
            <a:off x="324000" y="2421000"/>
            <a:ext cx="2947680" cy="396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18-4"/>
          <p:cNvPicPr/>
          <p:nvPr/>
        </p:nvPicPr>
        <p:blipFill>
          <a:blip r:embed="rId2"/>
          <a:stretch/>
        </p:blipFill>
        <p:spPr>
          <a:xfrm>
            <a:off x="3348000" y="1484280"/>
            <a:ext cx="2927520" cy="324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8-5"/>
          <p:cNvPicPr/>
          <p:nvPr/>
        </p:nvPicPr>
        <p:blipFill>
          <a:blip r:embed="rId3"/>
          <a:stretch/>
        </p:blipFill>
        <p:spPr>
          <a:xfrm>
            <a:off x="5003640" y="3645000"/>
            <a:ext cx="381636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Столовая посуд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se80w"/>
          <p:cNvPicPr/>
          <p:nvPr/>
        </p:nvPicPr>
        <p:blipFill>
          <a:blip r:embed="rId1"/>
          <a:stretch/>
        </p:blipFill>
        <p:spPr>
          <a:xfrm>
            <a:off x="1403280" y="1557360"/>
            <a:ext cx="6840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640" y="189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Основные правила сервировк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612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Тарелки и приборы  подбирают в зависимости от меню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Есть блюда, которые едят только вилкой, в этом случае ее кладут справа от тарелки зубцами вверх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Если едят вилкой и ножом – нож справа лезвием к тарелке, вилка слева от тарелки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Если на завтрак подают кашу, то справа от средней тарелки кладут ложку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6539040" y="1628640"/>
            <a:ext cx="2293920" cy="183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2"/>
          <a:stretch/>
        </p:blipFill>
        <p:spPr>
          <a:xfrm>
            <a:off x="6516720" y="4437000"/>
            <a:ext cx="25192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Основные правила сервировк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11"/>
          <p:cNvPicPr/>
          <p:nvPr/>
        </p:nvPicPr>
        <p:blipFill>
          <a:blip r:embed="rId1"/>
          <a:stretch/>
        </p:blipFill>
        <p:spPr>
          <a:xfrm>
            <a:off x="539640" y="1844640"/>
            <a:ext cx="3924360" cy="2197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12"/>
          <p:cNvPicPr/>
          <p:nvPr/>
        </p:nvPicPr>
        <p:blipFill>
          <a:blip r:embed="rId2"/>
          <a:srcRect l="0" t="0" r="-28" b="0"/>
          <a:stretch/>
        </p:blipFill>
        <p:spPr>
          <a:xfrm>
            <a:off x="539640" y="4221000"/>
            <a:ext cx="3891240" cy="2244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13"/>
          <p:cNvPicPr/>
          <p:nvPr/>
        </p:nvPicPr>
        <p:blipFill>
          <a:blip r:embed="rId3"/>
          <a:stretch/>
        </p:blipFill>
        <p:spPr>
          <a:xfrm>
            <a:off x="4859280" y="1843200"/>
            <a:ext cx="37749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Основные правила сервировк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748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Если позволяет место на столе, слева от тарелки ставят пирожковую тарелку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Тарелки и приборы ставят на расстоянии 2</a:t>
            </a:r>
            <a:r>
              <a:rPr b="0" i="1" lang="en-US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см от края стола. Центры пирожковой и основной тарелок находятся на одной линии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Расстояние между тарелкой и приборами должно быть примерно равно 0,5 – 1,0см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Хлеб ставят в хлебнице или на тарелку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0" name="Picture 4" descr="111"/>
          <p:cNvPicPr/>
          <p:nvPr/>
        </p:nvPicPr>
        <p:blipFill>
          <a:blip r:embed="rId1"/>
          <a:stretch/>
        </p:blipFill>
        <p:spPr>
          <a:xfrm>
            <a:off x="5364000" y="4869000"/>
            <a:ext cx="3602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85820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оследовательность сервировки </a:t>
            </a: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c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тол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640" y="1916280"/>
            <a:ext cx="504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Накрой стол скатертью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Расставь тарелки, разложи приборы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Разложи салфетки, расставь приборы для специй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Расставь бокалы для напитков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Verdana"/>
              </a:rPr>
              <a:t>Расставь блюда общего пользования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3" name="Picture 4" descr="etiket_01"/>
          <p:cNvPicPr/>
          <p:nvPr/>
        </p:nvPicPr>
        <p:blipFill>
          <a:blip r:embed="rId1"/>
          <a:stretch/>
        </p:blipFill>
        <p:spPr>
          <a:xfrm>
            <a:off x="4965840" y="2637000"/>
            <a:ext cx="38322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Скатерть – платье для стол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124000" y="5013360"/>
            <a:ext cx="86364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6" name="Picture 8" descr="P2110497"/>
          <p:cNvPicPr/>
          <p:nvPr/>
        </p:nvPicPr>
        <p:blipFill>
          <a:blip r:embed="rId1"/>
          <a:stretch/>
        </p:blipFill>
        <p:spPr>
          <a:xfrm>
            <a:off x="2124000" y="1803240"/>
            <a:ext cx="593892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Как сложить салфетк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kras_stol_7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1484280"/>
            <a:ext cx="4032360" cy="2157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kras_stol_7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3933720"/>
            <a:ext cx="4032360" cy="251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kras_stol_6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32360" y="3933720"/>
            <a:ext cx="3743280" cy="2519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kras_stol_7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932360" y="1484280"/>
            <a:ext cx="36352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0:19:25Z</dcterms:created>
  <dc:creator>Ванька</dc:creator>
  <dc:description/>
  <dc:language>en-US</dc:language>
  <cp:lastModifiedBy>полина</cp:lastModifiedBy>
  <dcterms:modified xsi:type="dcterms:W3CDTF">2020-04-13T21:08:47Z</dcterms:modified>
  <cp:revision>51</cp:revision>
  <dc:subject/>
  <dc:title>Доброе утро!</dc:title>
</cp:coreProperties>
</file>