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988F-84BF-444E-9447-07A82D9081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93E7-B21D-4BA6-A648-8158BE89B2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2B44-6928-4754-9133-9E425D71E6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линградский фро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2492-D876-402C-8439-3491613858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: Назовите основные этапы Великой Отечественной войны.  О   каких этапах мы уже говорили на уроках? В чем  состоят  основные причины поражения  Красной армии на начальных этапах войны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DFF9-9E1D-4502-B3CD-7C590A23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8C5D-C6B6-4C20-9CAF-5C22F3BF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7B4E-3B01-4126-A405-F16679E8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4AD9-4CBF-4B20-BA14-09E6B2C1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0CCD-4307-475E-91AC-54E38CA4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5B31-B723-4BE3-8985-3007946C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6000-517D-4C2A-9F90-70B066ED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5906-1990-4ADC-8ABC-B2ACC7C4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0A16-0EC5-4456-82B3-C8143A12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A762-8DC9-4C83-8445-B4BD9B8A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F9DA-A381-4382-B290-C38B769B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E4B3-8DF5-4CC0-B0D1-6DE7D7D0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45D0-F683-47D3-9B56-BCBC9546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39B3-B806-4ECA-9B31-5E656DBF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3872-E267-4003-90D0-EAFCFDE2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812A-980F-4E0A-A58D-2EFE9329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14AD-FFC9-4504-8A06-5FC75DBF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327-EF94-4A74-9C47-A8A6DE9E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6706-4172-4218-9F2B-F344E973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4139-A208-4A4B-AD12-CC5C0102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0464-CAE6-4D7F-9F14-C59E4AFF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D856-A04A-4635-94F2-51B6D907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8E6-B7E2-4FE0-879C-7B7019C4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3F64-5DA1-42AE-9D64-7C959C86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85CA-7912-4E34-8746-4CC294B43B5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3BC2-A07D-4D86-B1D0-1F781FB7FF5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4" descr="1349"/>
          <p:cNvPicPr/>
          <p:nvPr/>
        </p:nvPicPr>
        <p:blipFill>
          <a:blip r:embed="rId1">
            <a:lum contrast="-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4438800" y="3195720"/>
            <a:ext cx="33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439880" y="3200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4438800" y="3200400"/>
            <a:ext cx="39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4500720" y="450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Прямоугольник 11" descr=""/>
          <p:cNvPicPr/>
          <p:nvPr/>
        </p:nvPicPr>
        <p:blipFill>
          <a:blip r:embed="rId2"/>
          <a:stretch/>
        </p:blipFill>
        <p:spPr>
          <a:xfrm>
            <a:off x="-858960" y="500040"/>
            <a:ext cx="11033280" cy="4413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3" descr="M1_3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M1_3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468360" y="85680"/>
            <a:ext cx="8424720" cy="6489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064360" cy="6408720"/>
          </a:xfrm>
          <a:prstGeom prst="rect">
            <a:avLst/>
          </a:prstGeom>
          <a:ln w="0">
            <a:noFill/>
          </a:ln>
        </p:spPr>
      </p:pic>
      <p:pic>
        <p:nvPicPr>
          <p:cNvPr id="132" name="Левитан - О победе под Сталинградом.mp3" descr=""/>
          <p:cNvPicPr/>
          <p:nvPr/>
        </p:nvPicPr>
        <p:blipFill>
          <a:blip r:embed="rId2"/>
          <a:stretch/>
        </p:blipFill>
        <p:spPr>
          <a:xfrm>
            <a:off x="4419720" y="3801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9128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40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1979640" y="1700280"/>
            <a:ext cx="1584360" cy="2160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3635280" y="1700280"/>
            <a:ext cx="2952720" cy="2089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6804000" y="1700280"/>
            <a:ext cx="165564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428760" y="285840"/>
            <a:ext cx="8286480" cy="19227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 июле 1942 г под Курском немцы сосредоточили более 50 дивизий, и около 3 млн солдат. Армию вооружили новыми танками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 «Тигр».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Фронт по форме напоминал дугу, потому эту битву назвали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битвой на Курской дуге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. Командующим фронтом был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генерал Рокоссовск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Рисунок 2" descr="рокоссовский.jpg"/>
          <p:cNvPicPr/>
          <p:nvPr/>
        </p:nvPicPr>
        <p:blipFill>
          <a:blip r:embed="rId1"/>
          <a:stretch/>
        </p:blipFill>
        <p:spPr>
          <a:xfrm>
            <a:off x="2928960" y="2357280"/>
            <a:ext cx="314316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тиг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785880" y="6215040"/>
            <a:ext cx="721512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нк группы «ТИГР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500040" y="285840"/>
            <a:ext cx="8143920" cy="19227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ринцип «внезапности» у фашистов не прошел. Армия перешла в наступление уже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12 июля 1943 г.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 танковом сражении под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Прохоровкой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участвовало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1200 танков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. 5 августа наши войска освободили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Белгород, Орел, Харьков, Донбасс, Брянск, Смоленс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Рисунок 2" descr="курская дуга2.JPG"/>
          <p:cNvPicPr/>
          <p:nvPr/>
        </p:nvPicPr>
        <p:blipFill>
          <a:blip r:embed="rId1"/>
          <a:stretch/>
        </p:blipFill>
        <p:spPr>
          <a:xfrm>
            <a:off x="1285920" y="2476440"/>
            <a:ext cx="6438960" cy="4381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214200" y="285840"/>
            <a:ext cx="8643960" cy="1557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 середине сентября 1943 г. началась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битва за Днепр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. Немцы установили укрепления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«Восточный вал».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н был прорван, 6 ноября освобожден Киев.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2438 человек удостоены звания Герой Советского Союз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Рисунок 2" descr="Восточный вал.jpg"/>
          <p:cNvPicPr/>
          <p:nvPr/>
        </p:nvPicPr>
        <p:blipFill>
          <a:blip r:embed="rId1"/>
          <a:stretch/>
        </p:blipFill>
        <p:spPr>
          <a:xfrm>
            <a:off x="428760" y="2071800"/>
            <a:ext cx="842940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285840" y="285840"/>
            <a:ext cx="8572320" cy="13136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июле 1943 г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. англо-американские войска 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высадились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неожиданно на юге 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Италии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. По приказу итальянского короля 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Муссолини был арестован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. Германия срочно перебросила в Италию войска, но занять всю Италию им не удалось. Вблизи Неаполя фронт стабилизировал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Рисунок 3" descr="арест Муссолини.jpg"/>
          <p:cNvPicPr/>
          <p:nvPr/>
        </p:nvPicPr>
        <p:blipFill>
          <a:blip r:embed="rId1"/>
          <a:stretch/>
        </p:blipFill>
        <p:spPr>
          <a:xfrm>
            <a:off x="1500120" y="1785960"/>
            <a:ext cx="6286680" cy="43848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785880" y="6357960"/>
            <a:ext cx="7500960" cy="3373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онвой ведёт арестованного Муссолини, 3 сентября 1943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битва за каваказ2.jpg"/>
          <p:cNvPicPr/>
          <p:nvPr/>
        </p:nvPicPr>
        <p:blipFill>
          <a:blip r:embed="rId1"/>
          <a:stretch/>
        </p:blipFill>
        <p:spPr>
          <a:xfrm>
            <a:off x="714240" y="1428840"/>
            <a:ext cx="7689960" cy="501948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357120" y="214200"/>
            <a:ext cx="8143920" cy="1008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Летом 1942 г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, началась героическая 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битва за КАВКАЗ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, немцы рвались в глубь СССР. Их 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целью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была 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нефть Грозного, Баку.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Ценой неимоверных усилий враг был остановлен и отброше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1" descr="итал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"/>
          <p:cNvSpPr/>
          <p:nvPr/>
        </p:nvSpPr>
        <p:spPr>
          <a:xfrm>
            <a:off x="4071960" y="14292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адка союзников в Итал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571680" y="214200"/>
            <a:ext cx="7786440" cy="16185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конце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июля 1943 г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столице Ирана Тегеране, состоялась конференция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Большой тройки»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талина, Рузвельта, Черчилля.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ни договорились в мае 1944 г, открыть 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второй фронт в Европе, о судьбе послевоенной Европы, создании ООН, вступлении в войну СССР против Япо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Рисунок 2" descr="Тегеран 43.jpg"/>
          <p:cNvPicPr/>
          <p:nvPr/>
        </p:nvPicPr>
        <p:blipFill>
          <a:blip r:embed="rId1"/>
          <a:stretch/>
        </p:blipFill>
        <p:spPr>
          <a:xfrm>
            <a:off x="1428840" y="2071800"/>
            <a:ext cx="6286320" cy="4562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642960" y="285840"/>
            <a:ext cx="7929720" cy="25635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Итог второго периода войны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алинградская битва- коренной перелом, потери Германии 2,2 млн. чел, 3,5 тыс. танков, 7 тыс. самолетов, что в сумме 50% всего что было у Герм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943 год- освобождение более половины территорий занятых фашист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вержение Муссолини в Италии, это потеря наиболее надежного союзника Гитл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Рисунок 2" descr="poster-1943d.jpg"/>
          <p:cNvPicPr/>
          <p:nvPr/>
        </p:nvPicPr>
        <p:blipFill>
          <a:blip r:embed="rId1"/>
          <a:stretch/>
        </p:blipFill>
        <p:spPr>
          <a:xfrm>
            <a:off x="2857680" y="2932200"/>
            <a:ext cx="3500280" cy="392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битва за кавказ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13355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428760" y="6143760"/>
            <a:ext cx="82864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седание ГКО май 1943 г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2"/>
          <a:stretch/>
        </p:blipFill>
        <p:spPr>
          <a:xfrm>
            <a:off x="450720" y="12240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684000" y="134136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2 июня 1941 г.- ноябрь 1941 г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 flipV="1">
            <a:off x="395280" y="215712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755640" y="177336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ериод  отступления Красной Арм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755640" y="2349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екабрь 1941 г.- ноябрь 1942 г.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826920" y="2781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ериод неустойчивого равнове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4360" y="3645000"/>
            <a:ext cx="597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755640" y="328464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9 ноября 1942 г.- конец 1943 г.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826920" y="3789360"/>
            <a:ext cx="51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ериод коренного перел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755640" y="436572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944 г.- 9 мая 1945 г.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684360" y="479736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завершение вой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900000" y="530064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9 августа 1945 г.- 2 сентября 1945 г.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755640" y="580536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война СССР против Япо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M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M1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M1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6:05:56Z</dcterms:created>
  <dc:creator>user9</dc:creator>
  <dc:description/>
  <dc:language>en-US</dc:language>
  <cp:lastModifiedBy>Ольга</cp:lastModifiedBy>
  <dcterms:modified xsi:type="dcterms:W3CDTF">2016-01-22T17:13:25Z</dcterms:modified>
  <cp:revision>60</cp:revision>
  <dc:subject/>
  <dc:title>Коренной перелом в ходе Великой Отечественной войны</dc:title>
</cp:coreProperties>
</file>