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8E5-7E67-46F6-A704-519B2061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517-1DBD-4770-AEAF-D0B144F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4F7-E937-4D67-B1F9-506501DA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2FB-3B09-4A1E-81BB-CF82E944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5DD-170A-4E51-887F-76B68AE1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8C9-B113-496D-89B8-257CF861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A56-F631-496F-9011-6C4BDB12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A95-353A-4674-81B7-B980C15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034-47A3-4F6E-B9B0-8638604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06-B793-451A-BB65-094A6CF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6E6-1BC9-46CC-847B-97B97FF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8E1-B5E7-4691-AC37-D64CAAE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3A171-569A-4CAB-A210-A4FF86CEF3B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частие граждан в политической жиз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530028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 параграф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Формы участия граждан в политической жизни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Референду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посредственное участие граждан в решении наиболее важных вопросов общественной  и государ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.Выб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оцедура избрания кого-либо путем голосования (участие в политической жизни через представителей – депута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9152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аво на равный доступ к государственной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Право участвовать в осуществлении правосудия (через должность судь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Право обращаться в государственные органы и органы местного самоуправления (предложения, жало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Участие в законных митингах, собраниях, демонстр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Воздействие на политику через общественные объединения и политические пар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Если сила плохих людей в том, что они вместе, то хорошим людям, чтобы стать силой, надо сделать то же сам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стой Л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832360" cy="25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ь свое понимание высказывания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ь свое согласие или несогласие с мнением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ть понятия выборы, референдум, гражданск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одить конкретны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24:38Z</dcterms:created>
  <dc:creator>dwfman</dc:creator>
  <dc:description/>
  <dc:language>en-US</dc:language>
  <cp:lastModifiedBy>dwfman</cp:lastModifiedBy>
  <dcterms:modified xsi:type="dcterms:W3CDTF">2015-10-17T12:33:12Z</dcterms:modified>
  <cp:revision>5</cp:revision>
  <dc:subject/>
  <dc:title>Участие граждан в политической жизни </dc:title>
</cp:coreProperties>
</file>