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3635-87E1-4530-9983-E2B9CCEA1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6767-7AC4-40DE-AB64-D1EE7D77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AFA5-E75E-4894-9BB3-C4C3F7782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FF47-933C-48BC-A0E6-1F012570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70F1-1076-446B-BBA3-F5380B10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810C-8773-4A72-809B-2CE23162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DC6C-4718-4977-B91D-C09EE763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DED8-177E-42B5-ABE2-9A56BC3F9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BA0E-03D5-4E1D-81EA-7E459DABB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67F83-9950-4D61-95BB-BE4ADE4E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179F-A59F-4190-AA81-19C9A72C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0701-E1F7-4B4D-A5E9-35067225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D2BC-33A5-4B70-91AD-41892C57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C532C-53C1-4A32-A483-166DCA8B5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7235-2A81-4EBA-9A71-983B00DE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AF237-2121-48E4-83A1-325AB6B4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5A8F7-1CC1-4F07-A376-E30E47808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95256-4BBB-4FC8-A476-3B3581034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7675E-B403-4A27-A31C-476A4E51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F77E6-1DCB-4B88-A4C9-1D67CFFE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67B27-B5B5-4B11-B1F5-DBD6FAD88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2E17A-6F2E-46E3-95A8-C15045D0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E0C5-BE82-4BFB-B1F6-4B1DD63F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A69C-EC70-4B45-ABC7-1064A861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684EA-5AEE-4F0C-B5F6-127A676A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E948C2-BD5D-4AB9-836D-C5837B3B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DBEB1-23B0-4414-B4B9-EF5BE285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9F6356-DB49-4521-9041-221A382C2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EB3B8-A7FE-40CD-AA1C-7742931C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B67DD-5D71-4DFA-8C5E-6B65581D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812E89-2572-4D75-9D0D-56B24DC9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ED368E-44CB-4F94-9BB4-53639AC2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FC3F7-F9AD-41CA-AA58-464032E9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054F-739E-48CB-BEA2-E776B24BF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0E9483-1E52-4D23-98A5-95F47C3A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4B150-60EA-430C-92E9-EE1422B5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17DDC8-CFA8-452E-B8F1-8ADE6B464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ABE66-8D74-41FA-B530-D0651B8D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AAE4EB-9D85-4B83-AAE3-AC573DA8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BE3A73-5D99-4ADF-B7DB-4310998F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23920-7D07-4648-9E67-01050FD7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5FB8A-F193-4752-97D0-C98704BD9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D30FE-A60B-4C3B-8006-FCE548C1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D71F7-40F3-427E-B1FA-FF6A53B0B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B1F-228A-4D60-9860-C3F4C4FBE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4E109-F9C5-455F-9B08-940CF377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62F4C-39D6-4B55-9496-91EB5C16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7773E-B6D2-4457-80ED-6C0B0DAE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B261E-E8E5-4C0E-B980-B7C46D25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D600B-67BC-49C8-8E6C-C53EE2BE0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C1EE2-2647-4BC5-A22E-199C5EF4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5F630-F1B0-410F-99A2-D2A09357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7D4C4-4C1B-4F54-BE4A-E437F552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134B7D-3702-47A7-BB32-47559A885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B8551-C4D3-4439-9D01-3A1A10E12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CF0-9E28-446C-A7AD-4BED9110D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C9E1D-A222-49EC-B1DC-BE40958A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6A049-7356-458F-B8A9-7FF829283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D516F-F159-4F21-ADC4-404B6641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7E6D9-5621-49E3-AE6C-307C76B9A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F87970-4F63-4AEA-9EEF-C7A5FEC5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A74AF-98DF-43FE-ACA0-DC5C68289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6B2CF-6681-480A-BE7F-003FBF6A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73293-33CB-4427-92A8-568EB33B3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4A631-8201-49DF-A07C-0C29AE60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E09184-4F9D-4306-A377-3C633BE4B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582D-5F67-4F8D-87A1-C9645ACD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08528-F002-4427-86CD-F75E17EA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081F8-BD94-46A3-B6C0-28640BC41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9B5A2-F74E-4E19-8ECA-67E5991E2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13240-A1B2-477C-8919-39495552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CB0B8-06FB-42B9-A5EB-BB0DD3F4E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8E38A-96B9-42D5-B89F-7C72FAE2E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4D576-5BF5-432C-9A11-9F070CBC9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FBBEC4-E27E-45B8-9955-51EFF11F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22835F-AD70-4D21-802C-9A4A9954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95D75-617A-4A0B-AF87-4D0B36085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8139-1CEC-4B08-BF4C-ECA21F80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1594D5-0339-4B0E-8147-A7C78643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1302CE-8914-4F40-B7A1-C5DA518A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36AE9-0C1D-4E90-836A-F427F16A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B58EA-1DC0-4848-A9C4-3161F4E6A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90B964-52DD-430E-84B3-7E47B16DD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C2A4-7EDC-44CF-B751-5E3DAE18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376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000" y="169668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784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524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F6F2-C631-494E-9E7F-B47606EEB4D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DA6C-7081-41C3-A9E9-A6AE9CEF5C8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prstGeom prst="pie">
            <a:avLst/>
          </a:pr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prstGeom prst="pie">
            <a:avLst/>
          </a:pr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prstGeom prst="pie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2CC0A-55F9-49C6-B04B-FFF253EFCF05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8600"/>
              <a:ext cx="287640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9000" y="731520"/>
              <a:ext cx="5543640" cy="84960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880" y="742680"/>
              <a:ext cx="546768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30080"/>
              <a:ext cx="330840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BC24-43B9-4C05-B18D-5744788C813C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BF92-B4EB-433B-8AC2-E3CBE767D797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840" y="5499000"/>
              <a:ext cx="2879640" cy="71424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2240" y="5371920"/>
              <a:ext cx="5551560" cy="8492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760" y="5383080"/>
              <a:ext cx="5473800" cy="7747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720" y="5370480"/>
              <a:ext cx="3311640" cy="650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2455-1169-4771-8BDF-803CC765DBE8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840" y="860040"/>
              <a:ext cx="2879640" cy="714600"/>
            </a:xfrm>
            <a:prstGeom prst="pie">
              <a:avLst/>
            </a:pr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2240" y="731520"/>
              <a:ext cx="5551560" cy="851040"/>
            </a:xfrm>
            <a:prstGeom prst="pie">
              <a:avLst/>
            </a:pr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760" y="742680"/>
              <a:ext cx="5473800" cy="7765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720" y="730080"/>
              <a:ext cx="3311640" cy="6526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89C8-77F4-4873-95A7-7F276A2ED763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TextBox 3"/>
          <p:cNvSpPr/>
          <p:nvPr/>
        </p:nvSpPr>
        <p:spPr>
          <a:xfrm>
            <a:off x="285840" y="2000160"/>
            <a:ext cx="8569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ndara"/>
              </a:rPr>
              <a:t>Физическая культура как средство оздоровления населения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TextBox 4"/>
          <p:cNvSpPr/>
          <p:nvPr/>
        </p:nvSpPr>
        <p:spPr>
          <a:xfrm>
            <a:off x="857160" y="4429080"/>
            <a:ext cx="774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ndara"/>
              </a:rPr>
              <a:t>Тренер по волейболу: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Candara"/>
              </a:rPr>
              <a:t>Дандаа Ч.С.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Box 3"/>
          <p:cNvSpPr/>
          <p:nvPr/>
        </p:nvSpPr>
        <p:spPr>
          <a:xfrm>
            <a:off x="571680" y="277920"/>
            <a:ext cx="83581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Проблематика: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ndara"/>
              </a:rPr>
              <a:t>1. Интенсификация образования влечёт возникновение  у  учащихся состояния усталости, утомления, переутомления. Именно переутомление создает предпосылки развития острых и хронических нарушений здоровья, развития нервных, психосоматических и других заболеваний. </a:t>
            </a: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642960" y="1357200"/>
            <a:ext cx="77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недрение «Здоровьеформирующих образовательных технологий», программ, методов, которые направлены на воспитание у учащихся и населения культуры здоровья, личностных качеств, способствующих их сохранению и укреплению, формирование представления о здоровье как ценности, мотивацию на ведение здорового образа жизни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00000"/>
                </a:solidFill>
                <a:latin typeface="Candara"/>
              </a:rPr>
              <a:t>Цель:</a:t>
            </a:r>
            <a:endParaRPr b="0" lang="en-US" sz="6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G:\Физминутки на уроках\на презентацию\SDC11008.JPG"/>
          <p:cNvPicPr/>
          <p:nvPr/>
        </p:nvPicPr>
        <p:blipFill>
          <a:blip r:embed="rId1"/>
          <a:stretch/>
        </p:blipFill>
        <p:spPr>
          <a:xfrm>
            <a:off x="214200" y="285840"/>
            <a:ext cx="3314880" cy="24858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G:\Физминутки на уроках\на презентацию\SDC11017.JPG"/>
          <p:cNvPicPr/>
          <p:nvPr/>
        </p:nvPicPr>
        <p:blipFill>
          <a:blip r:embed="rId2"/>
          <a:stretch/>
        </p:blipFill>
        <p:spPr>
          <a:xfrm>
            <a:off x="5072040" y="392904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G:\Физминутки на уроках\на презентацию\SDC10995.JPG"/>
          <p:cNvPicPr/>
          <p:nvPr/>
        </p:nvPicPr>
        <p:blipFill>
          <a:blip r:embed="rId3"/>
          <a:stretch/>
        </p:blipFill>
        <p:spPr>
          <a:xfrm>
            <a:off x="428760" y="385776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2" descr="G:\Физминутки на уроках\на презентацию\SDC11002.JPG"/>
          <p:cNvPicPr/>
          <p:nvPr/>
        </p:nvPicPr>
        <p:blipFill>
          <a:blip r:embed="rId4"/>
          <a:stretch/>
        </p:blipFill>
        <p:spPr>
          <a:xfrm>
            <a:off x="5643720" y="285840"/>
            <a:ext cx="3233520" cy="2425680"/>
          </a:xfrm>
          <a:prstGeom prst="rect">
            <a:avLst/>
          </a:prstGeom>
          <a:ln w="0">
            <a:noFill/>
          </a:ln>
        </p:spPr>
      </p:pic>
      <p:sp>
        <p:nvSpPr>
          <p:cNvPr id="344" name="Прямоугольник 5"/>
          <p:cNvSpPr/>
          <p:nvPr/>
        </p:nvSpPr>
        <p:spPr>
          <a:xfrm>
            <a:off x="714240" y="2643120"/>
            <a:ext cx="764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Лучшим средством профилактики и снятия утомления является переключение на двигательную активность,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чем и является физкультминутка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3"/>
          <p:cNvSpPr/>
          <p:nvPr/>
        </p:nvSpPr>
        <p:spPr>
          <a:xfrm>
            <a:off x="250920" y="333360"/>
            <a:ext cx="8642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ndara"/>
              </a:rPr>
              <a:t>Здоровьсбережение через культурно-спортивные мероприятия. 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46" name="TextBox 4"/>
          <p:cNvSpPr/>
          <p:nvPr/>
        </p:nvSpPr>
        <p:spPr>
          <a:xfrm>
            <a:off x="271440" y="2338560"/>
            <a:ext cx="8621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Традиционные школьные мероприятия: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Общешкольный кросс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урнир по теннису;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ервенство школы по баскетболу, волейболу, шахматам, шашкам.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урнир по вольной борьбе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оследний звонок.  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G:\Физминутки на уроках\на презентацию\SDC10890.JPG"/>
          <p:cNvPicPr/>
          <p:nvPr/>
        </p:nvPicPr>
        <p:blipFill>
          <a:blip r:embed="rId1"/>
          <a:stretch/>
        </p:blipFill>
        <p:spPr>
          <a:xfrm>
            <a:off x="714240" y="1000080"/>
            <a:ext cx="3143520" cy="2357640"/>
          </a:xfrm>
          <a:prstGeom prst="rect">
            <a:avLst/>
          </a:prstGeom>
          <a:ln w="0">
            <a:noFill/>
          </a:ln>
        </p:spPr>
      </p:pic>
      <p:sp>
        <p:nvSpPr>
          <p:cNvPr id="348" name="TextBox 3"/>
          <p:cNvSpPr/>
          <p:nvPr/>
        </p:nvSpPr>
        <p:spPr>
          <a:xfrm>
            <a:off x="1357200" y="214200"/>
            <a:ext cx="503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ndara"/>
              </a:rPr>
              <a:t>День здоровья</a:t>
            </a:r>
            <a:endParaRPr b="0" lang="en-US" sz="40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49" name="Picture 2" descr="G:\Физминутки на уроках\на презентацию\SDC12830.JPG"/>
          <p:cNvPicPr/>
          <p:nvPr/>
        </p:nvPicPr>
        <p:blipFill>
          <a:blip r:embed="rId2"/>
          <a:stretch/>
        </p:blipFill>
        <p:spPr>
          <a:xfrm>
            <a:off x="5429160" y="4071960"/>
            <a:ext cx="3286080" cy="2463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" descr="G:\Физминутки на уроках\на презентацию\SDC12732.JPG"/>
          <p:cNvPicPr/>
          <p:nvPr/>
        </p:nvPicPr>
        <p:blipFill>
          <a:blip r:embed="rId3"/>
          <a:stretch/>
        </p:blipFill>
        <p:spPr>
          <a:xfrm>
            <a:off x="5286240" y="1071720"/>
            <a:ext cx="3000600" cy="2249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2" descr="G:\Физминутки на уроках\на презентацию\SDC10976.JPG"/>
          <p:cNvPicPr/>
          <p:nvPr/>
        </p:nvPicPr>
        <p:blipFill>
          <a:blip r:embed="rId4"/>
          <a:stretch/>
        </p:blipFill>
        <p:spPr>
          <a:xfrm>
            <a:off x="428760" y="3786120"/>
            <a:ext cx="3571920" cy="26859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"/>
          <p:cNvPicPr/>
          <p:nvPr/>
        </p:nvPicPr>
        <p:blipFill>
          <a:blip r:embed="rId1"/>
          <a:stretch/>
        </p:blipFill>
        <p:spPr>
          <a:xfrm>
            <a:off x="500040" y="571680"/>
            <a:ext cx="3643200" cy="24285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500040" y="4143240"/>
            <a:ext cx="3286080" cy="22496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4" descr=""/>
          <p:cNvPicPr/>
          <p:nvPr/>
        </p:nvPicPr>
        <p:blipFill>
          <a:blip r:embed="rId3"/>
          <a:stretch/>
        </p:blipFill>
        <p:spPr>
          <a:xfrm>
            <a:off x="4929120" y="4056120"/>
            <a:ext cx="3664080" cy="237312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" descr="G:\Физминутки на уроках\на презентацию\SDC11029.JPG"/>
          <p:cNvPicPr/>
          <p:nvPr/>
        </p:nvPicPr>
        <p:blipFill>
          <a:blip r:embed="rId4"/>
          <a:stretch/>
        </p:blipFill>
        <p:spPr>
          <a:xfrm>
            <a:off x="4714920" y="571680"/>
            <a:ext cx="3929040" cy="2320920"/>
          </a:xfrm>
          <a:prstGeom prst="rect">
            <a:avLst/>
          </a:prstGeom>
          <a:ln w="0">
            <a:noFill/>
          </a:ln>
        </p:spPr>
      </p:pic>
      <p:sp>
        <p:nvSpPr>
          <p:cNvPr id="356" name="Прямоугольник 5"/>
          <p:cNvSpPr/>
          <p:nvPr/>
        </p:nvSpPr>
        <p:spPr>
          <a:xfrm>
            <a:off x="1035720" y="3286080"/>
            <a:ext cx="76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ndara"/>
              </a:rPr>
              <a:t>Внеклассное занятие среди групп НП-1 и НП-2</a:t>
            </a:r>
            <a:r>
              <a:rPr b="1" lang="ru-RU" sz="2400" spc="-1" strike="noStrike">
                <a:solidFill>
                  <a:srgbClr val="ffff00"/>
                </a:solidFill>
                <a:latin typeface="Candar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3"/>
          <p:cNvSpPr/>
          <p:nvPr/>
        </p:nvSpPr>
        <p:spPr>
          <a:xfrm>
            <a:off x="250920" y="1546200"/>
            <a:ext cx="86421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ndara"/>
              </a:rPr>
              <a:t>Традиционные мероприятия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ервенство поселения по футболу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раздник Дня Победы;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Турниры по волейболу приуроченные к праздникам Нового года,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23 февраля,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8 марта;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озрождение лыжного спорта. 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3"/>
          <p:cNvSpPr/>
          <p:nvPr/>
        </p:nvSpPr>
        <p:spPr>
          <a:xfrm>
            <a:off x="250920" y="333360"/>
            <a:ext cx="864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ndara"/>
              </a:rPr>
              <a:t>Результаты: </a:t>
            </a:r>
            <a:endParaRPr b="0" lang="en-US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233280" y="1214280"/>
            <a:ext cx="86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Возрождение лыжного спорта.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Положительная динамика вовлечения учащихся и молодежи села в культурно-спортивную деятельность.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ndara"/>
              </a:rPr>
              <a:t>Спортивные достижения школьников и населения </a:t>
            </a:r>
            <a:endParaRPr b="0" lang="en-US" sz="3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09:45:05Z</dcterms:created>
  <dc:creator>Эрдыниев</dc:creator>
  <dc:description/>
  <dc:language>en-US</dc:language>
  <cp:lastModifiedBy>Windows User</cp:lastModifiedBy>
  <dcterms:modified xsi:type="dcterms:W3CDTF">2020-04-17T15:23:32Z</dcterms:modified>
  <cp:revision>38</cp:revision>
  <dc:subject/>
  <dc:title>Презентация PowerPoint</dc:title>
</cp:coreProperties>
</file>