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7D1-9E85-4590-A6BD-4266C754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C59-11B9-4368-B759-53B02AE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53A-511C-473A-B6F3-0926A84E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445-63BB-485F-87D2-E6F5D343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95E4-01CC-47DD-87C7-11A029A1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CF1D-A272-4097-9707-62DA2A5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C2A9-3494-4826-BC50-F068A44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42D-81F6-4441-A0CA-352B04EF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F798-4E17-4D41-B127-0B4451DE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7BA-FA1E-44AE-BAC9-0139CABE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DEBD-A07B-469F-9C28-1B1DF22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488-6B10-454A-85A7-6304677A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811-5B67-49A6-B098-9F06DB1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B4E-839B-4181-809A-9A1B4BE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8E9-689E-4DDB-9CA4-50C7835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52E-50A4-47EA-BD5B-41E0C343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A65-E54B-477A-9DD9-2E52DB7C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A113-6B7C-497B-A8D4-43119B40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DA7C-81B7-494C-B9FB-BA816449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33EB-5E3C-4CA4-80C1-B2865390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B704-62D8-4001-8999-39CE133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D94A-002A-43FE-A1FC-ADAF0068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B93-3936-4127-9104-0858D85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3438-73B8-46E8-B6CD-91E14C1E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CFBE-8616-4EA0-964A-8AF9CA6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C008-823C-4592-83A5-D32FBE7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E75D-F017-477C-B12D-5855B9B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2453-A774-40CA-8F49-4C3D120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BD38-BB77-4074-AAD5-F74954CD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A49A-2DB2-4372-A33A-CD8BB8BF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3580-2EFF-4539-B866-91226C9D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31B9-5CAD-49A0-B2B5-FFE5CE8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BE10-B8B6-4967-9C02-A9F186A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E26-8254-451B-98C0-FFDB6B9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3605-F0FC-4218-883F-3BF5B02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F93C-4FA7-4A30-9149-041740A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7C28-9221-4326-87FD-8A1955B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BCD5-122E-4697-B92E-30B8F38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2873-8F6F-407B-B20D-DAAC8D7E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320C-FCD6-4124-AEE5-6901939F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FBEE-7700-46F1-96E0-44B7DA8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F58F-D4A2-4745-A37E-36A2A99D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2E9E-632E-4184-B8B5-4C780866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7C52-62AD-45AB-A237-7AA761F1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615-D4C5-4149-B492-8955F23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DF265-5F91-48DF-B155-FAEB5EC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5A15-07AE-4DF0-95DD-A95F661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252F-B0C8-454A-B1CB-4A49E33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14A89-870F-47BC-A0FB-A12033ED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8D35-60FF-4E97-8736-3253C44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37E4-1B6D-45F0-83FD-72F470A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6E9B-13C4-4503-AC3F-E04E215C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ADB4-1C7D-4838-98A4-F48A7DA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AEEE-5E1B-4DC6-97B8-C122216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3EFC-7998-428D-A2E9-E72A72F5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2B6-877D-4BF0-8366-E4159AC5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BF91-0A1C-4A36-A2C8-FF51BB91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3C2E-CBC6-4A9C-8218-976B29B2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F7BE-EBDD-4C1D-89D9-3FC4BF9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9580-7E85-4F9B-859B-7CF29F6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3D21D-C4C4-43D1-B96B-2EF4ED2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09FF-C51B-4A04-8F23-BF3C116D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2919-6191-49CF-938B-34672B0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141F-13F7-46F5-8E1A-DDBAC2C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2459A-1FEF-415F-9B5D-C0F29EAF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8EF6A-BB3E-49C9-9572-C6B491A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54A-4A28-4B6D-93CE-BE10C0E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8859-8485-4002-B52B-0AEFACA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FFB8-5D30-4BFA-A854-C68B7A06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44DB-F387-4D18-BE4D-97E2C4F2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C32E-A758-4059-B229-B9C928B2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F643-8EB3-41AB-B058-9BC3095A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FC53-8F8D-4E2D-91D2-41568241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FF32-968B-4F5F-BFE5-E02CEE0A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1C743-DDED-4460-AE0F-22C2237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BDC6-D7D4-4815-9822-015841B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D8C3-BE34-4A5A-A6C5-C6CF4794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4F1-B1E4-41A4-9EDD-F98685C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A7BF-50DD-418A-A031-E314096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22B2-B6BD-4BF6-8B9F-8EAE4C2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C6A3-ADC6-4583-A7BA-868374E5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6FA4-1209-4D25-9F2C-FD6A6239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0A0D-0C7B-4A07-BED2-5B5904C6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158-5678-473D-924F-A79F175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B96-D034-4D19-9350-01E8E5601C5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A38-3D8E-4B94-B2B1-6DD7E9115F7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075-A8DB-4F64-BD6B-40FD20123C5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B3C-4EF3-4255-BC88-2F429C82D86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8EC7-2123-4E3B-80DB-CCC073CA731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B0B-44BF-4079-AA55-D041B1CC3FC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C27-A013-47F3-ACB1-80D9F2D5565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285840" y="200016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ndara"/>
              </a:rPr>
              <a:t>Физическая культура как средство оздоровления населения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857160" y="4429080"/>
            <a:ext cx="774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Тренер по волейболу: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Дандаа Ч.С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571680" y="27792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облематик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1. Интенсификация образования влечёт возникновение  у  учащихся состояния усталости, утомления, переутомления. Именно переутомление создает предпосылки развития острых и хронических нарушений здоровья, развития нервных, психосоматических и других заболеваний.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2960" y="1357200"/>
            <a:ext cx="77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недрение «Здоровьеформирующих образовательных технологий», программ, методов, которые направлены на воспитание у учащихся и населения культуры здоровья, личностных качеств, способствующих их сохранению и укреплению, формирование представления о здоровье как ценности, мотивацию на ведение здорового образа жизн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ndara"/>
              </a:rPr>
              <a:t>Цель: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G:\Физминутки на уроках\на презентацию\SDC11008.JPG"/>
          <p:cNvPicPr/>
          <p:nvPr/>
        </p:nvPicPr>
        <p:blipFill>
          <a:blip r:embed="rId1"/>
          <a:stretch/>
        </p:blipFill>
        <p:spPr>
          <a:xfrm>
            <a:off x="214200" y="28584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G:\Физминутки на уроках\на презентацию\SDC11017.JPG"/>
          <p:cNvPicPr/>
          <p:nvPr/>
        </p:nvPicPr>
        <p:blipFill>
          <a:blip r:embed="rId2"/>
          <a:stretch/>
        </p:blipFill>
        <p:spPr>
          <a:xfrm>
            <a:off x="507204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Физминутки на уроках\на презентацию\SDC10995.JPG"/>
          <p:cNvPicPr/>
          <p:nvPr/>
        </p:nvPicPr>
        <p:blipFill>
          <a:blip r:embed="rId3"/>
          <a:stretch/>
        </p:blipFill>
        <p:spPr>
          <a:xfrm>
            <a:off x="428760" y="3857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G:\Физминутки на уроках\на презентацию\SDC11002.JPG"/>
          <p:cNvPicPr/>
          <p:nvPr/>
        </p:nvPicPr>
        <p:blipFill>
          <a:blip r:embed="rId4"/>
          <a:stretch/>
        </p:blipFill>
        <p:spPr>
          <a:xfrm>
            <a:off x="5643720" y="2858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5"/>
          <p:cNvSpPr/>
          <p:nvPr/>
        </p:nvSpPr>
        <p:spPr>
          <a:xfrm>
            <a:off x="714240" y="26431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Лучшим средством профилактики и снятия утомления является переключение на двигательную активность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чем и является физкультминут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3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Здоровьсбережение через культурно-спортивные мероприятия.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271440" y="2338560"/>
            <a:ext cx="862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школьные мероприятия: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Общешкольный кросс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теннису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школы по баскетболу, волейболу, шахматам, шашкам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вольной борьб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следний звонок. 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G:\Физминутки на уроках\на презентацию\SDC10890.JPG"/>
          <p:cNvPicPr/>
          <p:nvPr/>
        </p:nvPicPr>
        <p:blipFill>
          <a:blip r:embed="rId1"/>
          <a:stretch/>
        </p:blipFill>
        <p:spPr>
          <a:xfrm>
            <a:off x="714240" y="1000080"/>
            <a:ext cx="3143520" cy="2357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"/>
          <p:cNvSpPr/>
          <p:nvPr/>
        </p:nvSpPr>
        <p:spPr>
          <a:xfrm>
            <a:off x="1357200" y="214200"/>
            <a:ext cx="50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День здоровья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Picture 2" descr="G:\Физминутки на уроках\на презентацию\SDC12830.JPG"/>
          <p:cNvPicPr/>
          <p:nvPr/>
        </p:nvPicPr>
        <p:blipFill>
          <a:blip r:embed="rId2"/>
          <a:stretch/>
        </p:blipFill>
        <p:spPr>
          <a:xfrm>
            <a:off x="5429160" y="40719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:\Физминутки на уроках\на презентацию\SDC12732.JPG"/>
          <p:cNvPicPr/>
          <p:nvPr/>
        </p:nvPicPr>
        <p:blipFill>
          <a:blip r:embed="rId3"/>
          <a:stretch/>
        </p:blipFill>
        <p:spPr>
          <a:xfrm>
            <a:off x="5286240" y="1071720"/>
            <a:ext cx="3000600" cy="2249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G:\Физминутки на уроках\на презентацию\SDC10976.JPG"/>
          <p:cNvPicPr/>
          <p:nvPr/>
        </p:nvPicPr>
        <p:blipFill>
          <a:blip r:embed="rId4"/>
          <a:stretch/>
        </p:blipFill>
        <p:spPr>
          <a:xfrm>
            <a:off x="428760" y="3786120"/>
            <a:ext cx="357192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643200" cy="2428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500040" y="4143240"/>
            <a:ext cx="3286080" cy="224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4929120" y="4056120"/>
            <a:ext cx="3664080" cy="2373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G:\Физминутки на уроках\на презентацию\SDC11029.JPG"/>
          <p:cNvPicPr/>
          <p:nvPr/>
        </p:nvPicPr>
        <p:blipFill>
          <a:blip r:embed="rId4"/>
          <a:stretch/>
        </p:blipFill>
        <p:spPr>
          <a:xfrm>
            <a:off x="4714920" y="571680"/>
            <a:ext cx="3929040" cy="23209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1035720" y="328608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неклассное занятие среди групп НП-1 и НП-2</a:t>
            </a: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50920" y="154620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мероприят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поселения по футбол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аздник Дня Победы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ы по волейболу приуроченные к праздникам Нового года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23 февраля,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8 марта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250920" y="33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езультаты: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233280" y="1214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ложительная динамика вовлечения учащихся и молодежи села в культурно-спортивную деятельность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ортивные достижения школьников и населен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9:45:05Z</dcterms:created>
  <dc:creator>Эрдыниев</dc:creator>
  <dc:description/>
  <dc:language>en-US</dc:language>
  <cp:lastModifiedBy>Windows User</cp:lastModifiedBy>
  <dcterms:modified xsi:type="dcterms:W3CDTF">2020-04-17T15:23:32Z</dcterms:modified>
  <cp:revision>38</cp:revision>
  <dc:subject/>
  <dc:title>Презентация PowerPoint</dc:title>
</cp:coreProperties>
</file>