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20E-CDCB-4B6F-9EAA-2E021EE9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94D-80D9-4704-9AEC-19BCCDC8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C38-9709-433D-8F3C-35FD9904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382-9193-4AE4-BC9B-A47B4EC7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0951-A589-4036-A9DD-2705CD1F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0488-3FF2-4B9A-A44C-17311126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2A5C-CBD3-474B-BC88-0CDBEF40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747C-51DC-42AE-805F-8C230114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5B61-7E60-4487-B5D1-26690AAD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B18B-10C6-460F-8038-16BDCFFD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390B-E14D-46B0-95C4-195D4623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899-AE9B-431C-A032-4385773E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C3BE-8D62-4BB7-BC69-AE135C31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E991-A15D-4D92-B3AB-35CEE40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DD61-9DF5-4207-BAC6-489A7CAD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88B7-C747-42C2-B40E-C8AE959A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592D-34C3-43B1-912F-DC5081F8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8CA1-669A-4715-857F-DA22B852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3D41-7DA5-4BF1-B80D-3D312F1F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9238-DF61-4479-BD74-FF3395B4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0A39-20E4-4558-AEB3-E6E71B80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BCFB-2AF6-4AEC-8CB9-E9BD1E9D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4AE-AD6E-4AB9-BEAA-D0B030B6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D315-5B1A-45EA-98F3-626B2169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7F1C-29D1-4ACC-812D-F51F603E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0468-65B9-4C42-8DAE-1152B274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375D-6C5A-4C25-BB26-BB5C9A7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6A4A-FF02-4286-88B0-7979987B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20E6-D479-4622-8070-79CE46AF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E28F-DFBD-410A-A7F7-CF8D7341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316D-906B-4E57-B6D3-66B137AF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2D78-7F9E-4CF1-9235-C06A7859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F3370-222F-49D6-8FD4-F3F263E6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C66-647C-4A33-A399-E0C31F49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D8F2-DDC4-4ED9-A9C1-20D12A7E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C50B7-E296-4F10-AD75-657ABEF8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7D39-A4FC-48CF-908F-4EBAB7BD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F9043-0A41-4128-B1DE-A29B52F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EE24-C1EF-4BC6-8E56-546E5B8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648F-AD26-4933-9D9E-2FE5F8D9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5AD9B-835F-4A06-81C7-87D3A712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1E30-3C02-4615-AC02-D263FFB8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B95F-3D49-4CD8-B2A7-53D39D84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4C38F-D49B-4C4E-81F8-FE0435E9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B89-37D3-4584-9685-B922D3B2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08E4-A42A-4B89-8C3E-77843954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8F1DC-CB96-4261-BFF9-5CF808A0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FB692-4D0C-4529-BF20-F35EA303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37E07-EF41-42AC-921F-F55297F4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E230-2283-4413-9E98-FBCCCADB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E6B1-170E-45EE-BC2F-EADB191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796CA-A405-4A51-9E6A-785E7EAA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D38E-3AC0-47AA-BAF4-4438895B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758ED-3BB7-4971-BB11-52755CCB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0C35-AB13-4839-AD22-500ABC64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DEF-1E55-4025-A70E-2BD2FCE8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438F-90C7-4DB4-8010-D69E9883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C5B33-AA58-4886-A4FA-44B02EFB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C818C-7069-4758-9ED3-12AFC0AF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77344-7773-47F3-9493-D08DFC05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F645-B37D-46CA-9A8A-EEA88A13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74C6-35EC-4502-8C91-8D07D6B7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F515-7A29-4F3D-A380-EA990858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6FC38-F5A9-4FC3-9D38-5F21EA5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69870-E69B-4388-958F-2EF7402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C9A3D-C527-4C2B-88F2-F6ECD48A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F66-2A26-4A86-B8AC-7322766A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9F74C-3B1D-4642-AE13-8CBAD1D0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0E87-2822-48E7-96AC-59C36424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405AD-84E4-4945-9ED9-EFAEF456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6C7F4-BFF6-4D95-AA46-7FD65CAD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10DB-8D2D-45DB-B2D8-64549512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2496-7B11-4A48-A6EA-25CE0E9D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DFF5C-8E8E-4B2D-9E49-64E39D50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79AEE-68D6-4B6B-B61F-10492270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C6F1F-7A01-4CA0-AAEC-34E2416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3A99D-A59B-43BD-B919-A373A7EF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7AA-6B9C-471C-B6FF-EC199FA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D9C2-DA4F-48AF-AFE9-495B3A2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047DF-897E-42FC-BB4B-C6EA34F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9C94-5C31-46D6-AA1D-A6A403D8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CBB5-E37B-4CA5-8FCE-59342B9C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94747-7A1B-4E0A-88D0-E5AE53F2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CEE-7E1A-4E02-94A1-B48E5367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4A37-DBFE-45D6-9252-68EBA583D67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C86-930E-4BC1-9667-6EE2B6DA7CF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0E39-AC6C-4FDD-A56B-861F46F939A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6E1F-A836-4693-9057-647FF9CC397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8A82-6A46-4E85-A545-099014B4E16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6DC3-FC6F-433C-811B-FCB2CF867D7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958D-6CF3-412E-B45E-E7E7551ECCE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285840" y="200016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ndara"/>
              </a:rPr>
              <a:t>Физическая культура как средство оздоровления населения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857160" y="4429080"/>
            <a:ext cx="774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Тренер по волейболу: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Дандаа Ч.С.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571680" y="277920"/>
            <a:ext cx="835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Проблематика: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1. Интенсификация образования влечёт возникновение  у  учащихся состояния усталости, утомления, переутомления. Именно переутомление создает предпосылки развития острых и хронических нарушений здоровья, развития нервных, психосоматических и других заболеваний.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42960" y="1357200"/>
            <a:ext cx="77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недрение «Здоровьеформирующих образовательных технологий», программ, методов, которые направлены на воспитание у учащихся и населения культуры здоровья, личностных качеств, способствующих их сохранению и укреплению, формирование представления о здоровье как ценности, мотивацию на ведение здорового образа жизн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ndara"/>
              </a:rPr>
              <a:t>Цель: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G:\Физминутки на уроках\на презентацию\SDC11008.JPG"/>
          <p:cNvPicPr/>
          <p:nvPr/>
        </p:nvPicPr>
        <p:blipFill>
          <a:blip r:embed="rId1"/>
          <a:stretch/>
        </p:blipFill>
        <p:spPr>
          <a:xfrm>
            <a:off x="214200" y="285840"/>
            <a:ext cx="3314880" cy="24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G:\Физминутки на уроках\на презентацию\SDC11017.JPG"/>
          <p:cNvPicPr/>
          <p:nvPr/>
        </p:nvPicPr>
        <p:blipFill>
          <a:blip r:embed="rId2"/>
          <a:stretch/>
        </p:blipFill>
        <p:spPr>
          <a:xfrm>
            <a:off x="5072040" y="39290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G:\Физминутки на уроках\на презентацию\SDC10995.JPG"/>
          <p:cNvPicPr/>
          <p:nvPr/>
        </p:nvPicPr>
        <p:blipFill>
          <a:blip r:embed="rId3"/>
          <a:stretch/>
        </p:blipFill>
        <p:spPr>
          <a:xfrm>
            <a:off x="428760" y="3857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G:\Физминутки на уроках\на презентацию\SDC11002.JPG"/>
          <p:cNvPicPr/>
          <p:nvPr/>
        </p:nvPicPr>
        <p:blipFill>
          <a:blip r:embed="rId4"/>
          <a:stretch/>
        </p:blipFill>
        <p:spPr>
          <a:xfrm>
            <a:off x="5643720" y="2858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5"/>
          <p:cNvSpPr/>
          <p:nvPr/>
        </p:nvSpPr>
        <p:spPr>
          <a:xfrm>
            <a:off x="714240" y="264312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Лучшим средством профилактики и снятия утомления является переключение на двигательную активность,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чем и является физкультминут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3"/>
          <p:cNvSpPr/>
          <p:nvPr/>
        </p:nvSpPr>
        <p:spPr>
          <a:xfrm>
            <a:off x="250920" y="33336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Здоровьсбережение через культурно-спортивные мероприятия.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271440" y="2338560"/>
            <a:ext cx="862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Традиционные школьные мероприятия: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Общешкольный кросс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урнир по теннису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ервенство школы по баскетболу, волейболу, шахматам, шашкам.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урнир по вольной борьбе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оследний звонок.  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G:\Физминутки на уроках\на презентацию\SDC10890.JPG"/>
          <p:cNvPicPr/>
          <p:nvPr/>
        </p:nvPicPr>
        <p:blipFill>
          <a:blip r:embed="rId1"/>
          <a:stretch/>
        </p:blipFill>
        <p:spPr>
          <a:xfrm>
            <a:off x="714240" y="1000080"/>
            <a:ext cx="3143520" cy="2357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3"/>
          <p:cNvSpPr/>
          <p:nvPr/>
        </p:nvSpPr>
        <p:spPr>
          <a:xfrm>
            <a:off x="1357200" y="214200"/>
            <a:ext cx="50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День здоровья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Picture 2" descr="G:\Физминутки на уроках\на презентацию\SDC12830.JPG"/>
          <p:cNvPicPr/>
          <p:nvPr/>
        </p:nvPicPr>
        <p:blipFill>
          <a:blip r:embed="rId2"/>
          <a:stretch/>
        </p:blipFill>
        <p:spPr>
          <a:xfrm>
            <a:off x="5429160" y="40719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G:\Физминутки на уроках\на презентацию\SDC12732.JPG"/>
          <p:cNvPicPr/>
          <p:nvPr/>
        </p:nvPicPr>
        <p:blipFill>
          <a:blip r:embed="rId3"/>
          <a:stretch/>
        </p:blipFill>
        <p:spPr>
          <a:xfrm>
            <a:off x="5286240" y="1071720"/>
            <a:ext cx="3000600" cy="2249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G:\Физминутки на уроках\на презентацию\SDC10976.JPG"/>
          <p:cNvPicPr/>
          <p:nvPr/>
        </p:nvPicPr>
        <p:blipFill>
          <a:blip r:embed="rId4"/>
          <a:stretch/>
        </p:blipFill>
        <p:spPr>
          <a:xfrm>
            <a:off x="428760" y="3786120"/>
            <a:ext cx="357192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643200" cy="2428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500040" y="4143240"/>
            <a:ext cx="3286080" cy="2249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4929120" y="4056120"/>
            <a:ext cx="3664080" cy="2373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G:\Физминутки на уроках\на презентацию\SDC11029.JPG"/>
          <p:cNvPicPr/>
          <p:nvPr/>
        </p:nvPicPr>
        <p:blipFill>
          <a:blip r:embed="rId4"/>
          <a:stretch/>
        </p:blipFill>
        <p:spPr>
          <a:xfrm>
            <a:off x="4714920" y="571680"/>
            <a:ext cx="3929040" cy="23209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5"/>
          <p:cNvSpPr/>
          <p:nvPr/>
        </p:nvSpPr>
        <p:spPr>
          <a:xfrm>
            <a:off x="1035720" y="3286080"/>
            <a:ext cx="76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Внеклассное занятие среди групп НП-1 и НП-2</a:t>
            </a: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3"/>
          <p:cNvSpPr/>
          <p:nvPr/>
        </p:nvSpPr>
        <p:spPr>
          <a:xfrm>
            <a:off x="250920" y="154620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Традиционные мероприятия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ервенство поселения по футбол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раздник Дня Победы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урниры по волейболу приуроченные к праздникам Нового года,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23 февраля,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8 марта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озрождение лыжного спорта. 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250920" y="333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Результаты: 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233280" y="121428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озрождение лыжного спорта.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оложительная динамика вовлечения учащихся и молодежи села в культурно-спортивную деятельность.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портивные достижения школьников и населения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9:45:05Z</dcterms:created>
  <dc:creator>Эрдыниев</dc:creator>
  <dc:description/>
  <dc:language>en-US</dc:language>
  <cp:lastModifiedBy>Windows User</cp:lastModifiedBy>
  <dcterms:modified xsi:type="dcterms:W3CDTF">2020-04-17T15:23:32Z</dcterms:modified>
  <cp:revision>38</cp:revision>
  <dc:subject/>
  <dc:title>Презентация PowerPoint</dc:title>
</cp:coreProperties>
</file>