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9D59-20D3-4879-AF25-D46B16BB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D85D-6968-478B-AD8F-210B6738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A042-00F1-41B5-BA44-0695CC3B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2C33-D239-4546-8CCB-E104C765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8FB6-3F5A-4779-98A0-496B611C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397F-C3B1-4072-BE96-83267FAD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CD7B-9B09-446B-9865-71A4E44D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7059-3DBB-4B4A-A23D-307E7CE6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CFC5-E462-4D13-A621-A8BD7571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2FA6-471B-4822-AF6F-869E4EC7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4709-05E0-4D00-9002-6F2865F9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1D42-C08F-4E23-9F10-C06F70B3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6B7F-3B87-4A76-BF08-5F9B00E2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3FBC-5D57-4C78-ADEB-F78058EE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0702-430F-431C-B34C-1F7B3CFE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4770-9E9E-4ADB-8E8F-670646FB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2D3F-DB7F-4F37-B578-7824E1AB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051EC-1FCC-4404-8F14-102D1173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45C18-F67D-4634-9A69-E6643C46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12902-93C3-4A54-904A-BA291CF7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633AB-245B-4B4F-A5F7-6701647B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6B142-B6FA-4AFC-95E0-53F5BFE7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DB49-2574-4BB8-940C-9C6753D9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A8753-0399-4BA3-BE4B-4EFF963A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8675D-EED1-43F5-874F-65651167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D95A1-907C-44AD-947D-7DE4AC73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8F197-F34C-45CB-967C-45406621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7453A-A615-40C5-A366-534CFBF1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6631A-5825-4869-A410-69FE909CC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159D5-D7FA-4C72-A49B-B899955C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373F-B207-43CB-A2F2-CB5CA40D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A4D3-79FD-4B4F-BD11-E1B4CB9B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0E36-0617-43E8-A580-65AC612B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9DD7-9B36-4D71-9CBA-FEC0BF15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B7A-1D5B-433A-9345-71CF43D7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4F49-F58C-44CC-8F6F-AD1B7E3D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"/>
          <p:cNvGrpSpPr/>
          <p:nvPr/>
        </p:nvGrpSpPr>
        <p:grpSpPr>
          <a:xfrm>
            <a:off x="-14400" y="0"/>
            <a:ext cx="12053880" cy="6858000"/>
            <a:chOff x="-14400" y="0"/>
            <a:chExt cx="12053880" cy="6858000"/>
          </a:xfrm>
        </p:grpSpPr>
        <p:pic>
          <p:nvPicPr>
            <p:cNvPr id="2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Group 9" descr=""/>
            <p:cNvPicPr/>
            <p:nvPr/>
          </p:nvPicPr>
          <p:blipFill>
            <a:blip r:embed="rId5"/>
            <a:stretch/>
          </p:blipFill>
          <p:spPr>
            <a:xfrm>
              <a:off x="113688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45632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141560" y="5882760"/>
            <a:ext cx="623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0275480" y="588276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A13560-EF44-45A4-A26A-ADD0A71244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Group 10" descr=""/>
          <p:cNvPicPr/>
          <p:nvPr/>
        </p:nvPicPr>
        <p:blipFill>
          <a:blip r:embed="rId4"/>
          <a:stretch/>
        </p:blipFill>
        <p:spPr>
          <a:xfrm>
            <a:off x="0" y="0"/>
            <a:ext cx="22986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077240" y="54097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875960" y="5409720"/>
            <a:ext cx="512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896040" y="540972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070E8-65C8-4999-8AF9-553FA0885A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-14400" y="0"/>
            <a:ext cx="12053880" cy="6858000"/>
            <a:chOff x="-14400" y="0"/>
            <a:chExt cx="12053880" cy="6858000"/>
          </a:xfrm>
        </p:grpSpPr>
        <p:pic>
          <p:nvPicPr>
            <p:cNvPr id="90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Group 9" descr=""/>
            <p:cNvPicPr/>
            <p:nvPr/>
          </p:nvPicPr>
          <p:blipFill>
            <a:blip r:embed="rId5"/>
            <a:stretch/>
          </p:blipFill>
          <p:spPr>
            <a:xfrm>
              <a:off x="113688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TextBox 47"/>
          <p:cNvSpPr/>
          <p:nvPr/>
        </p:nvSpPr>
        <p:spPr>
          <a:xfrm>
            <a:off x="903240" y="73188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  <a:ea typeface="Trebuchet MS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3" name="TextBox 48"/>
          <p:cNvSpPr/>
          <p:nvPr/>
        </p:nvSpPr>
        <p:spPr>
          <a:xfrm>
            <a:off x="10537920" y="27655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  <a:ea typeface="Trebuchet MS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745632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1141560" y="5882760"/>
            <a:ext cx="623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10275480" y="588276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CE011-C14E-4692-9526-BB078751B5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75960" y="1122480"/>
            <a:ext cx="879156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ИГРА «СТРАНИЦЫ БЕЗОПАСНЫХ НАУК»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875960" y="3601800"/>
            <a:ext cx="879156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2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1"/>
          <p:cNvSpPr/>
          <p:nvPr/>
        </p:nvSpPr>
        <p:spPr>
          <a:xfrm>
            <a:off x="811080" y="282600"/>
            <a:ext cx="10458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Где можно сушить белье?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над газовой плитой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рядом с газовой плитой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на балконе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Какие из предложений являются правилами пожарной безопасности?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пасно оставлять включенные электроприборы без присмотра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тключили электричество, у тебя нет фонарика, воспользуйся свечой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опасно разжигать костер, используя керосин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использованные баллончики из-под дезодорантов можно сжечь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нельзя поджигать сухую траву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Какие предметы при возгорании нельзя заливать водой?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электроутюг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кресло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ключенный в сеть телевизор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коворода с горячим жиром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863640" y="334800"/>
            <a:ext cx="10456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При возникновении пожара ты наберешь номер телефона «101» и расскажешь: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как тебе страшно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как начался пожар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что горит, адрес, фамилию, свой телефон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В случае возникновения пожара в детском саду дошкольник должен: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бежать от него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трого следовать указаниям педагога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начать тушить пожар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992160" y="282600"/>
            <a:ext cx="1046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блица с правильными ответами, проверьте ваши ответы, за каждый правильный ответ поставьте себе один балл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ючи к тесту: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набрали 15-20 баллов, то вы хорошо знаете правила пожарной безопасности, стараетесь их соблюдать, сможете научить своих товарищей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7-14 баллов, то вы должны быть осмотрительны в выборе действий в сложной ситуации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менее 6 баллов, то вам необходимо серьезно заняться изучением правил пожарной безопасности. Это поможет избежать пожара, а в экстремальной ситуации - сохранить свою жизнь и жизнь других людей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1"/>
          <p:cNvSpPr/>
          <p:nvPr/>
        </p:nvSpPr>
        <p:spPr>
          <a:xfrm>
            <a:off x="614520" y="117360"/>
            <a:ext cx="11287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ыбери предметы, с которыми можно играть безопасно: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люшевый медвежонок,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деревянные кубики,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) резиновый мяч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бери предметы, неправильное обращение с которыми может привести к пожару: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электроутюг,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настольная лампа,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) электропаяльник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в доме вечером отключили электричество, чем наиболее безопасно можно воспользоваться дл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вещения: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фонариком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ие из перечисленных жидкостей огнеопасны?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бензин,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клей резиновый,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) лак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акие надписи предупреждают о пожарной опасности?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«Вход воспрещен! »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) «Огнеопасно»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Где можно сушить белье?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на балконе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Какие из предложений являются правилами пожарной безопасности?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опасно оставлять включенные электроприборы без присмотра;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опасно разжигать костер, используя керосин;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) нельзя поджигать сухую траву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"/>
          <p:cNvSpPr/>
          <p:nvPr/>
        </p:nvSpPr>
        <p:spPr>
          <a:xfrm>
            <a:off x="765000" y="255600"/>
            <a:ext cx="10642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Какие предметы при возгорании нельзя заливать водой?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электроутюг,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включенный в сеть телевизор;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При возникновении пожара ты наберешь номер телефона «101» и расскажешь: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что горит, адрес, фамилию, свой телефон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В случае возникновения пожара в детском саду дошкольник должен: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строго следовать указаниям педагога;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322200" y="309600"/>
            <a:ext cx="1108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«Назови транспортное средство». Ваша задача- быстро, правильно ответить на мой вопрос. Право голоса тому, кто первый поднимет световой сигнал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ём Емеля ехал к царю во дворец?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 кота Леопольда.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й транспорт Бабы – Яги?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ём ездила Золушка на бал?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ём летал старик Хоттабыч?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ём ехал в Ленинград человек рассеянный с улицы Бассеиной?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ём летел барон Мюнхгаузен?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ём переправлялась по морю царица с младенцем?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мощи какого транспорта передвигались бременские музыканты?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 снежной королевы.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2"/>
          <p:cNvSpPr/>
          <p:nvPr/>
        </p:nvSpPr>
        <p:spPr>
          <a:xfrm>
            <a:off x="939960" y="347760"/>
            <a:ext cx="1036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w Cen MT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дорожного движения регламентируют единый порядок дорожного движения для всех его участников, в том числе и детей. Мы даем детям знания о правилах поведения  на дороге. По своей природе дети любознательны и задают вопросы, выходящие за рамки знаний правил пешехода и пассажира. Их интересуют и другие знаки, встречающиеся на дороге. Необходимо  адаптировать правила дорожного движения к детскому восприятию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какой группе относи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ёрный знак в красном кругу.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53" name="Рисунок 5" descr=""/>
          <p:cNvPicPr/>
          <p:nvPr/>
        </p:nvPicPr>
        <p:blipFill>
          <a:blip r:embed="rId1"/>
          <a:stretch/>
        </p:blipFill>
        <p:spPr>
          <a:xfrm>
            <a:off x="6576840" y="3848040"/>
            <a:ext cx="50994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958680" y="209520"/>
            <a:ext cx="106585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ёрный знак в красном треугольник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ёхугольные синие знаки.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справились с поставленной задачей, а мы переходим к следующей страничке, которая называется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55" name="Рисунок 4" descr=""/>
          <p:cNvPicPr/>
          <p:nvPr/>
        </p:nvPicPr>
        <p:blipFill>
          <a:blip r:embed="rId1"/>
          <a:stretch/>
        </p:blipFill>
        <p:spPr>
          <a:xfrm>
            <a:off x="7230960" y="3487680"/>
            <a:ext cx="2857680" cy="23148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5" descr=""/>
          <p:cNvPicPr/>
          <p:nvPr/>
        </p:nvPicPr>
        <p:blipFill>
          <a:blip r:embed="rId2"/>
          <a:stretch/>
        </p:blipFill>
        <p:spPr>
          <a:xfrm>
            <a:off x="7567560" y="407880"/>
            <a:ext cx="21830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2"/>
          <p:cNvSpPr/>
          <p:nvPr/>
        </p:nvSpPr>
        <p:spPr>
          <a:xfrm>
            <a:off x="704880" y="255600"/>
            <a:ext cx="10791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команда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ъесть грязную сосульку, то…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бы горящая бумага упала на мягкое кресло, то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ы развёл костёр, то….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опробовать незнакомую ягоду, то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Если брать острые предметы, то…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команда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 вас поднялась температура, то…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ойти гулять одному по незнакомому городу, то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забыли выключить утюг, то…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ам предлагают поиграть со спичками, то…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ы погладишь незнакомую собаку, то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2"/>
          <p:cNvSpPr/>
          <p:nvPr/>
        </p:nvSpPr>
        <p:spPr>
          <a:xfrm>
            <a:off x="735120" y="195120"/>
            <a:ext cx="1053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Безопасность по сказкам"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каких сказках говорится о том, что опасно оставлять ребенка без присмотра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каких сказках показано, что случается, если маленький герой сбежит в неизвестном место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Прямоугольник 3"/>
          <p:cNvSpPr/>
          <p:nvPr/>
        </p:nvSpPr>
        <p:spPr>
          <a:xfrm>
            <a:off x="735120" y="1765440"/>
            <a:ext cx="105375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w Cen MT"/>
              </a:rPr>
              <a:t>1 команды: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остановки венозного кровотечения – это (наложение жгута или закрутки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оследним покидает корабль при кораблекрушении? (капитан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важнейший прибор на судне? (компас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ые вещества называют… (яды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опление водой большой территории называют (наводнением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 с большим количеством снега – это (буран, метель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целостности кости называют. ..(переломом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чего предназначен противогаз? (для защиты органов дыхания от вредных примесей</a:t>
            </a:r>
            <a:r>
              <a:rPr b="0" lang="ru-RU" sz="1800" spc="-1" strike="noStrike">
                <a:solidFill>
                  <a:srgbClr val="ffffff"/>
                </a:solidFill>
                <a:latin typeface="Tw Cen MT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1004760" y="631800"/>
            <a:ext cx="10006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воспитателей базовых знаний по проблеме познавательной активности в рамках формирования безопасного поведения . Совершенствование работы по обеспечению безопасности жизнедеятельности детей. Обмен практического опыта и направление его на творческий поиск эффективных методов и приемов в работе с детьми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1"/>
          <p:cNvSpPr/>
          <p:nvPr/>
        </p:nvSpPr>
        <p:spPr>
          <a:xfrm>
            <a:off x="793800" y="195120"/>
            <a:ext cx="1074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команды: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помощь при пищевом отравлении – это (промывание желудка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ый вывоз населения из зоны ЧС (эвакуация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омождение льдин, вызывающее подъем воды называют… (затор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ервым покидает судно во время кораблекрушения? (крысы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респиратор? (индивидуальное средство защиты органов дыхания от вредных примесей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помощи при капиллярном кровотечении (промыть рану, наложить повязку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ейший способ очистки воды (кипячение, фильтрование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целостности кожи (рана)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720720" y="372960"/>
            <a:ext cx="1050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команда «Педагогические ситуации»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: Назовите правила поведения при пожаре в  квартире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2" name="Прямоугольник 2"/>
          <p:cNvSpPr/>
          <p:nvPr/>
        </p:nvSpPr>
        <p:spPr>
          <a:xfrm>
            <a:off x="720720" y="1841400"/>
            <a:ext cx="842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команда «Педагогические ситуации»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я: Назовите правила поведения при контакте с домашней и бродячей собакой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674640" y="330120"/>
            <a:ext cx="10793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 и здоровый образ жизни – это не просто сумма усвоенных детьми знаний, а стиль жизни, адекватное поведение в различных жизненных ситуациях, в том числе и неожиданных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взрослых состоит в том, чтобы подготовить ребенка к встрече с различными сложными, а порой опасными жизненными ситуациями. Уже с дошкольного возраста надо учить ребенка правильному поведению в чрезвычайной ситуации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начале надо учиться нам, взрослым, чего мы сегодня с вами и попытались достигнуть в рамках педагогического ринга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елось бы закончить наш педсовет поговоркой, которою часто мы слышим: «Если предупрежден, значит вооружен!» Так давайте вооружимся мы, вооружим наших детей знаниями по безопасности жизнедеятельности и будем соблюдать их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1"/>
          <p:cNvSpPr/>
          <p:nvPr/>
        </p:nvSpPr>
        <p:spPr>
          <a:xfrm>
            <a:off x="3567240" y="3116160"/>
            <a:ext cx="632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участие!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579600" y="244440"/>
            <a:ext cx="1039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ический ринг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площадка, где проявляется новаторство каждого педагога, осуществляется поиск решений методических проблем и обобщение опыта коллег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мы знаем, что основной формой работы с детьми дошкольного возраста и ведущим видом деятельности для них является игра. Сегодня мы тоже будем играть. Через деловую игру будем искать эффективные методы и приёмы, чтобы воспитание и образование по основам безопасности и жизнедеятельности детей было не только обучающим, но и развивающим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1571760" y="412920"/>
            <a:ext cx="757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 девизом нашего ринга будут слова: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я на улицу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товь заранее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ливость и сдержанность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главное – ВНИМАНИЕ!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1571760" y="2614680"/>
            <a:ext cx="757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жнение «Поздороваемся глазами»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положительный настрой на работу, установление контакта между коллегами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. Возьмитесь за руки, встаньте в круг и хором скажите: «Как здорово, что все мы здесь сегодня собрались!»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604800" y="425520"/>
            <a:ext cx="11217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минка шуточные вопросы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человек может двигаться со скоростью  машины?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ездят машины?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бус ехал в Москву, а ему навстречу ещё два автобуса. Сколько автобусов приехало в Москву?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бщего между лейкой и пожарной машиной?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бщего между пожарной машиной и свечой?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ошибку совершила бабушка Красной Шапочки?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сказка учит детей тому, что нельзя впускать в дом незнакомых?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правило нарушил Кай из сказки “Снежная королева", когда зацепился за сани?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9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го правила безопасности не знала царевна из сказки А. С. Пушкина “Сказка о мёртвой царевне”?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9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произведение учит детей слушаться старших, не уходить из дома?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463680" y="309600"/>
            <a:ext cx="10186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 «Назови быстро! »     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миночного конкурса вам  понадобятся ваши знания, быстрота реакции и внимание. Предлагаю встать всем в круг и пройти разминку  «Назови быстро! ». Ваша задача быстро передавать жезл рядом стоящему педагогу называть любое слово, относящееся к возникновению опасных ситуаций. Я начинаю – дорога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анспорт, огонь, вода, электричество, гололед, сосульки, спички, газ, утюг, ураган, улица, собака, бомба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1"/>
          <p:cNvSpPr/>
          <p:nvPr/>
        </p:nvSpPr>
        <p:spPr>
          <a:xfrm>
            <a:off x="604800" y="450720"/>
            <a:ext cx="10922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жизненных ситуаций являются для ребенка опасными. И наша задача их предугадать и предупредить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ые коллеги, напоминаю правила нашей игры: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еть слушать других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рабатывать общее решение вопроса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нимать активное участие в игре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блюдать культуру речи и тактичность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держиваться отведенного регламента;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так, мы продолжаем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– самая уязвимая категория населения. Максимально защитить их от возможной беды – обязанность взрослых. При этом каждый взрослый, в том числе и педагог, должен чётко знать все особенности воспитания безопасного поведения у детей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открываем первую страницу книги безопасных наук и предлагаем вам ответить на вопросы теста, бланк теста у вас на столе. Отмечайте правильные ответы галочкой на ваших тестах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811080" y="244440"/>
            <a:ext cx="10650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 служба "101"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на определение знаний противопожарной безопасности (10 вопросов, 20 правильных ответов, за каждый правильный ответ начисляется 1 балл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Выбери предметы, с которыми можно играть безопасно: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бенгальские свечи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люшевый медвежонок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пички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деревянные кубики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зажигалка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резиновый мяч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Выбери предметы, неправильное обращение с которыми может привести к пожару: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электроутюг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фонарик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настольная лампа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радиоприемник на батарейках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елочные игрушки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электропаяльник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669960" y="231840"/>
            <a:ext cx="1075356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Если в доме вечером отключили электричество, чем наиболее безопасно можно воспользоваться для освещения: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пичками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вечой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зажигалкой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фонариком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Какие из перечисленных жидкостей огнеопасны?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бензин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молоко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клей резиновый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ок яблочный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лак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Какие надписи предупреждают о пожарной опасности?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«Вход воспрещен! »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«Не курить! »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«Берегись автомобиля»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«Огнеопасно»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25T03:20:43Z</dcterms:created>
  <dc:creator>Лариса</dc:creator>
  <dc:description/>
  <dc:language>en-US</dc:language>
  <cp:lastModifiedBy>Лариса</cp:lastModifiedBy>
  <dcterms:modified xsi:type="dcterms:W3CDTF">2020-03-15T09:58:40Z</dcterms:modified>
  <cp:revision>20</cp:revision>
  <dc:subject/>
  <dc:title>Педагогическая игра «Страницы безопасных наук»</dc:title>
</cp:coreProperties>
</file>