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C96-C412-416B-8BA2-E99A755B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C1A-80CE-4E14-A774-CA5130EF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1C8-6C65-4F6F-B128-88DC0E74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A62-9D1F-4CF3-A608-DA33A9A7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1AA9-A9D2-4EB2-B7A3-AC414012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FFD3-CB23-43AB-941B-630B47AC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CB34-1A47-40B5-B3E5-8DAB305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1077-2D1E-4E66-9733-5A5EB5A0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F02D-8D86-40D3-B642-95CBC61F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342D-6988-44B2-96D4-B165933E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7E55-93D6-43F5-9762-2DF0DDF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3AD-E7BD-4D21-9977-B92BDB08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2A5D-45A1-41D0-AA24-D71BFEBF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A667-6AD6-411B-B474-8D26BDCC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C393-BB91-45FF-BC4D-3938A941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9533-3BEA-4569-834B-C8A07723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93A6-E98E-4604-A521-9FA95DF8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F28F-14CD-4BC5-873F-7CF7E0C6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51C7-D50A-4411-BF27-748C28E9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54AA-C6CE-490D-9D6A-A196D00A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66DC-0519-46FD-9553-400DF7F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65424-E00B-45EC-BC55-AA411B5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9A2-FCE8-4A08-BFF3-1AFCE1BC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D6ED-5195-4CE3-B197-AC131B3A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7E611-CA99-4F30-98B8-51157D5A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CB14-6CAA-412C-B6D2-98F662A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AFD8-B57C-4E74-892E-4ECE537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1B59-6EBF-40FC-A6C9-D2F02EE6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FAF3-6675-4DC5-BACD-2FACD370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B47A-8E96-4C88-AEF4-B4AA6FA0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E0A-64BF-442C-9953-FD06D575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E6E-32FB-4E41-9534-6089ED9D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115-E73E-4A25-8842-66621BBB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79C-33AC-43A5-B32C-BAEA0DAA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798-E6DA-4306-961C-91BA4A0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B76-7EEE-4A55-84CD-7EFCF55B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BE52E-C224-4F6A-8F7E-55709C62F9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10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20E72-5864-4DF9-A7EC-F37112FD1F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95BA7-D727-40ED-BAD2-7B2B6F38F7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75960" y="1122480"/>
            <a:ext cx="87915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ИГРА «СТРАНИЦЫ БЕЗОПАСНЫХ НАУК»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875960" y="3601800"/>
            <a:ext cx="879156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2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811080" y="282600"/>
            <a:ext cx="1045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Где можно сушить белье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д газовой плито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ядом с газовой плито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 балконе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ие из предложений являются правилами пожарной безопасности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пасно оставлять включенные электроприборы без присмотра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тключили электричество, у тебя нет фонарика, воспользуйся свечой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пасно разжигать костер, используя керосин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спользованные баллончики из-под дезодорантов можно сжечь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нельзя поджигать сухую траву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Какие предметы при возгорании нельзя заливать водой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электроутюг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ресло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ключенный в сеть телевизор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ворода с горячим жиром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863640" y="334800"/>
            <a:ext cx="1045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При возникновении пожара ты наберешь номер телефона «101» и расскажешь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к тебе страшно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ак начался пожар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что горит, адрес, фамилию, свой телефон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В случае возникновения пожара в детском саду дошкольник должен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ежать от него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трого следовать указаниям педагога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чать тушить пожар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992160" y="282600"/>
            <a:ext cx="1046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с правильными ответами, проверьте ваши ответы, за каждый правильный ответ поставьте себе один балл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и к тесту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набрали 15-20 баллов, то вы хорошо знаете правила пожарной безопасности, стараетесь их соблюдать, сможете научить своих товарищей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7-14 баллов, то вы должны быть осмотрительны в выборе действий в сложной ситуации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енее 6 баллов, то вам необходимо серьезно заняться изучением правил пожарной безопасности. Это поможет избежать пожара, а в экстремальной ситуации - сохранить свою жизнь и жизнь других людей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614520" y="117360"/>
            <a:ext cx="11287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бери предметы, с которыми можно играть безопасно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люшевый медвежонок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деревянные кубики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) резиновый мяч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бери предметы, неправильное обращение с которыми может привести к пожару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электроутюг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астольная лампа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) электропаяльник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в доме вечером отключили электричество, чем наиболее безопасно можно воспользоваться дл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ещения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фонариком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ие из перечисленных жидкостей огнеопасны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бензин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клей резиновый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лак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ие надписи предупреждают о пожарной опасности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«Вход воспрещен! »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«Огнеопасно»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де можно сушить белье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а балконе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ие из предложений являются правилами пожарной безопасности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пасно оставлять включенные электроприборы без присмотра;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пасно разжигать костер, используя керосин;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нельзя поджигать сухую траву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765000" y="255600"/>
            <a:ext cx="1064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ие предметы при возгорании нельзя заливать водой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электроутюг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ключенный в сеть телевизор;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и возникновении пожара ты наберешь номер телефона «101» и расскажешь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что горит, адрес, фамилию, свой телефон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случае возникновения пожара в детском саду дошкольник должен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строго следовать указаниям педагога;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22200" y="309600"/>
            <a:ext cx="1108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«Назови транспортное средство». Ваша задача- быстро, правильно ответить на мой вопрос. Право голоса тому, кто первый поднимет световой сигнал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Емеля ехал к царю во дворец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кота Леопольда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транспорт Бабы – Яги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ездила Золушка на бал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летал старик Хоттабыч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ехал в Ленинград человек рассеянный с улицы Бассеиной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летел барон Мюнхгаузен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ём переправлялась по морю царица с младенцем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мощи какого транспорта передвигались бременские музыканты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снежной королевы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939960" y="347760"/>
            <a:ext cx="1036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орожного движения регламентируют единый порядок дорожного движения для всех его участников, в том числе и детей. Мы даем детям знания о правилах поведения  на дороге. По своей природе дети любознательны и задают вопросы, выходящие за рамки знаний правил пешехода и пассажира. Их интересуют и другие знаки, встречающиеся на дороге. Необходимо  адаптировать правила дорожного движения к детскому восприятию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ой группе относи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й знак в красном кругу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53" name="Рисунок 5" descr=""/>
          <p:cNvPicPr/>
          <p:nvPr/>
        </p:nvPicPr>
        <p:blipFill>
          <a:blip r:embed="rId1"/>
          <a:stretch/>
        </p:blipFill>
        <p:spPr>
          <a:xfrm>
            <a:off x="6576840" y="3848040"/>
            <a:ext cx="5099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958680" y="209520"/>
            <a:ext cx="106585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й знак в красном треугольник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ёхугольные синие знаки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справились с поставленной задачей, а мы переходим к следующей страничке, которая называетс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7230960" y="3487680"/>
            <a:ext cx="2857680" cy="23148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2"/>
          <a:stretch/>
        </p:blipFill>
        <p:spPr>
          <a:xfrm>
            <a:off x="7567560" y="407880"/>
            <a:ext cx="2183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704880" y="255600"/>
            <a:ext cx="107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оманд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ъесть грязную сосульку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горящая бумага упала на мягкое кресло, то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развёл костёр, то…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пробовать незнакомую ягоду, то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брать острые предметы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команд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вас поднялась температура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йти гулять одному по незнакомому городу, то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забыли выключить утюг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предлагают поиграть со спичками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погладишь незнакомую собаку, то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2"/>
          <p:cNvSpPr/>
          <p:nvPr/>
        </p:nvSpPr>
        <p:spPr>
          <a:xfrm>
            <a:off x="735120" y="195120"/>
            <a:ext cx="105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Безопасность по сказкам"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каких сказках говорится о том, что опасно оставлять ребенка без присмотр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каких сказках показано, что случается, если маленький герой сбежит в неизвестном место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735120" y="1765440"/>
            <a:ext cx="10537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1 команды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становки венозного кровотечения – это (наложение жгута или закрутки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следним покидает корабль при кораблекрушении? (капитан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важнейший прибор на судне? (компас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ые вещества называют… (яды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пление водой большой территории называют (наводнением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с большим количеством снега – это (буран, метель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целостности кости называют. ..(переломом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предназначен противогаз? (для защиты органов дыхания от вредных примесей</a:t>
            </a: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004760" y="631800"/>
            <a:ext cx="1000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воспитателей базовых знаний по проблеме познавательной активности в рамках формирования безопасного поведения . Совершенствование работы по обеспечению безопасности жизнедеятельности детей. Обмен практического опыта и направление его на творческий поиск эффективных методов и приемов в работе с детьм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793800" y="195120"/>
            <a:ext cx="1074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команды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омощь при пищевом отравлении – это (промывание желудка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й вывоз населения из зоны ЧС (эвакуация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омождение льдин, вызывающее подъем воды называют… (затор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ервым покидает судно во время кораблекрушения? (крысы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респиратор? (индивидуальное средство защиты органов дыхания от вредных примесей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омощи при капиллярном кровотечении (промыть рану, наложить повязку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способ очистки воды (кипячение, фильтрование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целостности кожи (рана)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720720" y="372960"/>
            <a:ext cx="105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оманда «Педагогические ситуации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: Назовите правила поведения при пожаре в  квартире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720720" y="1841400"/>
            <a:ext cx="84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команда «Педагогические ситуации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: Назовите правила поведения при контакте с домашней и бродячей собакой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674640" y="330120"/>
            <a:ext cx="10793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и здоровый образ жизни – это не просто сумма усвоенных детьми знаний, а стиль жизни, адекватное поведение в различных жизненных ситуациях, в том числе и неожиданных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взрослых состоит в том, чтобы подготовить ребенка к встрече с различными сложными, а порой опасными жизненными ситуациями. Уже с дошкольного возраста надо учить ребенка правильному поведению в чрезвычайной ситуаци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начале надо учиться нам, взрослым, чего мы сегодня с вами и попытались достигнуть в рамках педагогического ринга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елось бы закончить наш педсовет поговоркой, которою часто мы слышим: «Если предупрежден, значит вооружен!» Так давайте вооружимся мы, вооружим наших детей знаниями по безопасности жизнедеятельности и будем соблюдать их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3567240" y="3116160"/>
            <a:ext cx="632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частие!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79600" y="244440"/>
            <a:ext cx="1039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ий ринг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лощадка, где проявляется новаторство каждого педагога, осуществляется поиск решений методических проблем и обобщение опыта коллег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ы знаем, что основной формой работы с детьми дошкольного возраста и ведущим видом деятельности для них является игра. Сегодня мы тоже будем играть. Через деловую игру будем искать эффективные методы и приёмы, чтобы воспитание и образование по основам безопасности и жизнедеятельности детей было не только обучающим, но и развивающим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571760" y="41292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евизом нашего ринга будут слова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я на улицу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 заранее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ость и сдержанность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главное – ВНИМАНИЕ!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571760" y="26146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«Поздороваемся глазами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положительный настрой на работу, установление контакта между коллегам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. Возьмитесь за руки, встаньте в круг и хором скажите: «Как здорово, что все мы здесь сегодня собрались!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604800" y="425520"/>
            <a:ext cx="11217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инка шуточные вопросы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 может двигаться со скоростью  машины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ездят машины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ехал в Москву, а ему навстречу ещё два автобуса. Сколько автобусов приехало в Москву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между лейкой и пожарной машиной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между пожарной машиной и свечой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ошибку совершила бабушка Красной Шапочки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сказка учит детей тому, что нельзя впускать в дом незнакомых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авило нарушил Кай из сказки “Снежная королева", когда зацепился за сани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9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правила безопасности не знала царевна из сказки А. С. Пушкина “Сказка о мёртвой царевне”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9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оизведение учит детей слушаться старших, не уходить из дома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463680" y="309600"/>
            <a:ext cx="1018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Назови быстро! »     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иночного конкурса вам  понадобятся ваши знания, быстрота реакции и внимание. Предлагаю встать всем в круг и пройти разминку  «Назови быстро! ». Ваша задача быстро передавать жезл рядом стоящему педагогу называть любое слово, относящееся к возникновению опасных ситуаций. Я начинаю – дорога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анспорт, огонь, вода, электричество, гололед, сосульки, спички, газ, утюг, ураган, улица, собака, бомба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604800" y="450720"/>
            <a:ext cx="10922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жизненных ситуаций являются для ребенка опасными. И наша задача их предугадать и предупредить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коллеги, напоминаю правила нашей игры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ть слушать других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батывать общее решение вопроса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имать активное участие в игре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ать культуру речи и тактичность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держиваться отведенного регламента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так, мы продолжаем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самая уязвимая категория населения. Максимально защитить их от возможной беды – обязанность взрослых. При этом каждый взрослый, в том числе и педагог, должен чётко знать все особенности воспитания безопасного поведения у детей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открываем первую страницу книги безопасных наук и предлагаем вам ответить на вопросы теста, бланк теста у вас на столе. Отмечайте правильные ответы галочкой на ваших тестах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811080" y="244440"/>
            <a:ext cx="10650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 служба "101"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на определение знаний противопожарной безопасности (10 вопросов, 20 правильных ответов, за каждый правильный ответ начисляется 1 балл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ыбери предметы, с которыми можно играть безопасно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енгальские свеч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люшевый медвежонок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пичк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деревянные кубик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зажигалка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резиновый мяч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ыбери предметы, неправильное обращение с которыми может привести к пожару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электроутюг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нарик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стольная лампа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диоприемник на батарейках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елочные игрушк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электропаяльник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669960" y="231840"/>
            <a:ext cx="107535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Если в доме вечером отключили электричество, чем наиболее безопасно можно воспользоваться для освещения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пичкам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вечо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ажигалко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фонариком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акие из перечисленных жидкостей огнеопасны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ензин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молоко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лей резиновы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к яблочны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лак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ие надписи предупреждают о пожарной опасности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Вход воспрещен! 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Не курить! 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«Берегись автомобиля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«Огнеопасно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5T03:20:43Z</dcterms:created>
  <dc:creator>Лариса</dc:creator>
  <dc:description/>
  <dc:language>en-US</dc:language>
  <cp:lastModifiedBy>Лариса</cp:lastModifiedBy>
  <dcterms:modified xsi:type="dcterms:W3CDTF">2020-03-15T09:58:40Z</dcterms:modified>
  <cp:revision>20</cp:revision>
  <dc:subject/>
  <dc:title>Педагогическая игра «Страницы безопасных наук»</dc:title>
</cp:coreProperties>
</file>