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D1E-9ACB-4047-84DA-70FE66FA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46D-DB78-4467-85A4-3004FBD2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E65C6-C8E6-480F-9593-01BAF530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9D074-423F-4B7C-B600-7364DFD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08F43-37D0-4C56-A69D-A65B9B4C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83D64-0FF1-4D68-B709-BACF317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20C2F-FA75-4746-B5D5-BACCBE4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2D304-308B-4036-ADAC-F4393A06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8C1D7-0AA5-43B0-B398-1B477D18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72484-5464-4CB7-BA63-EBE70D9D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A8410-39FC-4349-BE7E-102984F4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5152-D6B5-4784-A030-B2EBDF88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551-5512-4CDF-B148-7A955FFF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64029-940D-42AC-8ED3-FB00ED7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BE8C4-598C-4004-816C-EAA3EC67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314E4-D69A-4483-816E-CA478B5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8704C-A09E-499B-9C67-0CC34A36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5315A-B2CF-48AA-9B0C-C437DF3A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7D5F2-FA76-4AA1-A1A5-597D873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9E383-8AAB-4A83-A892-3FEF1C3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4112-4B40-40C3-97B7-2153314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DCB74-B9F5-4D44-80A7-473681C5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36A97-19FE-4D5A-8774-41B9A91B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EC0-1EE1-4DD0-A82F-90DDB858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EFAEB-11A0-4D1D-BC62-7F28C6A0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7ECB4-BCE3-4CDC-94A5-FEA407E2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D5E11-29A5-4A82-BB71-E4487607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D0540-AC8B-4C9C-8193-C4C70597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ED828-5815-405D-843A-335C3AE0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DEBB5-A337-42A8-B0C2-E900CBA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C329C-E945-4000-B56D-A38BDF51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EF579-0023-4743-A82E-BF1AC63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E3963-5394-4800-8741-4D8D345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78DE-54DC-4993-B592-727FF1E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788-AD39-45AC-BC04-DA311C70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024CE-7946-414A-8AB1-D71F2AD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8CCD6-EAEC-4635-BCC5-30154256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26677-FEA9-457A-9291-FBD01845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80492-B8F6-49ED-A4DE-303303E9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AA58-F2C8-424B-B1B6-110A908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56312-64F9-4FDE-A5CD-17FAC599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6C6E2-EBAE-4150-94B4-F2812CEC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8D184-A785-463D-89D8-CE3661F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149DF-5E2B-4D73-8B8E-E1AF9604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AD789-EC64-4B37-BD4C-AD0DDAD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C195-EA4F-453D-9433-E6342098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E80D5-9323-4384-8C44-3B8D1E4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1C9A3-25FC-4EFA-8163-FA770F79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1F4EB-6023-45F9-9F0C-126F8DAB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1059F-B57E-48EA-9E49-1C153407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894F3-B6B8-45AE-8D7F-812E7336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81363-07AF-4C09-BEF8-2B574D64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D560B-1413-4E5D-A68D-EF5C7BD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AF5F1-43A6-4595-9C56-0217AC1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E784C-9558-48ED-99DA-D8EA35C4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61B7F-4CB8-48F4-B36A-84DA7D6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0EB-0007-4F60-8BDF-9EC407E0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94749-AEFD-401B-B35D-F5D4DA3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10A1B-5620-4205-85CC-C8260B1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8570E-40F9-43FC-9D37-4756B89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CD7AB-213A-4E2E-BF81-6CA783C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4A713-76FB-4A82-A7DD-256C2CE5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03441-26DE-4BA2-AD4E-E7D6D82A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9EFCE-B577-45AB-B40E-F2E6E7B8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66659-511C-4F69-BF5F-E28E8669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CAE9C-3C42-42D1-9E92-A1100D7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CC975-19CA-4211-8E5C-C865A2D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D018-D3FE-4908-8A7B-45A21C9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51405-1478-47E5-AFC6-416FB45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E8CE4-2D16-4767-9AF6-A71ABE91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4170D-EF14-441D-85B0-85848952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6166C-8553-4179-B2B5-1186D59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79CF8-DB19-4DF2-9F85-0C24CDDC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4AA44-A7CA-4CB1-B1F7-14B5229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765DF-1DF4-452E-B815-60D9023A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C8A8E-A6F9-4310-A1C1-9C20F984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83A20-5808-428F-86DA-2BD7839F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E761D-A0B7-4AF8-8756-CF7BD0DA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B08E-39E3-42CA-A355-292149B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C0520-BD79-4920-95FA-0B444E8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C611A-A6AC-4D8E-AF6F-DDE57327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E36E9-EBAC-4D34-BE9E-2A8D575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1A533-DDA9-4E91-987D-70A34A53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3E1A8-BB73-44D7-BCB8-F423E17F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E66C9-9030-4099-B57E-1F736AE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97AC7-7362-4DA4-BB32-BF0C8B5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C9F78-ED79-41D5-9636-9143E31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1E70E-3AB8-4EDF-BF6E-1E0E0F0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C1DF3-7540-470C-8B2F-D5847E15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76C-6B04-47F3-85AC-EE96E39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EB8EE-BED2-478B-9326-42636A39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48F12-3398-4BD4-9D42-1A962B7D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FF58E-3F55-4180-9A3A-33B43D43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F792A-D126-4A84-B355-B992F5EA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24E79-C450-4077-A3D8-419F561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395BA-69E2-4066-B07E-1B80178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504FC-3080-4BBC-AFAB-8CFF30C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654A0-1FB7-43E2-B39B-1DF60896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21ED0-2CB5-46E8-8903-0028D4E4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5134F-72E5-4FB9-BC82-954C60E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8D87-178B-4553-86A8-361957C9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6D56D-A74B-43A5-A710-176E33A9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36068-A840-4D5D-A94D-55FF0C5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BDC97-4332-49BD-9C23-D38460A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B98B5-BAD4-43B1-94E4-38821687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840BC-788E-4A51-A56A-F1FA8B01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F7015-F8D8-4E62-98E8-6DEC9D4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C5355-A646-4ECA-BAA7-C072898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B346B-91EF-4976-9F4C-B56800AB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208B5-137A-4BE6-9C74-82A77EF3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A6614-90A2-4C59-82BA-25BD036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B92-BEE5-4070-A723-786634F4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D4F0-8E5E-4C5B-AC18-F32A5D8F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07975-C355-4D81-BADD-BF21BE5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8CD1E-D161-4ADF-82D7-381D6FB1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5E260-22EE-4A72-8CA8-8B38F8A8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64C5E-6274-43EF-BBDB-071679F1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DD7FE-5898-4EE3-9416-3410D790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BE678-C82B-45FA-9D4B-C006A31D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1B224-A745-4C6D-83E8-7111655A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5CF02-4618-449A-9DAC-2EABEC47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10D9C-221F-4BF4-9BF9-5A507B5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322FE0-B0D3-4C0D-BCB2-EF71A1F5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839D-5565-434C-A3B8-F687988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2C0C8-1F74-44A5-9E42-3C55081A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6E170-8DE4-4FB8-A9D4-0122973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F4E59-BF62-41F9-9B45-37A8592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98798-88D2-46B2-9818-61275C1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9993B-4F35-4651-A819-207C8EA7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FAFE8-F6C8-40BF-8534-B718A52D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2BD8F-555D-4B0A-AD92-EDDAA1F2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7F003-E619-4C9D-9EC2-B530C4A2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C3D04-C43D-4877-8572-DAB5DC29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29CC0-F445-4AC5-8759-9855683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BD90-4E2E-4663-B5A5-05D2799E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2F5BD-108B-4B89-994A-2850366F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BB30E-CE67-4429-8341-54204D19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707B8-3E2D-45CF-8104-BCD79912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42191-B63A-4FFA-9BEC-D19D8C8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B88BF-3060-4787-8D68-1F07827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E52FA-FE3D-455A-B692-EB3EC384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3701B-C0F5-4C9C-8FD6-31AD5E7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86B55-4789-4E61-9523-D6420CB8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F199C-F8DD-4924-8600-544D1EC2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5CF3F-BD3C-4AAC-839B-501FCCB1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5C1F-B093-4774-B088-67064DD6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18B72-A9D1-4872-9DAF-EE2B63A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2CC2A-8A15-472F-B97B-D2B5D89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AD071-C88F-4854-B551-ED899D6D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7D271-AE99-47BA-AA16-1DE331C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2819B-CFA3-4026-AF73-256A6B4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6C44F-40FE-4DD5-90C3-F1881C3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CCF2C-1EDB-4FA7-96F5-D6634DB8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19C8D-FE7A-498D-A5C4-F58E1F6F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1916E-C48C-4441-B1B1-5FD7E4C5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2C734-A760-4FBB-AB94-FCF1CBEB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4BE6-9189-467D-B9A8-053DA13C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1CCAF0-3CBD-435D-B665-E4B8421D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B6A80-51A4-446C-A8F6-75E67CBD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A4207-C6FE-4D3E-823F-AFEF7605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FE650-BF40-43F7-9B00-D220600E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71C47-3DA2-4C27-B720-DEF1734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C30D0F-E813-47AB-979B-785E27E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D1891-63BA-488F-A0D4-E5B5162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C3A9E-EA93-47D6-8D31-004788A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D818F-8730-4B6B-BA88-9FE0871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F3BCC-3E4A-4E72-9014-F50CAC6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2573-A902-4DDC-AA09-37AA36C1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DC6A5-3BF5-4894-B397-D96642B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28368-F02C-4501-A384-ECAD3E11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B794A-0C64-406A-9334-1D6BC5A1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1C2AE-1DA2-421A-A0B6-4C05D0C3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2B5AC-8957-4E5F-AF64-6AD72873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1A73B-7D00-4EE5-A118-BACF17F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3E1B70-3D93-473F-8FDF-8BE454D8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458B3-779E-4AC5-B89C-22768099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E1B2BF-D3A9-4FAC-A830-03A8C6F7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17F47F-CA26-42FF-ACFB-555A66B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554F-CC9D-4238-887F-B80EE389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BE91A6-0344-4B7F-88B2-AD7C363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4F507A-E21E-4EE8-8F46-E8A2A9E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7784F-1CA7-4FD4-A575-D67B1D0F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451ED6-C7A5-48BF-99B3-84462EA7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A75014-2A04-463E-B30E-B45EC543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5942-742B-4801-834C-D0062F48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4F56-4BF3-4AA1-9D29-FE36C698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B055-D87A-4600-ADBA-7665B34E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CFD-DDDC-4058-824A-E3147943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23B1-FF1F-4229-B96F-9B77875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C815-88E6-49CD-B142-D5E8E5E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0592-72BD-4561-8D30-3A5BB75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DCB2-22D0-4B00-B4DF-9AA29F9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1AA2-BF31-4647-A6A8-7A374C69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14E9-3DEB-4A1C-9DFE-B0ACB2E0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01D1-02EE-4E79-BBAC-6CC6E358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60C8-BCFE-4B58-BF79-D4FB2C5F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B3E1-4123-48D5-BC68-CCA0E726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B6CB-E383-40A6-B746-440D29D2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C6F-6452-441D-BF7B-06080A2B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D2B7-19D8-48C2-A18C-44581E32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2C4A-E835-4D2A-97D5-5A0B454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9CAC-5C33-4ADC-BEB7-76931699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1DBE-B60E-4BDA-81A1-DC1F3B2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A189-E260-478C-B0E1-53A039F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3EBA-D0DE-4E61-AE63-A9BA53D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B897-E190-4B17-80B4-D152A405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B2E2-82A9-48C4-A635-BB7478CD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7E1D-F667-45D0-88DA-E8FEE4DC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C26A-0710-4A50-AB4A-6C1E36AC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BCA-582E-4696-AFFC-FB2EE68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DCD6-A08F-45B0-B25F-B83D0AD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9C5C-02FD-49ED-B595-A3C822FA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26E71-09F6-4F6D-832F-171DEFA4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51B6-5F7B-40D5-ADB7-2F704BFC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6AF2-EA03-4160-B630-074B7757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0CABC-0088-4A39-A7BD-547B7D8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D6ED9-36DD-4516-B408-F3CFFDB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479D-8D1C-4BCB-B4F0-BAE348DD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79B6-71B1-4737-AC4C-7A81813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9D3E-EEEC-486D-8EC7-D0127280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F82-9389-41D0-9A58-D4C679F1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EC88D-8076-469D-8D0F-61147C80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7584-23C0-43A1-A19E-D1137524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CD4A7-B41C-4B9B-85A9-8C1C9CE5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7C0B-0E6F-40D8-8CFC-3DED2C1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C27AD-895D-4B11-AA44-7787F971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8C1C-2E20-4F07-9DC4-C0BCFC0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14A4-351B-49F3-BA67-305EFE1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2064-4122-4CEF-A285-EF401990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472A6-06F2-49FC-BE05-E150694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26B0-3A5E-491D-9AE9-99063BD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7FF-DA90-4B4F-A8E3-1E21531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0351-165D-4773-AD91-0F354C76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C025-8DCD-4381-9B15-5EF53983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9C040-A8A0-4E1E-B1AC-DF51FCD5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61FE-A984-4724-BE22-4CF161CD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FC77-C801-4ED7-968C-9BC171CC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D365-5EF1-497A-8AD7-3DB01152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8487-D7AD-45F0-8EBA-9AD98A2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72EC-1BF8-4882-8848-7E2A706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6282-5553-4E64-85F4-DD0E9CD6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0E618-5160-4DCA-BB29-93B6E78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00C-736D-470F-AF34-58430D1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B880-930E-4D74-AB11-7E4B4A7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E71A-9285-4E36-BBFD-20DA4A4A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830E-A0C3-4FED-AE1B-7CC5839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0A4F-7B33-49F8-8851-C02425AC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EAAC7-FDD8-4E4A-A58E-CAA5C6F6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CAE3-8C31-4B98-BC26-0E1D5493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A103-C296-4886-9470-BF47A6D7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B6A48-C436-46C1-B4B7-4DBB857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2207E-2812-4AAF-B4C9-55E0D858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DE05-30F3-4DFA-9263-0F5C6DC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9B1-E093-42C8-8AA8-EAAC8BD1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EDBD-25BE-4FB4-A255-1120A635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DCA0-BEA3-402E-90AC-2A75357C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F68F-069B-4C65-BBFA-8B1E2A49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08A60-BC7D-4734-8A76-D6AFA6D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DCF3-24AA-45E5-82D9-16C05AEE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BE0D-6CB3-4E51-BBAA-CA5E32A6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4993-AF6F-49DD-B7B6-8A86B6FF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082B0-CF85-498B-AE3A-6654FEAB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2D8F0-5168-4EF3-8F13-DAADC97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A53BF-263C-451A-8EE3-247D4D58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CF02-1BE0-48CA-858A-C363E567DD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22C4-66FD-4BAC-B68F-CA5D9424FC2E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775F-9ADC-44D3-8194-B2E2BCB49A59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BC7D-FA68-41C6-92E5-5C9F6BB3F242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38E-EA40-4B61-9EBB-C7735889699F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D3B-462A-4680-84D5-DEF1F111FEDC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2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340-DED3-4628-A640-E81C5D226E43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0B6F-31D2-456D-9E7D-5112C838306A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51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998-C679-4A54-93FC-7C317FA2F0AD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302-350C-4018-B473-6D59398039AB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C43-FFD1-4A1A-B80F-BEB372833A6A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FE52-F7AE-4116-A0D2-0E8B2E6C7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 type="sldNum" idx="6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0868-6900-4FBC-8134-D1F4942EA733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906C-E48A-4617-9140-F6E8AAACAEDB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1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2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D0E3-E25E-424E-8C4C-728FD1B6E05D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F37-DDED-43BF-AB23-A94DA7534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6789-09CC-4183-96C4-20126491BB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halloween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F32-B47C-43DB-BD67-565865860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halloween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69C3-FF63-4C2F-9E89-AC8F1FA336D7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652F-22A5-40F0-8F45-41CF65067528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93A-B11B-430B-82A4-F4127449FD85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4D96-0993-44A9-93F4-6A5EA2AF4E88}" type="slidenum">
              <a:rPr b="0" lang="fr-F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3010"/>
                </a:solidFill>
                <a:latin typeface="Century Gothic"/>
              </a:rPr>
              <a:t>Подготовка к ОГЭ по русскому языку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3010"/>
                </a:solidFill>
                <a:latin typeface="Century Gothic"/>
              </a:rPr>
              <a:t>( работа над тестовой частью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1"/>
          <p:cNvSpPr/>
          <p:nvPr/>
        </p:nvSpPr>
        <p:spPr>
          <a:xfrm>
            <a:off x="395280" y="-462240"/>
            <a:ext cx="8353440" cy="67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Анализ средств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3010"/>
                </a:solidFill>
                <a:latin typeface="Arial"/>
                <a:ea typeface="Arial"/>
              </a:rPr>
              <a:t>В каком варианте ответа средством выразительности речи является </a:t>
            </a:r>
            <a:r>
              <a:rPr b="1" lang="ru-RU" sz="2400" spc="-1" strike="noStrike">
                <a:solidFill>
                  <a:srgbClr val="a53010"/>
                </a:solidFill>
                <a:latin typeface="Arial"/>
                <a:ea typeface="Arial"/>
              </a:rPr>
              <a:t>фразеологизм</a:t>
            </a:r>
            <a:r>
              <a:rPr b="0" lang="ru-RU" sz="2400" spc="-1" strike="noStrike">
                <a:solidFill>
                  <a:srgbClr val="a5301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Много историй и сказок знал дед, но все сказы начинал и завершал удалой или грустной пес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Родители сами понимали, что по их стопам я не пойду, и даже не намекали на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Яков кивнул сыну и, повернувшись к портрету, п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нял смычок, прикоснулся к струнам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Я понял, что судьба моя висит на воло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3"/>
          <p:cNvSpPr/>
          <p:nvPr/>
        </p:nvSpPr>
        <p:spPr>
          <a:xfrm>
            <a:off x="395280" y="404640"/>
            <a:ext cx="25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Задание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Прямоугольник 1"/>
          <p:cNvSpPr/>
          <p:nvPr/>
        </p:nvSpPr>
        <p:spPr>
          <a:xfrm>
            <a:off x="250920" y="333360"/>
            <a:ext cx="8393040" cy="73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ного историй и сказок знал дед, но все сказы начинал и завершал удалой или грустной пес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Родители сами понимали, что по их стопам я не пойду, и даже не намекали н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ков кивнул сыну и, повернувшись к портрету, поднял смычок, прикоснулся к струна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Я понял, что судьба моя висит на вол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ти по стоп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последователем в каком- либо дел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еть на волос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ходиться в крайне опасном по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03280" y="598968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a53010"/>
                </a:solidFill>
                <a:uFillTx/>
                <a:latin typeface="Times New Roman"/>
                <a:ea typeface="Calibri"/>
              </a:rPr>
              <a:t>Задание 1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Calibri"/>
              </a:rPr>
              <a:t>          </a:t>
            </a: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Calibri"/>
              </a:rPr>
              <a:t>Запишите  предложение.</a:t>
            </a:r>
            <a:r>
              <a:rPr b="1" lang="en-US" sz="1800" spc="-1" strike="noStrike">
                <a:solidFill>
                  <a:srgbClr val="a5301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Calibri"/>
              </a:rPr>
              <a:t>Расставьте знаки препинания, объясните их постанов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читателя (1) не утратившего ещё живой связи с дуэльной традицией (2) и (3) сумевшего  понять смысловые оттенки (4) нарисованной Пушкиным в «Евгении Онегине» картины (5) было очевидным (6) что Онегин любил Ленского (7) и (8) целясь в него (9) не хотел ранить. 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3"/>
          <p:cNvSpPr/>
          <p:nvPr/>
        </p:nvSpPr>
        <p:spPr>
          <a:xfrm>
            <a:off x="395280" y="-36360"/>
            <a:ext cx="87487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итател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тратившего ещё живой связи с дуэльной традицией (2) и (3) сумевшего  понять смысловые оттенки (4) нарисованной Пушкиным в «Евгении Онегине» картины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о очевидны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6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 Онегин любил Ленского (7) 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8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ясь в нег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9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хотел ранить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 5, 6, 8, 9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-360" y="213840"/>
            <a:ext cx="85726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читателя </a:t>
            </a: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утратившего ещё живой связи с дуэльной традицией  и  сумевшего  понять смысловые оттенки  нарисованной Пушкиным в «Евгении Онегине» картины </a:t>
            </a: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было очевидным </a:t>
            </a: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 Онегин любил Ленского  и </a:t>
            </a: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ясь в него </a:t>
            </a: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е хотел ранить. 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9" name="Прямоугольник 3"/>
          <p:cNvSpPr/>
          <p:nvPr/>
        </p:nvSpPr>
        <p:spPr>
          <a:xfrm>
            <a:off x="250920" y="2500200"/>
            <a:ext cx="8607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3010"/>
                </a:solidFill>
                <a:uFillTx/>
                <a:latin typeface="Times New Roman"/>
                <a:ea typeface="Times New Roman"/>
              </a:rPr>
              <a:t>Задание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Синтаксический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Укажите правильные варианты от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ыло очевидным- одна из грамматических ос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предложении присутствует союзная         подчинительная св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умевшего понять- одна из грамматических ос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редложении 3 грамматические  осн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предложении есть составное глагольное сказу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TextBox 1"/>
          <p:cNvSpPr/>
          <p:nvPr/>
        </p:nvSpPr>
        <p:spPr>
          <a:xfrm>
            <a:off x="428760" y="285840"/>
            <a:ext cx="85723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Было очевидным- одна из грамматических ос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В предложении присутствует союзная подчинительная св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умевшего понять- одна из грамматических ос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редложении 3 грамматических осн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В предложении есть составное глагольное  сказу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2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Прямоугольник 1"/>
          <p:cNvSpPr/>
          <p:nvPr/>
        </p:nvSpPr>
        <p:spPr>
          <a:xfrm>
            <a:off x="611280" y="1052640"/>
            <a:ext cx="624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395280" y="622080"/>
            <a:ext cx="87487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3010"/>
                </a:solidFill>
                <a:uFillTx/>
                <a:latin typeface="Times New Roman"/>
                <a:ea typeface="Calibri"/>
              </a:rPr>
              <a:t>Зада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3010"/>
                </a:solidFill>
                <a:latin typeface="Times New Roman"/>
                <a:ea typeface="Calibri"/>
              </a:rPr>
              <a:t>Синтаксический анал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3010"/>
                </a:solidFill>
                <a:latin typeface="Times New Roman"/>
                <a:ea typeface="Calibri"/>
              </a:rPr>
              <a:t>Определите вид связи в словосочетании « дуэльной традицией»,  замените словосочетание на синонимич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адицией дуэ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Прямоугольник 3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-360" y="333000"/>
            <a:ext cx="85042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Задание 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   </a:t>
            </a:r>
            <a:r>
              <a:rPr b="1" lang="ru-RU" sz="19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Орфографический анализ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9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Укажите варианты ответов, в которых дано верное объяснение написания выделенного слов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</a:t>
            </a: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утратившего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ещё живой связи с дуэльной традицией) – не с причастием всегда пишется раздельн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Нарисованной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– в причастиях, образованных от глаголов совершенного вида, имеющих приставку и зависимое слово пишется –нн-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Не утратившего) связи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в существительных 1 склонения предложного падежа в окончании пишется – 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С) традицией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после ц пишется –и-, так как это слово на – ция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) дуэльной ( традицией)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авописание окончания имени прилагательного определяется ударным окончанием вопрос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TextBox 1"/>
          <p:cNvSpPr/>
          <p:nvPr/>
        </p:nvSpPr>
        <p:spPr>
          <a:xfrm>
            <a:off x="571680" y="428760"/>
            <a:ext cx="821520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утративше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ещё живой связи с дуэльной традицией) – не с причастием всегда пишется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Нарисованной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– в причастиях, образованных от глаголов совершенного вида, имеющих приставку и зависимое слово пишется –нн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 утратившего) связ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 существительных 1 склонения предложного падежа в окончании пишется –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С) традицией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после ц пишется –и-, так как это слово на – 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) дуэльной ( традицией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равописание окончания имени прилагательного определяется ударным окончанием во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 4,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0" y="475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Задание</a:t>
            </a: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 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Лексический анали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Подберите синоним  к слову « с традициями» из записанного предложения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верьте</a:t>
            </a:r>
            <a:r>
              <a:rPr b="0" lang="ru-RU" sz="3200" spc="-1" strike="noStrike" u="sng">
                <a:solidFill>
                  <a:srgbClr val="a5301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- обычай, норма, правила, устои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Михаил Сарычев</cp:lastModifiedBy>
  <dcterms:modified xsi:type="dcterms:W3CDTF">2020-04-18T09:48:18Z</dcterms:modified>
  <cp:revision>302</cp:revision>
  <dc:subject/>
  <dc:title>Drag&amp;Drop Macro: Easter Eggs</dc:title>
</cp:coreProperties>
</file>