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665-3CA4-48C6-9C9D-51E7A701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B47-932B-4597-9A0B-4F8BF2FA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F042B-3BAA-438F-A303-0D4342E2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D643C-E608-493C-AE20-2FFAE41E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52851-C1E9-4B7E-98A6-44A3B0F1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C996F-8513-4096-8844-8784250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1007E-3A75-4315-9356-DE8810D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86185-343A-48C0-A74B-B0D4A5A1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D79B4-FE44-4E04-8BF1-B3A0F876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E57B4-9722-4296-BD0E-02BD91D7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1E064-F3F5-439B-8BEF-D57B0030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197EE-648E-4257-9B49-9D056F21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0F8-A5F5-44C1-89D2-777AF665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A7C18-4B0E-4587-9881-CDF2FCBA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123B3-207E-4807-B397-AFD48F2D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D8F33-0881-4AAA-B196-7ECAF87B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E2B0D-3B21-473B-9F1C-B8161E75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E573D-9B1E-47E4-9268-7B61DF91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223AA-12EA-4EDD-85C1-6CAEBA5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D1B31-7335-452E-92E7-9EA2264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A4A5B-BFA7-43CE-A453-8E327F33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38895-7354-4D84-8557-15C06798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CD0EC-8134-492A-B7D0-80C18211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6E9-02EF-47B4-9167-70771D9A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0234D-F5E4-4ED6-8905-069FC99C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CC8E2-9332-4642-889F-C6FAF452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7CCEA-8BEA-4341-B4FD-876600EA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5530-EEC6-46CE-A2B0-215EAADA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A2D0D-62E1-4E1F-ACC5-B6CDBD4E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40FEA-C85C-4399-8463-237B1BDC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21A78-4648-48FB-8551-BCE8D414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F0C7E-FFE3-4D51-B32A-C68263AA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80E0D-AAF4-4FE4-A157-E285002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42610-ABDE-4DFA-A91F-4DED446D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8A81-1502-41C2-ADE7-B3C1D03F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46658-5B76-4853-839C-97FDD86F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4B201-29FB-4999-9DCD-B37D6A8E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0FBE3-9C02-433C-A9C6-345D7E49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76169-6766-47EB-B53C-8237232A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56A81-813E-4B83-9222-250EE57A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E7FF1-8999-4F2D-9EE9-95DF9D6B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74629-80A0-46E2-AA80-176E113E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D7385-11C0-449A-9DD8-EBA62440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90B09-5376-4D9A-BBA3-5E282961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AB23F-1E52-4C37-BFF8-D3697A6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E504-D1C1-4281-8E69-CCE8C07D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EF29A-3BFF-4A78-AF1C-777F4505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7708D-FB9E-4F10-8BB7-2DC9F90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CDA75-B98D-4E96-AFD3-C6BD2878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A29A5-BECC-476D-936A-E514B4A3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18512-D499-4D43-9A94-50A0E834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1BBD8-E0A7-4B65-9BBC-D681D66E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2EADC-4E5E-4D41-AAEF-19989C4D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DAB7A-BC77-4D69-B455-147CD2D8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A686E-6547-4C58-A005-4647DD7E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5BF1D-EF06-4AD1-BA73-3600844B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F5C0-2ECC-4210-9657-3605230E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630D2-7899-473B-8E36-816112DC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A0807-7D4C-496A-BEB0-89F624A8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D53C8-B2F0-4BC7-9583-0EA27531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80874-1655-4CCB-97FA-1BC234B1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64011-1A92-42AA-96C8-68C628A7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CF197-E217-46AD-98F1-4BF81F2C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5DA02-46C4-4678-9544-4AC14B87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D992A-FE85-40F1-82B9-DA7A8B87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18807-F776-4216-B13D-A873D76E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669F2-8E94-4EB0-9EDC-AC571B00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C1C4-72D6-475B-83A8-911F2193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5710B-D78A-4591-A05F-133F93C5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BD66E-37A8-4EE6-83DC-A830A291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48E8C-E968-4F46-B00E-1378F15B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A08CF-B87D-483C-B2B7-7C1261A0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A3D74-6BB7-4747-86CB-62C5F8B0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91839-246A-4AD9-8D35-94F344F2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75E97-90B4-4545-8245-A57ABD85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9706C-A960-4F0E-B5F4-FF00CF5E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E8676-E4B5-45A3-B715-611B0C48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B4BED-3A64-4A83-A721-6686D9EB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1DE2-AC6A-4AAB-A540-37F8C7CF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0FC01-1807-4981-B411-C2441D21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7E3DD-2EF4-4276-A2B5-F34D93A2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4A3C0-E7B2-4E1D-B296-84A7182E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91164-17E3-4B56-AE94-74D0BAC0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671EB-B108-4D88-AFE7-8E444A63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9A378-98D1-4235-990F-0DD70208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7FC56-430F-4B41-A720-459DFC83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F6EE7-0F01-4374-926C-84413923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6C9A6-F2EC-4347-8D69-9AAEB324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E79EE-C351-465B-8081-A5DBED9C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1D0E-0E9A-4848-8EC8-710D6357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80DEB-EBC2-4E51-B049-B610D815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B9659-C576-4820-A4BB-B290A044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35CDFE-E757-4EE1-B45E-39A7029C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FD13D-0B27-457B-9E9C-C6324BA3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0E91C-40B4-4FFC-AEC0-43ADF535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B17A2-A782-4B3C-ACC9-73A0E3A1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1F39E-B17E-4194-A4AB-C4E0EE3B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99535-A032-4C3A-A3D4-45FBB21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7BC2B-B51E-4438-B811-96340755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A6836-CD5A-4614-8947-3CB8C7C5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CCAD-6154-4F3C-8689-A9CD531E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AC61D-E30F-485E-A1B2-F26265DB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F0932-3C33-4197-81AD-65752AD6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6E6B9-EA2C-4979-950C-73206F71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DF50B-CC71-4564-96F1-1CAC4FD5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A6C89-9695-47E0-A54B-71C1695C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E5A79-184A-4B99-87E8-F677E68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FC4C5-AFD1-4EE6-9778-F7B50D0B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5D496-F387-47D0-A260-E0907EF4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F9186-8BE3-4D7D-8850-93CD6BD5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C584F-E818-408F-958C-374643B3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E41-F4C7-42B5-8539-5409DE0A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04EE-361D-4CD0-9692-AFF5346F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F5A43-02E1-4007-B821-8C7D28E7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BDD62-13FA-4112-BEDD-4B6B0C5E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A6DC2-91B4-4482-BF44-F1B827EE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4430D-2759-4347-99A0-1CB3872E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86B41-0659-43C8-ABBE-9996F405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F3880-5E77-4A44-BFCA-F71B3192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67929-C152-4E8B-AF6C-04B1751A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0ACA1-7E14-4EDF-991A-334EE8E2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AAA4DA-17B1-40DA-A2D7-C3CD2EB3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D6654-DE25-48ED-A5CF-25C4A8E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F642-4F3A-43F2-BFBB-8995CBC3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346063-39C4-4C84-99A3-0D1C74C1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92C8E-285E-4609-8E72-2B92EC68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E2506-A37D-481A-8374-95B86C65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DA342-5E25-4B1C-BC76-AEC9FD67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7D642-33E8-4657-9B31-F96049DD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61F32-F135-482F-BBDA-D9B3DDD8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890C1C-A956-432E-A5E7-495287CF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EFD9B-61FF-4331-987A-CBBEF7ED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5E6D8-5D83-4D11-8567-2E69E052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3D779-9B90-4976-82BD-9AF41730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8E25-6F56-46B3-8F26-75BC65FA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1B7100-9A7E-4EFB-A366-058BC0B8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4431E-638A-41BE-BF80-899FD030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2B5EBE-8910-4E50-B3D8-C0317FEB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6935C1-E394-4933-B6A7-B502680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20C8C-461C-4C2A-A474-9B9D566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C7F337-354D-439D-87E0-232B0D53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4486E-5D4B-4970-BDF8-944A2869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DAA3A1-C83A-47DF-AB5E-B96D09C0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69227-0896-45F6-B96F-526B5CE1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9A09A-860D-43B4-9C66-1B4B688C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5E32-147A-4883-BB3E-DCEC0076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ABC144-A900-49AF-8A46-9570129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6FE93-EBB6-4AF9-AB35-AB02D511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A056AF-02F4-4782-A8B4-E8287777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BD76B-C3D9-4D42-8970-5F33426F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7C0DD6-F282-46D2-BB0B-F7EC0E1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AF8BB-D82E-4976-AEE1-3FF9F8C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1E8950-0D3B-4C81-9E5D-B885E43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7B9B1-4D61-4520-8A26-76B179EB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773E5-C677-4C4C-A987-A9B436EB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B17A5-D2D0-42E8-8507-0E6A8D65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A491-32C6-4F92-8B6F-240AE7D4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2B459-6A5F-4577-9ED4-39BE0BB4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D9354-0F68-4638-AD16-44ACF17B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F0501A-E616-4985-AD5C-DA8241A5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D7FCD7-047E-4261-9A4A-46DBBCF0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2D399-23D9-4927-9C4F-BC7F9AAE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14CB71-FDC1-4EC2-9597-0439508A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1382AD-FE75-487B-B14D-D68ADCA8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4B4872-D031-4AA3-A080-2A3560BA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88AF6E-0BA0-4B9E-BF44-2F8BECF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FAD93-4EFF-4BC8-B7FB-1FADE8BB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45CF-547B-40AC-9BF7-E15B0942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241F7D-74ED-48A0-8863-B4E23520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262D6-9C3B-4CEA-AA5C-43B76171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95F022-0EDF-4A40-A197-3DD60A87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14AF22-F9D3-4021-902C-7F634DD9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1C1C6-2B23-4468-BB3A-C11C220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FA2BCC-AA9E-4611-90BE-8BDBEDB7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1F7D93-3C1E-423F-950B-E7E138A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0557BD-D16A-4E13-8BFE-E39FC7DC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039206-A4C6-47CB-9C39-B10BE0B7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CE3B47-8EFC-4A50-AF94-BE0A234B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4DFD-39A1-47F3-B212-D3E3C07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422D4F-92FF-4AB2-AD95-5BEB032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99B863-6BB6-4956-A5FD-A29C1B1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8224B0-780B-4AE8-91C3-A7F3B267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BC9063-5E71-41FF-94F8-0C4CD521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CEC670-5158-4E38-94C8-15C07658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04DE-2273-4DA3-ACA3-2E043091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3721-062D-4FA8-9C0C-26822A67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9915-35E2-4F51-ACE5-558B5A7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267-A7D1-486B-8B89-7CC7F39C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B487-EB3B-4114-8730-5F2B7B5F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4AC7-0E79-4BFC-AFEB-88AA1F12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B211-DAC6-47C1-8E01-EC431B2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13AB-ED4E-41FC-ADCD-62A647F7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B319-8C97-4AE0-B65C-0E5BFC1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CD08F-8A88-4224-BDDC-54C36850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CDC7-3094-420B-95F5-8B03BBC7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806D-B41E-41B5-BBF4-BB9CAB2C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4DB4B-C236-4A3D-A699-FD4116CB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32A8E-93B7-4DA0-A406-1A0BB0DE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6A6-847C-4477-916E-5D74CE49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2BFE-C72B-4884-8562-0045C59A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F88D-6FFF-4AE4-907B-0F4FA389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6FCB4-555E-4DC4-A4E3-4FB5C3F0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3C7BB-D893-454F-8221-9BA70F7E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878C-7CD6-447B-A5F8-21610D2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0850B-BD6F-4875-A987-6F8E17CB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9D21C-AD32-4F30-A189-593A9D65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DECA-79ED-4533-8159-9ED567DD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C317-6275-4FD3-AD6E-410FF3F6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6B4C-0A23-4D65-942B-9E9AB3FA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36B-C082-48A7-8DFD-D448F5B9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EFF2-7CE9-4499-8498-780D0B15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6DED-CB44-4E4C-93D4-D5D2CC06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2E36B-68F5-45CF-842D-33ED4AB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024D1-4C97-49CB-AA45-8B9DB4EC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9742-9E4B-48B6-B7E3-FCE2636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EE266-2A36-4FDB-B784-4A817D5B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A406E-F6F0-42B4-BA66-CC6EE77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2C5E-C46A-41DD-A398-3422830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8DF49-2A37-4809-865F-320BFF60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3248-6444-4A75-BB37-A400AA0E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D2F-B6A1-4D7E-A2E5-1DE67CCB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B8CEC-39D7-439D-8260-F7B61F36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99F3-D0E5-409D-A771-0DFB1C45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05EC-6CD1-4E47-B2F9-0162329D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6A79F-8C61-4AEF-B17F-D65CE343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9CD6A-716A-4437-9468-95EC148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3FA1-37C0-423E-8D10-0D5039CC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C1B0F-289B-4C79-9D97-FC30929E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BB39B-A3D1-46A3-94EE-7253DC56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3BD97-75E0-4CB0-A372-7CFD2AF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92D3A-4040-4A23-8700-B045FD35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7AF-3E33-4C00-8790-95B14BF5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2EF44-58A3-4818-90DF-3DE8B993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F3224-D59F-4BE1-8676-CCE658C6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A917-56B7-4927-B493-0AFA3CF0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BF87B-B488-4269-84B6-C148684C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39FE-743D-4F62-8D43-E70B6592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56202-67D8-4043-A567-DE020531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24A0-08D7-4F40-BE2E-78F8A120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7EFF3-0DE1-406C-942B-F1767A17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45C73-C736-4435-AC5F-181080D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FA21-16D4-4E58-BC55-53B07DA9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BC2-4200-4AD5-A6FB-97F372A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B4DDD-C67F-49A7-BE62-604E5DB0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7E14F-A874-445E-ABD5-4E624DF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9106-ECDA-41EA-ACA4-93CE1886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FACE-508E-483A-920B-81102E15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605D3-B491-4C82-8D2F-40C5AA3B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C400-9CC8-49AE-8FDC-27574384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CB6D-5CAA-48B5-AE1B-5D6ABF81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97583-A2F7-4FD2-B542-B9703F5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9542B-382C-4509-8AF0-F305890B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4EDB0-9A19-4F14-B300-AAEAC3D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E77-500A-428E-B452-71BE1D84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C6213-748B-418B-9312-EB3EF9F9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CF680-2E57-4C28-B984-71E373F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EB3EC-2500-4B9A-B498-D8DA548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1BE1-611A-4B97-B6FF-CF3F80F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EB795-2388-4E9D-BF89-2DB2BC18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FC236-D9F5-4F63-AF57-ED8740DB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71D68-9ABA-4CA9-A34A-36C89006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01D83-CEFF-419A-8DCB-FB832EB4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F02FB-043E-458C-ADA0-6D18D395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FD31C-7814-4AF0-924B-8CCD3B84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8668-A037-47A3-96AA-E5B7509E5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13D4-B2E0-406B-8044-8472CE7BA96E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FEA5-EF8B-4830-A334-0B4671A73B22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BD7F-1F33-4AA4-BC4B-74ED6A03F271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E72A-E62D-471B-9F1D-E5DE5B9EBEB4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6832-0A07-48B5-BE7B-7C12C5413868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2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1912-71AC-49F7-A605-A4DBF97EB4A6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682C-3573-427A-9DE6-006A7C405B1B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9e39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9e39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51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CC4F-F0C6-4C0A-B1E3-7FFB2C8AB205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FA5-A1B6-47F2-846B-29E2841365F4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9e39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9e39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5F0E-0185-4D8C-AE3A-5CB4CA4A1C54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C1F8-21D6-4D4B-8C9E-28A9CBA2AA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 type="sldNum" idx="6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E178-DEB8-4FCD-B4A7-63CE07FDF014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4E87-C4FF-451C-BDB4-D2224DA8543D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1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2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D05F-ADBF-474D-9C96-451AF31257AD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7D39-07A5-44E2-963C-59F87F956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481E-D33F-4840-88E6-E48C30C6A8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halloween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C110-241B-46CC-904C-4D0B38E474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halloween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8152-1555-4639-9CB5-2D0F7A54388B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1438-753A-49F8-B332-71648745033B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FECA-E8A9-4104-857C-72CD4E5F214F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49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45B6-5F89-4C3D-84E9-8A19F8610D5E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9e39"/>
                </a:solidFill>
                <a:latin typeface="Century Gothic"/>
              </a:rPr>
              <a:t>Подготовка к ОГЭ по русскому языку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9e39"/>
                </a:solidFill>
                <a:latin typeface="Century Gothic"/>
              </a:rPr>
              <a:t>( работа над тестовой частью)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549e39"/>
                </a:solidFill>
                <a:uFillTx/>
                <a:latin typeface="Times New Roman"/>
                <a:ea typeface="Calibri"/>
              </a:rPr>
              <a:t>Задание 1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549e39"/>
                </a:solidFill>
                <a:uFillTx/>
                <a:latin typeface="Times New Roman"/>
                <a:ea typeface="Calibri"/>
              </a:rPr>
              <a:t>Запишите  предложение.</a:t>
            </a:r>
            <a:r>
              <a:rPr b="1" lang="en-US" sz="1800" spc="-1" strike="noStrike" u="sng">
                <a:solidFill>
                  <a:srgbClr val="549e39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1800" spc="-1" strike="noStrike" u="sng">
                <a:solidFill>
                  <a:srgbClr val="549e39"/>
                </a:solidFill>
                <a:uFillTx/>
                <a:latin typeface="Times New Roman"/>
                <a:ea typeface="Calibri"/>
              </a:rPr>
              <a:t>Расставьте знаки препинания, объясните их постанов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Солдаты (1) принёсшие князя Андрея (2) и снявшие с него попавшийся им золотой образок (3) навешенный на брата княжной Марьей (4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увидав ласковость(5) с которою обращал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император с пленными(6)поспешили возвратить образок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3"/>
          <p:cNvSpPr/>
          <p:nvPr/>
        </p:nvSpPr>
        <p:spPr>
          <a:xfrm>
            <a:off x="395280" y="56952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верь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Прямоугольник 3"/>
          <p:cNvSpPr/>
          <p:nvPr/>
        </p:nvSpPr>
        <p:spPr>
          <a:xfrm>
            <a:off x="324000" y="1285920"/>
            <a:ext cx="80643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даты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 принёсшие князя Андрея (2) и сняв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го попавшийся им золотой образок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шенный на брата княжной Марьей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ав ласковост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) с которою обраща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с пленным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поспешили возвратить обра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3,4,5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673200" y="404640"/>
            <a:ext cx="8470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" spc="-1" strike="noStrike" u="sng">
                <a:solidFill>
                  <a:srgbClr val="549e39"/>
                </a:solidFill>
                <a:uFillTx/>
                <a:latin typeface="Times New Roman"/>
                <a:ea typeface="Times New Roman"/>
              </a:rPr>
              <a:t>Задание 2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" spc="-1" strike="noStrike">
                <a:solidFill>
                  <a:srgbClr val="549e39"/>
                </a:solidFill>
                <a:latin typeface="Times New Roman"/>
                <a:ea typeface="Times New Roman"/>
              </a:rPr>
              <a:t>Синтаксический анализ.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" spc="-1" strike="noStrike">
                <a:solidFill>
                  <a:srgbClr val="549e39"/>
                </a:solidFill>
                <a:latin typeface="Times New Roman"/>
                <a:ea typeface="Times New Roman"/>
              </a:rPr>
              <a:t>Укажите правильные варианты ответов.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Принёсшие образок- одна из грамматических основ.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В предложении присутствует союзная подчинительная связь.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Император обращался- одна из грамматических основ.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В предложении 3 грамматические основы.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В предложении есть составное глагольное сказуемое.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0" name="TextBox 2"/>
          <p:cNvSpPr/>
          <p:nvPr/>
        </p:nvSpPr>
        <p:spPr>
          <a:xfrm>
            <a:off x="468360" y="333360"/>
            <a:ext cx="8136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да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 принёсшие князя Андрея (2) и снявшие с него попавшийся им золотой образо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) навешенный на брата княжной Марье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идав ласков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) с которою обращался   император с пленны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поспешили возвратить обр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Прямоугольник 1"/>
          <p:cNvSpPr/>
          <p:nvPr/>
        </p:nvSpPr>
        <p:spPr>
          <a:xfrm>
            <a:off x="1071720" y="642960"/>
            <a:ext cx="75009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вер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нёсшие образок- одна из грамматических ос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В предложении присутствует союзная подчинительная свя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Император обращался- одна из грамматических ос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предложении 3 грамматические  осн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В предложении есть составное глагольное сказу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3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Прямоугольник 1"/>
          <p:cNvSpPr/>
          <p:nvPr/>
        </p:nvSpPr>
        <p:spPr>
          <a:xfrm>
            <a:off x="611280" y="1052640"/>
            <a:ext cx="624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3"/>
          <p:cNvSpPr/>
          <p:nvPr/>
        </p:nvSpPr>
        <p:spPr>
          <a:xfrm>
            <a:off x="395280" y="43380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49e39"/>
                </a:solidFill>
                <a:uFillTx/>
                <a:latin typeface="Times New Roman"/>
                <a:ea typeface="Calibri"/>
              </a:rPr>
              <a:t>Зада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9e39"/>
                </a:solidFill>
                <a:latin typeface="Times New Roman"/>
                <a:ea typeface="Calibri"/>
              </a:rPr>
              <a:t>Синтаксический анал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9e39"/>
                </a:solidFill>
                <a:latin typeface="Times New Roman"/>
                <a:ea typeface="Calibri"/>
              </a:rPr>
              <a:t>Определите вид связи в словосочетании «золотой образок»,  замените словосочетание на синонимич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оверь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бразок из зо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Прямоугольник 3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96048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549e39"/>
                </a:solidFill>
                <a:latin typeface="Century Gothic"/>
              </a:rPr>
              <a:t>Задание 4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549e39"/>
                </a:solidFill>
                <a:latin typeface="Century Gothic"/>
              </a:rPr>
              <a:t>   </a:t>
            </a:r>
            <a:r>
              <a:rPr b="1" lang="ru-RU" sz="1700" spc="-1" strike="noStrike">
                <a:solidFill>
                  <a:srgbClr val="549e39"/>
                </a:solidFill>
                <a:latin typeface="Century Gothic"/>
              </a:rPr>
              <a:t>Орфографический анализ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549e39"/>
                </a:solidFill>
                <a:latin typeface="Century Gothic"/>
              </a:rPr>
              <a:t>   </a:t>
            </a:r>
            <a:r>
              <a:rPr b="1" lang="ru-RU" sz="1700" spc="-1" strike="noStrike">
                <a:solidFill>
                  <a:srgbClr val="549e39"/>
                </a:solidFill>
                <a:latin typeface="Century Gothic"/>
              </a:rPr>
              <a:t>Укажите варианты ответов, в которых дано верное объяснение написания выделенного слова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Century Gothic"/>
              </a:rPr>
              <a:t>1. Принёсшие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- в слове пишется приставка при- , так как обозначает неполноту действия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Century Gothic"/>
              </a:rPr>
              <a:t>2. Навешенный -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 причастиях, образованных от глаголов совершенного вида, имеющих приставку и зависимое слово, пишется -нн-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Century Gothic"/>
              </a:rPr>
              <a:t>3. Увидав -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 корне слова пишется буква -и-, так как после корня стоит суффикс -а-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Century Gothic"/>
              </a:rPr>
              <a:t>4. (С) пленными -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существительное образовано от прилагательного путем перехода из одной части речи в другую. В слове пишется -нн- , так как в свою очередь прилагательное было образовано от существительного с основой на -н-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Прямоугольник 1"/>
          <p:cNvSpPr/>
          <p:nvPr/>
        </p:nvSpPr>
        <p:spPr>
          <a:xfrm>
            <a:off x="714240" y="714240"/>
            <a:ext cx="80010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нёс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 слове пишется приставка при- , так как обозначает неполноту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Навешенный -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ичастиях, образованных от глаголов совершенного вида, имеющих приставку и зависимое слово, пишется -нн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видав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не слова пишется буква -и-, так как после корня стоит суффикс -а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(С) пленными -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ительное образовано от прилагательного путем перехода из одной части речи в другую. В слове пишется -нн- , так как в свою очередь прилагательное было образовано от существительного с основой на -н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 txBox="1"/>
          <p:nvPr/>
        </p:nvSpPr>
        <p:spPr>
          <a:xfrm>
            <a:off x="96048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549e39"/>
                </a:solidFill>
                <a:uFillTx/>
                <a:latin typeface="Times New Roman"/>
                <a:ea typeface="Times New Roman"/>
              </a:rPr>
              <a:t>Задание 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49e39"/>
                </a:solidFill>
                <a:latin typeface="Times New Roman"/>
                <a:ea typeface="Times New Roman"/>
              </a:rPr>
              <a:t>Лексический анали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49e39"/>
                </a:solidFill>
                <a:latin typeface="Times New Roman"/>
                <a:ea typeface="Times New Roman"/>
              </a:rPr>
              <a:t>Подберите синоним  к слову « образок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49e39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Проверьт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разок-икон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Jo Rhys-Jones</dc:creator>
  <dc:description>Macro created by quiz@ppt-user.de  Hans Werner Hofmann / Ute Simon</dc:description>
  <cp:keywords>Search Easter Eggs with Drag&amp;Drop-Makro</cp:keywords>
  <dc:language>en-US</dc:language>
  <cp:lastModifiedBy>Михаил Сарычев</cp:lastModifiedBy>
  <dcterms:modified xsi:type="dcterms:W3CDTF">2020-04-18T09:49:41Z</dcterms:modified>
  <cp:revision>255</cp:revision>
  <dc:subject/>
  <dc:title>Drag&amp;Drop Macro: Easter Eggs</dc:title>
</cp:coreProperties>
</file>