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16.png" ContentType="image/png"/>
  <Override PartName="/ppt/media/image15.png" ContentType="image/png"/>
  <Override PartName="/ppt/media/image5.jpeg" ContentType="image/jpeg"/>
  <Override PartName="/ppt/media/image14.jpeg" ContentType="image/jpe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Black"/>
              </a:rPr>
              <a:t>Click to move the slide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9E7C2-E25E-4FF4-9E21-5C2594D0507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DFFBB-CCB7-40A1-A998-1A279558FDF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877B6-8AFB-44C9-8DC8-DC70B63EA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544D9-6F84-4335-AD76-EB4DD737F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D26F4-4A7B-4CFC-84CF-AA79DCEB5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CBA4E-4D53-43DC-B58F-303657C21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15C01-AD27-4F9D-B9D2-9122D72D9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CD7B3-42D2-44A3-9C5B-C3A7F4EA5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E95A5-42E3-4810-9E13-2F6652966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E3E63-64DE-44F6-B943-19185523D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9F943-6736-41D7-9122-E6F4F2EAA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54C30-5CE7-455D-B7DC-5A6B96D42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5907D-CF29-49C9-9F14-493C0B1EF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E78D8-A2AE-4006-9641-7E435C3C9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2836F-1A15-46FA-8FCD-EF80B7DDE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FE2E2-5A3A-4945-81AC-63DEDF896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113B4-2F09-4DBC-938A-362EBE554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B53E0-56BF-4431-B8E5-878CB060E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B7491-A128-4B16-9E9D-7BAF04E4E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F9522-8C36-4D41-92C8-B1225A2B8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48E1E-26D8-4C23-BCBE-1C8267520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3F4CA-6FF7-47E4-BBDA-5DBD46473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3687F-DD9E-48A1-AE9B-8B843F240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EC399-C864-483E-9684-C81835AA4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257B1-B500-4584-9FD2-D007959DC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E7138-C751-4380-A537-E4C477C2F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6925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56925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6925a">
                    <a:alpha val="0"/>
                  </a:srgbClr>
                </a:gs>
                <a:gs pos="100000">
                  <a:srgbClr val="46784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b9f6e"/>
                </a:gs>
                <a:gs pos="100000">
                  <a:srgbClr val="56925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6b9f6e"/>
                </a:gs>
                <a:gs pos="100000">
                  <a:srgbClr val="56925a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6925a">
                    <a:alpha val="0"/>
                  </a:srgbClr>
                </a:gs>
                <a:gs pos="100000">
                  <a:srgbClr val="46784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b9f6e"/>
                </a:gs>
                <a:gs pos="100000">
                  <a:srgbClr val="56925a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A0B17-8AC6-4C67-809A-E85F0A96642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a9a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a9a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56925a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6925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6925a">
                    <a:alpha val="0"/>
                  </a:srgbClr>
                </a:gs>
                <a:gs pos="100000">
                  <a:srgbClr val="46784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6925a">
                    <a:alpha val="0"/>
                  </a:srgbClr>
                </a:gs>
                <a:gs pos="100000">
                  <a:srgbClr val="46784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b9f6e"/>
                </a:gs>
                <a:gs pos="100000">
                  <a:srgbClr val="56925a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b9f6e"/>
                </a:gs>
                <a:gs pos="100000">
                  <a:srgbClr val="56925a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a9a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a9a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2A486-DC4B-4F12-8862-7669349F6374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image" Target="../media/image14.jpe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42960" y="2858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cc"/>
                </a:solidFill>
                <a:latin typeface="Arial Black"/>
              </a:rPr>
              <a:t>День Земли </a:t>
            </a:r>
            <a:endParaRPr b="1" lang="en-US" sz="60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899640" y="1341000"/>
            <a:ext cx="678204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Picture 5" descr=""/>
          <p:cNvPicPr/>
          <p:nvPr/>
        </p:nvPicPr>
        <p:blipFill>
          <a:blip r:embed="rId1"/>
          <a:srcRect l="0" t="0" r="0" b="18134"/>
          <a:stretch/>
        </p:blipFill>
        <p:spPr>
          <a:xfrm>
            <a:off x="2286000" y="2592360"/>
            <a:ext cx="4579920" cy="3908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Arial"/>
              </a:rPr>
              <a:t>Из истории праздника </a:t>
            </a:r>
            <a:br>
              <a:rPr sz="4400"/>
            </a:br>
            <a:r>
              <a:rPr b="1" lang="ru-RU" sz="4400" spc="-1" strike="noStrike">
                <a:solidFill>
                  <a:srgbClr val="0000cc"/>
                </a:solidFill>
                <a:latin typeface="Arial"/>
              </a:rPr>
              <a:t>«День Земли»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8920" y="1915920"/>
            <a:ext cx="525636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22 апреля 1970 года впервые проведен «День Земли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22 апреля 1994 года объявлен Всемирный День Земл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Picture 6" descr=""/>
          <p:cNvPicPr/>
          <p:nvPr/>
        </p:nvPicPr>
        <p:blipFill>
          <a:blip r:embed="rId1"/>
          <a:stretch/>
        </p:blipFill>
        <p:spPr>
          <a:xfrm>
            <a:off x="4859280" y="2716200"/>
            <a:ext cx="4105440" cy="27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0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" dur="20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" dur="20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Arial"/>
              </a:rPr>
              <a:t>Флаг Дня Земли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pic>
        <p:nvPicPr>
          <p:cNvPr id="112" name="Picture 3" descr=""/>
          <p:cNvPicPr/>
          <p:nvPr/>
        </p:nvPicPr>
        <p:blipFill>
          <a:blip r:embed="rId1"/>
          <a:stretch/>
        </p:blipFill>
        <p:spPr>
          <a:xfrm>
            <a:off x="1403280" y="2060640"/>
            <a:ext cx="6397560" cy="39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Arial"/>
              </a:rPr>
              <a:t>Планете грозит беда!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pic>
        <p:nvPicPr>
          <p:cNvPr id="114" name="Picture 4" descr="автомобиль"/>
          <p:cNvPicPr/>
          <p:nvPr/>
        </p:nvPicPr>
        <p:blipFill>
          <a:blip r:embed="rId1"/>
          <a:stretch/>
        </p:blipFill>
        <p:spPr>
          <a:xfrm>
            <a:off x="395280" y="1773360"/>
            <a:ext cx="5715000" cy="38098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5" descr="вырубка деревьев"/>
          <p:cNvPicPr/>
          <p:nvPr/>
        </p:nvPicPr>
        <p:blipFill>
          <a:blip r:embed="rId2"/>
          <a:stretch/>
        </p:blipFill>
        <p:spPr>
          <a:xfrm>
            <a:off x="4140360" y="2997360"/>
            <a:ext cx="4824360" cy="36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5" dur="2000" fill="hold"/>
                                        <p:tgtEl>
                                          <p:spTgt spid="11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7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8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360" y="-964080"/>
            <a:ext cx="8231040" cy="570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Arial"/>
              </a:rPr>
              <a:t>Встал поутру, умылся, привел себя в порядок – и сразу же приведи в порядок свою планету.</a:t>
            </a:r>
            <a:br>
              <a:rPr sz="3600"/>
            </a:br>
            <a:r>
              <a:rPr b="1" lang="ru-RU" sz="3600" spc="-1" strike="noStrike">
                <a:solidFill>
                  <a:srgbClr val="0000cc"/>
                </a:solidFill>
                <a:latin typeface="Arial"/>
              </a:rPr>
              <a:t>                        А. де Сент-Экзюпери</a:t>
            </a:r>
            <a:endParaRPr b="1" lang="en-US" sz="3600" spc="-1" strike="noStrike">
              <a:solidFill>
                <a:srgbClr val="ffffcc"/>
              </a:solidFill>
              <a:latin typeface="Arial Black"/>
            </a:endParaRPr>
          </a:p>
        </p:txBody>
      </p:sp>
      <p:pic>
        <p:nvPicPr>
          <p:cNvPr id="117" name="Picture 4" descr=""/>
          <p:cNvPicPr/>
          <p:nvPr/>
        </p:nvPicPr>
        <p:blipFill>
          <a:blip r:embed="rId1"/>
          <a:stretch/>
        </p:blipFill>
        <p:spPr>
          <a:xfrm>
            <a:off x="755640" y="3500280"/>
            <a:ext cx="4067280" cy="29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0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Arial"/>
              </a:rPr>
              <a:t>Животные теряют свой дом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pic>
        <p:nvPicPr>
          <p:cNvPr id="119" name="Picture 4" descr="вырубка деревьев"/>
          <p:cNvPicPr/>
          <p:nvPr/>
        </p:nvPicPr>
        <p:blipFill>
          <a:blip r:embed="rId1"/>
          <a:stretch/>
        </p:blipFill>
        <p:spPr>
          <a:xfrm>
            <a:off x="250920" y="1628640"/>
            <a:ext cx="4465440" cy="33498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пожар"/>
          <p:cNvPicPr/>
          <p:nvPr/>
        </p:nvPicPr>
        <p:blipFill>
          <a:blip r:embed="rId2"/>
          <a:stretch/>
        </p:blipFill>
        <p:spPr>
          <a:xfrm>
            <a:off x="4140360" y="3284640"/>
            <a:ext cx="4679640" cy="31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0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6" descr="ландыш"/>
          <p:cNvPicPr/>
          <p:nvPr/>
        </p:nvPicPr>
        <p:blipFill>
          <a:blip r:embed="rId1"/>
          <a:stretch/>
        </p:blipFill>
        <p:spPr>
          <a:xfrm>
            <a:off x="179280" y="189000"/>
            <a:ext cx="3167280" cy="23749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7" descr="одуванчик на траве"/>
          <p:cNvPicPr/>
          <p:nvPr/>
        </p:nvPicPr>
        <p:blipFill>
          <a:blip r:embed="rId2"/>
          <a:stretch/>
        </p:blipFill>
        <p:spPr>
          <a:xfrm>
            <a:off x="539640" y="2276640"/>
            <a:ext cx="2738520" cy="36511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1" descr="василек"/>
          <p:cNvPicPr/>
          <p:nvPr/>
        </p:nvPicPr>
        <p:blipFill>
          <a:blip r:embed="rId3"/>
          <a:stretch/>
        </p:blipFill>
        <p:spPr>
          <a:xfrm>
            <a:off x="1403280" y="4076640"/>
            <a:ext cx="3168720" cy="24163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2" descr="ромашки"/>
          <p:cNvPicPr/>
          <p:nvPr/>
        </p:nvPicPr>
        <p:blipFill>
          <a:blip r:embed="rId4"/>
          <a:stretch/>
        </p:blipFill>
        <p:spPr>
          <a:xfrm>
            <a:off x="4140360" y="4365720"/>
            <a:ext cx="3192480" cy="23749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3" descr="колокольчик"/>
          <p:cNvPicPr/>
          <p:nvPr/>
        </p:nvPicPr>
        <p:blipFill>
          <a:blip r:embed="rId5"/>
          <a:stretch/>
        </p:blipFill>
        <p:spPr>
          <a:xfrm>
            <a:off x="5796000" y="3141720"/>
            <a:ext cx="3240000" cy="24321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4" descr="парашютик"/>
          <p:cNvPicPr/>
          <p:nvPr/>
        </p:nvPicPr>
        <p:blipFill>
          <a:blip r:embed="rId6"/>
          <a:stretch/>
        </p:blipFill>
        <p:spPr>
          <a:xfrm>
            <a:off x="5148360" y="260280"/>
            <a:ext cx="3708360" cy="278136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Arial"/>
              </a:rPr>
              <a:t>Цветы 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pic>
        <p:nvPicPr>
          <p:cNvPr id="128" name="Picture 18" descr=""/>
          <p:cNvPicPr/>
          <p:nvPr/>
        </p:nvPicPr>
        <p:blipFill>
          <a:blip r:embed="rId7"/>
          <a:stretch/>
        </p:blipFill>
        <p:spPr>
          <a:xfrm>
            <a:off x="3492360" y="1484280"/>
            <a:ext cx="219096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0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58880" y="-31608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Arial"/>
              </a:rPr>
              <a:t>Берегите эти земли…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pic>
        <p:nvPicPr>
          <p:cNvPr id="130" name="Picture 7" descr=""/>
          <p:cNvPicPr/>
          <p:nvPr/>
        </p:nvPicPr>
        <p:blipFill>
          <a:blip r:embed="rId1"/>
          <a:stretch/>
        </p:blipFill>
        <p:spPr>
          <a:xfrm>
            <a:off x="755640" y="765000"/>
            <a:ext cx="7823160" cy="586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0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24000" y="-74484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6eafa4"/>
              </a:solidFill>
              <a:latin typeface="Arial Black"/>
            </a:endParaRPr>
          </a:p>
        </p:txBody>
      </p:sp>
      <p:pic>
        <p:nvPicPr>
          <p:cNvPr id="132" name="Прямоугольник 3" descr=""/>
          <p:cNvPicPr/>
          <p:nvPr/>
        </p:nvPicPr>
        <p:blipFill>
          <a:blip r:embed="rId1"/>
          <a:stretch/>
        </p:blipFill>
        <p:spPr>
          <a:xfrm>
            <a:off x="244440" y="743040"/>
            <a:ext cx="9412200" cy="50972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5T10:47:24Z</dcterms:created>
  <dc:creator>Sveta</dc:creator>
  <dc:description/>
  <dc:language>en-US</dc:language>
  <cp:lastModifiedBy>aleksandr</cp:lastModifiedBy>
  <dcterms:modified xsi:type="dcterms:W3CDTF">2019-05-06T17:49:51Z</dcterms:modified>
  <cp:revision>46</cp:revision>
  <dc:subject/>
  <dc:title>МОУ «Бородинская СОШ №1»</dc:title>
</cp:coreProperties>
</file>