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5AE-2DD4-4F12-9BD7-9F9CEA1005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94AB-F5D7-45A8-8343-E0F7CFD89D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813-23D4-4E4A-9F1C-A4E189C7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5B9-6C07-4B6E-B356-149F0C81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812-B1C8-46AD-8581-53511A1A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AFD-DD33-4511-83C1-7C2269BF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B0B6-507D-4486-847F-3EA358BC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C498-43B5-4FA5-8B1E-448D8CB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0FD-A40E-4093-8162-4D4877A4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B9AF-5E31-476E-805C-1B25AD04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49E8-D6EC-49C7-BB0B-9D21A54A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5C62-19E3-4F5E-98B5-42A185C1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D314-9DA3-4560-95E6-BC66EA3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26A-5F6D-43E4-84AB-1F952887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7AF1-6311-4430-BC6F-DE49E34D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15C8-8248-43A8-8C97-367A0F1C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F970-B1DF-437F-B733-9AC9AA33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BF37-8448-416C-BFC3-FE4205D8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43C7-F36D-4815-AFB1-1DDAB625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727-FEF0-4F25-8DC8-61970B67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411-BF05-472B-947F-AF80C92E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487-62DD-45E9-B965-2E3961F0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D2E-AD64-4D0D-B7B2-2370AC92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BFA-22B4-405C-A05A-19EA054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21F-A330-4ED8-8F95-B4CBEB7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510-29B1-4EB3-A44E-9D6AF34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9C39-5A74-40F6-A345-F895911663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8198-EAC0-45C4-B5C5-0A74CD1963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 Black"/>
              </a:rPr>
              <a:t>День Земли </a:t>
            </a:r>
            <a:endParaRPr b="1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6782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rcRect l="0" t="0" r="0" b="18134"/>
          <a:stretch/>
        </p:blipFill>
        <p:spPr>
          <a:xfrm>
            <a:off x="2286000" y="2592360"/>
            <a:ext cx="457992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Из истории праздника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«День Земли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525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22 апреля 1970 года впервые проведен «День Зем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22 апреля 1994 года объявлен Всемирный Ден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859280" y="2716200"/>
            <a:ext cx="41054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Флаг Дня Земл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39756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ланете грозит беда!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4" name="Picture 4" descr="автомобиль"/>
          <p:cNvPicPr/>
          <p:nvPr/>
        </p:nvPicPr>
        <p:blipFill>
          <a:blip r:embed="rId1"/>
          <a:stretch/>
        </p:blipFill>
        <p:spPr>
          <a:xfrm>
            <a:off x="395280" y="177336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вырубка деревьев"/>
          <p:cNvPicPr/>
          <p:nvPr/>
        </p:nvPicPr>
        <p:blipFill>
          <a:blip r:embed="rId2"/>
          <a:stretch/>
        </p:blipFill>
        <p:spPr>
          <a:xfrm>
            <a:off x="4140360" y="2997360"/>
            <a:ext cx="482436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964080"/>
            <a:ext cx="823104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стал поутру, умылся, привел себя в порядок – и сразу же приведи в порядок свою планету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                      А. де Сент-Экзюпери</a:t>
            </a:r>
            <a:endParaRPr b="1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40672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Животные теряют свой дом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9" name="Picture 4" descr="вырубка деревьев"/>
          <p:cNvPicPr/>
          <p:nvPr/>
        </p:nvPicPr>
        <p:blipFill>
          <a:blip r:embed="rId1"/>
          <a:stretch/>
        </p:blipFill>
        <p:spPr>
          <a:xfrm>
            <a:off x="250920" y="1628640"/>
            <a:ext cx="4465440" cy="334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пожар"/>
          <p:cNvPicPr/>
          <p:nvPr/>
        </p:nvPicPr>
        <p:blipFill>
          <a:blip r:embed="rId2"/>
          <a:stretch/>
        </p:blipFill>
        <p:spPr>
          <a:xfrm>
            <a:off x="4140360" y="3284640"/>
            <a:ext cx="4679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ландыш"/>
          <p:cNvPicPr/>
          <p:nvPr/>
        </p:nvPicPr>
        <p:blipFill>
          <a:blip r:embed="rId1"/>
          <a:stretch/>
        </p:blipFill>
        <p:spPr>
          <a:xfrm>
            <a:off x="179280" y="18900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одуванчик на траве"/>
          <p:cNvPicPr/>
          <p:nvPr/>
        </p:nvPicPr>
        <p:blipFill>
          <a:blip r:embed="rId2"/>
          <a:stretch/>
        </p:blipFill>
        <p:spPr>
          <a:xfrm>
            <a:off x="539640" y="2276640"/>
            <a:ext cx="2738520" cy="3651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василек"/>
          <p:cNvPicPr/>
          <p:nvPr/>
        </p:nvPicPr>
        <p:blipFill>
          <a:blip r:embed="rId3"/>
          <a:stretch/>
        </p:blipFill>
        <p:spPr>
          <a:xfrm>
            <a:off x="1403280" y="4076640"/>
            <a:ext cx="3168720" cy="2416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ромашки"/>
          <p:cNvPicPr/>
          <p:nvPr/>
        </p:nvPicPr>
        <p:blipFill>
          <a:blip r:embed="rId4"/>
          <a:stretch/>
        </p:blipFill>
        <p:spPr>
          <a:xfrm>
            <a:off x="4140360" y="4365720"/>
            <a:ext cx="3192480" cy="237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колокольчик"/>
          <p:cNvPicPr/>
          <p:nvPr/>
        </p:nvPicPr>
        <p:blipFill>
          <a:blip r:embed="rId5"/>
          <a:stretch/>
        </p:blipFill>
        <p:spPr>
          <a:xfrm>
            <a:off x="5796000" y="3141720"/>
            <a:ext cx="3240000" cy="243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парашютик"/>
          <p:cNvPicPr/>
          <p:nvPr/>
        </p:nvPicPr>
        <p:blipFill>
          <a:blip r:embed="rId6"/>
          <a:stretch/>
        </p:blipFill>
        <p:spPr>
          <a:xfrm>
            <a:off x="5148360" y="26028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Цве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7"/>
          <a:stretch/>
        </p:blipFill>
        <p:spPr>
          <a:xfrm>
            <a:off x="3492360" y="1484280"/>
            <a:ext cx="2190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888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Берегите эти земли…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23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7448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eafa4"/>
              </a:solidFill>
              <a:latin typeface="Arial Black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743040"/>
            <a:ext cx="9412200" cy="50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47:24Z</dcterms:created>
  <dc:creator>Sveta</dc:creator>
  <dc:description/>
  <dc:language>en-US</dc:language>
  <cp:lastModifiedBy>aleksandr</cp:lastModifiedBy>
  <dcterms:modified xsi:type="dcterms:W3CDTF">2019-05-06T17:49:51Z</dcterms:modified>
  <cp:revision>46</cp:revision>
  <dc:subject/>
  <dc:title>МОУ «Бородинская СОШ №1»</dc:title>
</cp:coreProperties>
</file>