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2.jpeg" ContentType="image/jpeg"/>
  <Override PartName="/ppt/media/image43.jpeg" ContentType="image/jpeg"/>
  <Override PartName="/ppt/media/image8.jpeg" ContentType="image/jpeg"/>
  <Override PartName="/ppt/media/image45.gif" ContentType="image/gif"/>
  <Override PartName="/ppt/media/image1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DCA-1848-457A-8E37-C2FEB0FF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006-EBAE-408C-B0B3-55982783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7C1-14B3-4462-96E6-08819BA1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F77-8ECF-467A-A14E-7EA2FBAB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4A7-C101-428E-BD01-5DBFB68A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453-21E0-4CE1-AB2A-92A124B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830-0B51-44C2-9E3F-A42A35E5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A1F-198A-415F-B560-5BC7574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214-2E3A-4D73-97F0-794A734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C57-FAB5-48E7-889D-760621DC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72B-B7BC-456F-98A7-AA2C836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D80-04DD-428C-9AEF-746CDE8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E5F-68CA-43B5-9E42-7C65DE1AF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1014600">
            <a:off x="394920" y="-316080"/>
            <a:ext cx="6697800" cy="44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Повесть о настоящем 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человеке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55640" y="0"/>
            <a:ext cx="795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Неизвестен — 19 - Герой Маресьев (www.mixmuz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Неизвестен — 19 - Герой Маресьев (www.mixmuz.ru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Неизвестен — 19 - Герой Маресьев (www.mixmuz.ru)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19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619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1619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61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11280" y="10591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го обнаружили в бессознательном состоянии с обмороженными ногами деревенские мальчишки.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povest_20"/>
          <p:cNvPicPr/>
          <p:nvPr/>
        </p:nvPicPr>
        <p:blipFill>
          <a:blip r:embed="rId2"/>
          <a:stretch/>
        </p:blipFill>
        <p:spPr>
          <a:xfrm>
            <a:off x="4356000" y="476280"/>
            <a:ext cx="42084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84360" y="13035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 госпитале имени Н.Н. Бурденко Алексею Маресьеву ампутировали голени обеих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5054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39640" y="177876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лго лечился, учился ходить на протезах и упорно добивался от комиссий разрешения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9052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859280" y="981000"/>
            <a:ext cx="362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олодой человек оказывается  на положении  калеки.  Но  мириться  с  этим  он не согласен.  Алексей  учиться  ходить  на протезах,  танцевать -кружиться  в вальсе  с  улыбкой  на губах,  а после  бросается   на траву  и скрежещет  зубами от боли.  В результате  упорный лётчик  добивается  своего -убеждает  комиссию, что  он сможет опять летать. Ему  разрешают вернуться  в строй, и он  садится  за  штур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povest_23"/>
          <p:cNvPicPr/>
          <p:nvPr/>
        </p:nvPicPr>
        <p:blipFill>
          <a:blip r:embed="rId2"/>
          <a:stretch/>
        </p:blipFill>
        <p:spPr>
          <a:xfrm>
            <a:off x="539640" y="907920"/>
            <a:ext cx="4194360" cy="53276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4"/>
          <p:cNvSpPr txBox="1"/>
          <p:nvPr/>
        </p:nvSpPr>
        <p:spPr>
          <a:xfrm>
            <a:off x="1692360" y="404640"/>
            <a:ext cx="597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имер для подражани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211640" y="1844640"/>
            <a:ext cx="415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левой был тем  писателем,  который увидел в герое войны  черты,  необходимые  нам  сегодня: он нашёл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 ЧЕЛОВЕКА,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подвиг которого  заключался  в огромном  нравственном потенциале.  Мересьев  сражался с  самим собой,  он на наших  глазах  делал из себя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ЧЕЛОВЕК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 а не демонстрировал это  во внешнем  подв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484360" y="69228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Алексей Мересьев -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любимый гер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622520" cy="179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7"/>
          <p:cNvPicPr/>
          <p:nvPr/>
        </p:nvPicPr>
        <p:blipFill>
          <a:blip r:embed="rId3"/>
          <a:stretch/>
        </p:blipFill>
        <p:spPr>
          <a:xfrm>
            <a:off x="900000" y="2492280"/>
            <a:ext cx="3132360" cy="367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1 ла 5"/>
          <p:cNvPicPr/>
          <p:nvPr/>
        </p:nvPicPr>
        <p:blipFill>
          <a:blip r:embed="rId4"/>
          <a:stretch/>
        </p:blipFill>
        <p:spPr>
          <a:xfrm>
            <a:off x="6877080" y="33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716360" y="1052640"/>
            <a:ext cx="36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орис  Полевой  создал  героя,  которому  хочется  подражать. Для многих , в том числе  и для первого космонавта  Юрия  Гагарина,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“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 о настоящем человеке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стала любимой кни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071960" cy="3897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2484360" y="4869000"/>
            <a:ext cx="58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Человек, сильный духом,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ожет переломить судьб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4643280" y="162864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 военные годы известный лётчик сделал около ста вылетов, сбил одиннадцать самолетов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четыре - до ранения, семь - пос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3781440" cy="51721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1835280" y="404640"/>
            <a:ext cx="633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верка на прочность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Объект 3"/>
          <p:cNvSpPr/>
          <p:nvPr/>
        </p:nvSpPr>
        <p:spPr>
          <a:xfrm>
            <a:off x="611280" y="1197000"/>
            <a:ext cx="47228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двиг Мересьева – надежда и пример для многих людей, ставших жертвами трагических обстоятельств не только в военное, но и в мирное время. Он напоминает, чего может добиться тот, кто не утратил силы бороться и веру в себя. Мересьев дал нам отличный жизненный урок, он является носителем лучших качеств человека таких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195640" y="549360"/>
            <a:ext cx="515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Урок, который дал нам Мересьев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29200" cy="488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1837800" y="5877000"/>
            <a:ext cx="64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Именно поэтому он является моим любимым персонаже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92040" y="450864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ужество, наде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ответств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реш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68436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интересом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и волнением её до сих пор  читают и взрослые 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Повесть старая"/>
          <p:cNvPicPr/>
          <p:nvPr/>
        </p:nvPicPr>
        <p:blipFill>
          <a:blip r:embed="rId2"/>
          <a:stretch/>
        </p:blipFill>
        <p:spPr>
          <a:xfrm>
            <a:off x="5148360" y="836640"/>
            <a:ext cx="33573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logo"/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1711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84360" y="2852640"/>
            <a:ext cx="8037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Ею должны удостаиваться люди, "проявив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ужество и героизм, сумевшие выжить в экстремальных ситуациях, проявившие при этом непоколебимую волю к жизни, вернувшиеся к ней и внесшие значительный вклад в развитие государства, мирового общества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340000" y="4365720"/>
            <a:ext cx="6438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емию предполагается выдавать за участие в боевых  действиях, борьбу с терроризмом, выживание при техногенных и природных катаклизмах, возвращение к жизни после тяжелых травм и заболеваний, выдающиеся достижения в спорте. Церемония награждения лауреатов премии будет производиться ежегодно в Москве в канун дня рождения Алексея Маресьева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192320" y="213372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реждена международная премия имени Марес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"За волю к жизни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margarida"/>
          <p:cNvPicPr/>
          <p:nvPr/>
        </p:nvPicPr>
        <p:blipFill>
          <a:blip r:embed="rId3"/>
          <a:stretch/>
        </p:blipFill>
        <p:spPr>
          <a:xfrm>
            <a:off x="7956720" y="234936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argarida"/>
          <p:cNvPicPr/>
          <p:nvPr/>
        </p:nvPicPr>
        <p:blipFill>
          <a:blip r:embed="rId4"/>
          <a:stretch/>
        </p:blipFill>
        <p:spPr>
          <a:xfrm>
            <a:off x="7524720" y="2421000"/>
            <a:ext cx="57168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margarida"/>
          <p:cNvPicPr/>
          <p:nvPr/>
        </p:nvPicPr>
        <p:blipFill>
          <a:blip r:embed="rId5"/>
          <a:stretch/>
        </p:blipFill>
        <p:spPr>
          <a:xfrm>
            <a:off x="7667640" y="1916280"/>
            <a:ext cx="5713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24490"/>
          <p:cNvPicPr/>
          <p:nvPr/>
        </p:nvPicPr>
        <p:blipFill>
          <a:blip r:embed="rId2"/>
          <a:stretch/>
        </p:blipFill>
        <p:spPr>
          <a:xfrm>
            <a:off x="826920" y="62064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4716360" y="692280"/>
            <a:ext cx="367200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Борис Николаевич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лев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1908 - 1981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3" name="Picture 4" descr="http://www.ptiburdukov.ru/pick/74-02.jpg"/>
          <p:cNvPicPr/>
          <p:nvPr/>
        </p:nvPicPr>
        <p:blipFill>
          <a:blip r:embed="rId3"/>
          <a:stretch/>
        </p:blipFill>
        <p:spPr>
          <a:xfrm>
            <a:off x="5796000" y="2708280"/>
            <a:ext cx="2430360" cy="3625920"/>
          </a:xfrm>
          <a:prstGeom prst="rect">
            <a:avLst/>
          </a:prstGeom>
          <a:ln w="0">
            <a:noFill/>
          </a:ln>
        </p:spPr>
      </p:pic>
      <p:sp>
        <p:nvSpPr>
          <p:cNvPr id="54" name="Oval 15"/>
          <p:cNvSpPr/>
          <p:nvPr/>
        </p:nvSpPr>
        <p:spPr>
          <a:xfrm>
            <a:off x="3276720" y="4005360"/>
            <a:ext cx="2952720" cy="2230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3708360" y="4797360"/>
            <a:ext cx="202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билей 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ниги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611280" y="549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«Повесть о настоящем человеке» на киноэк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55640" y="14130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СР, 1948, киноповесть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жиссе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лександр Столпер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ктер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авел Кадочников, Николай Охлопков, Людмила Целиковская, Тамара Макарова, Василий Меркурьев, Лев Свердлин, Любовь Соколо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povest_o_nastoyashchem_cheloveke"/>
          <p:cNvPicPr/>
          <p:nvPr/>
        </p:nvPicPr>
        <p:blipFill>
          <a:blip r:embed="rId2"/>
          <a:stretch/>
        </p:blipFill>
        <p:spPr>
          <a:xfrm>
            <a:off x="6012000" y="476280"/>
            <a:ext cx="2609640" cy="367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ovestonast"/>
          <p:cNvPicPr/>
          <p:nvPr/>
        </p:nvPicPr>
        <p:blipFill>
          <a:blip r:embed="rId3"/>
          <a:stretch/>
        </p:blipFill>
        <p:spPr>
          <a:xfrm>
            <a:off x="6300720" y="4149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у"/>
          <p:cNvPicPr/>
          <p:nvPr/>
        </p:nvPicPr>
        <p:blipFill>
          <a:blip r:embed="rId4"/>
          <a:stretch/>
        </p:blipFill>
        <p:spPr>
          <a:xfrm>
            <a:off x="3348000" y="3357720"/>
            <a:ext cx="266544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m_59215"/>
          <p:cNvPicPr/>
          <p:nvPr/>
        </p:nvPicPr>
        <p:blipFill>
          <a:blip r:embed="rId5"/>
          <a:stretch/>
        </p:blipFill>
        <p:spPr>
          <a:xfrm>
            <a:off x="2771640" y="4724280"/>
            <a:ext cx="37148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3708360" y="1052640"/>
            <a:ext cx="475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ши деды и прадеды жизнь свою положили, что бы их дети, и последующее поколение жили под мирным небом, без войны и тех мучений, которые им пришлось испытать, никому такого не пожелаешь. И наш огромный долг, сейчас , перед ними за те события Великой Отечественной войны. Мы - молодое поколение, должны помнить и знать о подвиге наших пре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619280" y="549360"/>
            <a:ext cx="6153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Долг молодого поколения перед героями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87" name="Picture 4" descr="7 памятник в Камышине"/>
          <p:cNvPicPr/>
          <p:nvPr/>
        </p:nvPicPr>
        <p:blipFill>
          <a:blip r:embed="rId2"/>
          <a:stretch/>
        </p:blipFill>
        <p:spPr>
          <a:xfrm>
            <a:off x="900000" y="1052640"/>
            <a:ext cx="2454480" cy="324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11280" y="4365720"/>
            <a:ext cx="31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mbria"/>
              </a:rPr>
              <a:t>Памятник Маресьеву в Камы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original"/>
          <p:cNvPicPr/>
          <p:nvPr/>
        </p:nvPicPr>
        <p:blipFill>
          <a:blip r:embed="rId3"/>
          <a:stretch/>
        </p:blipFill>
        <p:spPr>
          <a:xfrm>
            <a:off x="3635280" y="359244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95280" y="33336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Повесть о настоящем человек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iф"/>
          <p:cNvPicPr/>
          <p:nvPr/>
        </p:nvPicPr>
        <p:blipFill>
          <a:blip r:embed="rId2"/>
          <a:stretch/>
        </p:blipFill>
        <p:spPr>
          <a:xfrm>
            <a:off x="1042920" y="1052640"/>
            <a:ext cx="214956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i144901"/>
          <p:cNvPicPr/>
          <p:nvPr/>
        </p:nvPicPr>
        <p:blipFill>
          <a:blip r:embed="rId3"/>
          <a:stretch/>
        </p:blipFill>
        <p:spPr>
          <a:xfrm>
            <a:off x="3492360" y="1125360"/>
            <a:ext cx="1997280" cy="274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iпр"/>
          <p:cNvPicPr/>
          <p:nvPr/>
        </p:nvPicPr>
        <p:blipFill>
          <a:blip r:embed="rId4"/>
          <a:stretch/>
        </p:blipFill>
        <p:spPr>
          <a:xfrm>
            <a:off x="2771640" y="4365720"/>
            <a:ext cx="13496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987640" y="39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ложки книги 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л"/>
          <p:cNvPicPr/>
          <p:nvPr/>
        </p:nvPicPr>
        <p:blipFill>
          <a:blip r:embed="rId5"/>
          <a:stretch/>
        </p:blipFill>
        <p:spPr>
          <a:xfrm>
            <a:off x="4427640" y="4724280"/>
            <a:ext cx="1630440" cy="10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о"/>
          <p:cNvPicPr/>
          <p:nvPr/>
        </p:nvPicPr>
        <p:blipFill>
          <a:blip r:embed="rId6"/>
          <a:stretch/>
        </p:blipFill>
        <p:spPr>
          <a:xfrm>
            <a:off x="6588000" y="4724280"/>
            <a:ext cx="1406520" cy="101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4500720" y="580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плоход «Борис Поле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i142882"/>
          <p:cNvPicPr/>
          <p:nvPr/>
        </p:nvPicPr>
        <p:blipFill>
          <a:blip r:embed="rId7"/>
          <a:stretch/>
        </p:blipFill>
        <p:spPr>
          <a:xfrm>
            <a:off x="5796000" y="1125360"/>
            <a:ext cx="20890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1116000" y="6922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Борис Николаевич написал эту повесть на одном дыхании - всего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за 19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весть о наст челов"/>
          <p:cNvPicPr/>
          <p:nvPr/>
        </p:nvPicPr>
        <p:blipFill>
          <a:blip r:embed="rId2"/>
          <a:stretch/>
        </p:blipFill>
        <p:spPr>
          <a:xfrm rot="21364200">
            <a:off x="1767960" y="2149560"/>
            <a:ext cx="2738520" cy="402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Повесть о настоящем человеке"/>
          <p:cNvPicPr/>
          <p:nvPr/>
        </p:nvPicPr>
        <p:blipFill>
          <a:blip r:embed="rId3"/>
          <a:stretch/>
        </p:blipFill>
        <p:spPr>
          <a:xfrm rot="21259200">
            <a:off x="5065200" y="1909440"/>
            <a:ext cx="296100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polistaj.ru/image/Small/multimedia/books_covers/1005512927.jpg"/>
          <p:cNvPicPr/>
          <p:nvPr/>
        </p:nvPicPr>
        <p:blipFill>
          <a:blip r:embed="rId2"/>
          <a:stretch/>
        </p:blipFill>
        <p:spPr>
          <a:xfrm>
            <a:off x="6012000" y="333360"/>
            <a:ext cx="2790720" cy="418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knigirossii.ru/pictures/2/41/3443381_sbig1.jpg"/>
          <p:cNvPicPr/>
          <p:nvPr/>
        </p:nvPicPr>
        <p:blipFill>
          <a:blip r:embed="rId3"/>
          <a:stretch/>
        </p:blipFill>
        <p:spPr>
          <a:xfrm>
            <a:off x="3924360" y="1916280"/>
            <a:ext cx="2614680" cy="398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Полевой"/>
          <p:cNvPicPr/>
          <p:nvPr/>
        </p:nvPicPr>
        <p:blipFill>
          <a:blip r:embed="rId4"/>
          <a:stretch/>
        </p:blipFill>
        <p:spPr>
          <a:xfrm>
            <a:off x="4716360" y="4221000"/>
            <a:ext cx="3944880" cy="2430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80" name="Содержимое 2"/>
          <p:cNvSpPr/>
          <p:nvPr/>
        </p:nvSpPr>
        <p:spPr>
          <a:xfrm>
            <a:off x="539640" y="692280"/>
            <a:ext cx="3384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впервые была опубликована в журнале «Октябрь» в 1946   году. Передавалась по радио. Многократно переиздавалась. Переведена более чем на 50 языков. Издавалась около 170 раз и общий ее тираж составил 8 миллионов экземпля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446640" cy="401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356000" y="66204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дни Великой Отечественной войны писатель Борис Полевой, в то время военный корреспондент газеты "Правда", познакомился в одной из авиационных частей с командиром эскадрильи Алексеем Маресье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067280" y="3500280"/>
            <a:ext cx="4248000" cy="283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ransporta-425"/>
          <p:cNvPicPr/>
          <p:nvPr/>
        </p:nvPicPr>
        <p:blipFill>
          <a:blip r:embed="rId4"/>
          <a:stretch/>
        </p:blipFill>
        <p:spPr>
          <a:xfrm>
            <a:off x="2843280" y="549360"/>
            <a:ext cx="12240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68360" y="4221000"/>
            <a:ext cx="60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где главным героем  был Алексей Мересь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автор изменил одну  букву в фамилии геро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у книгу  знает  каждый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ам же  Алексей  Маресьев  прожил  долг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жизнь  после войны  и принимал  Парад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расной площади  в честь 55-летия  Поб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д фашизмом 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resjev"/>
          <p:cNvPicPr/>
          <p:nvPr/>
        </p:nvPicPr>
        <p:blipFill>
          <a:blip r:embed="rId2"/>
          <a:stretch/>
        </p:blipFill>
        <p:spPr>
          <a:xfrm>
            <a:off x="755640" y="549360"/>
            <a:ext cx="2790720" cy="37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ovest_27"/>
          <p:cNvPicPr/>
          <p:nvPr/>
        </p:nvPicPr>
        <p:blipFill>
          <a:blip r:embed="rId3"/>
          <a:stretch/>
        </p:blipFill>
        <p:spPr>
          <a:xfrm>
            <a:off x="3780000" y="692280"/>
            <a:ext cx="4535280" cy="2868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78000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а встреча дала  сюжет для «Повести  о настоящем человеке 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C:\Users\Светлана\Documents\Мои результаты сканирования\сканирование0112.jpg"/>
          <p:cNvPicPr/>
          <p:nvPr/>
        </p:nvPicPr>
        <p:blipFill>
          <a:blip r:embed="rId2"/>
          <a:stretch/>
        </p:blipFill>
        <p:spPr>
          <a:xfrm>
            <a:off x="826920" y="476280"/>
            <a:ext cx="392436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578560" y="476280"/>
            <a:ext cx="3103560" cy="468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835280" y="49388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т день отважный летчик сбил два фашистских самол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исателя потрясло другое: у летчика не было ног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619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86160" cy="315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979640" y="4653000"/>
            <a:ext cx="655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жестокую зимнюю стужу, без пищи и воды, теряя сознание от острой боли в раздробленных ступнях, раненый летчик 18 суток упрямо полз к своим.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392360" cy="31370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556000" y="476280"/>
            <a:ext cx="395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ртрет геро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7:21:34Z</dcterms:created>
  <dc:creator>Наталья Павловна</dc:creator>
  <dc:description/>
  <dc:language>en-US</dc:language>
  <cp:lastModifiedBy>Татьяна</cp:lastModifiedBy>
  <dcterms:modified xsi:type="dcterms:W3CDTF">2020-02-10T19:09:31Z</dcterms:modified>
  <cp:revision>18</cp:revision>
  <dc:subject/>
  <dc:title>Слайд 1</dc:title>
</cp:coreProperties>
</file>