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D11D0-4419-4AF6-853A-CB61F1939E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6C165-E01C-44C7-A039-93B18230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9123F-A255-47CB-91B9-6696AA2D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16113-ED4F-427C-9608-3F516C563D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B66D46-C5D1-4EC1-9735-28D0B1A6A6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53BA9B-904B-4FBE-9904-45264BDE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E9C5D4-DE1D-44CE-A67B-673DFE3E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924D93-A28E-4964-AD55-850E3986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5296D-0A17-47E8-AFEA-1A47E7001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9F95F-79B9-442F-AA0A-98D515BF0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502E7E-795E-4D95-AA6C-2C4E5BA9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18A20-C4DF-44EC-9222-8F554F22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527E80-0308-44D7-BB19-E77F9B54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CC3ED-89F3-4C6D-A780-C4CC0564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DA793C-97D0-4D60-8478-4BBEE7C8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6CF16-B850-47BC-9C98-1AF9889E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EBE160-172A-4845-BFAB-2E5983D0DB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A9F4B-E8CE-45C4-A11A-4B777A4F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13EF5-2C7F-4EC8-BEE0-DC25AB06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BEB87-F137-44B0-9406-EE308BC8A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4FC41-9331-4129-9925-08446EF79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1F90C-5550-4312-B192-08963585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0049F-0F04-413E-9C1E-053E0D88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A4A5E-FBC8-4B5E-A223-00C9A813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a2d6"/>
            </a:gs>
            <a:gs pos="100000">
              <a:srgbClr val="002b3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7920"/>
            <a:ext cx="9162720" cy="1041480"/>
          </a:xfrm>
          <a:prstGeom prst="rect">
            <a:avLst/>
          </a:prstGeom>
          <a:gradFill rotWithShape="0">
            <a:gsLst>
              <a:gs pos="0">
                <a:srgbClr val="0074a0">
                  <a:alpha val="46274"/>
                </a:srgbClr>
              </a:gs>
              <a:gs pos="100000">
                <a:srgbClr val="00c4cd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381560" y="-7920"/>
            <a:ext cx="4762440" cy="638280"/>
          </a:xfrm>
          <a:prstGeom prst="rect">
            <a:avLst/>
          </a:prstGeom>
          <a:gradFill rotWithShape="0">
            <a:gsLst>
              <a:gs pos="0">
                <a:srgbClr val="00a0a8">
                  <a:alpha val="31372"/>
                </a:srgbClr>
              </a:gs>
              <a:gs pos="100000">
                <a:srgbClr val="008abf">
                  <a:alpha val="4627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50400" y="-255600"/>
            <a:ext cx="9235080" cy="1563120"/>
            <a:chOff x="-50400" y="-255600"/>
            <a:chExt cx="9235080" cy="1563120"/>
          </a:xfrm>
        </p:grpSpPr>
        <p:sp>
          <p:nvSpPr>
            <p:cNvPr id="3" name=""/>
            <p:cNvSpPr/>
            <p:nvPr/>
          </p:nvSpPr>
          <p:spPr>
            <a:xfrm rot="21420000">
              <a:off x="-28080" y="-15840"/>
              <a:ext cx="9180000" cy="1083960"/>
            </a:xfrm>
            <a:prstGeom prst="rect">
              <a:avLst/>
            </a:prstGeom>
            <a:noFill/>
            <a:ln w="10800">
              <a:solidFill>
                <a:srgbClr val="008abf">
                  <a:alpha val="5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rot="21420000">
              <a:off x="-24840" y="106200"/>
              <a:ext cx="9192600" cy="884520"/>
            </a:xfrm>
            <a:prstGeom prst="rect">
              <a:avLst/>
            </a:prstGeom>
            <a:noFill/>
            <a:ln w="9360">
              <a:solidFill>
                <a:srgbClr val="009dd9">
                  <a:alpha val="5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0160" cy="18273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1eaed"/>
                </a:solidFill>
                <a:latin typeface="Constantia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E394AC-F885-4CCA-BDF6-E423CCBC33E9}" type="datetime">
              <a:rPr b="0" lang="ru-RU" sz="1200" spc="-1" strike="noStrike">
                <a:solidFill>
                  <a:srgbClr val="d1eaed"/>
                </a:solidFill>
                <a:latin typeface="Constantia"/>
                <a:ea typeface="Segoe U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2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1eaed"/>
                </a:solidFill>
                <a:latin typeface="Constanti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F3922D6-B684-45E9-8972-BD7D3D0A215E}" type="slidenum">
              <a:rPr b="0" lang="ru-RU" sz="1200" spc="-1" strike="noStrike">
                <a:solidFill>
                  <a:srgbClr val="d1eaed"/>
                </a:solidFill>
                <a:latin typeface="Constantia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9360" y="-7920"/>
            <a:ext cx="9162720" cy="1041480"/>
          </a:xfrm>
          <a:prstGeom prst="rect">
            <a:avLst/>
          </a:prstGeom>
          <a:gradFill rotWithShape="0">
            <a:gsLst>
              <a:gs pos="0">
                <a:srgbClr val="0074a0">
                  <a:alpha val="46274"/>
                </a:srgbClr>
              </a:gs>
              <a:gs pos="100000">
                <a:srgbClr val="00c4cd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381560" y="-7920"/>
            <a:ext cx="4762440" cy="638280"/>
          </a:xfrm>
          <a:prstGeom prst="rect">
            <a:avLst/>
          </a:prstGeom>
          <a:gradFill rotWithShape="0">
            <a:gsLst>
              <a:gs pos="0">
                <a:srgbClr val="00a0a8">
                  <a:alpha val="31372"/>
                </a:srgbClr>
              </a:gs>
              <a:gs pos="100000">
                <a:srgbClr val="008abf">
                  <a:alpha val="4627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-50400" y="-255600"/>
            <a:ext cx="9235080" cy="1563120"/>
            <a:chOff x="-50400" y="-255600"/>
            <a:chExt cx="9235080" cy="1563120"/>
          </a:xfrm>
        </p:grpSpPr>
        <p:sp>
          <p:nvSpPr>
            <p:cNvPr id="49" name=""/>
            <p:cNvSpPr/>
            <p:nvPr/>
          </p:nvSpPr>
          <p:spPr>
            <a:xfrm rot="21420000">
              <a:off x="-28080" y="-15840"/>
              <a:ext cx="9180000" cy="1083960"/>
            </a:xfrm>
            <a:prstGeom prst="rect">
              <a:avLst/>
            </a:prstGeom>
            <a:noFill/>
            <a:ln w="10800">
              <a:solidFill>
                <a:srgbClr val="008abf">
                  <a:alpha val="5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21420000">
              <a:off x="-24840" y="106200"/>
              <a:ext cx="9192600" cy="884520"/>
            </a:xfrm>
            <a:prstGeom prst="rect">
              <a:avLst/>
            </a:prstGeom>
            <a:noFill/>
            <a:ln w="9360">
              <a:solidFill>
                <a:srgbClr val="009dd9">
                  <a:alpha val="5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35c75"/>
                </a:solidFill>
                <a:latin typeface="Constantia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992E38-3540-4EB1-8032-839E9616D7C9}" type="datetime">
              <a:rPr b="0" lang="ru-RU" sz="1200" spc="-1" strike="noStrike">
                <a:solidFill>
                  <a:srgbClr val="035c75"/>
                </a:solidFill>
                <a:latin typeface="Constantia"/>
                <a:ea typeface="Segoe U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4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035c75"/>
                </a:solidFill>
                <a:latin typeface="Constanti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242F80F-76E1-41A9-82F7-48D84F749338}" type="slidenum">
              <a:rPr b="0" lang="ru-RU" sz="1200" spc="-1" strike="noStrike">
                <a:solidFill>
                  <a:srgbClr val="035c75"/>
                </a:solidFill>
                <a:latin typeface="Constantia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a2d6"/>
            </a:gs>
            <a:gs pos="100000">
              <a:srgbClr val="002b3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7851600" cy="34146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Times New Roman"/>
              </a:rPr>
              <a:t>Охранять природу-значит охранять жизнь.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4617b"/>
                </a:solidFill>
                <a:latin typeface="Times New Roman"/>
              </a:rPr>
              <a:t>Что значит относиться к природе по-человечески?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"/>
          <p:cNvSpPr/>
          <p:nvPr/>
        </p:nvSpPr>
        <p:spPr>
          <a:xfrm>
            <a:off x="285840" y="1357200"/>
            <a:ext cx="8329680" cy="19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72880">
              <a:lnSpc>
                <a:spcPct val="100000"/>
              </a:lnSpc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Что побуждает учёных вести столь непростой образ жизн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571840"/>
            <a:ext cx="4429080" cy="44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учёные руководствуются тем глубоким, моральным чувством, которое называется </a:t>
            </a: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ответственност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357800" y="3330720"/>
            <a:ext cx="4786200" cy="35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4617b"/>
                </a:solidFill>
                <a:latin typeface="Times New Roman"/>
              </a:rPr>
              <a:t>Нарисуйте словесный портрет ответственного человека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214720"/>
            <a:ext cx="564372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емление сделать что-то доброе, полезное для жизн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увство тревоги за окружающих, стремление проявить о них забот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мение предвидеть последствия своих поступков, заранее предусмотреть возможные неприят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357880" y="3570120"/>
            <a:ext cx="3786120" cy="328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4617b"/>
                </a:solidFill>
                <a:latin typeface="Times New Roman"/>
              </a:rPr>
              <a:t>Сказка «Белая цапля»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935000"/>
            <a:ext cx="442908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значение человека как наиболее разумного из живущих на Земле существ состоит в том, чтобы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тараться сохранять природу и вообще всё живое на нашей плане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303800" y="1857240"/>
            <a:ext cx="4840200" cy="362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472240" cy="15004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4617b"/>
                </a:solidFill>
                <a:latin typeface="Times New Roman"/>
              </a:rPr>
              <a:t>Портрет безответственного человека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"/>
          <p:cNvSpPr/>
          <p:nvPr/>
        </p:nvSpPr>
        <p:spPr>
          <a:xfrm>
            <a:off x="142920" y="1785960"/>
            <a:ext cx="428616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Эгои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е проявляет заботу о други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 судьбе природы равнодуш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Легкомысленный, не думает о последствиях своих действ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357800" y="32148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5000"/>
            </a:br>
            <a:r>
              <a:rPr b="1" i="1" lang="ru-RU" sz="5000" spc="-1" strike="noStrike" u="sng">
                <a:solidFill>
                  <a:srgbClr val="7030a0"/>
                </a:solidFill>
                <a:uFillTx/>
                <a:latin typeface="Times New Roman"/>
              </a:rPr>
              <a:t>Сторонники теории господства над природой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"/>
          <p:cNvSpPr/>
          <p:nvPr/>
        </p:nvSpPr>
        <p:spPr>
          <a:xfrm>
            <a:off x="142920" y="1785960"/>
            <a:ext cx="471492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72880">
              <a:lnSpc>
                <a:spcPct val="10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Целовек-царь и властелин природ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споряжается богатствами природы как ему заблагорассудитс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роду нужно постоянно покорять и заставлять работать на челове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оральные правила на природу не распространяютс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92520" y="3643200"/>
            <a:ext cx="4551480" cy="304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4617b"/>
                </a:solidFill>
                <a:latin typeface="Times New Roman"/>
              </a:rPr>
              <a:t>Сторонники теории сотрудничества с природой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935000"/>
            <a:ext cx="4500720" cy="47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ловек-часть при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рода дает человеку свои богат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ловек должен изучать законы при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рода-дом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00720" y="2643120"/>
            <a:ext cx="4643280" cy="324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 u="sng">
                <a:solidFill>
                  <a:srgbClr val="04617b"/>
                </a:solidFill>
                <a:uFillTx/>
                <a:latin typeface="Times New Roman"/>
              </a:rPr>
              <a:t>Экологическая мораль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"/>
          <p:cNvSpPr/>
          <p:nvPr/>
        </p:nvSpPr>
        <p:spPr>
          <a:xfrm>
            <a:off x="142920" y="1214280"/>
            <a:ext cx="9001080" cy="47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Научись поступать так, чтобы не навредить природе, не причинить ей з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928960" y="2757600"/>
            <a:ext cx="5467320" cy="41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 u="sng">
                <a:solidFill>
                  <a:srgbClr val="04617b"/>
                </a:solidFill>
                <a:uFillTx/>
                <a:latin typeface="Times New Roman"/>
              </a:rPr>
              <a:t>Правила экологической морали: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"/>
          <p:cNvSpPr/>
          <p:nvPr/>
        </p:nvSpPr>
        <p:spPr>
          <a:xfrm>
            <a:off x="214200" y="1643040"/>
            <a:ext cx="84726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14440" indent="-513000">
              <a:lnSpc>
                <a:spcPct val="100000"/>
              </a:lnSpc>
              <a:spcBef>
                <a:spcPts val="726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Я лично несу ответственность за сохранение прир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3000">
              <a:lnSpc>
                <a:spcPct val="100000"/>
              </a:lnSpc>
              <a:spcBef>
                <a:spcPts val="726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Я не причиню зла живому-цветку, дереву, птице, животному. И конечно, челове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3000">
              <a:lnSpc>
                <a:spcPct val="100000"/>
              </a:lnSpc>
              <a:spcBef>
                <a:spcPts val="726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Я помогу любой жизни, которой могу помочь, -цветку, дереву, птице, животному. И конечно, челове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