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C47-09D9-41CC-80C1-C56604E2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050-9B82-4DDD-A3FC-F75C346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48E-B6A7-4655-8DAF-E0D6FC9C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28D-E8DA-4DB5-803D-1D387C9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51E-3F9B-4442-B98D-D22E852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D5B-2742-42F8-8EA2-3F024ED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EC4-8A28-4BE4-8FE3-9F59EAB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645-4BA0-47E1-B6E2-A36D66C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FAA-E495-4A56-B4F9-7E3080E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90F-B717-4D02-83EA-6598650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265-A046-4FF0-9423-D5122F9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00F-2490-4161-AB21-EFD6901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99DC-4912-4BF1-A223-64278D2B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604836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155736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зовые алгоритмичес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2789280"/>
            <a:ext cx="396072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81280" cy="134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5229360"/>
            <a:ext cx="316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.В. Павел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МБОУ СОШ №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тавроп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765000"/>
            <a:ext cx="8137440" cy="1556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Логически структура любого алгоритма может быть представлена комбинацией трех баз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357720"/>
            <a:ext cx="7920000" cy="703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Следование, ветвление, ци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Следова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ледовательность действий, следующих друг за другом (линейный алгорит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3241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256536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342900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29264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44500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508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26370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35002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4365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51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1280" y="4365720"/>
            <a:ext cx="13892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060640"/>
            <a:ext cx="244764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Не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068640"/>
            <a:ext cx="172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4724280"/>
            <a:ext cx="187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4724280"/>
            <a:ext cx="0" cy="2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060640"/>
            <a:ext cx="280836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 инач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068640"/>
            <a:ext cx="1728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3214800"/>
            <a:ext cx="115272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933720"/>
            <a:ext cx="79236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35020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50208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422280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581360"/>
            <a:ext cx="172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278136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0720" y="4581360"/>
            <a:ext cx="0" cy="2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35002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3860640"/>
            <a:ext cx="79200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350028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414972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3213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2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213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060640"/>
            <a:ext cx="244764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Вы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24280"/>
            <a:ext cx="25210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2808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) выбор … ин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781360"/>
            <a:ext cx="2521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 де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60640"/>
            <a:ext cx="406728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пока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редусловие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068640"/>
            <a:ext cx="208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ка  усл, повтор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while … do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060640"/>
            <a:ext cx="3816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о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стуслов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3860640"/>
            <a:ext cx="1152720" cy="57636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3068640"/>
            <a:ext cx="1079640" cy="36036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4437000"/>
            <a:ext cx="0" cy="4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85264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42900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2637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414972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repeat … until …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4724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141720"/>
            <a:ext cx="0" cy="1582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31640" y="3141720"/>
            <a:ext cx="129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4221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357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85264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860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4508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4437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060640"/>
            <a:ext cx="4067280" cy="1059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ля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араметром или со счетчико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133720"/>
            <a:ext cx="4105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084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3573360"/>
            <a:ext cx="1584360" cy="3603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:= a1,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149720"/>
            <a:ext cx="129564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93372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35772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42920" y="4797360"/>
            <a:ext cx="1152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3715920"/>
            <a:ext cx="0" cy="1081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716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7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3716280"/>
            <a:ext cx="0" cy="115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84360" y="4869000"/>
            <a:ext cx="93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486900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4076640"/>
            <a:ext cx="417672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wnt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46440" y="692280"/>
            <a:ext cx="3506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0:21:52Z</dcterms:created>
  <dc:creator>Павелко И.В.</dc:creator>
  <dc:description/>
  <dc:language>en-US</dc:language>
  <cp:lastModifiedBy>Ирина</cp:lastModifiedBy>
  <dcterms:modified xsi:type="dcterms:W3CDTF">2019-12-25T14:49:29Z</dcterms:modified>
  <cp:revision>13</cp:revision>
  <dc:subject/>
  <dc:title>Слайд 1</dc:title>
</cp:coreProperties>
</file>