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6EE-DD91-471F-9250-A2EB12C9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170-536F-4824-B213-6EF0B99D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42A-3F9B-4F38-9F9F-AC1D3A31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C73-0157-4539-8FDE-5B0BF19D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B9E-1454-4EB0-89F3-38333445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1FC-B519-49BE-B6EC-6B1FFB7C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112-19C7-4566-B5B8-7B19E9CF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255-09D1-44C7-B4E0-541BDAA3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C57-9C0B-4AC0-BF0C-E61EC42C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EEB-617C-4499-9147-0DB90495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0D6-92AC-403D-89DF-8426C027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585-CB25-417C-9766-C40783F0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8E54-173C-4D41-BF2C-72A2092C5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497800" cy="604836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1557360"/>
            <a:ext cx="544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зовые алгоритмическ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360" y="2789280"/>
            <a:ext cx="3960720" cy="22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укту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781280" cy="1343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5229360"/>
            <a:ext cx="3168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.В. Павел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МБОУ СОШ №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Ставроп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765000"/>
            <a:ext cx="8137440" cy="15562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Логически структура любого алгоритма может быть представлена комбинацией трех базовых струк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357720"/>
            <a:ext cx="7920000" cy="703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Следование, ветвление, цик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Следование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404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следовательность действий, следующих друг за другом (линейный алгорит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3241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2565360"/>
            <a:ext cx="1728720" cy="43200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3429000"/>
            <a:ext cx="1728720" cy="43164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292640"/>
            <a:ext cx="1728720" cy="43164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5445000"/>
            <a:ext cx="1728720" cy="43200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860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5084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26370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Де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350028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Де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4365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Действие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516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Действие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11280" y="4365720"/>
            <a:ext cx="13892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Ветвление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404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 зависимости от условия выполняется одна или другая последовательность действ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060640"/>
            <a:ext cx="2447640" cy="785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) Неполная 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Если … 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3068640"/>
            <a:ext cx="1728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Если усл,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ец вет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3357720"/>
            <a:ext cx="1152360" cy="57600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076640"/>
            <a:ext cx="792000" cy="28908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364500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364500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3645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645000"/>
            <a:ext cx="0" cy="1079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4365720"/>
            <a:ext cx="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4724280"/>
            <a:ext cx="187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92428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4724280"/>
            <a:ext cx="0" cy="289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If …then … 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2060640"/>
            <a:ext cx="2808360" cy="785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) Полная 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Если … то … инач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3068640"/>
            <a:ext cx="17287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Если усл,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а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ец вет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3214800"/>
            <a:ext cx="1152720" cy="57600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933720"/>
            <a:ext cx="792360" cy="28908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350208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04360" y="350208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4222800"/>
            <a:ext cx="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4581360"/>
            <a:ext cx="172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278136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0720" y="4581360"/>
            <a:ext cx="0" cy="287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7080" y="350028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3860640"/>
            <a:ext cx="792000" cy="28908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7080" y="350028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414972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If …then … 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3213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2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33577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32130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Ветвление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40464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 зависимости от условия выполняется одна или другая последовательность действ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060640"/>
            <a:ext cx="2447640" cy="368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) Выб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2924280"/>
            <a:ext cx="25210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1 д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2 д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3 дйствие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…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йствие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516640"/>
            <a:ext cx="352908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case …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060640"/>
            <a:ext cx="2808360" cy="368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) выбор … ина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2781360"/>
            <a:ext cx="25210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1 дйств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2 дйств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3 дйствие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…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 усл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йствие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аче действие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5516640"/>
            <a:ext cx="352908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case …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. Цикл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26028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беспечивает многократное выполнение некоторой совокупности действий, которая называется телом ци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060640"/>
            <a:ext cx="4067280" cy="785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) Цикл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«пока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с предусловием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3068640"/>
            <a:ext cx="208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ка  усл, повтор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ец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3357720"/>
            <a:ext cx="1152360" cy="57600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4076640"/>
            <a:ext cx="792000" cy="28908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364500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364500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3645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365720"/>
            <a:ext cx="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292428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while … do … 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2060640"/>
            <a:ext cx="3816360" cy="3682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) Цикл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«до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стуслови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3860640"/>
            <a:ext cx="1152720" cy="576360"/>
          </a:xfrm>
          <a:prstGeom prst="flowChartDecis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3068640"/>
            <a:ext cx="1079640" cy="36036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4437000"/>
            <a:ext cx="0" cy="43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85264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3429000"/>
            <a:ext cx="0" cy="433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2637000"/>
            <a:ext cx="0" cy="43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414972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5229360"/>
            <a:ext cx="3529080" cy="865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cc"/>
                </a:solidFill>
                <a:latin typeface="Arial"/>
              </a:rPr>
              <a:t>repeat … until …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4724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3141720"/>
            <a:ext cx="0" cy="1582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31640" y="3141720"/>
            <a:ext cx="129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3645000"/>
            <a:ext cx="0" cy="1079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422100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Выход из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3357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35772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852640"/>
            <a:ext cx="863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860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5080" y="4508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443700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Выход из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184464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404640"/>
            <a:ext cx="34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. Цикл: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6028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беспечивает многократное выполнение некоторой совокупности действий, которая называется телом ци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916280"/>
            <a:ext cx="0" cy="4941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060640"/>
            <a:ext cx="4067280" cy="1059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) Цикл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«для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с параметром или со счетчиком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2133720"/>
            <a:ext cx="410508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or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четчик := НачЗнач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Знач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n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5084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Выход из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3573360"/>
            <a:ext cx="1584360" cy="3603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:= a1,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4149720"/>
            <a:ext cx="1295640" cy="431640"/>
          </a:xfrm>
          <a:prstGeom prst="flowChartProcess">
            <a:avLst/>
          </a:prstGeom>
          <a:solidFill>
            <a:srgbClr val="cc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93372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3357720"/>
            <a:ext cx="0" cy="21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042920" y="4797360"/>
            <a:ext cx="1152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042920" y="3715920"/>
            <a:ext cx="0" cy="1081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371628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3716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3716280"/>
            <a:ext cx="0" cy="1152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484360" y="4869000"/>
            <a:ext cx="935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4869000"/>
            <a:ext cx="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4076640"/>
            <a:ext cx="4176720" cy="1081080"/>
          </a:xfrm>
          <a:prstGeom prst="flowChartProcess">
            <a:avLst/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for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четчик := НачЗнач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downto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Знач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ело цикла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cc00cc"/>
                </a:solidFill>
                <a:latin typeface="Arial"/>
              </a:rPr>
              <a:t>end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746440" y="692280"/>
            <a:ext cx="3506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0:21:52Z</dcterms:created>
  <dc:creator>Павелко И.В.</dc:creator>
  <dc:description/>
  <dc:language>en-US</dc:language>
  <cp:lastModifiedBy>Ирина</cp:lastModifiedBy>
  <dcterms:modified xsi:type="dcterms:W3CDTF">2019-12-25T14:49:29Z</dcterms:modified>
  <cp:revision>13</cp:revision>
  <dc:subject/>
  <dc:title>Слайд 1</dc:title>
</cp:coreProperties>
</file>