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11.jpeg" ContentType="image/jpeg"/>
  <Override PartName="/ppt/media/image10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2BBB2-9FE5-4542-BB23-DD4831F14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F24F4-6EC5-46CE-BDD7-C6C448C2D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43ED-CAAA-4B2D-9685-9BAFBF6F0E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3930-E95D-433B-A72B-0A4854220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20CECF-A69D-4768-87B9-E23DF95D9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4DA29-10C2-47C7-9635-21BDA2D23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E150B-64B6-42B1-ABD1-CFBF2A45C5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623C0-FBF5-454A-85A0-2D5EDBDD6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57A7B-19EF-438A-908C-CBD2D0E9F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73E73-B1CF-4887-B646-3EC8BE84A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E1C9D-C1A3-4E7E-AAA7-1B3157FD1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1D37-151D-4D7A-B2FC-24F458165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8AD7F-FC87-4A99-B60E-9DF4B0E1B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8E9068-E5E3-4442-943B-0A8D072C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F7ECE-FF6A-4D22-A03B-D7C42B108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3C6B9-348B-4D9A-93D3-6E9F04ACD0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A9EB0-DD81-4655-A3A0-85199DF2EC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9BBB18-6B85-4CC3-A0D1-21A71164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ED1FF-0B32-47EB-82F2-98ABDFB4C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761754-7CE8-48B1-B96D-2DB9546E1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1EF7D-2341-414C-92FB-4B04A4307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4B73-CC67-471C-8CE4-112700617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7457-7085-4641-B78D-188DBCCFF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C6023-F758-4CCA-BE1E-CB988DDDC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94D91-246C-439A-82DD-0CC68F7A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36DD62-5685-426E-AC67-A9FC7BD9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C46B1-E232-4A99-BC15-AD5C4D3F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C171C4-A0FA-4CC5-9E82-369AE5829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7E73D3-264F-4737-BFF6-42FC05C145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787575-92AE-4F1B-AEFE-0CD8C7827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049222-AFC6-4E99-A215-F90DB2BF8E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3FB22-6DB6-455C-A939-D7BCE614E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1BE79F-F922-46B3-8966-2F2506FA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177E-6ABA-48BE-A446-6764BC6F5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BEF6D5-BA2D-440E-B227-E7C6A788B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BB4F56-98E2-4895-BE9C-E971754DA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45A1D-5F30-42A9-8FEE-A48BEEA84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E8A15F-C5D8-4182-B082-D351C430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46B793-5AC4-4718-B0E0-EE5B63432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E971F-26CA-45D0-B349-B22391F3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13B6A2-5D87-4D61-876A-3050DB035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13472C-3D1B-43DB-903C-B03B5A3AC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04F9CD-3E2E-4064-BB66-F3444BA0CB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80310B-DE1C-4B31-85E9-FAF8F0E77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F398-F828-461C-8097-5F2ED4BD8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7C41B2-FF39-453D-9852-9DC984DC4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B378B5-0A6F-4076-BD30-BD3E26DA55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6E4345-8CE1-43A4-9AA0-92F1174AE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552B8-87ED-4CA5-BCC6-B93683C6C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E462E9-369D-4A61-B168-2821263EED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94F46-0C44-4323-A865-013107D3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EE18F-62B9-4EFE-B377-95BD205BB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A66E74E-4943-4AB5-9E33-0F88B399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75F0C4-D303-4B80-975F-5E806178D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0F1599-3021-480C-B49A-ADCFE9CC8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D79A-E5CC-41AA-9A6A-482BDA61C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56DCE-8110-4DC4-A517-5B7176BF2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9F586E-C0DE-447D-8574-9097B625D2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2DC53F-EF16-49BD-A40F-687EF26EA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EA87F0-3695-41C5-BE2B-447E6E344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A64A12-6F45-4E45-B4FC-6AEE36E6C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750480-E374-4C17-82E0-7E8871FF3E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59D8C9-FE9E-4FA3-847E-ADC40CB2D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5CF2A4-515A-46C6-BE52-3CABEF436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E3868B-538B-4DF0-833F-72345347F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D15868-05FB-4652-97B6-6C22EF3D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07B21-63C8-4DF2-9DA2-8B40C629B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E18E95-0540-4A21-825B-FC2850671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389649-B533-4510-BF96-2478BF426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C686AF-5E98-4004-BAAC-30F0FBF4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81A97-0B84-470C-BECB-FB1104BDE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9846-F9F0-456F-B745-ADCC8FE83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0C3C7-37B3-407E-A086-9A9D3B1BBA7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D3F8-72DA-410A-ACFA-ACAC5B7261E6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E8BD7-40CF-4647-9B13-308E8964EE9C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2B849-377A-478C-9082-6ECC98F5761B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CC6C5-2B10-448E-BD73-79F66D40F117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63875-8C68-4C57-81C6-3CE4228B76F5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747072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рогие ребята!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егодня мы с вами познакомимся с одним сказочным персонажем, а кто это, вы узнаете отгадав загадку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50920" y="189000"/>
            <a:ext cx="8686800" cy="6480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«Баба Яга».</a:t>
            </a:r>
            <a:br>
              <a:rPr sz="8000"/>
            </a:b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1. Что делает Баба Яга? </a:t>
            </a:r>
            <a:br>
              <a:rPr sz="2400"/>
            </a:br>
            <a:r>
              <a:rPr b="1" lang="ru-RU" sz="2400" spc="-1" strike="noStrike">
                <a:solidFill>
                  <a:srgbClr val="ffffff"/>
                </a:solidFill>
                <a:latin typeface="Franklin Gothic Book"/>
              </a:rPr>
              <a:t>2. Смогла ли она осуществить свой замысел?</a:t>
            </a:r>
            <a:br>
              <a:rPr sz="2400"/>
            </a:b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Franklin Gothic Book"/>
              </a:rPr>
              <a:t>https://youtu.be/pZxVebxaKwM</a:t>
            </a: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4214880" y="765000"/>
            <a:ext cx="4214880" cy="5592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ступе летаю,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Детей похищаю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 избе на куриной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оге проживаю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Рисунок 3" descr="http://oboiny.ru/wp-content/uploads/2010/12/1281359148_4-226x300.jpg"/>
          <p:cNvPicPr/>
          <p:nvPr/>
        </p:nvPicPr>
        <p:blipFill>
          <a:blip r:embed="rId1"/>
          <a:stretch/>
        </p:blipFill>
        <p:spPr>
          <a:xfrm>
            <a:off x="285840" y="500040"/>
            <a:ext cx="371484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Franklin Gothic Book"/>
              </a:rPr>
              <a:t>Вся атмосфера пьесы сказочная, порывистая, словно рассказывает о полёте этой самой древней Бабы-яги над полями и лесами. Но это не зловещий не угрожающий полёт, а просто лёгкий и стремительный. </a:t>
            </a:r>
            <a:endParaRPr b="0" lang="en-US" sz="3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Домашнее задание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Нарисуйте лицо Бабы Яги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1042560" y="500040"/>
            <a:ext cx="7643880" cy="562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Метла, ступка, нос крючко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Торчат волосы клочком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Чёрный кот, костяная нога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 мы знаем – это  …. …!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сподлобья грозно смотри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И в ухмылке рожу скорчит,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Всех страшит, в душе добра -</a:t>
            </a:r>
            <a:br>
              <a:rPr sz="4000"/>
            </a:br>
            <a:r>
              <a:rPr b="0" lang="ru-RU" sz="4000" spc="-1" strike="noStrike">
                <a:solidFill>
                  <a:srgbClr val="ffffff"/>
                </a:solidFill>
                <a:latin typeface="Arial"/>
              </a:rPr>
              <a:t>Наша Бабушка …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419040" indent="-382680" algn="ctr">
              <a:spcBef>
                <a:spcPts val="100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J:\фильм\картинки\Мои рисунки\Осень 3\00041022.jpg"/>
          <p:cNvPicPr/>
          <p:nvPr/>
        </p:nvPicPr>
        <p:blipFill>
          <a:blip r:embed="rId1"/>
          <a:stretch/>
        </p:blipFill>
        <p:spPr>
          <a:xfrm>
            <a:off x="0" y="0"/>
            <a:ext cx="9213840" cy="6858000"/>
          </a:xfrm>
          <a:prstGeom prst="rect">
            <a:avLst/>
          </a:prstGeom>
          <a:ln w="0">
            <a:noFill/>
          </a:ln>
        </p:spPr>
      </p:pic>
      <p:pic>
        <p:nvPicPr>
          <p:cNvPr id="257" name="Заголовок 1" descr=""/>
          <p:cNvPicPr/>
          <p:nvPr/>
        </p:nvPicPr>
        <p:blipFill>
          <a:blip r:embed="rId2"/>
          <a:srcRect l="0" t="0" r="0" b="22668"/>
          <a:stretch/>
        </p:blipFill>
        <p:spPr>
          <a:xfrm>
            <a:off x="0" y="2071800"/>
            <a:ext cx="9144000" cy="414324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428920" y="642600"/>
            <a:ext cx="5500800" cy="78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e5e6e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Рисунок 1" descr="http://oboiny.ru/wp-content/uploads/2010/12/1248333800_baba_copy-300x196.jpg"/>
          <p:cNvPicPr/>
          <p:nvPr/>
        </p:nvPicPr>
        <p:blipFill>
          <a:blip r:embed="rId1"/>
          <a:stretch/>
        </p:blipFill>
        <p:spPr>
          <a:xfrm>
            <a:off x="-158760" y="-158760"/>
            <a:ext cx="5248440" cy="4389480"/>
          </a:xfrm>
          <a:prstGeom prst="rect">
            <a:avLst/>
          </a:prstGeom>
          <a:ln w="0">
            <a:noFill/>
          </a:ln>
        </p:spPr>
      </p:pic>
      <p:pic>
        <p:nvPicPr>
          <p:cNvPr id="260" name="Рисунок 2" descr="http://oboiny.ru/wp-content/uploads/2010/12/img_chmnv34-230x300.jpg"/>
          <p:cNvPicPr/>
          <p:nvPr/>
        </p:nvPicPr>
        <p:blipFill>
          <a:blip r:embed="rId2"/>
          <a:stretch/>
        </p:blipFill>
        <p:spPr>
          <a:xfrm>
            <a:off x="4237200" y="-463680"/>
            <a:ext cx="5595840" cy="5827680"/>
          </a:xfrm>
          <a:prstGeom prst="rect">
            <a:avLst/>
          </a:prstGeom>
          <a:ln w="0">
            <a:noFill/>
          </a:ln>
        </p:spPr>
      </p:pic>
      <p:pic>
        <p:nvPicPr>
          <p:cNvPr id="261" name="Рисунок 3" descr="http://oboiny.ru/wp-content/uploads/2010/12/1259176140_ill-9-225x300.jpg"/>
          <p:cNvPicPr/>
          <p:nvPr/>
        </p:nvPicPr>
        <p:blipFill>
          <a:blip r:embed="rId3"/>
          <a:stretch/>
        </p:blipFill>
        <p:spPr>
          <a:xfrm>
            <a:off x="-463680" y="1725480"/>
            <a:ext cx="6066000" cy="5761080"/>
          </a:xfrm>
          <a:prstGeom prst="rect">
            <a:avLst/>
          </a:prstGeom>
          <a:ln w="0">
            <a:noFill/>
          </a:ln>
        </p:spPr>
      </p:pic>
      <p:pic>
        <p:nvPicPr>
          <p:cNvPr id="262" name="Рисунок 4" descr="http://oboiny.ru/wp-content/uploads/2010/12/43148695_baba_yaga_4-209x300.jpg"/>
          <p:cNvPicPr/>
          <p:nvPr/>
        </p:nvPicPr>
        <p:blipFill>
          <a:blip r:embed="rId4"/>
          <a:stretch/>
        </p:blipFill>
        <p:spPr>
          <a:xfrm>
            <a:off x="4157640" y="566640"/>
            <a:ext cx="5059440" cy="6943680"/>
          </a:xfrm>
          <a:prstGeom prst="rect">
            <a:avLst/>
          </a:prstGeom>
          <a:ln w="0">
            <a:noFill/>
          </a:ln>
        </p:spPr>
      </p:pic>
      <p:pic>
        <p:nvPicPr>
          <p:cNvPr id="263" name="Рисунок 5" descr="http://oboiny.ru/wp-content/uploads/2010/12/8c075c17c6b8-237x300.jpg"/>
          <p:cNvPicPr/>
          <p:nvPr/>
        </p:nvPicPr>
        <p:blipFill>
          <a:blip r:embed="rId5"/>
          <a:stretch/>
        </p:blipFill>
        <p:spPr>
          <a:xfrm>
            <a:off x="2146320" y="512640"/>
            <a:ext cx="4851360" cy="1120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002440" cy="5818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Какой вы представляете Бабу Ягу?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1.Опишите её внешний вид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2.Какая она по характеру?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435880" cy="59626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Сейчас мы познакомимся с пьесой П.И.Чайковского из «Детского альбома».</a:t>
            </a:r>
            <a:br>
              <a:rPr sz="4600"/>
            </a:br>
            <a:r>
              <a:rPr b="0" lang="ru-RU" sz="2400" spc="-1" strike="noStrike">
                <a:solidFill>
                  <a:srgbClr val="ffffff"/>
                </a:solidFill>
                <a:latin typeface="Franklin Gothic Book"/>
              </a:rPr>
              <a:t>Свой цикл детских пьес Чайковский посвятил племяннику Володе Давыдову. В этом альбоме отражен детский мир, обрисованный композитором с удивительной чуткостью и тонким пониманием детского восприятия жизн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ётр Ильич Чайковский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7" name="Рисунок 4" descr="0661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357280" y="1000080"/>
            <a:ext cx="43563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00000"/>
                </a:solidFill>
                <a:latin typeface="Franklin Gothic Book"/>
              </a:rPr>
              <a:t>         </a:t>
            </a: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«Детский альбом»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69" name="Picture 4" descr="25117"/>
          <p:cNvPicPr/>
          <p:nvPr/>
        </p:nvPicPr>
        <p:blipFill>
          <a:blip r:embed="rId1"/>
          <a:stretch/>
        </p:blipFill>
        <p:spPr>
          <a:xfrm>
            <a:off x="2484360" y="1433520"/>
            <a:ext cx="403236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8000" y="259920"/>
            <a:ext cx="8678880" cy="151308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Детский альбом Чайковский посвятил своему племяннику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Franklin Gothic Book"/>
              </a:rPr>
              <a:t>         Володе Давыдову</a:t>
            </a:r>
            <a:endParaRPr b="0" lang="en-US" sz="32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71" name="Picture 4" descr="davyd1"/>
          <p:cNvPicPr/>
          <p:nvPr/>
        </p:nvPicPr>
        <p:blipFill>
          <a:blip r:embed="rId1"/>
          <a:stretch/>
        </p:blipFill>
        <p:spPr>
          <a:xfrm>
            <a:off x="2643120" y="1928880"/>
            <a:ext cx="3240000" cy="444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User</cp:lastModifiedBy>
  <dcterms:modified xsi:type="dcterms:W3CDTF">2020-04-22T08:28:20Z</dcterms:modified>
  <cp:revision>22</cp:revision>
  <dc:subject/>
  <dc:title>«Знакомьтесь, Баба-Яга» Библиотечный урок </dc:title>
</cp:coreProperties>
</file>