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44C5-3CB5-4274-A815-2E7667DF0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2C1-E8E4-4C21-84D3-F4FB8965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4B0E-2AB6-40E3-BDC6-E0039B503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28E2-FF60-4F9C-9186-BD55BE297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0CFB3-73AB-481B-BABD-8335A0A7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27F78-D3B5-49A4-9BA3-91B01C78A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938E5-A9BF-4F42-ABBD-EB687BC62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386A2-29D0-4071-BE01-176824AFE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2CB9-67D9-42A1-91D5-CC3BD4F9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2E793-DE1D-4847-8076-6491D486B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5B3CC-0BD1-4B2D-95CD-70C597B7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FFDA-198E-418E-81B7-598C7A13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B4CD7-53F2-4528-812D-0024192AB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9C10-F014-43A1-AD68-42C28ECAC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B9CF8-CC3F-4080-9662-D0E75936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3B272-D466-4194-8D52-DF4E5565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86DC4-FC6D-4805-B7D6-757C9957B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97AC8-1818-499C-8DA0-023561FD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07CEA-FA25-40A0-B6DC-8683550C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67691-2522-4487-B09E-3951E67BD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B3070-81D2-4A86-9E57-A35253CC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C9ACA-396C-45D2-B06F-E821A7E4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A56D-EAE3-403B-8F0D-634027FF0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B75E8-E0F4-4D03-A0B4-99C689228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30E46-AE9A-4397-AA0E-358F57D6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E3285-D243-4599-AE81-C7FC57F27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990FB-E846-430C-BFE5-55178EF1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A2861-DB5A-4905-AB03-41FFF3943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2060B-B277-41B9-94C3-635962DF3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65E1C-E284-4DD0-9045-78BC967F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313E1-27CD-49BE-BB38-B789713C6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6CC7D-5E34-4A61-882F-15A779E1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D9AE0-67DF-4645-BE12-B735059E7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75D2-1CA9-4EE7-9F02-CE9BAF0A2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284C5-6341-43E8-A09C-AC8DEF4C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3D943-EAE3-4B85-894B-35B5AB60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1808C-2E2A-4ABD-B785-6457B809E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C8D92-2403-4A07-9750-DE5843BF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3928E-E957-43FD-923B-51A5BE23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F03C4-3714-41DE-9AE7-2CAA81EA6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705F44-7A60-4AE4-843C-3C070FF13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E3321-CF40-42FC-BFA8-CFB829B81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D2DAFB-EF9D-416C-902C-F9187C4F9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D324D-DCD7-40E4-83D4-2051ABD5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62CB-8C43-4CCF-8B23-DD42C76C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96123-570B-4FD2-B5E1-C22728D8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7D0B3-A1C1-4CFA-B9A5-B4BC347A6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7CCE5-F91D-4C89-B334-F5131C2B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0F32AE-C296-40D0-9FC5-4CFD8B752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33198-7FB1-4006-9355-4F8D9E6E9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73C1A-6B1D-467E-BD89-A4B15C56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BB899-046A-4166-A905-CBC25792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58F5A6-3385-4242-A3A1-8A98D111E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E1F14F-E0C3-493C-8AE7-DE70AA15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F9C0E-E569-4F76-8BC7-3E10AE7E8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248B-EDCE-4416-912E-88C66D1C9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1259F-D631-494B-8F23-FBFE69BAB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CF488-0A70-4E3E-A983-97FFC76D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4774A-E6F4-41AE-9C44-1D2DC8FE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9D4DFF-43A4-4B89-B309-645A3D38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62CD5-D6F1-4A79-B478-24B6D48A9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4603D-A509-470B-B827-9FDB946C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6E629-346D-426A-B001-FD8B915D3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9E812-0674-427A-A436-71DF9EFE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EFE7A-C3CB-47A7-BC12-09E959FC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86ACB-E9E4-4E2F-BCE4-07AE20C0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ADDB-E597-4721-B162-24308E01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D44902-0324-45CD-8A32-BAB0EAAD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94B56-CB22-4A60-9E14-FA0B7B850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D2808-7726-46AE-B44C-4D6280BD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0B64-0D1F-4414-9BCA-95C08DDB3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9FA5-8736-4091-BC54-03760F7A6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F9DC-C05B-4E07-B061-EA013060BA25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CEA40-194C-41B4-BA3F-47D42D73818C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898A0-0D5E-426B-8C04-7FE7AE890F42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2BE1E-ADAB-486C-B8F6-E4D2723A281A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8BC2-6783-4B42-8039-B0D844E52A80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4F24-B8B3-49C3-AEAE-45305D523181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70720" cy="581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орогие ребята!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егодня мы с вами познакомимся с одним сказочным персонажем, а кто это, вы узнаете отгадав загадку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64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Franklin Gothic Book"/>
              </a:rPr>
              <a:t>«Баба Яга».</a:t>
            </a:r>
            <a:br>
              <a:rPr sz="8000"/>
            </a:b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1. Что делает Баба Яга?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2. Смогла ли она осуществить свой замысел?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https://youtu.be/pZxVebxaKwM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214880" y="765000"/>
            <a:ext cx="421488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ступе летаю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етей похища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избе на курин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оге проживаю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Рисунок 3" descr="http://oboiny.ru/wp-content/uploads/2010/12/1281359148_4-226x300.jpg"/>
          <p:cNvPicPr/>
          <p:nvPr/>
        </p:nvPicPr>
        <p:blipFill>
          <a:blip r:embed="rId1"/>
          <a:stretch/>
        </p:blipFill>
        <p:spPr>
          <a:xfrm>
            <a:off x="285840" y="500040"/>
            <a:ext cx="37148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96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Вся атмосфера пьесы сказочная, порывистая, словно рассказывает о полёте этой самой древней Бабы-яги над полями и лесами. Но это не зловещий не угрожающий полёт, а просто лёгкий и стремительный.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омашнее задание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9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рисуйте лицо Бабы Яг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042560" y="500040"/>
            <a:ext cx="76438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ла, ступка, нос крючком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орчат волосы клочком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ёрный кот, костяная нога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се мы знаем – это  …. …!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подлобья грозно смотрит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 в ухмылке рожу скорчит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сех страшит, в душе добра 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ша Бабушка …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J:\фильм\картинки\Мои рисунки\Осень 3\00041022.jpg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Заголовок 1" descr=""/>
          <p:cNvPicPr/>
          <p:nvPr/>
        </p:nvPicPr>
        <p:blipFill>
          <a:blip r:embed="rId2"/>
          <a:srcRect l="0" t="0" r="0" b="22668"/>
          <a:stretch/>
        </p:blipFill>
        <p:spPr>
          <a:xfrm>
            <a:off x="0" y="2071800"/>
            <a:ext cx="9144000" cy="41432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428920" y="642600"/>
            <a:ext cx="55008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e5e6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Рисунок 1" descr="http://oboiny.ru/wp-content/uploads/2010/12/1248333800_baba_copy-300x196.jpg"/>
          <p:cNvPicPr/>
          <p:nvPr/>
        </p:nvPicPr>
        <p:blipFill>
          <a:blip r:embed="rId1"/>
          <a:stretch/>
        </p:blipFill>
        <p:spPr>
          <a:xfrm>
            <a:off x="-158760" y="-158760"/>
            <a:ext cx="5248440" cy="43894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2" descr="http://oboiny.ru/wp-content/uploads/2010/12/img_chmnv34-230x300.jpg"/>
          <p:cNvPicPr/>
          <p:nvPr/>
        </p:nvPicPr>
        <p:blipFill>
          <a:blip r:embed="rId2"/>
          <a:stretch/>
        </p:blipFill>
        <p:spPr>
          <a:xfrm>
            <a:off x="4237200" y="-463680"/>
            <a:ext cx="5595840" cy="582768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3" descr="http://oboiny.ru/wp-content/uploads/2010/12/1259176140_ill-9-225x300.jpg"/>
          <p:cNvPicPr/>
          <p:nvPr/>
        </p:nvPicPr>
        <p:blipFill>
          <a:blip r:embed="rId3"/>
          <a:stretch/>
        </p:blipFill>
        <p:spPr>
          <a:xfrm>
            <a:off x="-463680" y="1725480"/>
            <a:ext cx="6066000" cy="57610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4" descr="http://oboiny.ru/wp-content/uploads/2010/12/43148695_baba_yaga_4-209x300.jpg"/>
          <p:cNvPicPr/>
          <p:nvPr/>
        </p:nvPicPr>
        <p:blipFill>
          <a:blip r:embed="rId4"/>
          <a:stretch/>
        </p:blipFill>
        <p:spPr>
          <a:xfrm>
            <a:off x="4157640" y="566640"/>
            <a:ext cx="5059440" cy="69436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5" descr="http://oboiny.ru/wp-content/uploads/2010/12/8c075c17c6b8-237x300.jpg"/>
          <p:cNvPicPr/>
          <p:nvPr/>
        </p:nvPicPr>
        <p:blipFill>
          <a:blip r:embed="rId5"/>
          <a:stretch/>
        </p:blipFill>
        <p:spPr>
          <a:xfrm>
            <a:off x="2146320" y="512640"/>
            <a:ext cx="4851360" cy="11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581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Какой вы представляете Бабу Ягу?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1.Опишите её внешний вид.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2.Какая она по характеру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96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ейчас мы познакомимся с пьесой П.И.Чайковского из «Детского альбома».</a:t>
            </a:r>
            <a:br>
              <a:rPr sz="4600"/>
            </a:b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Свой цикл детских пьес Чайковский посвятил племяннику Володе Давыдову. В этом альбоме отражен детский мир, обрисованный композитором с удивительной чуткостью и тонким пониманием детского восприятия жизни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ётр Ильич Чайковский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7" name="Рисунок 4" descr="0661.BMP"/>
          <p:cNvPicPr/>
          <p:nvPr/>
        </p:nvPicPr>
        <p:blipFill>
          <a:blip r:embed="rId1"/>
          <a:srcRect l="15805" t="3135" r="15805" b="12995"/>
          <a:stretch/>
        </p:blipFill>
        <p:spPr>
          <a:xfrm>
            <a:off x="2357280" y="1000080"/>
            <a:ext cx="435636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«Детский альбом»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9" name="Picture 4" descr="25117"/>
          <p:cNvPicPr/>
          <p:nvPr/>
        </p:nvPicPr>
        <p:blipFill>
          <a:blip r:embed="rId1"/>
          <a:stretch/>
        </p:blipFill>
        <p:spPr>
          <a:xfrm>
            <a:off x="2484360" y="1433520"/>
            <a:ext cx="403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678880" cy="151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Детский альбом Чайковский посвятил своему племяннику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         Володе Давыдову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1" name="Picture 4" descr="davyd1"/>
          <p:cNvPicPr/>
          <p:nvPr/>
        </p:nvPicPr>
        <p:blipFill>
          <a:blip r:embed="rId1"/>
          <a:stretch/>
        </p:blipFill>
        <p:spPr>
          <a:xfrm>
            <a:off x="2643120" y="1928880"/>
            <a:ext cx="324000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0:13:20Z</dcterms:created>
  <dc:creator>Admin</dc:creator>
  <dc:description/>
  <dc:language>en-US</dc:language>
  <cp:lastModifiedBy>User</cp:lastModifiedBy>
  <dcterms:modified xsi:type="dcterms:W3CDTF">2020-04-22T08:28:20Z</dcterms:modified>
  <cp:revision>22</cp:revision>
  <dc:subject/>
  <dc:title>«Знакомьтесь, Баба-Яга» Библиотечный урок </dc:title>
</cp:coreProperties>
</file>