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CD4-D63D-4DDC-B38E-BBDA064F5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1FE3-47C3-4D5A-B250-18576B43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F9CD-5CA0-4281-A354-D06D01380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D7B2-F911-4B9C-AA0B-66095657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4B69-4CFC-45EA-BB5A-B012B621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C084-CB5E-4011-BA14-594953854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A1C5-CFD9-4DBC-B544-C75A87DD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D880-AEF8-4E38-B063-00901493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DCFD-C72B-498F-8DC9-8B2751C3A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33F7-50C1-444A-AB1A-6EDC3045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808B-E27E-47D3-B3E2-2FD546A85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7E90-897D-463F-ABDB-F394718F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A5336-8F92-4589-A28E-5DC93CC7971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71480"/>
            <a:ext cx="7772400" cy="102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300"/>
            </a:br>
            <a:r>
              <a:rPr b="0" lang="ru-RU" sz="4300" spc="-1" strike="noStrike">
                <a:solidFill>
                  <a:srgbClr val="000000"/>
                </a:solidFill>
                <a:latin typeface="Calibri"/>
              </a:rPr>
              <a:t>Архитектор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Пётр Егорович Его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D:\Мои документы\peg.jpeg"/>
          <p:cNvPicPr/>
          <p:nvPr/>
        </p:nvPicPr>
        <p:blipFill>
          <a:blip r:embed="rId2"/>
          <a:stretch/>
        </p:blipFill>
        <p:spPr>
          <a:xfrm>
            <a:off x="3500280" y="142920"/>
            <a:ext cx="22147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звестный архитек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928800" y="1600200"/>
            <a:ext cx="7758000" cy="38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Calibri"/>
              </a:rPr>
              <a:t>ЕГОРОВ Петр Егорович (1731-1789), архитектор. В СПб. с 1755. Учился в архитектурной школе Канцелярии от строений у С. А. Волкова. Работал с Ф. Растрелли, Ю. М. Фельтеном, А. Ринальди и др. В числе самостоятельных построек Е. – церковь Рождества Христова на Песках (6-я Советская ул., угол Красноборского пер., 1781–88, не сохранён), служебный корпус Мраморного дворца (Миллионная ул., 5, 1780–88, надстроен), ограда Мраморного дворца (1780-е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Летний с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Мои документы\ыва.jpeg"/>
          <p:cNvPicPr/>
          <p:nvPr/>
        </p:nvPicPr>
        <p:blipFill>
          <a:blip r:embed="rId1"/>
          <a:stretch/>
        </p:blipFill>
        <p:spPr>
          <a:xfrm>
            <a:off x="642960" y="1500120"/>
            <a:ext cx="214308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D:\Мои документы\ап.jpeg"/>
          <p:cNvPicPr/>
          <p:nvPr/>
        </p:nvPicPr>
        <p:blipFill>
          <a:blip r:embed="rId2"/>
          <a:stretch/>
        </p:blipFill>
        <p:spPr>
          <a:xfrm>
            <a:off x="1714680" y="3429000"/>
            <a:ext cx="1643040" cy="15001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D:\Мои документы\тсм.jpeg"/>
          <p:cNvPicPr/>
          <p:nvPr/>
        </p:nvPicPr>
        <p:blipFill>
          <a:blip r:embed="rId3"/>
          <a:stretch/>
        </p:blipFill>
        <p:spPr>
          <a:xfrm>
            <a:off x="3643200" y="2071800"/>
            <a:ext cx="2143080" cy="1428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D:\Мои документы\забор.jpeg"/>
          <p:cNvPicPr/>
          <p:nvPr/>
        </p:nvPicPr>
        <p:blipFill>
          <a:blip r:embed="rId4"/>
          <a:stretch/>
        </p:blipFill>
        <p:spPr>
          <a:xfrm>
            <a:off x="6143760" y="2000160"/>
            <a:ext cx="2525400" cy="18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:\Мои документы\i.jpeg"/>
          <p:cNvPicPr/>
          <p:nvPr/>
        </p:nvPicPr>
        <p:blipFill>
          <a:blip r:embed="rId5"/>
          <a:stretch/>
        </p:blipFill>
        <p:spPr>
          <a:xfrm>
            <a:off x="3857760" y="4500720"/>
            <a:ext cx="200952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Железо, покоряясь влиянию огня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десь легкостью дивит в прозрачности огра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За коей прячется и смотрит сад прохлады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олтавская рука сей разводила сад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Пётр Вязем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Я к розам хочу, в тот единственный сад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Где лучшая в мире стоит из оград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Анна Ахмат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раморный д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D:\Мои документы\9.jpeg"/>
          <p:cNvPicPr/>
          <p:nvPr/>
        </p:nvPicPr>
        <p:blipFill>
          <a:blip r:embed="rId1"/>
          <a:stretch/>
        </p:blipFill>
        <p:spPr>
          <a:xfrm>
            <a:off x="500040" y="1500120"/>
            <a:ext cx="1920960" cy="1357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D:\Мои документы\ьо.jpeg"/>
          <p:cNvPicPr/>
          <p:nvPr/>
        </p:nvPicPr>
        <p:blipFill>
          <a:blip r:embed="rId2"/>
          <a:stretch/>
        </p:blipFill>
        <p:spPr>
          <a:xfrm>
            <a:off x="3286080" y="2357280"/>
            <a:ext cx="185436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D:\Мои документы\лп.jpeg"/>
          <p:cNvPicPr/>
          <p:nvPr/>
        </p:nvPicPr>
        <p:blipFill>
          <a:blip r:embed="rId3"/>
          <a:stretch/>
        </p:blipFill>
        <p:spPr>
          <a:xfrm>
            <a:off x="5572080" y="1857240"/>
            <a:ext cx="1778040" cy="1333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D:\Мои документы\им.jpeg"/>
          <p:cNvPicPr/>
          <p:nvPr/>
        </p:nvPicPr>
        <p:blipFill>
          <a:blip r:embed="rId4"/>
          <a:stretch/>
        </p:blipFill>
        <p:spPr>
          <a:xfrm>
            <a:off x="428760" y="3643200"/>
            <a:ext cx="2133360" cy="1571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0" descr="D:\Мои документы\пар.jpeg"/>
          <p:cNvPicPr/>
          <p:nvPr/>
        </p:nvPicPr>
        <p:blipFill>
          <a:blip r:embed="rId5"/>
          <a:stretch/>
        </p:blipFill>
        <p:spPr>
          <a:xfrm>
            <a:off x="6072120" y="3357720"/>
            <a:ext cx="2222640" cy="2019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1" descr="D:\Мои документы\i.jpeg"/>
          <p:cNvPicPr/>
          <p:nvPr/>
        </p:nvPicPr>
        <p:blipFill>
          <a:blip r:embed="rId6"/>
          <a:stretch/>
        </p:blipFill>
        <p:spPr>
          <a:xfrm>
            <a:off x="3071880" y="4214880"/>
            <a:ext cx="2558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раморный Дворец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13920" y="1600200"/>
            <a:ext cx="700092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Calibri"/>
              </a:rPr>
              <a:t>МРАМОРНЫЙ ДВОРЕЦ (Миллионная ул., 5/1), памятник архитектуры раннего классицизма. Построен в 1768-85 (арх. А. Ринальди) для графа Г. Г. Орлова, фаворита императрицы Екатерины II. Гл. фасад монументального здания выходит во двор, облицован, как и др. фасады, разными сортами мрамора (отсюда назв.) и имеет сложную декоративную обработку. Кованой решеткой М. д. соединен со Служебным корпусом (1780-88, арх. П. Е. Егоров). В оформлении интерьеров участвовали: лепщик А. Бернаскони, скульпто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ждества Христова церков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D:\Мои документы\аролрл.jpeg"/>
          <p:cNvPicPr/>
          <p:nvPr/>
        </p:nvPicPr>
        <p:blipFill>
          <a:blip r:embed="rId1"/>
          <a:stretch/>
        </p:blipFill>
        <p:spPr>
          <a:xfrm>
            <a:off x="5500800" y="1571760"/>
            <a:ext cx="3394080" cy="27144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D:\Мои документы\5645.jpeg"/>
          <p:cNvPicPr/>
          <p:nvPr/>
        </p:nvPicPr>
        <p:blipFill>
          <a:blip r:embed="rId2"/>
          <a:stretch/>
        </p:blipFill>
        <p:spPr>
          <a:xfrm>
            <a:off x="714240" y="1285920"/>
            <a:ext cx="364356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амятник архитектору Петру Егорову в Чебоксара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D:\Мои документы\foto_cheb_ru_5006.jpg"/>
          <p:cNvPicPr/>
          <p:nvPr/>
        </p:nvPicPr>
        <p:blipFill>
          <a:blip r:embed="rId1"/>
          <a:stretch/>
        </p:blipFill>
        <p:spPr>
          <a:xfrm>
            <a:off x="287496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enault</cp:lastModifiedBy>
  <dcterms:modified xsi:type="dcterms:W3CDTF">2010-09-12T08:49:25Z</dcterms:modified>
  <cp:revision>6</cp:revision>
  <dc:subject/>
  <dc:title>Слайд 1</dc:title>
</cp:coreProperties>
</file>