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E23-3564-4AAC-9265-127CFC94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633-43C2-4B8F-BB41-AF102D3A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895-76DC-4730-B818-401DDC5F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627-9A62-4151-BF5B-FDF6CC3A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72E-B97F-4FD5-97FA-3AE6C567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A23-3A10-4FEC-B6DA-020D44F9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B61-6538-43A1-9390-92B4AD10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EBC-CD28-4676-90F6-C617526E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E87-01DD-4A30-8A4D-983656BD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20B-7C81-4D05-A945-F9867A1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4F9-6B79-4582-A721-E40FDFE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7B6-3177-47DD-8833-95BAAEBF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622-8F10-41DD-B93F-80E4DBCF8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7148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Архитектор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ётр Егорович Ег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Мои документы\peg.jpeg"/>
          <p:cNvPicPr/>
          <p:nvPr/>
        </p:nvPicPr>
        <p:blipFill>
          <a:blip r:embed="rId2"/>
          <a:stretch/>
        </p:blipFill>
        <p:spPr>
          <a:xfrm>
            <a:off x="3500280" y="142920"/>
            <a:ext cx="2214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естный архите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28800" y="1600200"/>
            <a:ext cx="7758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ЕГОРОВ Петр Егорович (1731-1789), архитектор. В СПб. с 1755. Учился в архитектурной школе Канцелярии от строений у С. А. Волкова. Работал с Ф. Растрелли, Ю. М. Фельтеном, А. Ринальди и др. В числе самостоятельных построек Е. – церковь Рождества Христова на Песках (6-я Советская ул., угол Красноборского пер., 1781–88, не сохранён), служебный корпус Мраморного дворца (Миллионная ул., 5, 1780–88, надстроен), ограда Мраморного дворца (1780-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тний с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Мои документы\ыва.jpeg"/>
          <p:cNvPicPr/>
          <p:nvPr/>
        </p:nvPicPr>
        <p:blipFill>
          <a:blip r:embed="rId1"/>
          <a:stretch/>
        </p:blipFill>
        <p:spPr>
          <a:xfrm>
            <a:off x="642960" y="1500120"/>
            <a:ext cx="214308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D:\Мои документы\ап.jpeg"/>
          <p:cNvPicPr/>
          <p:nvPr/>
        </p:nvPicPr>
        <p:blipFill>
          <a:blip r:embed="rId2"/>
          <a:stretch/>
        </p:blipFill>
        <p:spPr>
          <a:xfrm>
            <a:off x="1714680" y="342900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D:\Мои документы\тсм.jpeg"/>
          <p:cNvPicPr/>
          <p:nvPr/>
        </p:nvPicPr>
        <p:blipFill>
          <a:blip r:embed="rId3"/>
          <a:stretch/>
        </p:blipFill>
        <p:spPr>
          <a:xfrm>
            <a:off x="3643200" y="207180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D:\Мои документы\забор.jpeg"/>
          <p:cNvPicPr/>
          <p:nvPr/>
        </p:nvPicPr>
        <p:blipFill>
          <a:blip r:embed="rId4"/>
          <a:stretch/>
        </p:blipFill>
        <p:spPr>
          <a:xfrm>
            <a:off x="6143760" y="2000160"/>
            <a:ext cx="252540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:\Мои документы\i.jpeg"/>
          <p:cNvPicPr/>
          <p:nvPr/>
        </p:nvPicPr>
        <p:blipFill>
          <a:blip r:embed="rId5"/>
          <a:stretch/>
        </p:blipFill>
        <p:spPr>
          <a:xfrm>
            <a:off x="3857760" y="4500720"/>
            <a:ext cx="2009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Железо, покоряясь влиянию огн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десь легкостью дивит в прозрачности огра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 коей прячется и смотрит сад прохла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тавская рука сей разводила сад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ётр Вязем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к розам хочу, в тот единственный са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де лучшая в мире стоит из оград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нна Ахма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раморный двор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Мои документы\9.jpeg"/>
          <p:cNvPicPr/>
          <p:nvPr/>
        </p:nvPicPr>
        <p:blipFill>
          <a:blip r:embed="rId1"/>
          <a:stretch/>
        </p:blipFill>
        <p:spPr>
          <a:xfrm>
            <a:off x="500040" y="1500120"/>
            <a:ext cx="1920960" cy="13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Мои документы\ьо.jpeg"/>
          <p:cNvPicPr/>
          <p:nvPr/>
        </p:nvPicPr>
        <p:blipFill>
          <a:blip r:embed="rId2"/>
          <a:stretch/>
        </p:blipFill>
        <p:spPr>
          <a:xfrm>
            <a:off x="3286080" y="2357280"/>
            <a:ext cx="185436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D:\Мои документы\лп.jpeg"/>
          <p:cNvPicPr/>
          <p:nvPr/>
        </p:nvPicPr>
        <p:blipFill>
          <a:blip r:embed="rId3"/>
          <a:stretch/>
        </p:blipFill>
        <p:spPr>
          <a:xfrm>
            <a:off x="5572080" y="185724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Мои документы\им.jpeg"/>
          <p:cNvPicPr/>
          <p:nvPr/>
        </p:nvPicPr>
        <p:blipFill>
          <a:blip r:embed="rId4"/>
          <a:stretch/>
        </p:blipFill>
        <p:spPr>
          <a:xfrm>
            <a:off x="428760" y="3643200"/>
            <a:ext cx="2133360" cy="157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:\Мои документы\пар.jpeg"/>
          <p:cNvPicPr/>
          <p:nvPr/>
        </p:nvPicPr>
        <p:blipFill>
          <a:blip r:embed="rId5"/>
          <a:stretch/>
        </p:blipFill>
        <p:spPr>
          <a:xfrm>
            <a:off x="6072120" y="3357720"/>
            <a:ext cx="2222640" cy="2019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:\Мои документы\i.jpeg"/>
          <p:cNvPicPr/>
          <p:nvPr/>
        </p:nvPicPr>
        <p:blipFill>
          <a:blip r:embed="rId6"/>
          <a:stretch/>
        </p:blipFill>
        <p:spPr>
          <a:xfrm>
            <a:off x="3071880" y="4214880"/>
            <a:ext cx="2558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раморный Двор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3920" y="1600200"/>
            <a:ext cx="700092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МРАМОРНЫЙ ДВОРЕЦ (Миллионная ул., 5/1), памятник архитектуры раннего классицизма. Построен в 1768-85 (арх. А. Ринальди) для графа Г. Г. Орлова, фаворита императрицы Екатерины II. Гл. фасад монументального здания выходит во двор, облицован, как и др. фасады, разными сортами мрамора (отсюда назв.) и имеет сложную декоративную обработку. Кованой решеткой М. д. соединен со Служебным корпусом (1780-88, арх. П. Е. Егоров). В оформлении интерьеров участвовали: лепщик А. Бернаскони, скульпто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ждества Христова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Мои документы\аролрл.jpeg"/>
          <p:cNvPicPr/>
          <p:nvPr/>
        </p:nvPicPr>
        <p:blipFill>
          <a:blip r:embed="rId1"/>
          <a:stretch/>
        </p:blipFill>
        <p:spPr>
          <a:xfrm>
            <a:off x="5500800" y="1571760"/>
            <a:ext cx="3394080" cy="27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Мои документы\5645.jpeg"/>
          <p:cNvPicPr/>
          <p:nvPr/>
        </p:nvPicPr>
        <p:blipFill>
          <a:blip r:embed="rId2"/>
          <a:stretch/>
        </p:blipFill>
        <p:spPr>
          <a:xfrm>
            <a:off x="714240" y="1285920"/>
            <a:ext cx="36435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ник архитектору Петру Егорову в Чебокса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:\Мои документы\foto_cheb_ru_5006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nault</cp:lastModifiedBy>
  <dcterms:modified xsi:type="dcterms:W3CDTF">2010-09-12T08:49:25Z</dcterms:modified>
  <cp:revision>6</cp:revision>
  <dc:subject/>
  <dc:title>Слайд 1</dc:title>
</cp:coreProperties>
</file>