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22F-1EA2-4953-8D38-4DB4CAE3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523-EEB5-4EAB-80B7-38902B2D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4EF-0C5B-49CE-B3E7-4CAC98E3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D74-9C0B-4D9D-8527-A87AF011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2C4-C8BF-45E8-AF58-FE50F486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5F2-607F-4F42-9E7A-DD99E7DB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650-53D7-4BB8-A0D6-CF083FA7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370-D764-40A4-A8D9-44EC0ABA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76C-9C0E-4D30-8360-AD3EE277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E34-CEDA-43FA-B05B-E082EAD3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B2E-B35F-4FDB-840B-5CD548D0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437-1930-413C-82CD-35BDCB1A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918A-D50A-473E-B1BD-3489D2723D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7148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Архитектор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ётр Егорович Ег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D:\Мои документы\peg.jpeg"/>
          <p:cNvPicPr/>
          <p:nvPr/>
        </p:nvPicPr>
        <p:blipFill>
          <a:blip r:embed="rId2"/>
          <a:stretch/>
        </p:blipFill>
        <p:spPr>
          <a:xfrm>
            <a:off x="3500280" y="142920"/>
            <a:ext cx="22147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вестный архите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28800" y="1600200"/>
            <a:ext cx="77580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ЕГОРОВ Петр Егорович (1731-1789), архитектор. В СПб. с 1755. Учился в архитектурной школе Канцелярии от строений у С. А. Волкова. Работал с Ф. Растрелли, Ю. М. Фельтеном, А. Ринальди и др. В числе самостоятельных построек Е. – церковь Рождества Христова на Песках (6-я Советская ул., угол Красноборского пер., 1781–88, не сохранён), служебный корпус Мраморного дворца (Миллионная ул., 5, 1780–88, надстроен), ограда Мраморного дворца (1780-е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тний с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D:\Мои документы\ыва.jpeg"/>
          <p:cNvPicPr/>
          <p:nvPr/>
        </p:nvPicPr>
        <p:blipFill>
          <a:blip r:embed="rId1"/>
          <a:stretch/>
        </p:blipFill>
        <p:spPr>
          <a:xfrm>
            <a:off x="642960" y="1500120"/>
            <a:ext cx="214308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D:\Мои документы\ап.jpeg"/>
          <p:cNvPicPr/>
          <p:nvPr/>
        </p:nvPicPr>
        <p:blipFill>
          <a:blip r:embed="rId2"/>
          <a:stretch/>
        </p:blipFill>
        <p:spPr>
          <a:xfrm>
            <a:off x="1714680" y="3429000"/>
            <a:ext cx="1643040" cy="150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D:\Мои документы\тсм.jpeg"/>
          <p:cNvPicPr/>
          <p:nvPr/>
        </p:nvPicPr>
        <p:blipFill>
          <a:blip r:embed="rId3"/>
          <a:stretch/>
        </p:blipFill>
        <p:spPr>
          <a:xfrm>
            <a:off x="3643200" y="207180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D:\Мои документы\забор.jpeg"/>
          <p:cNvPicPr/>
          <p:nvPr/>
        </p:nvPicPr>
        <p:blipFill>
          <a:blip r:embed="rId4"/>
          <a:stretch/>
        </p:blipFill>
        <p:spPr>
          <a:xfrm>
            <a:off x="6143760" y="2000160"/>
            <a:ext cx="2525400" cy="188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:\Мои документы\i.jpeg"/>
          <p:cNvPicPr/>
          <p:nvPr/>
        </p:nvPicPr>
        <p:blipFill>
          <a:blip r:embed="rId5"/>
          <a:stretch/>
        </p:blipFill>
        <p:spPr>
          <a:xfrm>
            <a:off x="3857760" y="4500720"/>
            <a:ext cx="20095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Железо, покоряясь влиянию огн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десь легкостью дивит в прозрачности оград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 коей прячется и смотрит сад прохлад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тавская рука сей разводила сад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ётр Вязем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Я к розам хочу, в тот единственный сад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де лучшая в мире стоит из оград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нна Ахмат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раморный двор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Мои документы\9.jpeg"/>
          <p:cNvPicPr/>
          <p:nvPr/>
        </p:nvPicPr>
        <p:blipFill>
          <a:blip r:embed="rId1"/>
          <a:stretch/>
        </p:blipFill>
        <p:spPr>
          <a:xfrm>
            <a:off x="500040" y="1500120"/>
            <a:ext cx="1920960" cy="1357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D:\Мои документы\ьо.jpeg"/>
          <p:cNvPicPr/>
          <p:nvPr/>
        </p:nvPicPr>
        <p:blipFill>
          <a:blip r:embed="rId2"/>
          <a:stretch/>
        </p:blipFill>
        <p:spPr>
          <a:xfrm>
            <a:off x="3286080" y="2357280"/>
            <a:ext cx="1854360" cy="1219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D:\Мои документы\лп.jpeg"/>
          <p:cNvPicPr/>
          <p:nvPr/>
        </p:nvPicPr>
        <p:blipFill>
          <a:blip r:embed="rId3"/>
          <a:stretch/>
        </p:blipFill>
        <p:spPr>
          <a:xfrm>
            <a:off x="5572080" y="1857240"/>
            <a:ext cx="1778040" cy="133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D:\Мои документы\им.jpeg"/>
          <p:cNvPicPr/>
          <p:nvPr/>
        </p:nvPicPr>
        <p:blipFill>
          <a:blip r:embed="rId4"/>
          <a:stretch/>
        </p:blipFill>
        <p:spPr>
          <a:xfrm>
            <a:off x="428760" y="3643200"/>
            <a:ext cx="2133360" cy="1571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D:\Мои документы\пар.jpeg"/>
          <p:cNvPicPr/>
          <p:nvPr/>
        </p:nvPicPr>
        <p:blipFill>
          <a:blip r:embed="rId5"/>
          <a:stretch/>
        </p:blipFill>
        <p:spPr>
          <a:xfrm>
            <a:off x="6072120" y="3357720"/>
            <a:ext cx="2222640" cy="2019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:\Мои документы\i.jpeg"/>
          <p:cNvPicPr/>
          <p:nvPr/>
        </p:nvPicPr>
        <p:blipFill>
          <a:blip r:embed="rId6"/>
          <a:stretch/>
        </p:blipFill>
        <p:spPr>
          <a:xfrm>
            <a:off x="3071880" y="4214880"/>
            <a:ext cx="2558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раморный Двор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3920" y="1600200"/>
            <a:ext cx="700092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МРАМОРНЫЙ ДВОРЕЦ (Миллионная ул., 5/1), памятник архитектуры раннего классицизма. Построен в 1768-85 (арх. А. Ринальди) для графа Г. Г. Орлова, фаворита императрицы Екатерины II. Гл. фасад монументального здания выходит во двор, облицован, как и др. фасады, разными сортами мрамора (отсюда назв.) и имеет сложную декоративную обработку. Кованой решеткой М. д. соединен со Служебным корпусом (1780-88, арх. П. Е. Егоров). В оформлении интерьеров участвовали: лепщик А. Бернаскони, скульпто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ждества Христова церко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Мои документы\аролрл.jpeg"/>
          <p:cNvPicPr/>
          <p:nvPr/>
        </p:nvPicPr>
        <p:blipFill>
          <a:blip r:embed="rId1"/>
          <a:stretch/>
        </p:blipFill>
        <p:spPr>
          <a:xfrm>
            <a:off x="5500800" y="1571760"/>
            <a:ext cx="3394080" cy="27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Мои документы\5645.jpeg"/>
          <p:cNvPicPr/>
          <p:nvPr/>
        </p:nvPicPr>
        <p:blipFill>
          <a:blip r:embed="rId2"/>
          <a:stretch/>
        </p:blipFill>
        <p:spPr>
          <a:xfrm>
            <a:off x="714240" y="1285920"/>
            <a:ext cx="364356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мятник архитектору Петру Егорову в Чебокса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D:\Мои документы\foto_cheb_ru_5006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nault</cp:lastModifiedBy>
  <dcterms:modified xsi:type="dcterms:W3CDTF">2010-09-12T08:49:25Z</dcterms:modified>
  <cp:revision>6</cp:revision>
  <dc:subject/>
  <dc:title>Слайд 1</dc:title>
</cp:coreProperties>
</file>