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562-1C7F-491D-93CF-7057A5E9E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3743-5231-42B5-A86B-23844A9EF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2DD-59C3-47EE-8DFA-4708AB1D2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E5B2-57DF-40CA-8751-923BEFAFA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6138-B417-4AB2-B178-1CB816419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987F7-F686-4484-A076-EF1ED973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979-7B9F-4E73-8DBC-F827A947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EED3-7F80-4CAF-8B8D-849F3185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2E83-8A91-4979-BB24-0EE6144E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AA1F-FB05-44C3-804D-BBDE4F3FF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CA2A-646F-48EB-841B-2BC858624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9F26-9FBB-4EFF-A6B6-36C96D72C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FAE3-AC64-44C6-BC21-E26C0E8814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"/>
          <p:cNvPicPr/>
          <p:nvPr/>
        </p:nvPicPr>
        <p:blipFill>
          <a:blip r:embed="rId1"/>
          <a:stretch/>
        </p:blipFill>
        <p:spPr>
          <a:xfrm>
            <a:off x="900000" y="20520"/>
            <a:ext cx="759636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979640" y="692280"/>
            <a:ext cx="532764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изображае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зык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ребята!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с вами поговорим об изобразительности, но изобразительности необычной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мотрите на репродукции , кого они изображ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persiki.jpg"/>
          <p:cNvPicPr/>
          <p:nvPr/>
        </p:nvPicPr>
        <p:blipFill>
          <a:blip r:embed="rId1"/>
          <a:stretch/>
        </p:blipFill>
        <p:spPr>
          <a:xfrm>
            <a:off x="611280" y="692280"/>
            <a:ext cx="218736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morozov.jpg"/>
          <p:cNvPicPr/>
          <p:nvPr/>
        </p:nvPicPr>
        <p:blipFill>
          <a:blip r:embed="rId2"/>
          <a:stretch/>
        </p:blipFill>
        <p:spPr>
          <a:xfrm>
            <a:off x="3132000" y="2349360"/>
            <a:ext cx="2713320" cy="19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deti.jpg"/>
          <p:cNvPicPr/>
          <p:nvPr/>
        </p:nvPicPr>
        <p:blipFill>
          <a:blip r:embed="rId3"/>
          <a:stretch/>
        </p:blipFill>
        <p:spPr>
          <a:xfrm>
            <a:off x="6369120" y="692280"/>
            <a:ext cx="2019240" cy="2284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3316320" y="476280"/>
            <a:ext cx="2330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йете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08000" y="4437000"/>
            <a:ext cx="89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ем мы определить по картине чем дети занимаются, какое у них настро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музыка может изобразить портрет человека так же, как это может сделать художник? Давайте об этом поразмышляем сег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hiero.ru/pict/4d0/2116273.jpg"/>
          <p:cNvPicPr/>
          <p:nvPr/>
        </p:nvPicPr>
        <p:blipFill>
          <a:blip r:embed="rId1"/>
          <a:stretch/>
        </p:blipFill>
        <p:spPr>
          <a:xfrm>
            <a:off x="177840" y="189000"/>
            <a:ext cx="2786040" cy="33098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0" name="Picture 5" descr="http://img3.imgbb.ru/e/1/8/e18f5d2e3f27cbfa2ff8c9803743c130_25753.jpg"/>
          <p:cNvPicPr/>
          <p:nvPr/>
        </p:nvPicPr>
        <p:blipFill>
          <a:blip r:embed="rId2"/>
          <a:stretch/>
        </p:blipFill>
        <p:spPr>
          <a:xfrm>
            <a:off x="6377040" y="189000"/>
            <a:ext cx="2735280" cy="39099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1" name="Picture 6" descr="http://cs4339.vkontakte.ru/u59446501/a_acb78d13.jpg"/>
          <p:cNvPicPr/>
          <p:nvPr/>
        </p:nvPicPr>
        <p:blipFill>
          <a:blip r:embed="rId3"/>
          <a:stretch/>
        </p:blipFill>
        <p:spPr>
          <a:xfrm>
            <a:off x="3336840" y="3284640"/>
            <a:ext cx="2665440" cy="3408120"/>
          </a:xfrm>
          <a:prstGeom prst="rect">
            <a:avLst/>
          </a:prstGeom>
          <a:ln w="57240">
            <a:solidFill>
              <a:srgbClr val="66ff33"/>
            </a:solidFill>
            <a:miter/>
          </a:ln>
        </p:spPr>
      </p:pic>
      <p:sp>
        <p:nvSpPr>
          <p:cNvPr id="52" name="TextBox 1"/>
          <p:cNvSpPr/>
          <p:nvPr/>
        </p:nvSpPr>
        <p:spPr>
          <a:xfrm>
            <a:off x="3132000" y="40464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 вами три карт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кажите о каж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785920"/>
            <a:ext cx="5000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Б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И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Кабалевский Д"/>
          <p:cNvPicPr/>
          <p:nvPr/>
        </p:nvPicPr>
        <p:blipFill>
          <a:blip r:embed="rId1"/>
          <a:stretch/>
        </p:blipFill>
        <p:spPr>
          <a:xfrm>
            <a:off x="371520" y="12600"/>
            <a:ext cx="4230720" cy="1075212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3" descr=""/>
          <p:cNvPicPr/>
          <p:nvPr/>
        </p:nvPicPr>
        <p:blipFill>
          <a:blip r:embed="rId2"/>
          <a:stretch/>
        </p:blipFill>
        <p:spPr>
          <a:xfrm>
            <a:off x="4986360" y="128520"/>
            <a:ext cx="3944880" cy="55958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РИ ПОДРУЖ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400" y="85716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бы имена вы придумали этим девочк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devochka-plachet.jpg"/>
          <p:cNvPicPr/>
          <p:nvPr/>
        </p:nvPicPr>
        <p:blipFill>
          <a:blip r:embed="rId1"/>
          <a:stretch/>
        </p:blipFill>
        <p:spPr>
          <a:xfrm>
            <a:off x="214200" y="1643040"/>
            <a:ext cx="2930760" cy="3929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ages.jpg"/>
          <p:cNvPicPr/>
          <p:nvPr/>
        </p:nvPicPr>
        <p:blipFill>
          <a:blip r:embed="rId2"/>
          <a:stretch/>
        </p:blipFill>
        <p:spPr>
          <a:xfrm>
            <a:off x="3286080" y="1687680"/>
            <a:ext cx="2786040" cy="3741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images (1).jpg"/>
          <p:cNvPicPr/>
          <p:nvPr/>
        </p:nvPicPr>
        <p:blipFill>
          <a:blip r:embed="rId3"/>
          <a:stretch/>
        </p:blipFill>
        <p:spPr>
          <a:xfrm>
            <a:off x="6286680" y="1714680"/>
            <a:ext cx="2714400" cy="3832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840" y="5715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КС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3214800" y="571500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ЛЮ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5929200" y="571500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В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слушай.</a:t>
            </a:r>
            <a:br>
              <a:rPr sz="7200"/>
            </a:b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s://www.youtube.com/watch?v=6HukYmGpWUg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если ссылка не открывается зайди сюд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Задание: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чини рассказ об одной из девочек и расскажи родител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09:18:15Z</dcterms:created>
  <dc:creator>Наташа</dc:creator>
  <dc:description/>
  <dc:language>en-US</dc:language>
  <cp:lastModifiedBy>Админ</cp:lastModifiedBy>
  <dcterms:modified xsi:type="dcterms:W3CDTF">2020-04-21T10:17:50Z</dcterms:modified>
  <cp:revision>15</cp:revision>
  <dc:subject/>
  <dc:title>Слайд 1</dc:title>
</cp:coreProperties>
</file>