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5.jpeg" ContentType="image/jpeg"/>
  <Override PartName="/ppt/media/image10.jpeg" ContentType="image/jpeg"/>
  <Override PartName="/ppt/media/image8.gif" ContentType="image/gif"/>
  <Override PartName="/ppt/media/image18.jpeg" ContentType="image/jpeg"/>
  <Override PartName="/ppt/media/image27.jpeg" ContentType="image/jpeg"/>
  <Override PartName="/ppt/media/image6.jpeg" ContentType="image/jpeg"/>
  <Override PartName="/ppt/media/image11.jpeg" ContentType="image/jpeg"/>
  <Override PartName="/ppt/media/image9.jpeg" ContentType="image/jpeg"/>
  <Override PartName="/ppt/media/image28.png" ContentType="image/png"/>
  <Override PartName="/ppt/media/image7.jpeg" ContentType="image/jpeg"/>
  <Override PartName="/ppt/media/image12.jpeg" ContentType="image/jpeg"/>
  <Override PartName="/ppt/media/image13.jpeg" ContentType="image/jpeg"/>
  <Override PartName="/ppt/media/image30.jpeg" ContentType="image/jpeg"/>
  <Override PartName="/ppt/media/image24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.png" ContentType="image/pn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9.png" ContentType="image/png"/>
  <Override PartName="/ppt/media/image20.jpeg" ContentType="image/jpeg"/>
  <Override PartName="/ppt/media/image23.jpeg" ContentType="image/jpeg"/>
  <Override PartName="/ppt/media/image29.png" ContentType="image/png"/>
  <Override PartName="/ppt/media/image21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C8A6F-95D5-4463-8128-FF665A7E4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B08FB-17CC-4EB2-B3B3-992AF8935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7AED157-440E-4B1D-919D-46A989CB9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C3466A6-074C-4B1A-A771-AD4AEE9AB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296FD35-7B35-43B4-9336-687609172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A3EFE6C-F81B-4FCB-90D9-DFC514F29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8250882-1F37-4341-80A6-69B0F799C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F6A8F53-514C-4120-BBEB-9ED7E576B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54FA7CE-3DEB-41BA-AE9B-F0FDEE318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A1200E9-265D-4492-BA4F-82977A518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DB608F8-123F-4004-9D29-EC6B7DDF7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A0CAA-E4C7-46DD-9464-24DE07949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EC4CA-A152-4FE6-B172-27F818623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1B65F5-26EF-41D1-97B5-3345A8FA0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66D8EF-1106-40FC-960D-32471FBE0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B8352F-BAF6-4E02-B9FE-30048F469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E0B359-8DFD-4DE2-BBA8-BD2A7D0B8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F5441C-4DDC-49D5-AF57-741135679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48E387-7733-4551-908C-67EAF2003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7746E3-B751-4270-9505-D86241F35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ED63A-8BEF-4D06-83AB-EFC63B9FF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A2CE2A-C5C4-40C7-B208-09469C7AF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6F819F-C119-4552-9AA7-1BB0D338D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70527A-62E3-42AE-926F-D3E81E0A0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93E1D9-1E50-4B77-A662-A6C23A7CB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6B065C-D231-4B09-8BE6-6BE8DB76E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F16043-5BAD-461E-9295-1857F81B5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BF10C2-35E4-4AEA-BC3D-0836E75F9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8EDB3A-A805-4730-AFFB-CC705CE37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1E26CE-4BCA-476C-9F79-5B156F5BE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F6D5E2-C410-4483-8C4E-9F6E5C288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2DA4D-15C0-4685-96C8-0BB027664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32DF14-ACD3-4E5D-ACC1-9C5A8A322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C7D219-97A2-41E3-8131-42835BE78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1E5622-0A26-44F8-A56B-EE6427D2F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DA0B80-DE67-4E37-9947-5C6100366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9284E5-E070-4D6B-98BE-0955FBFF1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B554E8-7417-4F4B-AC6D-7B61905AE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C7C38A-DC04-4347-BA21-FE09088F0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DB9EBBF-EE73-4CB7-AFEB-08C31D8C5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203E552-C2EE-4282-8490-FB561D8C4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8669BA0-F422-4D27-B68A-138DAA2B6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22E4B-00F6-4179-B64C-763ECF0B4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E274BFD-A66E-4B68-80CB-A7621A9E9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F13790C-FEDA-4310-8064-C28ACDE66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D14BB2A-EDF8-47C0-A9EE-B9B2C8586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DF5D1F9-520F-4BF6-9CF2-E90B3523D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EEBEA72-C403-4E82-86A6-8344BE326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3326607-1864-4587-92DE-2581F0BC3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083D0D6-6E51-4054-B204-729C1B6D3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D609AAB-AF60-47D2-AB8D-BAE422061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8C4DDBC-ECE0-438E-AC45-68C9AAFEB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377FC8-4C94-4496-BF0B-D93F3B25D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3908F-91A6-4FA8-928E-97F2432FC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BC0817-F037-4D7E-863E-60C0BB550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A2A092-CDEC-4EC6-A7CE-6ABFB51FC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533F03-E7FC-4647-83D9-14BB73552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5FFA07-F7B2-4A69-B6CE-3B5509DCE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3C15DF-FA50-4DDE-9D76-85AA614E9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D35811-36F5-4B99-981C-02B50860B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E24C35-6339-4A56-B468-C7D933ACB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71AD78-DCE0-430F-932E-FE9F1BCC0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9D0879-753B-4537-BD24-206A7C80D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006082-27EB-42D9-8F84-E6644B66C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DFE0C-EA20-43D3-8CF4-02882C8B7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0C0294-767D-433C-9FA9-C67190C88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4660F8-02A9-4720-8475-1BCF6C5A2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1F15A4-8463-4EEB-A906-D8CE5885A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90289D-44FD-420B-AD98-4DDD4475D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2D0F55-74EF-4516-9EBE-E9C9DDB0A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3E8340-F67C-4357-8553-177591AB5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FA007E-8407-4124-AB6A-618889D9B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36F968-3631-438F-96D2-BEBB139EC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1CDDD3-3629-4D2D-B090-15B318D79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0ABA5B-1277-47B8-8270-47FDAE193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92208-472E-4536-A499-23797509F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13804A-8C54-47D6-A27B-8468508EA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FB9BAE-246F-4FA1-A3B0-CD17D3EA6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25380D-E958-45BC-B372-ED30195AC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44C34A-4660-4F5A-A894-F767A830D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7E7362-FC29-496B-85E6-F339D0464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C3E138-29FA-43E7-B894-29F39D885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8B2699-A4E1-43F9-9C6A-B0AA3AB83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6D2357-5935-45CC-A596-CB718B4AE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E71C83-5E81-4889-9C2D-80B297A3F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694431-C123-4B83-9391-390E8A0CC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FA699-B83C-43C6-AF4D-4343A2903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F605DA-30C5-419B-B1CE-18007F37E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1F3A92-2AC1-497A-B42C-F5D3D6305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8DF7C3-2C9F-4419-A7DE-755AD8C5E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7A3B5D-7993-4C7A-A1E6-66AD604A4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1988B0-FF6C-4A5E-BAFA-8D32E97C5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086374F-C207-4E95-AA8D-2B07A312C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3AAE16E-23D6-4061-B00F-1AB40007F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1B131C9-5D12-4D29-BEEC-B70DC1122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715468C-0DB6-4C23-9A6F-9F97D9BDF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403B096-8949-4101-A19E-D87CEA199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524C1-00D2-448F-90A8-01669CBBB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1898CAE-FE67-43A4-97D8-7A10C6EF8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44699A8-FF91-4AFD-B73F-276B9A61A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D6C8355-3FA1-4B0C-BA77-9406CB40A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5BFC70C-8424-4FAD-80E3-BB8199138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3D92F4C-3E49-42ED-9763-0625D1E42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05F9D8F-5B1F-4405-8378-A6D344987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7AFBD76-C018-4D65-AD19-ED885E217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EE0A94E-1F3A-4C75-9AB3-0BFD8EF44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86125FF-9452-46FB-A75F-FE4DC2A05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C404D18-38C9-45C0-8809-49AE34548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D4F47-10EE-4E45-B15C-05B37041A665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с двумя скругленными противолежащими углами 7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45" name="Прямоугольник с двумя скругленными противолежащими углами 7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62DB6-FF27-4E97-96A4-57B1E69BCBB5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89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1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5AA6D-EE30-4241-80A2-29A28CF35FFE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6B6D1-974D-4428-BB93-C9977F8335DB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76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8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2434A-454F-4AAF-A39C-F7D7C1FF59F3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21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3" name="Прямоугольник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Прямоугольник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03D23-1B56-42F0-BED2-7D7ADBFF4954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67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9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8A2C7-5388-44D1-8819-7AA0A7108CE3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Прямоугольник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735F4-02E3-42C6-8FC8-FED96F2B8C48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6FCC0-6BC4-4E91-BE0A-AC12D741E427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Прямоугольник 1"/>
          <p:cNvSpPr/>
          <p:nvPr/>
        </p:nvSpPr>
        <p:spPr>
          <a:xfrm>
            <a:off x="857160" y="357120"/>
            <a:ext cx="7572600" cy="947160"/>
          </a:xfrm>
          <a:prstGeom prst="rect">
            <a:avLst/>
          </a:prstGeom>
          <a:solidFill>
            <a:srgbClr val="67645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mbria"/>
              </a:rPr>
              <a:t>Военные действия весной и летом 1942г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TextBox 2"/>
          <p:cNvSpPr/>
          <p:nvPr/>
        </p:nvSpPr>
        <p:spPr>
          <a:xfrm>
            <a:off x="642960" y="1214280"/>
            <a:ext cx="5214960" cy="4362840"/>
          </a:xfrm>
          <a:prstGeom prst="rect">
            <a:avLst/>
          </a:prstGeom>
          <a:solidFill>
            <a:srgbClr val="4d504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mbria"/>
              </a:rPr>
              <a:t>Наступательные операции Красной Армии весной-летом 1942г. провалились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mbria"/>
              </a:rPr>
              <a:t>Операция по прорыву блокады Ленинграда не удалас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mbria"/>
              </a:rPr>
              <a:t>Наступление в Крыму закончилось катастрофой (падение Севастополя и ликвидация Крымского фронта Красной Арми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mbria"/>
              </a:rPr>
              <a:t>Наступление в районе Харькова позволило немцам провести контроперацию и окружить 240тыс. красноармейцев. 24 июля фашисты захватили Ростов-на-Дону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TextBox 3"/>
          <p:cNvSpPr/>
          <p:nvPr/>
        </p:nvSpPr>
        <p:spPr>
          <a:xfrm>
            <a:off x="1000080" y="5929200"/>
            <a:ext cx="650088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4352a"/>
                </a:solidFill>
                <a:latin typeface="Cambria"/>
              </a:rPr>
              <a:t>27 июля 1942г. – приказ № 227 «Ни шагу назад!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7" name="Picture 2" descr="C:\Users\Лидия\Documents\11 класс\ВОВ\коренной перелом\плен. красноармейцы район Харькова.jpg"/>
          <p:cNvPicPr/>
          <p:nvPr/>
        </p:nvPicPr>
        <p:blipFill>
          <a:blip r:embed="rId1"/>
          <a:stretch/>
        </p:blipFill>
        <p:spPr>
          <a:xfrm>
            <a:off x="6215040" y="1071720"/>
            <a:ext cx="2367000" cy="1285560"/>
          </a:xfrm>
          <a:prstGeom prst="rect">
            <a:avLst/>
          </a:prstGeom>
          <a:ln w="9360">
            <a:solidFill>
              <a:srgbClr val="0d0d0d"/>
            </a:solidFill>
            <a:miter/>
          </a:ln>
        </p:spPr>
      </p:pic>
      <p:sp>
        <p:nvSpPr>
          <p:cNvPr id="398" name="TextBox 5"/>
          <p:cNvSpPr/>
          <p:nvPr/>
        </p:nvSpPr>
        <p:spPr>
          <a:xfrm>
            <a:off x="6072120" y="2500200"/>
            <a:ext cx="2571840" cy="733320"/>
          </a:xfrm>
          <a:prstGeom prst="rect">
            <a:avLst/>
          </a:prstGeom>
          <a:solidFill>
            <a:srgbClr val="4547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ambria"/>
              </a:rPr>
              <a:t>Пленные красноармейцы. Район Харькова. 1942г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9" name="Picture 3" descr="C:\Users\Лидия\Documents\11 класс\ВОВ\коренной перелом\бои в Ростове.jpg"/>
          <p:cNvPicPr/>
          <p:nvPr/>
        </p:nvPicPr>
        <p:blipFill>
          <a:blip r:embed="rId2"/>
          <a:stretch/>
        </p:blipFill>
        <p:spPr>
          <a:xfrm>
            <a:off x="7334280" y="3071880"/>
            <a:ext cx="1619280" cy="1214280"/>
          </a:xfrm>
          <a:prstGeom prst="rect">
            <a:avLst/>
          </a:prstGeom>
          <a:ln w="9360">
            <a:solidFill>
              <a:srgbClr val="0d0d0d"/>
            </a:solidFill>
            <a:miter/>
          </a:ln>
        </p:spPr>
      </p:pic>
      <p:sp>
        <p:nvSpPr>
          <p:cNvPr id="400" name="TextBox 7"/>
          <p:cNvSpPr/>
          <p:nvPr/>
        </p:nvSpPr>
        <p:spPr>
          <a:xfrm>
            <a:off x="6072120" y="3286080"/>
            <a:ext cx="1143000" cy="733320"/>
          </a:xfrm>
          <a:prstGeom prst="rect">
            <a:avLst/>
          </a:prstGeom>
          <a:solidFill>
            <a:srgbClr val="4547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ambria"/>
              </a:rPr>
              <a:t>Бои в Ростове-на-Дону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1" name="Picture 4" descr="C:\Users\Лидия\Documents\11 класс\ВОВ\коренной перелом\оборона ленинграда.jpg"/>
          <p:cNvPicPr/>
          <p:nvPr/>
        </p:nvPicPr>
        <p:blipFill>
          <a:blip r:embed="rId3"/>
          <a:stretch/>
        </p:blipFill>
        <p:spPr>
          <a:xfrm>
            <a:off x="6000840" y="4143240"/>
            <a:ext cx="1697040" cy="1233720"/>
          </a:xfrm>
          <a:prstGeom prst="rect">
            <a:avLst/>
          </a:prstGeom>
          <a:ln w="9360">
            <a:solidFill>
              <a:srgbClr val="0d0d0d"/>
            </a:solidFill>
            <a:miter/>
          </a:ln>
        </p:spPr>
      </p:pic>
      <p:sp>
        <p:nvSpPr>
          <p:cNvPr id="402" name="TextBox 9"/>
          <p:cNvSpPr/>
          <p:nvPr/>
        </p:nvSpPr>
        <p:spPr>
          <a:xfrm>
            <a:off x="6000840" y="5429160"/>
            <a:ext cx="2357280" cy="307080"/>
          </a:xfrm>
          <a:prstGeom prst="rect">
            <a:avLst/>
          </a:prstGeom>
          <a:solidFill>
            <a:srgbClr val="4547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ambria"/>
              </a:rPr>
              <a:t>Оборона Ленинград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9" name="Picture 3" descr=""/>
          <p:cNvPicPr/>
          <p:nvPr/>
        </p:nvPicPr>
        <p:blipFill>
          <a:blip r:embed="rId1"/>
          <a:stretch/>
        </p:blipFill>
        <p:spPr>
          <a:xfrm>
            <a:off x="4857840" y="214200"/>
            <a:ext cx="3857400" cy="6467760"/>
          </a:xfrm>
          <a:prstGeom prst="rect">
            <a:avLst/>
          </a:prstGeom>
          <a:ln w="0">
            <a:noFill/>
          </a:ln>
        </p:spPr>
      </p:pic>
      <p:sp>
        <p:nvSpPr>
          <p:cNvPr id="470" name="Прямоугольник 3"/>
          <p:cNvSpPr/>
          <p:nvPr/>
        </p:nvSpPr>
        <p:spPr>
          <a:xfrm>
            <a:off x="969480" y="428760"/>
            <a:ext cx="2895120" cy="520560"/>
          </a:xfrm>
          <a:prstGeom prst="rect">
            <a:avLst/>
          </a:prstGeom>
          <a:solidFill>
            <a:srgbClr val="4d5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mbria"/>
              </a:rPr>
              <a:t>Курская битв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TextBox 4"/>
          <p:cNvSpPr/>
          <p:nvPr/>
        </p:nvSpPr>
        <p:spPr>
          <a:xfrm>
            <a:off x="571680" y="1500120"/>
            <a:ext cx="3357360" cy="1191240"/>
          </a:xfrm>
          <a:prstGeom prst="rect">
            <a:avLst/>
          </a:prstGeom>
          <a:solidFill>
            <a:srgbClr val="4d5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5 -12 июля  1943г. – наступление гитлеровских войск на курской дуг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TextBox 5"/>
          <p:cNvSpPr/>
          <p:nvPr/>
        </p:nvSpPr>
        <p:spPr>
          <a:xfrm>
            <a:off x="357120" y="2571840"/>
            <a:ext cx="3714840" cy="1465560"/>
          </a:xfrm>
          <a:prstGeom prst="rect">
            <a:avLst/>
          </a:prstGeom>
          <a:solidFill>
            <a:srgbClr val="4d5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12 июля 1943г. – крупнейшее танковое сражение под Прохоровкой (в сражении с двух сторон участвовало до 1200 танков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3" name="Picture 4" descr="C:\Users\Лидия\Documents\11 класс\ВОВ\коренной перелом\24.jpg"/>
          <p:cNvPicPr/>
          <p:nvPr/>
        </p:nvPicPr>
        <p:blipFill>
          <a:blip r:embed="rId2"/>
          <a:stretch/>
        </p:blipFill>
        <p:spPr>
          <a:xfrm>
            <a:off x="1071720" y="4357800"/>
            <a:ext cx="2850840" cy="2000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74" name="Picture 2" descr="C:\Users\Лидия\Desktop\вторая мировая война\21.gif"/>
          <p:cNvPicPr/>
          <p:nvPr/>
        </p:nvPicPr>
        <p:blipFill>
          <a:blip r:embed="rId3"/>
          <a:stretch/>
        </p:blipFill>
        <p:spPr>
          <a:xfrm>
            <a:off x="7500960" y="4000680"/>
            <a:ext cx="214200" cy="49500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Прямоугольник 2"/>
          <p:cNvSpPr/>
          <p:nvPr/>
        </p:nvSpPr>
        <p:spPr>
          <a:xfrm>
            <a:off x="1541160" y="428760"/>
            <a:ext cx="2895120" cy="520560"/>
          </a:xfrm>
          <a:prstGeom prst="rect">
            <a:avLst/>
          </a:prstGeom>
          <a:solidFill>
            <a:srgbClr val="4d5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mbria"/>
              </a:rPr>
              <a:t>Курская битв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6" name="Picture 3" descr=""/>
          <p:cNvPicPr/>
          <p:nvPr/>
        </p:nvPicPr>
        <p:blipFill>
          <a:blip r:embed="rId1"/>
          <a:stretch/>
        </p:blipFill>
        <p:spPr>
          <a:xfrm>
            <a:off x="5057640" y="285840"/>
            <a:ext cx="3706920" cy="6215040"/>
          </a:xfrm>
          <a:prstGeom prst="rect">
            <a:avLst/>
          </a:prstGeom>
          <a:ln w="0">
            <a:noFill/>
          </a:ln>
        </p:spPr>
      </p:pic>
      <p:sp>
        <p:nvSpPr>
          <p:cNvPr id="477" name="TextBox 4"/>
          <p:cNvSpPr/>
          <p:nvPr/>
        </p:nvSpPr>
        <p:spPr>
          <a:xfrm>
            <a:off x="714240" y="1214280"/>
            <a:ext cx="3857760" cy="2533320"/>
          </a:xfrm>
          <a:prstGeom prst="rect">
            <a:avLst/>
          </a:prstGeom>
          <a:solidFill>
            <a:srgbClr val="4d5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mbria"/>
              </a:rPr>
              <a:t>12 июля 1943г. – контрнаступление Красной Арми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mbria"/>
              </a:rPr>
              <a:t>5 августа – освобождены Орел и Белгород (первый салют в Москве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mbria"/>
              </a:rPr>
              <a:t>23 августа – освобожден Харько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TextBox 5"/>
          <p:cNvSpPr/>
          <p:nvPr/>
        </p:nvSpPr>
        <p:spPr>
          <a:xfrm>
            <a:off x="642960" y="4357800"/>
            <a:ext cx="3929040" cy="825480"/>
          </a:xfrm>
          <a:prstGeom prst="rect">
            <a:avLst/>
          </a:prstGeom>
          <a:solidFill>
            <a:srgbClr val="c4c6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f1919"/>
                </a:solidFill>
                <a:latin typeface="Cambria"/>
              </a:rPr>
              <a:t>Произошел коренной перелом в войн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TextBox 1"/>
          <p:cNvSpPr/>
          <p:nvPr/>
        </p:nvSpPr>
        <p:spPr>
          <a:xfrm>
            <a:off x="2000160" y="285840"/>
            <a:ext cx="4786560" cy="520560"/>
          </a:xfrm>
          <a:prstGeom prst="rect">
            <a:avLst/>
          </a:prstGeom>
          <a:solidFill>
            <a:srgbClr val="6764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mbria"/>
              </a:rPr>
              <a:t>Сталинградская битв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TextBox 2"/>
          <p:cNvSpPr/>
          <p:nvPr/>
        </p:nvSpPr>
        <p:spPr>
          <a:xfrm>
            <a:off x="714240" y="1285920"/>
            <a:ext cx="2714760" cy="2837160"/>
          </a:xfrm>
          <a:prstGeom prst="rect">
            <a:avLst/>
          </a:prstGeom>
          <a:solidFill>
            <a:srgbClr val="4d5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Планы Гитлера: летнее наступление провести на Юге. Цель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Овладеть Кавказом, выйти к Волге  (перекрыть доступ кавказской нефти в центр), захватить Сталинград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5" name="Picture 2" descr="C:\Users\Лидия\Documents\11 класс\ВОВ\первый период\28.jpg"/>
          <p:cNvPicPr/>
          <p:nvPr/>
        </p:nvPicPr>
        <p:blipFill>
          <a:blip r:embed="rId1"/>
          <a:stretch/>
        </p:blipFill>
        <p:spPr>
          <a:xfrm>
            <a:off x="3714840" y="928800"/>
            <a:ext cx="4757760" cy="5815080"/>
          </a:xfrm>
          <a:prstGeom prst="rect">
            <a:avLst/>
          </a:prstGeom>
          <a:ln w="0">
            <a:noFill/>
          </a:ln>
        </p:spPr>
      </p:pic>
      <p:sp>
        <p:nvSpPr>
          <p:cNvPr id="406" name="TextBox 5"/>
          <p:cNvSpPr/>
          <p:nvPr/>
        </p:nvSpPr>
        <p:spPr>
          <a:xfrm>
            <a:off x="7429680" y="5715000"/>
            <a:ext cx="1143000" cy="276480"/>
          </a:xfrm>
          <a:prstGeom prst="rect">
            <a:avLst/>
          </a:prstGeom>
          <a:solidFill>
            <a:srgbClr val="4d5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mbria"/>
              </a:rPr>
              <a:t>Сталинград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7" name="Picture 2" descr="C:\Users\Лидия\Desktop\вторая мировая война\21.gif"/>
          <p:cNvPicPr/>
          <p:nvPr/>
        </p:nvPicPr>
        <p:blipFill>
          <a:blip r:embed="rId2"/>
          <a:stretch/>
        </p:blipFill>
        <p:spPr>
          <a:xfrm>
            <a:off x="7286760" y="5357880"/>
            <a:ext cx="260280" cy="601560"/>
          </a:xfrm>
          <a:prstGeom prst="rect">
            <a:avLst/>
          </a:prstGeom>
          <a:ln w="0">
            <a:noFill/>
          </a:ln>
        </p:spPr>
      </p:pic>
      <p:sp>
        <p:nvSpPr>
          <p:cNvPr id="408" name="TextBox 7"/>
          <p:cNvSpPr/>
          <p:nvPr/>
        </p:nvSpPr>
        <p:spPr>
          <a:xfrm>
            <a:off x="6429240" y="4357800"/>
            <a:ext cx="785880" cy="276480"/>
          </a:xfrm>
          <a:prstGeom prst="rect">
            <a:avLst/>
          </a:prstGeom>
          <a:solidFill>
            <a:srgbClr val="4d5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mbria"/>
              </a:rPr>
              <a:t>Москв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TextBox 8"/>
          <p:cNvSpPr/>
          <p:nvPr/>
        </p:nvSpPr>
        <p:spPr>
          <a:xfrm>
            <a:off x="357120" y="4643280"/>
            <a:ext cx="3214800" cy="1191240"/>
          </a:xfrm>
          <a:prstGeom prst="rect">
            <a:avLst/>
          </a:prstGeom>
          <a:solidFill>
            <a:srgbClr val="bdc09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d0d0d"/>
                </a:solidFill>
                <a:latin typeface="Cambria"/>
              </a:rPr>
              <a:t>Сталин же считал, что основной удар летом 1942г. будет нанесен под Москво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ver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Прямоугольник 1"/>
          <p:cNvSpPr/>
          <p:nvPr/>
        </p:nvSpPr>
        <p:spPr>
          <a:xfrm>
            <a:off x="2473920" y="357120"/>
            <a:ext cx="4426560" cy="520560"/>
          </a:xfrm>
          <a:prstGeom prst="rect">
            <a:avLst/>
          </a:prstGeom>
          <a:solidFill>
            <a:srgbClr val="4d5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mbria"/>
              </a:rPr>
              <a:t>Сталинградская битв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TextBox 2"/>
          <p:cNvSpPr/>
          <p:nvPr/>
        </p:nvSpPr>
        <p:spPr>
          <a:xfrm>
            <a:off x="6858000" y="714240"/>
            <a:ext cx="1714680" cy="642600"/>
          </a:xfrm>
          <a:prstGeom prst="rect">
            <a:avLst/>
          </a:prstGeom>
          <a:solidFill>
            <a:srgbClr val="4d5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17.07.1942 г.– 02.02.1943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2" name="Picture 2" descr="C:\Users\Лидия\Documents\11 класс\ВОВ\коренной перелом\карта1.jpg"/>
          <p:cNvPicPr/>
          <p:nvPr/>
        </p:nvPicPr>
        <p:blipFill>
          <a:blip r:embed="rId1"/>
          <a:stretch/>
        </p:blipFill>
        <p:spPr>
          <a:xfrm>
            <a:off x="428760" y="1857240"/>
            <a:ext cx="4881600" cy="3857760"/>
          </a:xfrm>
          <a:prstGeom prst="rect">
            <a:avLst/>
          </a:prstGeom>
          <a:ln w="0">
            <a:noFill/>
          </a:ln>
          <a:effectLst>
            <a:outerShdw dist="38160" dir="5400000" blurRad="0" rotWithShape="0">
              <a:srgbClr val="000000">
                <a:alpha val="44000"/>
              </a:srgbClr>
            </a:outerShdw>
          </a:effectLst>
        </p:spPr>
      </p:pic>
      <p:sp>
        <p:nvSpPr>
          <p:cNvPr id="413" name="TextBox 4"/>
          <p:cNvSpPr/>
          <p:nvPr/>
        </p:nvSpPr>
        <p:spPr>
          <a:xfrm>
            <a:off x="5643720" y="1785960"/>
            <a:ext cx="3143160" cy="4757400"/>
          </a:xfrm>
          <a:prstGeom prst="rect">
            <a:avLst/>
          </a:prstGeom>
          <a:solidFill>
            <a:srgbClr val="4d5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17.07.1942г. – начало оборонительных боев за Сталингра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23.08. 1942г. – немецкие войска вышли к Волге; Сталинград объявлен на военном положен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Создаются рабочие отряды. Истребительные батальоны, части народного ополче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В город  из Ставки прибывает Жуков Г.К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TextBox 5"/>
          <p:cNvSpPr/>
          <p:nvPr/>
        </p:nvSpPr>
        <p:spPr>
          <a:xfrm>
            <a:off x="785880" y="1143000"/>
            <a:ext cx="2714400" cy="642600"/>
          </a:xfrm>
          <a:prstGeom prst="rect">
            <a:avLst/>
          </a:prstGeom>
          <a:solidFill>
            <a:srgbClr val="4d5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Оборона Сталинград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Прямоугольник 1"/>
          <p:cNvSpPr/>
          <p:nvPr/>
        </p:nvSpPr>
        <p:spPr>
          <a:xfrm>
            <a:off x="2188080" y="428760"/>
            <a:ext cx="4426560" cy="520560"/>
          </a:xfrm>
          <a:prstGeom prst="rect">
            <a:avLst/>
          </a:prstGeom>
          <a:solidFill>
            <a:srgbClr val="4d5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mbria"/>
              </a:rPr>
              <a:t>Сталинградская битв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Прямоугольник 2"/>
          <p:cNvSpPr/>
          <p:nvPr/>
        </p:nvSpPr>
        <p:spPr>
          <a:xfrm>
            <a:off x="2750760" y="1000080"/>
            <a:ext cx="2893320" cy="368280"/>
          </a:xfrm>
          <a:prstGeom prst="rect">
            <a:avLst/>
          </a:prstGeom>
          <a:solidFill>
            <a:srgbClr val="4d5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Оборона Сталинград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TextBox 3"/>
          <p:cNvSpPr/>
          <p:nvPr/>
        </p:nvSpPr>
        <p:spPr>
          <a:xfrm>
            <a:off x="571680" y="1785960"/>
            <a:ext cx="3286080" cy="1191240"/>
          </a:xfrm>
          <a:prstGeom prst="rect">
            <a:avLst/>
          </a:prstGeom>
          <a:solidFill>
            <a:srgbClr val="4d5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Город обороняли 62-я армия генерала Чуйкова и 64-я армия генерала Шумилов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8" name="Picture 4" descr="C:\Users\Лидия\Documents\11 класс\ВОВ\коренной перелом\2.jpg"/>
          <p:cNvPicPr/>
          <p:nvPr/>
        </p:nvPicPr>
        <p:blipFill>
          <a:blip r:embed="rId1"/>
          <a:stretch/>
        </p:blipFill>
        <p:spPr>
          <a:xfrm>
            <a:off x="4214880" y="1428840"/>
            <a:ext cx="4357800" cy="2840040"/>
          </a:xfrm>
          <a:prstGeom prst="rect">
            <a:avLst/>
          </a:prstGeom>
          <a:ln w="9360">
            <a:solidFill>
              <a:srgbClr val="34352a"/>
            </a:solidFill>
            <a:miter/>
          </a:ln>
        </p:spPr>
      </p:pic>
      <p:pic>
        <p:nvPicPr>
          <p:cNvPr id="419" name="Picture 2" descr="C:\Users\Лидия\Documents\11 класс\ВОВ\коренной перелом\6.jpg"/>
          <p:cNvPicPr/>
          <p:nvPr/>
        </p:nvPicPr>
        <p:blipFill>
          <a:blip r:embed="rId2"/>
          <a:stretch/>
        </p:blipFill>
        <p:spPr>
          <a:xfrm>
            <a:off x="6143760" y="3857760"/>
            <a:ext cx="2643120" cy="1963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20" name="TextBox 7"/>
          <p:cNvSpPr/>
          <p:nvPr/>
        </p:nvSpPr>
        <p:spPr>
          <a:xfrm>
            <a:off x="4286160" y="4500720"/>
            <a:ext cx="1928880" cy="368280"/>
          </a:xfrm>
          <a:prstGeom prst="rect">
            <a:avLst/>
          </a:prstGeom>
          <a:solidFill>
            <a:srgbClr val="4d504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Бои на Волг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1" name="Picture 5" descr="C:\Users\Лидия\Documents\11 класс\ВОВ\коренной перелом\1.jpg"/>
          <p:cNvPicPr/>
          <p:nvPr/>
        </p:nvPicPr>
        <p:blipFill>
          <a:blip r:embed="rId3"/>
          <a:stretch/>
        </p:blipFill>
        <p:spPr>
          <a:xfrm>
            <a:off x="714240" y="214200"/>
            <a:ext cx="847800" cy="1138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22" name="Picture 6" descr="C:\Users\Лидия\Documents\11 класс\ВОВ\коренной перелом\7.jpg"/>
          <p:cNvPicPr/>
          <p:nvPr/>
        </p:nvPicPr>
        <p:blipFill>
          <a:blip r:embed="rId4"/>
          <a:stretch/>
        </p:blipFill>
        <p:spPr>
          <a:xfrm>
            <a:off x="1357200" y="928800"/>
            <a:ext cx="928800" cy="699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23" name="Picture 7" descr="C:\Users\Лидия\Documents\11 класс\ВОВ\коренной перелом\5.jpg"/>
          <p:cNvPicPr/>
          <p:nvPr/>
        </p:nvPicPr>
        <p:blipFill>
          <a:blip r:embed="rId5"/>
          <a:stretch/>
        </p:blipFill>
        <p:spPr>
          <a:xfrm>
            <a:off x="4000680" y="5143680"/>
            <a:ext cx="1892160" cy="1400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24" name="TextBox 11"/>
          <p:cNvSpPr/>
          <p:nvPr/>
        </p:nvSpPr>
        <p:spPr>
          <a:xfrm>
            <a:off x="428760" y="3571920"/>
            <a:ext cx="3357360" cy="1739880"/>
          </a:xfrm>
          <a:prstGeom prst="rect">
            <a:avLst/>
          </a:prstGeom>
          <a:solidFill>
            <a:srgbClr val="4d5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С 12 сентября бои шли уже на улицах город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Немецкие войска овладели вокзалом и Мамаевым курганом (с кургана вскоре выбиты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ver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Прямоугольник 1"/>
          <p:cNvSpPr/>
          <p:nvPr/>
        </p:nvSpPr>
        <p:spPr>
          <a:xfrm>
            <a:off x="2331000" y="357120"/>
            <a:ext cx="4426560" cy="520560"/>
          </a:xfrm>
          <a:prstGeom prst="rect">
            <a:avLst/>
          </a:prstGeom>
          <a:solidFill>
            <a:srgbClr val="4d5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mbria"/>
              </a:rPr>
              <a:t>Сталинградская битв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Прямоугольник 2"/>
          <p:cNvSpPr/>
          <p:nvPr/>
        </p:nvSpPr>
        <p:spPr>
          <a:xfrm>
            <a:off x="2963160" y="928800"/>
            <a:ext cx="2913120" cy="368280"/>
          </a:xfrm>
          <a:prstGeom prst="rect">
            <a:avLst/>
          </a:prstGeom>
          <a:solidFill>
            <a:srgbClr val="4d5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Сталинградская битв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Прямоугольник 3"/>
          <p:cNvSpPr/>
          <p:nvPr/>
        </p:nvSpPr>
        <p:spPr>
          <a:xfrm>
            <a:off x="428760" y="1571760"/>
            <a:ext cx="4572000" cy="2288520"/>
          </a:xfrm>
          <a:prstGeom prst="rect">
            <a:avLst/>
          </a:prstGeom>
          <a:solidFill>
            <a:srgbClr val="4d5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12 октября – немцы начали решающее наступление на горо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15 октября немецкие войска вышли к Волге с юг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19 октября немецкое  командование отдает приказ о переходе к обороне до прибытия подкрепле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8" name="Picture 2" descr="C:\Users\Лидия\Documents\11 класс\ВОВ\коренной перелом\9.jpg"/>
          <p:cNvPicPr/>
          <p:nvPr/>
        </p:nvPicPr>
        <p:blipFill>
          <a:blip r:embed="rId1"/>
          <a:stretch/>
        </p:blipFill>
        <p:spPr>
          <a:xfrm>
            <a:off x="7786800" y="857160"/>
            <a:ext cx="1071360" cy="1433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29" name="Picture 3" descr="C:\Users\Лидия\Documents\11 класс\ВОВ\коренной перелом\дом Павлова.jpg"/>
          <p:cNvPicPr/>
          <p:nvPr/>
        </p:nvPicPr>
        <p:blipFill>
          <a:blip r:embed="rId2"/>
          <a:stretch/>
        </p:blipFill>
        <p:spPr>
          <a:xfrm>
            <a:off x="5214960" y="2071800"/>
            <a:ext cx="3305160" cy="2143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30" name="TextBox 6"/>
          <p:cNvSpPr/>
          <p:nvPr/>
        </p:nvSpPr>
        <p:spPr>
          <a:xfrm>
            <a:off x="5357880" y="4286160"/>
            <a:ext cx="3071880" cy="368280"/>
          </a:xfrm>
          <a:prstGeom prst="rect">
            <a:avLst/>
          </a:prstGeom>
          <a:solidFill>
            <a:srgbClr val="4d5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Дом сержанта Павлов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1" name="Picture 4" descr="C:\Users\Лидия\Documents\11 класс\ВОВ\коренной перелом\11.jpg"/>
          <p:cNvPicPr/>
          <p:nvPr/>
        </p:nvPicPr>
        <p:blipFill>
          <a:blip r:embed="rId3"/>
          <a:stretch/>
        </p:blipFill>
        <p:spPr>
          <a:xfrm>
            <a:off x="465120" y="3786120"/>
            <a:ext cx="3844800" cy="2571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32" name="TextBox 8"/>
          <p:cNvSpPr/>
          <p:nvPr/>
        </p:nvSpPr>
        <p:spPr>
          <a:xfrm>
            <a:off x="3857760" y="5500800"/>
            <a:ext cx="1785960" cy="1310760"/>
          </a:xfrm>
          <a:prstGeom prst="rect">
            <a:avLst/>
          </a:prstGeom>
          <a:solidFill>
            <a:srgbClr val="4d5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ambria"/>
              </a:rPr>
              <a:t>Люфтваффе бомбит жилые кварталы Сталинград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3" name="Picture 5" descr="C:\Users\Лидия\Documents\11 класс\ВОВ\коренной перелом\8.jpg"/>
          <p:cNvPicPr/>
          <p:nvPr/>
        </p:nvPicPr>
        <p:blipFill>
          <a:blip r:embed="rId4"/>
          <a:stretch/>
        </p:blipFill>
        <p:spPr>
          <a:xfrm>
            <a:off x="6429240" y="4929120"/>
            <a:ext cx="1785960" cy="1336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34" name="TextBox 10"/>
          <p:cNvSpPr/>
          <p:nvPr/>
        </p:nvSpPr>
        <p:spPr>
          <a:xfrm>
            <a:off x="6143760" y="6286680"/>
            <a:ext cx="2571480" cy="337320"/>
          </a:xfrm>
          <a:prstGeom prst="rect">
            <a:avLst/>
          </a:prstGeom>
          <a:solidFill>
            <a:srgbClr val="4d5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ambria"/>
              </a:rPr>
              <a:t>Матросы идут в атаку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Прямоугольник 1"/>
          <p:cNvSpPr/>
          <p:nvPr/>
        </p:nvSpPr>
        <p:spPr>
          <a:xfrm>
            <a:off x="2259720" y="357120"/>
            <a:ext cx="4426560" cy="520560"/>
          </a:xfrm>
          <a:prstGeom prst="rect">
            <a:avLst/>
          </a:prstGeom>
          <a:solidFill>
            <a:srgbClr val="4d5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mbria"/>
              </a:rPr>
              <a:t>Сталинградская битв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6" name="Picture 2" descr=""/>
          <p:cNvPicPr/>
          <p:nvPr/>
        </p:nvPicPr>
        <p:blipFill>
          <a:blip r:embed="rId1"/>
          <a:stretch/>
        </p:blipFill>
        <p:spPr>
          <a:xfrm>
            <a:off x="142920" y="1285920"/>
            <a:ext cx="5000760" cy="4643280"/>
          </a:xfrm>
          <a:prstGeom prst="rect">
            <a:avLst/>
          </a:prstGeom>
          <a:ln w="0">
            <a:noFill/>
          </a:ln>
        </p:spPr>
      </p:pic>
      <p:sp>
        <p:nvSpPr>
          <p:cNvPr id="437" name="TextBox 3"/>
          <p:cNvSpPr/>
          <p:nvPr/>
        </p:nvSpPr>
        <p:spPr>
          <a:xfrm>
            <a:off x="5286240" y="1071720"/>
            <a:ext cx="3143520" cy="1191240"/>
          </a:xfrm>
          <a:prstGeom prst="rect">
            <a:avLst/>
          </a:prstGeom>
          <a:solidFill>
            <a:srgbClr val="4d5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Операция «Уран» – план контрнаступления Красной Армии под Сталинградо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8" name="Picture 3" descr="C:\Users\Лидия\Documents\11 класс\ВОВ\коренной перелом\жуков.jpg"/>
          <p:cNvPicPr/>
          <p:nvPr/>
        </p:nvPicPr>
        <p:blipFill>
          <a:blip r:embed="rId2"/>
          <a:stretch/>
        </p:blipFill>
        <p:spPr>
          <a:xfrm>
            <a:off x="428760" y="142920"/>
            <a:ext cx="666720" cy="863640"/>
          </a:xfrm>
          <a:prstGeom prst="rect">
            <a:avLst/>
          </a:prstGeom>
          <a:ln w="0">
            <a:noFill/>
          </a:ln>
        </p:spPr>
      </p:pic>
      <p:sp>
        <p:nvSpPr>
          <p:cNvPr id="439" name="TextBox 5"/>
          <p:cNvSpPr/>
          <p:nvPr/>
        </p:nvSpPr>
        <p:spPr>
          <a:xfrm>
            <a:off x="785880" y="642960"/>
            <a:ext cx="1214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ambria"/>
              </a:rPr>
              <a:t>Жуков Г.К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TextBox 6"/>
          <p:cNvSpPr/>
          <p:nvPr/>
        </p:nvSpPr>
        <p:spPr>
          <a:xfrm>
            <a:off x="5286240" y="2714760"/>
            <a:ext cx="3500640" cy="1828440"/>
          </a:xfrm>
          <a:prstGeom prst="rect">
            <a:avLst/>
          </a:prstGeom>
          <a:solidFill>
            <a:srgbClr val="4d5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ambria"/>
              </a:rPr>
              <a:t>План предусматривал окружение противника силами трех фронтов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ambria"/>
              </a:rPr>
              <a:t>Юго-Западного ( Ватутин Н.Ф.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ambria"/>
              </a:rPr>
              <a:t>Сталинградского (Еременко А.И.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ambria"/>
              </a:rPr>
              <a:t>Донского (Рокоссовский К.К</a:t>
            </a: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Picture 2" descr=""/>
          <p:cNvPicPr/>
          <p:nvPr/>
        </p:nvPicPr>
        <p:blipFill>
          <a:blip r:embed="rId1"/>
          <a:stretch/>
        </p:blipFill>
        <p:spPr>
          <a:xfrm>
            <a:off x="357120" y="142920"/>
            <a:ext cx="3791160" cy="3521160"/>
          </a:xfrm>
          <a:prstGeom prst="rect">
            <a:avLst/>
          </a:prstGeom>
          <a:ln w="0">
            <a:noFill/>
          </a:ln>
        </p:spPr>
      </p:pic>
      <p:sp>
        <p:nvSpPr>
          <p:cNvPr id="442" name="Прямоугольник 2"/>
          <p:cNvSpPr/>
          <p:nvPr/>
        </p:nvSpPr>
        <p:spPr>
          <a:xfrm>
            <a:off x="4116960" y="214200"/>
            <a:ext cx="4426560" cy="520560"/>
          </a:xfrm>
          <a:prstGeom prst="rect">
            <a:avLst/>
          </a:prstGeom>
          <a:solidFill>
            <a:srgbClr val="4d5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mbria"/>
              </a:rPr>
              <a:t>Сталинградская битв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TextBox 3"/>
          <p:cNvSpPr/>
          <p:nvPr/>
        </p:nvSpPr>
        <p:spPr>
          <a:xfrm>
            <a:off x="642960" y="3571920"/>
            <a:ext cx="8215200" cy="3111480"/>
          </a:xfrm>
          <a:prstGeom prst="rect">
            <a:avLst/>
          </a:prstGeom>
          <a:solidFill>
            <a:srgbClr val="4d5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19 ноября  1942г. – начало операции «Уран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23 ноября 1942г. – Красная армия. прорвав позиции гитлеровцев, взяла в кольцо  6-ю армию  Паулюса (около 300 тыс. человек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На помощь немецким войскам послана группа армий «Дон» ( командующий Манштейн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С 12 по 19 декабря продвижение армии «Дон» остановлен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Окруженным немецким войскам выдвинут ультиматум о капитуляц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Паулюс отказался капитулирова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4" name="Picture 2" descr="C:\Users\Лидия\Documents\11 класс\ВОВ\коренной перелом\19.jpeg"/>
          <p:cNvPicPr/>
          <p:nvPr/>
        </p:nvPicPr>
        <p:blipFill>
          <a:blip r:embed="rId2"/>
          <a:stretch/>
        </p:blipFill>
        <p:spPr>
          <a:xfrm>
            <a:off x="6357960" y="830160"/>
            <a:ext cx="2143080" cy="29448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Прямоугольник 1"/>
          <p:cNvSpPr/>
          <p:nvPr/>
        </p:nvSpPr>
        <p:spPr>
          <a:xfrm>
            <a:off x="2402640" y="428760"/>
            <a:ext cx="4426560" cy="520560"/>
          </a:xfrm>
          <a:prstGeom prst="rect">
            <a:avLst/>
          </a:prstGeom>
          <a:solidFill>
            <a:srgbClr val="4d5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mbria"/>
              </a:rPr>
              <a:t>Сталинградская битв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TextBox 2"/>
          <p:cNvSpPr/>
          <p:nvPr/>
        </p:nvSpPr>
        <p:spPr>
          <a:xfrm>
            <a:off x="500040" y="1214280"/>
            <a:ext cx="4286160" cy="1191240"/>
          </a:xfrm>
          <a:prstGeom prst="rect">
            <a:avLst/>
          </a:prstGeom>
          <a:solidFill>
            <a:srgbClr val="4d5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10 января – 2 февраля  1943г. – операция «Кольцо», ликвидация окруженной немецкой группировк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7" name="Picture 2" descr="C:\Users\Лидия\Documents\11 класс\ВОВ\коренной перелом\4.jpg"/>
          <p:cNvPicPr/>
          <p:nvPr/>
        </p:nvPicPr>
        <p:blipFill>
          <a:blip r:embed="rId1"/>
          <a:stretch/>
        </p:blipFill>
        <p:spPr>
          <a:xfrm>
            <a:off x="1000080" y="2643120"/>
            <a:ext cx="3786120" cy="2808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48" name="Picture 3" descr="C:\Users\Лидия\Documents\11 класс\ВОВ\коренной перелом\пленные.jpg"/>
          <p:cNvPicPr/>
          <p:nvPr/>
        </p:nvPicPr>
        <p:blipFill>
          <a:blip r:embed="rId2"/>
          <a:stretch/>
        </p:blipFill>
        <p:spPr>
          <a:xfrm>
            <a:off x="4714920" y="1714680"/>
            <a:ext cx="1847880" cy="1317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49" name="Picture 4" descr="C:\Users\Лидия\Documents\11 класс\ВОВ\коренной перелом\18.jpg"/>
          <p:cNvPicPr/>
          <p:nvPr/>
        </p:nvPicPr>
        <p:blipFill>
          <a:blip r:embed="rId3"/>
          <a:stretch/>
        </p:blipFill>
        <p:spPr>
          <a:xfrm>
            <a:off x="6357960" y="1143000"/>
            <a:ext cx="2198520" cy="3119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50" name="TextBox 6"/>
          <p:cNvSpPr/>
          <p:nvPr/>
        </p:nvSpPr>
        <p:spPr>
          <a:xfrm>
            <a:off x="5286240" y="4357800"/>
            <a:ext cx="3286440" cy="642600"/>
          </a:xfrm>
          <a:prstGeom prst="rect">
            <a:avLst/>
          </a:prstGeom>
          <a:solidFill>
            <a:srgbClr val="4d5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Пленение фельдмаршала Паулюс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1" name="Picture 5" descr="C:\Users\Лидия\Documents\11 класс\ВОВ\коренной перелом\19.jpg"/>
          <p:cNvPicPr/>
          <p:nvPr/>
        </p:nvPicPr>
        <p:blipFill>
          <a:blip r:embed="rId4"/>
          <a:stretch/>
        </p:blipFill>
        <p:spPr>
          <a:xfrm>
            <a:off x="500040" y="2357280"/>
            <a:ext cx="880920" cy="881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52" name="Picture 6" descr="C:\Users\Лидия\Documents\11 класс\ВОВ\коренной перелом\12.jpg"/>
          <p:cNvPicPr/>
          <p:nvPr/>
        </p:nvPicPr>
        <p:blipFill>
          <a:blip r:embed="rId5"/>
          <a:stretch/>
        </p:blipFill>
        <p:spPr>
          <a:xfrm>
            <a:off x="4286160" y="5286240"/>
            <a:ext cx="2024280" cy="1032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53" name="TextBox 9"/>
          <p:cNvSpPr/>
          <p:nvPr/>
        </p:nvSpPr>
        <p:spPr>
          <a:xfrm>
            <a:off x="714240" y="5715000"/>
            <a:ext cx="3214800" cy="642600"/>
          </a:xfrm>
          <a:prstGeom prst="rect">
            <a:avLst/>
          </a:prstGeom>
          <a:solidFill>
            <a:srgbClr val="4d5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В освобожденном Сталинград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TextBox 1"/>
          <p:cNvSpPr/>
          <p:nvPr/>
        </p:nvSpPr>
        <p:spPr>
          <a:xfrm>
            <a:off x="2786040" y="285840"/>
            <a:ext cx="3143160" cy="520560"/>
          </a:xfrm>
          <a:prstGeom prst="rect">
            <a:avLst/>
          </a:prstGeom>
          <a:solidFill>
            <a:srgbClr val="4d5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mbria"/>
              </a:rPr>
              <a:t>Курская битв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5" name="Picture 3" descr="C:\Users\Лидия\Documents\11 класс\ВОВ\коренной перелом\21.jpg"/>
          <p:cNvPicPr/>
          <p:nvPr/>
        </p:nvPicPr>
        <p:blipFill>
          <a:blip r:embed="rId1"/>
          <a:stretch/>
        </p:blipFill>
        <p:spPr>
          <a:xfrm>
            <a:off x="4929120" y="1000080"/>
            <a:ext cx="3721320" cy="5232600"/>
          </a:xfrm>
          <a:prstGeom prst="rect">
            <a:avLst/>
          </a:prstGeom>
          <a:ln w="0">
            <a:noFill/>
          </a:ln>
        </p:spPr>
      </p:pic>
      <p:sp>
        <p:nvSpPr>
          <p:cNvPr id="456" name="TextBox 4"/>
          <p:cNvSpPr/>
          <p:nvPr/>
        </p:nvSpPr>
        <p:spPr>
          <a:xfrm>
            <a:off x="714240" y="1643040"/>
            <a:ext cx="3571920" cy="1191240"/>
          </a:xfrm>
          <a:prstGeom prst="rect">
            <a:avLst/>
          </a:prstGeom>
          <a:solidFill>
            <a:srgbClr val="4d5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«Цитадель» – план наступления немецких войск на курском направлен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TextBox 5"/>
          <p:cNvSpPr/>
          <p:nvPr/>
        </p:nvSpPr>
        <p:spPr>
          <a:xfrm>
            <a:off x="6715080" y="3929040"/>
            <a:ext cx="785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d0d0d"/>
                </a:solidFill>
                <a:latin typeface="Cambria"/>
              </a:rPr>
              <a:t>Курс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Овал 7"/>
          <p:cNvSpPr/>
          <p:nvPr/>
        </p:nvSpPr>
        <p:spPr>
          <a:xfrm>
            <a:off x="6500880" y="4000680"/>
            <a:ext cx="214200" cy="142560"/>
          </a:xfrm>
          <a:prstGeom prst="ellipse">
            <a:avLst/>
          </a:prstGeom>
          <a:solidFill>
            <a:srgbClr val="4d5040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Овал 8"/>
          <p:cNvSpPr/>
          <p:nvPr/>
        </p:nvSpPr>
        <p:spPr>
          <a:xfrm>
            <a:off x="6357960" y="2643120"/>
            <a:ext cx="142920" cy="142920"/>
          </a:xfrm>
          <a:prstGeom prst="ellipse">
            <a:avLst/>
          </a:prstGeom>
          <a:solidFill>
            <a:srgbClr val="4d5040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Овал 9"/>
          <p:cNvSpPr/>
          <p:nvPr/>
        </p:nvSpPr>
        <p:spPr>
          <a:xfrm>
            <a:off x="6858000" y="5214960"/>
            <a:ext cx="142920" cy="142920"/>
          </a:xfrm>
          <a:prstGeom prst="ellipse">
            <a:avLst/>
          </a:prstGeom>
          <a:solidFill>
            <a:srgbClr val="4d5040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TextBox 11"/>
          <p:cNvSpPr/>
          <p:nvPr/>
        </p:nvSpPr>
        <p:spPr>
          <a:xfrm>
            <a:off x="6643800" y="2571840"/>
            <a:ext cx="78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d0d0d"/>
                </a:solidFill>
                <a:latin typeface="Cambria"/>
              </a:rPr>
              <a:t>Орел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TextBox 12"/>
          <p:cNvSpPr/>
          <p:nvPr/>
        </p:nvSpPr>
        <p:spPr>
          <a:xfrm>
            <a:off x="7000920" y="5286240"/>
            <a:ext cx="1143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d0d0d"/>
                </a:solidFill>
                <a:latin typeface="Cambria"/>
              </a:rPr>
              <a:t>Белгород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Штриховая стрелка вправо 16"/>
          <p:cNvSpPr/>
          <p:nvPr/>
        </p:nvSpPr>
        <p:spPr>
          <a:xfrm rot="1570800">
            <a:off x="4989240" y="2045880"/>
            <a:ext cx="1285920" cy="457200"/>
          </a:xfrm>
          <a:custGeom>
            <a:avLst/>
            <a:gdLst>
              <a:gd name="textAreaLeft" fmla="*/ 71280 w 1285920"/>
              <a:gd name="textAreaRight" fmla="*/ 1171800 w 128592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1285875" h="457200">
                <a:moveTo>
                  <a:pt x="0" y="114300"/>
                </a:moveTo>
                <a:lnTo>
                  <a:pt x="14288" y="114300"/>
                </a:lnTo>
                <a:lnTo>
                  <a:pt x="14288" y="342900"/>
                </a:lnTo>
                <a:lnTo>
                  <a:pt x="0" y="342900"/>
                </a:lnTo>
                <a:close/>
                <a:moveTo>
                  <a:pt x="28575" y="114300"/>
                </a:moveTo>
                <a:lnTo>
                  <a:pt x="57150" y="114300"/>
                </a:lnTo>
                <a:lnTo>
                  <a:pt x="57150" y="342900"/>
                </a:lnTo>
                <a:lnTo>
                  <a:pt x="28575" y="342900"/>
                </a:lnTo>
                <a:close/>
                <a:moveTo>
                  <a:pt x="71437" y="114300"/>
                </a:moveTo>
                <a:lnTo>
                  <a:pt x="1057275" y="114300"/>
                </a:lnTo>
                <a:lnTo>
                  <a:pt x="1057275" y="0"/>
                </a:lnTo>
                <a:lnTo>
                  <a:pt x="1285875" y="228600"/>
                </a:lnTo>
                <a:lnTo>
                  <a:pt x="1057275" y="457200"/>
                </a:lnTo>
                <a:lnTo>
                  <a:pt x="1057275" y="342900"/>
                </a:lnTo>
                <a:lnTo>
                  <a:pt x="71437" y="342900"/>
                </a:lnTo>
                <a:close/>
              </a:path>
            </a:pathLst>
          </a:custGeom>
          <a:solidFill>
            <a:srgbClr val="72a376"/>
          </a:solidFill>
          <a:ln w="38160">
            <a:solidFill>
              <a:srgbClr val="52775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Штриховая стрелка вправо 17"/>
          <p:cNvSpPr/>
          <p:nvPr/>
        </p:nvSpPr>
        <p:spPr>
          <a:xfrm rot="20223000">
            <a:off x="5540040" y="5518080"/>
            <a:ext cx="1285920" cy="465120"/>
          </a:xfrm>
          <a:custGeom>
            <a:avLst/>
            <a:gdLst>
              <a:gd name="textAreaLeft" fmla="*/ 72360 w 1285920"/>
              <a:gd name="textAreaRight" fmla="*/ 1169640 w 1285920"/>
              <a:gd name="textAreaTop" fmla="*/ 116280 h 465120"/>
              <a:gd name="textAreaBottom" fmla="*/ 348840 h 465120"/>
            </a:gdLst>
            <a:ahLst/>
            <a:rect l="textAreaLeft" t="textAreaTop" r="textAreaRight" b="textAreaBottom"/>
            <a:pathLst>
              <a:path w="1285875" h="465138">
                <a:moveTo>
                  <a:pt x="0" y="116285"/>
                </a:moveTo>
                <a:lnTo>
                  <a:pt x="14536" y="116285"/>
                </a:lnTo>
                <a:lnTo>
                  <a:pt x="14536" y="348854"/>
                </a:lnTo>
                <a:lnTo>
                  <a:pt x="0" y="348854"/>
                </a:lnTo>
                <a:close/>
                <a:moveTo>
                  <a:pt x="29071" y="116285"/>
                </a:moveTo>
                <a:lnTo>
                  <a:pt x="58142" y="116285"/>
                </a:lnTo>
                <a:lnTo>
                  <a:pt x="58142" y="348854"/>
                </a:lnTo>
                <a:lnTo>
                  <a:pt x="29071" y="348854"/>
                </a:lnTo>
                <a:close/>
                <a:moveTo>
                  <a:pt x="72678" y="116285"/>
                </a:moveTo>
                <a:lnTo>
                  <a:pt x="1053306" y="116285"/>
                </a:lnTo>
                <a:lnTo>
                  <a:pt x="1053306" y="0"/>
                </a:lnTo>
                <a:lnTo>
                  <a:pt x="1285875" y="232569"/>
                </a:lnTo>
                <a:lnTo>
                  <a:pt x="1053306" y="465138"/>
                </a:lnTo>
                <a:lnTo>
                  <a:pt x="1053306" y="348854"/>
                </a:lnTo>
                <a:lnTo>
                  <a:pt x="72678" y="348854"/>
                </a:lnTo>
                <a:close/>
              </a:path>
            </a:pathLst>
          </a:custGeom>
          <a:solidFill>
            <a:srgbClr val="72a376"/>
          </a:solidFill>
          <a:ln w="38160">
            <a:solidFill>
              <a:srgbClr val="52775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Штриховая стрелка вправо 19"/>
          <p:cNvSpPr/>
          <p:nvPr/>
        </p:nvSpPr>
        <p:spPr>
          <a:xfrm rot="3342600">
            <a:off x="6515640" y="3134520"/>
            <a:ext cx="1068480" cy="428760"/>
          </a:xfrm>
          <a:custGeom>
            <a:avLst/>
            <a:gdLst>
              <a:gd name="textAreaLeft" fmla="*/ 66960 w 1068480"/>
              <a:gd name="textAreaRight" fmla="*/ 961560 w 1068480"/>
              <a:gd name="textAreaTop" fmla="*/ 106920 h 428760"/>
              <a:gd name="textAreaBottom" fmla="*/ 321840 h 428760"/>
            </a:gdLst>
            <a:ahLst/>
            <a:rect l="textAreaLeft" t="textAreaTop" r="textAreaRight" b="textAreaBottom"/>
            <a:pathLst>
              <a:path w="1068387" h="428625">
                <a:moveTo>
                  <a:pt x="0" y="107156"/>
                </a:moveTo>
                <a:lnTo>
                  <a:pt x="13395" y="107156"/>
                </a:lnTo>
                <a:lnTo>
                  <a:pt x="13395" y="321469"/>
                </a:lnTo>
                <a:lnTo>
                  <a:pt x="0" y="321469"/>
                </a:lnTo>
                <a:close/>
                <a:moveTo>
                  <a:pt x="26789" y="107156"/>
                </a:moveTo>
                <a:lnTo>
                  <a:pt x="53578" y="107156"/>
                </a:lnTo>
                <a:lnTo>
                  <a:pt x="53578" y="321469"/>
                </a:lnTo>
                <a:lnTo>
                  <a:pt x="26789" y="321469"/>
                </a:lnTo>
                <a:close/>
                <a:moveTo>
                  <a:pt x="66973" y="107156"/>
                </a:moveTo>
                <a:lnTo>
                  <a:pt x="854075" y="107156"/>
                </a:lnTo>
                <a:lnTo>
                  <a:pt x="854075" y="0"/>
                </a:lnTo>
                <a:lnTo>
                  <a:pt x="1068387" y="214313"/>
                </a:lnTo>
                <a:lnTo>
                  <a:pt x="854075" y="428625"/>
                </a:lnTo>
                <a:lnTo>
                  <a:pt x="854075" y="321469"/>
                </a:lnTo>
                <a:lnTo>
                  <a:pt x="66973" y="321469"/>
                </a:lnTo>
                <a:close/>
              </a:path>
            </a:pathLst>
          </a:custGeom>
          <a:solidFill>
            <a:srgbClr val="72a376"/>
          </a:solidFill>
          <a:ln w="38160">
            <a:solidFill>
              <a:srgbClr val="52775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Штриховая стрелка вправо 20"/>
          <p:cNvSpPr/>
          <p:nvPr/>
        </p:nvSpPr>
        <p:spPr>
          <a:xfrm rot="16782600">
            <a:off x="6808680" y="4385880"/>
            <a:ext cx="1143000" cy="428760"/>
          </a:xfrm>
          <a:custGeom>
            <a:avLst/>
            <a:gdLst>
              <a:gd name="textAreaLeft" fmla="*/ 66960 w 1143000"/>
              <a:gd name="textAreaRight" fmla="*/ 1036080 w 1143000"/>
              <a:gd name="textAreaTop" fmla="*/ 106920 h 428760"/>
              <a:gd name="textAreaBottom" fmla="*/ 321840 h 428760"/>
            </a:gdLst>
            <a:ahLst/>
            <a:rect l="textAreaLeft" t="textAreaTop" r="textAreaRight" b="textAreaBottom"/>
            <a:pathLst>
              <a:path w="1143000" h="428625">
                <a:moveTo>
                  <a:pt x="0" y="107156"/>
                </a:moveTo>
                <a:lnTo>
                  <a:pt x="13395" y="107156"/>
                </a:lnTo>
                <a:lnTo>
                  <a:pt x="13395" y="321469"/>
                </a:lnTo>
                <a:lnTo>
                  <a:pt x="0" y="321469"/>
                </a:lnTo>
                <a:close/>
                <a:moveTo>
                  <a:pt x="26789" y="107156"/>
                </a:moveTo>
                <a:lnTo>
                  <a:pt x="53578" y="107156"/>
                </a:lnTo>
                <a:lnTo>
                  <a:pt x="53578" y="321469"/>
                </a:lnTo>
                <a:lnTo>
                  <a:pt x="26789" y="321469"/>
                </a:lnTo>
                <a:close/>
                <a:moveTo>
                  <a:pt x="66973" y="107156"/>
                </a:moveTo>
                <a:lnTo>
                  <a:pt x="928688" y="107156"/>
                </a:lnTo>
                <a:lnTo>
                  <a:pt x="928688" y="0"/>
                </a:lnTo>
                <a:lnTo>
                  <a:pt x="1143000" y="214313"/>
                </a:lnTo>
                <a:lnTo>
                  <a:pt x="928688" y="428625"/>
                </a:lnTo>
                <a:lnTo>
                  <a:pt x="928688" y="321469"/>
                </a:lnTo>
                <a:lnTo>
                  <a:pt x="66973" y="321469"/>
                </a:lnTo>
                <a:close/>
              </a:path>
            </a:pathLst>
          </a:custGeom>
          <a:solidFill>
            <a:srgbClr val="72a376"/>
          </a:solidFill>
          <a:ln w="38160">
            <a:solidFill>
              <a:srgbClr val="52775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TextBox 21"/>
          <p:cNvSpPr/>
          <p:nvPr/>
        </p:nvSpPr>
        <p:spPr>
          <a:xfrm>
            <a:off x="1000080" y="1000080"/>
            <a:ext cx="3286080" cy="368280"/>
          </a:xfrm>
          <a:prstGeom prst="rect">
            <a:avLst/>
          </a:prstGeom>
          <a:solidFill>
            <a:srgbClr val="4d5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5 июля – 23 августа 1943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8" name="Picture 4" descr="C:\Users\Лидия\Documents\11 класс\ВОВ\коренной перелом\22.gif"/>
          <p:cNvPicPr/>
          <p:nvPr/>
        </p:nvPicPr>
        <p:blipFill>
          <a:blip r:embed="rId2"/>
          <a:stretch/>
        </p:blipFill>
        <p:spPr>
          <a:xfrm>
            <a:off x="214200" y="3214800"/>
            <a:ext cx="4568760" cy="3000240"/>
          </a:xfrm>
          <a:prstGeom prst="rect">
            <a:avLst/>
          </a:prstGeom>
          <a:ln w="0">
            <a:noFill/>
          </a:ln>
        </p:spPr>
      </p:pic>
    </p:spTree>
  </p:cSld>
  <p:transition spd="slow">
    <p:wheel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6T13:52:28Z</dcterms:created>
  <dc:creator>Лидия</dc:creator>
  <dc:description/>
  <dc:language>en-US</dc:language>
  <cp:lastModifiedBy>Electric1</cp:lastModifiedBy>
  <dcterms:modified xsi:type="dcterms:W3CDTF">2020-04-23T09:26:30Z</dcterms:modified>
  <cp:revision>47</cp:revision>
  <dc:subject/>
  <dc:title>Слайд 1</dc:title>
</cp:coreProperties>
</file>