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D71-9E62-43C5-85B3-81F6D100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992-94D5-4ADC-8876-FBDCBB24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F82-DBC2-43BB-B108-BF811676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4E0-9CB9-4EAF-97C3-F64CD897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3DE1-0FE9-47FF-9784-130D0B70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EB86-F082-4A8C-91B9-454C0A72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A66B-E35B-40DF-80AE-5A30E84C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8A78-5FDB-41C4-91D0-D666EEBA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0B8-6117-42CB-8660-88BF5070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97B5-B551-4E05-A079-735440E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B36B-2770-4233-B4E0-8AA96CF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2B3-F1D7-4852-AF24-E47DB523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C919-168C-422D-BA31-406554D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2266-03C3-4D87-ABEC-A015D2E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4FA-1E4D-4F60-9B2F-D09F6A16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CE80-2487-4A4C-95E1-45894A50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C021-17E7-4FD2-838F-9056CE9F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2CC-2C5B-41ED-9997-092853D0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282-5461-455E-BE67-3022A468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6C7-89C3-4E28-B343-8993C05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C13-7370-4756-BB57-C535E74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6A4-AB31-479F-8EA7-D36F13A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3C4-54EE-49DA-A990-84BB1FB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79B-9DBF-46B1-91DB-B832D151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473-04E2-44C0-ADB5-CA5137DB46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5F5-6FB1-4A97-B528-0E10C9A6C0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97000" y="754560"/>
            <a:ext cx="8755560" cy="369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остроение процесса  обучения на основе проектного метода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новационные технологи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3640" y="5532480"/>
            <a:ext cx="46083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 Егорова Т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C:\Users\1\Downloads\novaya_emblema1 (1).jpg"/>
          <p:cNvPicPr/>
          <p:nvPr/>
        </p:nvPicPr>
        <p:blipFill>
          <a:blip r:embed="rId1"/>
          <a:stretch/>
        </p:blipFill>
        <p:spPr>
          <a:xfrm>
            <a:off x="6215040" y="392904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3360" y="1277280"/>
            <a:ext cx="9017280" cy="87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чень проблем, используемых для разработки проекта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714240" y="2500200"/>
            <a:ext cx="821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едагога с группой детей над проектом - это рассмотрение возникающих проблем, когда формируется и развивается способность ребенка самостоятельно реш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но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ы проб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 и его семья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 и природа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 и рукотворный мир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, общество и его культурные ценност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94996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ровни развития проектной деятельност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785880" y="296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ый уровен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ражательно – исполнительский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ладший и средний дошкольный возраст - 3,5 -5 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42960" y="38577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уровен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редний и старший дошкольный возраст, 5 - 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000080" y="50007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етий уровен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вор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арший дошкольный возраст, 6 -7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5120" y="1492200"/>
            <a:ext cx="779796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работы воспитателя по подготовке проекта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71680" y="2214360"/>
            <a:ext cx="857232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остановка цел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зработка плана движения к цели (воспитатель, методист обсуждают план с род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Привлечение специалистов к осуществлению соответствующих разделов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ставление плана-схемы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Сбор, накопление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Включение в план-схему проекта занятий, игр и других видов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Домашние задания и задания для самостоятельного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Презентация проекта, открытое занятие, выставка,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0680" y="40680"/>
            <a:ext cx="9062640" cy="56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 деятельности над проек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514440"/>
          <a:ext cx="9144000" cy="6343560"/>
        </p:xfrm>
        <a:graphic>
          <a:graphicData uri="http://schemas.openxmlformats.org/drawingml/2006/table">
            <a:tbl>
              <a:tblPr/>
              <a:tblGrid>
                <a:gridCol w="878040"/>
                <a:gridCol w="4836960"/>
                <a:gridCol w="3429000"/>
              </a:tblGrid>
              <a:tr h="65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тапы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42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бор те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ет проблему (цель). (При постановке цели определяется и продукт проек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ждение в пробл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водит в игровую (сюжетную) ситу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живание в игровую ситу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3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Формулирует задачу (нежестк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задачи. Дополнение задач про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могает в решении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детей в рабочие группы. Распределение амплу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83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омогает спланировать деятельность: к кому обратиться за помощью (взрослому, педагог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каких источниках можно найти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акие предметы использовать (принадлежности, оборудование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какими предметами научиться работать для достижения ц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рганизует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7000" y="312840"/>
            <a:ext cx="9090000" cy="37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деятельности над проектом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857160"/>
          <a:ext cx="9144000" cy="6559560"/>
        </p:xfrm>
        <a:graphic>
          <a:graphicData uri="http://schemas.openxmlformats.org/drawingml/2006/table">
            <a:tbl>
              <a:tblPr/>
              <a:tblGrid>
                <a:gridCol w="1000080"/>
                <a:gridCol w="5357880"/>
                <a:gridCol w="2786040"/>
              </a:tblGrid>
              <a:tr h="96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Практическая помощь (по необходи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ецифических знаний, умений и навы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Направляет и контролирует осуществле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промежуточное обсуждение получен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 презентации. Презент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 деятельности готовят к презентации. Представляют (зрителям или экспертам) продукт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6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ое обсуждение, результаты внешней оценки, выводы. Определение задач для нов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3360" y="777240"/>
            <a:ext cx="9017280" cy="87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проектов в ДО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Л.В.Киселевой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4200" y="1285920"/>
          <a:ext cx="8643960" cy="5194080"/>
        </p:xfrm>
        <a:graphic>
          <a:graphicData uri="http://schemas.openxmlformats.org/drawingml/2006/table">
            <a:tbl>
              <a:tblPr/>
              <a:tblGrid>
                <a:gridCol w="357480"/>
                <a:gridCol w="1643040"/>
                <a:gridCol w="4483080"/>
                <a:gridCol w="2160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ип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озраст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-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экспериментируют, проводят опыты, а затем оформляют результаты в виде газет,  книг, альбомов, выстав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дошкольный 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проекты с элементами творческих игр, когда ребята входят в образ персонажей сказки, по-своему решая поставленные проблемы и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второй младшей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-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обирают информацию и реализуют ее. Ориентируясь на собственные  социальные интересы (оформление группы, отдельных уголков, дизайн группы, витражи и д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редней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05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результата работы в виде детского праздника, детского дизайна и 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второй младшей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помогает получить ребенку ранний социальный позитивный опыт реализации собственных замысл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все возрастающая динамичность внутри общественных взаимоотношений, требует поиска новых, нестандартных действий в самых разных обстоятельствах. Нестандартность действий основывается на оригинальности мыш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 , проектная деятельность помогает выйти за пределы культуры (познавательная инициатива) культурно-адекватным способом. Именно проектная деятельность позволяет не только поддерживать детскую инициативу, но и оформить ее в виде культурно- значимого продукта. Одной из годовых задач нашего дошкольного учреждения значится задача по проектной деятельности: «Продолжать активно внедрять в практику работы педагогов ДОУ проектный метод, в целях повышения качества воспитательно-образовательного процесса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642760"/>
            <a:ext cx="769320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ть поиск и освоение новых технологий повышения профессиональной компетентности, способствующей качественным изменениям в деятельности Д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овать работу педагогов по внедрению инновационных технологий в деятельность ДО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82360" y="120600"/>
            <a:ext cx="76834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вестка педсове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571840"/>
            <a:ext cx="8020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-разминка для педагогов «Метод проектов как форма организации единого образовательного пространства ДО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уровня организации работы по проектному мет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ирование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еская пауза «Видеофильм «Спорт – альтернатива пагубным привычка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о защите проектов на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педагогического со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86200" y="429120"/>
            <a:ext cx="832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дагогическое проект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способ организации педагогического процесса, основанный на взаимодействии педагога и воспитанника, как способ взаимодействия с окружающей средой, поэтапная практическая деятельность по достижению поставленной це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прикладное научное направление педагогики и организуемой практической деятельности, направленное на создание, развитие и преобразование организованных процессов воспитания и обучени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варительная разработка основных деталей предстоящей деятельности педагогов и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пределению В. Ротенберга (2001),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исковое повед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напряжение мысли, фантазии, творчество в условиях неопредел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ология "Метод проектов"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пособ достижения цели через детальную разработку проблемы (технологию), которая должна завершиться вполне реальным, осязаемым практическим результатом, оформленным тем или иным обра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дагогический проек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истема реализуемых и планируемых действий, необходимых условий и средств для достижения определенных целей, которые зависят от приоритетных педагогически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и метода проект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71680" y="2362320"/>
            <a:ext cx="85723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проектировании ставит детей и взрослых в позицию, когда человек сам разрабатывает для себя и других новые условия, т.е. изменяя обстоятельства, изменяет самог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ирование требует индивидуальных оригинальных решений и в то же время коллективного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чет работы в режиме группового творчества интенсивно развиваются способности к самоанализу, выбору адекватных решений, умению выстраивать из частей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учатся самостоятельно мыслить, находить и решать проблемы, привлекая для этой цели знания из разных обл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умение прогнозировать результаты и возможные последствия разных вариантов решений, умения устанавливать причинно - следствен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99680" y="2642760"/>
            <a:ext cx="818676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те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творческие, информационные, игровые или исследовательские и способам реализации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оставу участников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, групповые и фронт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рока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раткосрочный, проект средней продолжительности, долгосро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ы, используемые в ДОУ классифицируют по следующим признакам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800" y="1219680"/>
            <a:ext cx="77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бования к использованию проектной деятельности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714240" y="2214720"/>
            <a:ext cx="792972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Наличие значимой для детей в исследовательском, творческом плане проблемы, задач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Практическая, теоретическая, познавательная значимость предполагаемых результа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Самостоятельная деятельность дет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Структурирование содержательной части проек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.Использование исследовательских методов ("мозговой штурм", эксперименты, опыты, наблюдения и др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7:34:58Z</dcterms:created>
  <dc:creator>Мама</dc:creator>
  <dc:description/>
  <dc:language>en-US</dc:language>
  <cp:lastModifiedBy>home</cp:lastModifiedBy>
  <dcterms:modified xsi:type="dcterms:W3CDTF">2020-04-23T13:37:27Z</dcterms:modified>
  <cp:revision>13</cp:revision>
  <dc:subject/>
  <dc:title>ПРОЕКТ «Формирование безопасного поведения на улице у детей старшего дошкольного возраста»</dc:title>
</cp:coreProperties>
</file>