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4836-7840-4136-A9E4-F23A217B2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6B40-BB48-4663-B66F-1D9100138C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903-844D-4038-8D0B-B36540AD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F19-43E2-4C93-A9AC-D59EC707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207-9DA7-44C3-9FD7-C6691901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424-670B-4724-A427-920439CB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67D-E2EB-473C-BDD6-73BA80F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42A-EE6B-4B5C-A457-52291012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795-C042-4F0E-8AD5-4255B5B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F2D-C8CF-40E9-B053-B9BAEC6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2B7-E5C2-429A-BF69-D9289C3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184-8606-48D9-AD8C-434D2147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9D8-97B5-46A7-B164-951F1CD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971-2C3C-4B15-8961-AED7AA0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A69-C2C5-450C-AD65-E067FBA58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a_5d9e0803"/>
          <p:cNvPicPr/>
          <p:nvPr/>
        </p:nvPicPr>
        <p:blipFill>
          <a:blip r:embed="rId1"/>
          <a:stretch/>
        </p:blipFill>
        <p:spPr>
          <a:xfrm>
            <a:off x="179280" y="1197000"/>
            <a:ext cx="1905120" cy="408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x_c5ab126a"/>
          <p:cNvPicPr/>
          <p:nvPr/>
        </p:nvPicPr>
        <p:blipFill>
          <a:blip r:embed="rId2"/>
          <a:stretch/>
        </p:blipFill>
        <p:spPr>
          <a:xfrm>
            <a:off x="4251240" y="0"/>
            <a:ext cx="48927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32000" y="2708280"/>
            <a:ext cx="52545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ПРАВООТНОШЕНИЯ И ПРАВОНАРУ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260280"/>
            <a:ext cx="3735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3920" y="7142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упать – право, а платить –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2000" y="285840"/>
            <a:ext cx="51116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купке товара мы можем выбирать, задавать вопросы, требовать документы – это наше субъектное пра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а  за товар, который мы приобретаем – юридическая обяза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Владелец\Desktop\iCA3LS4CS.jpg"/>
          <p:cNvPicPr/>
          <p:nvPr/>
        </p:nvPicPr>
        <p:blipFill>
          <a:blip r:embed="rId1"/>
          <a:stretch/>
        </p:blipFill>
        <p:spPr>
          <a:xfrm>
            <a:off x="1000080" y="2357280"/>
            <a:ext cx="297972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071720" y="214200"/>
            <a:ext cx="771516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ъект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143000" y="100008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быть участником правоотношений, необходимо обладать определенным юридическим качеством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субъек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состоит из двух элемент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пособности и дееспособности.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пособность иметь права и обязанности, 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еспособност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пособность своими действиями осуществлять права и исполнять юридические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im0-tub-ru.yandex.net/i?id=735a6c253ee86a3c68a682add9fb80fa&amp;n=11"/>
          <p:cNvPicPr/>
          <p:nvPr/>
        </p:nvPicPr>
        <p:blipFill>
          <a:blip r:embed="rId1"/>
          <a:stretch/>
        </p:blipFill>
        <p:spPr>
          <a:xfrm>
            <a:off x="4071960" y="4214880"/>
            <a:ext cx="48006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Правоспособность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знанная государством способность физических лиц (граждан) и юридических лиц иметь права и нести обязанности, предусмотренные и допускаемые закон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Владелец\Desktop\57724413c85f.jpg"/>
          <p:cNvPicPr/>
          <p:nvPr/>
        </p:nvPicPr>
        <p:blipFill>
          <a:blip r:embed="rId1"/>
          <a:stretch/>
        </p:blipFill>
        <p:spPr>
          <a:xfrm>
            <a:off x="2214720" y="2571840"/>
            <a:ext cx="609588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76150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еспособность граждани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способность гражданина своими действиями приобретать и осуществлять гражданские права, создавать для себя гражданские обязанности и исполня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Users\Владелец\Desktop\23-2.gif"/>
          <p:cNvPicPr/>
          <p:nvPr/>
        </p:nvPicPr>
        <p:blipFill>
          <a:blip r:embed="rId1"/>
          <a:stretch/>
        </p:blipFill>
        <p:spPr>
          <a:xfrm>
            <a:off x="1071720" y="2249640"/>
            <a:ext cx="73562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еспособность несовершеннолетни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1426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недееспособн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дети, не достигшие 14 лет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Частичной дееспособностью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ладают граждане с 14 до 18 лет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олная дееспособ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тупает с 18 л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осле 18 лет сохраняются некоторые возрастные ограничения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и касаются, в основном, политической сфер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торым фактором ограничения дееспособности являются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дефекты воли или сознания</a:t>
            </a:r>
            <a:r>
              <a:rPr b="0" lang="ru-RU" sz="3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 только по решению суда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071720" y="285840"/>
            <a:ext cx="778644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дические фа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143000" y="85716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м возникновения правоотношения, наряду с нормой права, является юридический фа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жизненные обстоятельства, условия, с которыми закон связывает возникновение, изменение или прекращение правоотно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godsvadbe.ru/wp-content/uploads/2016/03/851515dc4ec19e3f_737664_l.jpg"/>
          <p:cNvPicPr/>
          <p:nvPr/>
        </p:nvPicPr>
        <p:blipFill>
          <a:blip r:embed="rId1"/>
          <a:stretch/>
        </p:blipFill>
        <p:spPr>
          <a:xfrm>
            <a:off x="1000080" y="3714840"/>
            <a:ext cx="3452760" cy="28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organoid.ru/wp-content/uploads/2017/10/dokumenty-dlja-poluchenie-pasporta-v-14-let01.jpg"/>
          <p:cNvPicPr/>
          <p:nvPr/>
        </p:nvPicPr>
        <p:blipFill>
          <a:blip r:embed="rId2"/>
          <a:stretch/>
        </p:blipFill>
        <p:spPr>
          <a:xfrm>
            <a:off x="4830840" y="3143160"/>
            <a:ext cx="371772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000080" y="78588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факты можно подразделить на две группы: события 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ытия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юридически значимые факты, которые возникают независимо от воли человека. К событиям относятся стихийные бедствия, рождение и смерть человека, истечение сроков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акие юридические факты, наступление которых зависит от воли людей, например поступление н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1285920" y="285840"/>
            <a:ext cx="757224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дические фа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http://iuristonline.ru/wp-content/uploads/2017/08/Kakie-dokumenty-nuzhny-dlya-vremennoj-propiski-rebenka.jpg"/>
          <p:cNvPicPr/>
          <p:nvPr/>
        </p:nvPicPr>
        <p:blipFill>
          <a:blip r:embed="rId1"/>
          <a:stretch/>
        </p:blipFill>
        <p:spPr>
          <a:xfrm>
            <a:off x="571680" y="4929120"/>
            <a:ext cx="31431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s://vizaimm.com/wp-content/uploads/2017/12/rebenok-s-pasportom-600x400.jpg"/>
          <p:cNvPicPr/>
          <p:nvPr/>
        </p:nvPicPr>
        <p:blipFill>
          <a:blip r:embed="rId2"/>
          <a:stretch/>
        </p:blipFill>
        <p:spPr>
          <a:xfrm>
            <a:off x="285840" y="4214880"/>
            <a:ext cx="3571920" cy="245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kola.murmansk.ru/upload/iblock/10d/news160426_2.jpg"/>
          <p:cNvPicPr/>
          <p:nvPr/>
        </p:nvPicPr>
        <p:blipFill>
          <a:blip r:embed="rId3"/>
          <a:stretch/>
        </p:blipFill>
        <p:spPr>
          <a:xfrm>
            <a:off x="4500720" y="3929040"/>
            <a:ext cx="421452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ая соединительная линия 41"/>
          <p:cNvSpPr/>
          <p:nvPr/>
        </p:nvSpPr>
        <p:spPr>
          <a:xfrm>
            <a:off x="7929720" y="4857840"/>
            <a:ext cx="0" cy="4302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Юридические факт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обстоятельства и поступки, которым закон придает юридическое зна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1071720" y="1428840"/>
            <a:ext cx="3143160" cy="13572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отношения, возникшие по воле субъек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4714920" y="1428840"/>
            <a:ext cx="3143160" cy="120024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бы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отношения, возникшие помимо воли субъек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3357720" y="4000680"/>
            <a:ext cx="250020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Юридические по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3357720" y="2857680"/>
            <a:ext cx="250020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ридически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6215040" y="2857680"/>
            <a:ext cx="250020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0"/>
          <p:cNvSpPr/>
          <p:nvPr/>
        </p:nvSpPr>
        <p:spPr>
          <a:xfrm>
            <a:off x="6286680" y="4143240"/>
            <a:ext cx="250020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Соединительная линия уступом 12"/>
          <p:cNvCxnSpPr/>
          <p:nvPr/>
        </p:nvCxnSpPr>
        <p:spPr>
          <a:xfrm flipV="1">
            <a:off x="2214360" y="3214440"/>
            <a:ext cx="1215000" cy="357840"/>
          </a:xfrm>
          <a:prstGeom prst="bentConnector3">
            <a:avLst>
              <a:gd name="adj1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118" name="Соединительная линия уступом 18"/>
          <p:cNvCxnSpPr/>
          <p:nvPr/>
        </p:nvCxnSpPr>
        <p:spPr>
          <a:xfrm>
            <a:off x="1928520" y="4285800"/>
            <a:ext cx="1500840" cy="429480"/>
          </a:xfrm>
          <a:prstGeom prst="bentConnector3">
            <a:avLst>
              <a:gd name="adj1" fmla="val 57053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119" name="Соединительная линия уступом 24"/>
          <p:cNvCxnSpPr>
            <a:stCxn id="111" idx="1"/>
          </p:cNvCxnSpPr>
          <p:nvPr/>
        </p:nvCxnSpPr>
        <p:spPr>
          <a:xfrm flipV="1" rot="10800000">
            <a:off x="428760" y="2105640"/>
            <a:ext cx="643320" cy="2894760"/>
          </a:xfrm>
          <a:prstGeom prst="bentConnector2">
            <a:avLst/>
          </a:prstGeom>
          <a:ln w="57240">
            <a:solidFill>
              <a:srgbClr val="4a7ebb"/>
            </a:solidFill>
            <a:miter/>
          </a:ln>
        </p:spPr>
      </p:cxnSp>
      <p:sp>
        <p:nvSpPr>
          <p:cNvPr id="120" name="Прямая соединительная линия 31"/>
          <p:cNvSpPr/>
          <p:nvPr/>
        </p:nvSpPr>
        <p:spPr>
          <a:xfrm>
            <a:off x="7929720" y="5286240"/>
            <a:ext cx="107136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5"/>
          <p:cNvSpPr/>
          <p:nvPr/>
        </p:nvSpPr>
        <p:spPr>
          <a:xfrm>
            <a:off x="9001080" y="2643120"/>
            <a:ext cx="0" cy="2644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38"/>
          <p:cNvSpPr/>
          <p:nvPr/>
        </p:nvSpPr>
        <p:spPr>
          <a:xfrm>
            <a:off x="7715160" y="2643120"/>
            <a:ext cx="128592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714240" y="3500280"/>
            <a:ext cx="250056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285840" y="4929120"/>
            <a:ext cx="250020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о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50"/>
          <p:cNvSpPr/>
          <p:nvPr/>
        </p:nvSpPr>
        <p:spPr>
          <a:xfrm>
            <a:off x="2071800" y="278604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Юридические действия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мер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9720" y="14284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Юридические а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00080" y="2214360"/>
            <a:ext cx="3286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дминистративные или судебные акты, сделки и судебные решения, устанавливающие права и обяза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1920" y="1356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Юридические поступ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500800" y="2174760"/>
            <a:ext cx="31860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ействия, влекущие за собой гражданско-правовые последствия при достижении результата безотносительно от направленности воли лица, совершающего юридический поступ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Владелец\Desktop\a_5d9e0803.jpg"/>
          <p:cNvPicPr/>
          <p:nvPr/>
        </p:nvPicPr>
        <p:blipFill>
          <a:blip r:embed="rId1"/>
          <a:stretch/>
        </p:blipFill>
        <p:spPr>
          <a:xfrm>
            <a:off x="4214880" y="2928960"/>
            <a:ext cx="1538280" cy="330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Юридические действия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правомерные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(нарушающие нормы права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Владелец\Desktop\000eetdx.jpg"/>
          <p:cNvPicPr/>
          <p:nvPr/>
        </p:nvPicPr>
        <p:blipFill>
          <a:blip r:embed="rId1"/>
          <a:stretch/>
        </p:blipFill>
        <p:spPr>
          <a:xfrm>
            <a:off x="1000080" y="2143080"/>
            <a:ext cx="7699320" cy="44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 rot="16200000">
            <a:off x="-1309320" y="3225600"/>
            <a:ext cx="5184720" cy="170208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 Antiqua"/>
              </a:rPr>
              <a:t>Основные признаки право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843280" y="2852640"/>
            <a:ext cx="5976720" cy="100800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Возникает только на основе норм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873520" y="4076640"/>
            <a:ext cx="5946480" cy="108108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 Antiqua"/>
              </a:rPr>
              <a:t>Предполагает наличие у сторон взаимных прав и обяза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843280" y="5373720"/>
            <a:ext cx="5948280" cy="86364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 Antiqua"/>
              </a:rPr>
              <a:t>Охраняется государ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2268360" y="1916280"/>
            <a:ext cx="0" cy="32400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1"/>
          <p:cNvSpPr/>
          <p:nvPr/>
        </p:nvSpPr>
        <p:spPr>
          <a:xfrm flipV="1">
            <a:off x="2225520" y="1773000"/>
            <a:ext cx="617760" cy="14436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3"/>
          <p:cNvSpPr/>
          <p:nvPr/>
        </p:nvSpPr>
        <p:spPr>
          <a:xfrm flipV="1">
            <a:off x="2171880" y="3862080"/>
            <a:ext cx="82440" cy="2142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5"/>
          <p:cNvSpPr/>
          <p:nvPr/>
        </p:nvSpPr>
        <p:spPr>
          <a:xfrm>
            <a:off x="2225520" y="3321000"/>
            <a:ext cx="617760" cy="3672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7"/>
          <p:cNvSpPr/>
          <p:nvPr/>
        </p:nvSpPr>
        <p:spPr>
          <a:xfrm>
            <a:off x="2268360" y="4365720"/>
            <a:ext cx="605160" cy="25056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9"/>
          <p:cNvSpPr/>
          <p:nvPr/>
        </p:nvSpPr>
        <p:spPr>
          <a:xfrm>
            <a:off x="2268360" y="5229360"/>
            <a:ext cx="603360" cy="14436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843280" y="1125360"/>
            <a:ext cx="5978520" cy="129564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 Antiqua"/>
              </a:rPr>
              <a:t>Общественное отношение, которое всегда предполагает наличие дву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26429" y="10800"/>
                </a:lnTo>
                <a:lnTo>
                  <a:pt x="1241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24000" y="189000"/>
            <a:ext cx="8569080" cy="718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Что такое правоотнош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крытие Америки – юридический фа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071720" y="1000080"/>
            <a:ext cx="7643520" cy="1357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мерику открывали несколько раз : викинги, Христофор Колумб, Америго Веспуччи. Все они совершили юридический посту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Владелец\Desktop\viking.jpg"/>
          <p:cNvPicPr/>
          <p:nvPr/>
        </p:nvPicPr>
        <p:blipFill>
          <a:blip r:embed="rId1"/>
          <a:stretch/>
        </p:blipFill>
        <p:spPr>
          <a:xfrm>
            <a:off x="1571760" y="2857680"/>
            <a:ext cx="1714320" cy="2274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Владелец\Desktop\kol.jpg"/>
          <p:cNvPicPr/>
          <p:nvPr/>
        </p:nvPicPr>
        <p:blipFill>
          <a:blip r:embed="rId2"/>
          <a:stretch/>
        </p:blipFill>
        <p:spPr>
          <a:xfrm>
            <a:off x="4000680" y="2571840"/>
            <a:ext cx="2143080" cy="301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Владелец\Desktop\0b0171344309ce2290d3df9824fb577e.jpg"/>
          <p:cNvPicPr/>
          <p:nvPr/>
        </p:nvPicPr>
        <p:blipFill>
          <a:blip r:embed="rId3"/>
          <a:stretch/>
        </p:blipFill>
        <p:spPr>
          <a:xfrm>
            <a:off x="6500880" y="2643120"/>
            <a:ext cx="2054160" cy="27385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8"/>
          <p:cNvSpPr/>
          <p:nvPr/>
        </p:nvSpPr>
        <p:spPr>
          <a:xfrm>
            <a:off x="1071720" y="5715000"/>
            <a:ext cx="6286320" cy="914400"/>
          </a:xfrm>
          <a:prstGeom prst="rect">
            <a:avLst/>
          </a:prstGeom>
          <a:solidFill>
            <a:srgbClr val="f8f7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юридический акт открытия зафиксировал только Америго Веспу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обытия подразделяются на абсолютные и относительные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6800" y="1499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бсолютные собы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28800" y="2214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такие явления, возникновение и развитие которых не связаны с волевой деятельностью субъек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их числу относятся стихийные бедствия и другие природные я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носительные собы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такие явления, которые возникают по воле субъектов, но развиваются и проистекают независимо от их во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, смерть убитого есть относительное событие, ибо само событие (смерть) возникло в результате волевых действий убийцы, но одновременно это событие (смерть) явилось следствием патологических изменений в организме потерпевшего, уже не зависящих от воли убий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Владелец\Desktop\3482CF03-C126-49FA-B7EC-395DF00CC6C5_mw800_mh600_s.jpg"/>
          <p:cNvPicPr/>
          <p:nvPr/>
        </p:nvPicPr>
        <p:blipFill>
          <a:blip r:embed="rId1"/>
          <a:stretch/>
        </p:blipFill>
        <p:spPr>
          <a:xfrm>
            <a:off x="1285920" y="4714920"/>
            <a:ext cx="330984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 rot="16200000">
            <a:off x="-1561680" y="3153600"/>
            <a:ext cx="5327640" cy="170208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 Antiqua"/>
              </a:rPr>
              <a:t>Основные признаки правонару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2916360" y="2349360"/>
            <a:ext cx="6018120" cy="57636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Противоправное дея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916360" y="3213000"/>
            <a:ext cx="6018120" cy="71928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 Antiqua"/>
              </a:rPr>
              <a:t>Общественное вредное де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7"/>
          <p:cNvSpPr/>
          <p:nvPr/>
        </p:nvSpPr>
        <p:spPr>
          <a:xfrm>
            <a:off x="2916360" y="4292640"/>
            <a:ext cx="6018120" cy="57636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иновное де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>
            <a:off x="2268360" y="2205000"/>
            <a:ext cx="0" cy="32400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1"/>
          <p:cNvSpPr/>
          <p:nvPr/>
        </p:nvSpPr>
        <p:spPr>
          <a:xfrm flipV="1">
            <a:off x="2268360" y="1700280"/>
            <a:ext cx="605160" cy="50472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3"/>
          <p:cNvSpPr/>
          <p:nvPr/>
        </p:nvSpPr>
        <p:spPr>
          <a:xfrm flipH="1">
            <a:off x="1991880" y="3860640"/>
            <a:ext cx="276120" cy="18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5"/>
          <p:cNvSpPr/>
          <p:nvPr/>
        </p:nvSpPr>
        <p:spPr>
          <a:xfrm>
            <a:off x="2311560" y="2637000"/>
            <a:ext cx="604800" cy="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2298600" y="3571920"/>
            <a:ext cx="617760" cy="144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2340000" y="4581360"/>
            <a:ext cx="531720" cy="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2873520" y="1341360"/>
            <a:ext cx="6019560" cy="71928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сегда де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26429" y="10800"/>
                </a:lnTo>
                <a:lnTo>
                  <a:pt x="1241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24000" y="189000"/>
            <a:ext cx="8569080" cy="907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Что такое правонаруш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3"/>
          <p:cNvSpPr/>
          <p:nvPr/>
        </p:nvSpPr>
        <p:spPr>
          <a:xfrm>
            <a:off x="2843280" y="5229360"/>
            <a:ext cx="6202440" cy="100800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 Antiqua"/>
              </a:rPr>
              <a:t>Влечет за собой юридическую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8"/>
          <p:cNvSpPr/>
          <p:nvPr/>
        </p:nvSpPr>
        <p:spPr>
          <a:xfrm>
            <a:off x="2268360" y="5445000"/>
            <a:ext cx="648000" cy="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1285920" y="285840"/>
            <a:ext cx="757224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ки правонаруш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1071720" y="85716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всегда акт, конкретный вариант поведения человека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действием (например, хулиганство) или бездействием (например, умышленное неисполнение должностным лицом приговора, определения или постановления суд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https://im6.kommersant.ru/Issues.photo/RADIO/2014/02/18/KMO_133439_00256_1_t218_175404.jpg"/>
          <p:cNvPicPr/>
          <p:nvPr/>
        </p:nvPicPr>
        <p:blipFill>
          <a:blip r:embed="rId1"/>
          <a:stretch/>
        </p:blipFill>
        <p:spPr>
          <a:xfrm>
            <a:off x="4786200" y="3071880"/>
            <a:ext cx="3857760" cy="3046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s://big-rostov.ru/wp-content/uploads/2015/03/Gg.jpg"/>
          <p:cNvPicPr/>
          <p:nvPr/>
        </p:nvPicPr>
        <p:blipFill>
          <a:blip r:embed="rId2"/>
          <a:stretch/>
        </p:blipFill>
        <p:spPr>
          <a:xfrm>
            <a:off x="357120" y="3429000"/>
            <a:ext cx="39290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2"/>
          <p:cNvSpPr/>
          <p:nvPr/>
        </p:nvSpPr>
        <p:spPr>
          <a:xfrm>
            <a:off x="1214280" y="357120"/>
            <a:ext cx="764388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ки правонаруш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1071720" y="100008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действие противоправное, нарушающее требование норм права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апретов, или невыполнение обязанностей, или использование права вопреки его назначению (злоупотребление правом). Общественная опасность — основной объективный признак, отграничивающий правомерное поведение от противоправ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s://im0-tub-ru.yandex.net/i?id=44564febb6d4399ea78fb5729eefc755-l&amp;n=13"/>
          <p:cNvPicPr/>
          <p:nvPr/>
        </p:nvPicPr>
        <p:blipFill>
          <a:blip r:embed="rId1"/>
          <a:stretch/>
        </p:blipFill>
        <p:spPr>
          <a:xfrm>
            <a:off x="500040" y="3929040"/>
            <a:ext cx="3714840" cy="26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volgodonsk.news/uploads/posts/2015-07/1435933803_podrostok.jpg"/>
          <p:cNvPicPr/>
          <p:nvPr/>
        </p:nvPicPr>
        <p:blipFill>
          <a:blip r:embed="rId2"/>
          <a:stretch/>
        </p:blipFill>
        <p:spPr>
          <a:xfrm>
            <a:off x="5072040" y="3857760"/>
            <a:ext cx="3857760" cy="281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5429160" y="1500120"/>
            <a:ext cx="32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да порождает вредоносные последствия: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т вред интересам (имущественным, социальным, моральным, политическим и т. д.) личности, общества,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"/>
          <p:cNvSpPr/>
          <p:nvPr/>
        </p:nvSpPr>
        <p:spPr>
          <a:xfrm>
            <a:off x="1143000" y="285840"/>
            <a:ext cx="771516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ки правонаруш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today.kz/static/uploads/f035b2cb-a34f-4514-8002-ff16da66e271.jpeg"/>
          <p:cNvPicPr/>
          <p:nvPr/>
        </p:nvPicPr>
        <p:blipFill>
          <a:blip r:embed="rId1"/>
          <a:stretch/>
        </p:blipFill>
        <p:spPr>
          <a:xfrm>
            <a:off x="1357200" y="1928880"/>
            <a:ext cx="36086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n5"/>
          <p:cNvPicPr/>
          <p:nvPr/>
        </p:nvPicPr>
        <p:blipFill>
          <a:blip r:embed="rId1"/>
          <a:stretch/>
        </p:blipFill>
        <p:spPr>
          <a:xfrm>
            <a:off x="5214960" y="3516480"/>
            <a:ext cx="3571920" cy="31129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071720" y="285840"/>
            <a:ext cx="807228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ки правонаруш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1214280" y="785880"/>
            <a:ext cx="764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е просто поведение, а волевое поведение человек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я, зависящие от воли и сознания участников, осуществляемые ими добровольно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виновное деяние,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деяние, совершая которое индивид сознаёт, что действует противоправно, виновно (с умыслом или по неосторожности), нанося своим поступком ущерб общественным интере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in-kolomna.ru/upload/resizeproxy/720_/7523f15906e6835996ede89895f0d4cf.jpg?1508367465"/>
          <p:cNvPicPr/>
          <p:nvPr/>
        </p:nvPicPr>
        <p:blipFill>
          <a:blip r:embed="rId2"/>
          <a:stretch/>
        </p:blipFill>
        <p:spPr>
          <a:xfrm>
            <a:off x="1000080" y="3500280"/>
            <a:ext cx="379404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143000" y="92880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бщественно опасное виновное деяние (действие или бездействие), противоречащее нормам права и наносящее вред обществу, государству или отдельным лицам, влекущее за собой юридическ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928800" y="285840"/>
            <a:ext cx="785808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онарушени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http://tv.ren.cdnvideo.ru/sites/default/files/news/images/20172103151045_0.jpg"/>
          <p:cNvPicPr/>
          <p:nvPr/>
        </p:nvPicPr>
        <p:blipFill>
          <a:blip r:embed="rId1"/>
          <a:stretch/>
        </p:blipFill>
        <p:spPr>
          <a:xfrm>
            <a:off x="642960" y="3286080"/>
            <a:ext cx="3714840" cy="3327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dneprovec.by/images/2016/03/11232_1.jpg"/>
          <p:cNvPicPr/>
          <p:nvPr/>
        </p:nvPicPr>
        <p:blipFill>
          <a:blip r:embed="rId2"/>
          <a:stretch/>
        </p:blipFill>
        <p:spPr>
          <a:xfrm>
            <a:off x="4572000" y="2857680"/>
            <a:ext cx="3857760" cy="34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1214280" y="642960"/>
            <a:ext cx="6958080" cy="4917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онаруше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неправомерное (противоправное) общественно вредное виновное деяние, за которое предусмотрена юридическая ответствен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84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СОСТАВ  ПРАВОНАРУ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440" y="714240"/>
            <a:ext cx="80722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Субъект правонаруш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физическое лицо или юридическое лицо ( организация )).Субъектом может быть лишь человек, достигший определенного возраста ( 14 лет) и психически вменяем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Объект правонаруш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общественные отношения, регулирующиеся и охраняемые правом ( например, отношения собствен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.Объективная сторона правонаруш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его характеристика как противоправного деяние, направленного на определенный объект –общественные отношения, охраняемые пра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.Субъективная сторона правонаруш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казывающая виновность лица, совершившего противоправное деяние, характеризующая его психическое отношение к содеянно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3"/>
          <p:cNvSpPr/>
          <p:nvPr/>
        </p:nvSpPr>
        <p:spPr>
          <a:xfrm>
            <a:off x="395280" y="907920"/>
            <a:ext cx="8319960" cy="5473800"/>
          </a:xfrm>
          <a:prstGeom prst="horizontalScroll">
            <a:avLst>
              <a:gd name="adj" fmla="val 12500"/>
            </a:avLst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воотношение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это охраняемое государством и урегулированное нормами права общественное отношение, участники которого имеют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заимные юридические права и обяза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597720"/>
            <a:ext cx="539640" cy="216000"/>
          </a:xfrm>
          <a:custGeom>
            <a:avLst/>
            <a:gdLst>
              <a:gd name="textAreaLeft" fmla="*/ 13680 w 539640"/>
              <a:gd name="textAreaRight" fmla="*/ 525960 w 53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3910" h="21600">
                <a:moveTo>
                  <a:pt x="0" y="0"/>
                </a:moveTo>
                <a:lnTo>
                  <a:pt x="53910" y="0"/>
                </a:lnTo>
                <a:lnTo>
                  <a:pt x="53910" y="21600"/>
                </a:lnTo>
                <a:lnTo>
                  <a:pt x="0" y="21600"/>
                </a:lnTo>
                <a:close/>
              </a:path>
              <a:path fill="lightenLess" w="53910" h="21600">
                <a:moveTo>
                  <a:pt x="0" y="0"/>
                </a:moveTo>
                <a:lnTo>
                  <a:pt x="53910" y="0"/>
                </a:lnTo>
                <a:lnTo>
                  <a:pt x="52510" y="1400"/>
                </a:lnTo>
                <a:lnTo>
                  <a:pt x="1400" y="1400"/>
                </a:lnTo>
                <a:close/>
              </a:path>
              <a:path fill="darken" w="53910" h="21600">
                <a:moveTo>
                  <a:pt x="53910" y="0"/>
                </a:moveTo>
                <a:lnTo>
                  <a:pt x="53910" y="21600"/>
                </a:lnTo>
                <a:lnTo>
                  <a:pt x="52510" y="20200"/>
                </a:lnTo>
                <a:lnTo>
                  <a:pt x="52510" y="1400"/>
                </a:lnTo>
                <a:close/>
              </a:path>
              <a:path fill="darkenLess" w="53910" h="21600">
                <a:moveTo>
                  <a:pt x="5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0" y="20200"/>
                </a:lnTo>
                <a:close/>
              </a:path>
              <a:path fill="lighten" w="5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0" h="21600">
                <a:moveTo>
                  <a:pt x="19949" y="3794"/>
                </a:moveTo>
                <a:lnTo>
                  <a:pt x="33962" y="10800"/>
                </a:lnTo>
                <a:lnTo>
                  <a:pt x="1994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189000"/>
            <a:ext cx="8569080" cy="647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 rot="16200000">
            <a:off x="-1499400" y="2545560"/>
            <a:ext cx="5545440" cy="126324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Book Antiqua"/>
              </a:rPr>
              <a:t>Виды правонару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2987640" y="4005360"/>
            <a:ext cx="5286240" cy="223200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Преступ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(уголовные правонарушен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9"/>
          <p:cNvSpPr/>
          <p:nvPr/>
        </p:nvSpPr>
        <p:spPr>
          <a:xfrm>
            <a:off x="2268360" y="2205000"/>
            <a:ext cx="17640" cy="23400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1"/>
          <p:cNvSpPr/>
          <p:nvPr/>
        </p:nvSpPr>
        <p:spPr>
          <a:xfrm flipV="1">
            <a:off x="2268360" y="1844640"/>
            <a:ext cx="603360" cy="3240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13"/>
          <p:cNvSpPr/>
          <p:nvPr/>
        </p:nvSpPr>
        <p:spPr>
          <a:xfrm>
            <a:off x="1979640" y="3141720"/>
            <a:ext cx="288720" cy="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19"/>
          <p:cNvSpPr/>
          <p:nvPr/>
        </p:nvSpPr>
        <p:spPr>
          <a:xfrm>
            <a:off x="2340000" y="4508640"/>
            <a:ext cx="623880" cy="468000"/>
          </a:xfrm>
          <a:prstGeom prst="line">
            <a:avLst/>
          </a:prstGeom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916360" y="404640"/>
            <a:ext cx="5286240" cy="1872000"/>
          </a:xfrm>
          <a:prstGeom prst="rect">
            <a:avLst/>
          </a:prstGeom>
          <a:solidFill>
            <a:srgbClr val="c3d69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Правовые проступ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Book Antiqua"/>
              </a:rPr>
              <a:t>гражданские, административные, дисциплинарные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правляющая кнопка: далее 26">
            <a:hlinkClick r:id="" action="ppaction://hlinkshowjump?jump=nextslide"/>
          </p:cNvPr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3794"/>
                </a:moveTo>
                <a:lnTo>
                  <a:pt x="26429" y="10800"/>
                </a:lnTo>
                <a:lnTo>
                  <a:pt x="1241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2843280" y="245844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м преступление отличается от проступ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правонару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392256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Е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ственно опасные виновные деяния, предусмотренные уголовным законодатель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5840" y="1500120"/>
            <a:ext cx="403236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СТУП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новные противоправные деяния, имеющие меньшую степень опасности по сравнению с преступления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Виды   проступков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4560" y="114264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71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ДМИНИСТРАТИВНЫЙ ПРОСТУП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71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ние, наносящее ущерб отношениям, складывающимся в сфере государственного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71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ИСЦИПЛИНАРНЫЙ  ПРОСТУП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71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шение трудовой ,служебной , воинской,учебной дисциплины, противоправное виновное неисполнение своих трудовых обязанностей, нарушающее правила внутреннего распоря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71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АЖДАНСКОЕ  ПРАВОНАРУ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71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нарушение ,совершенное в сфере имущественных и таких неимущественных отношений, которые представляют для человека ценность , например, достои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475400" y="6429240"/>
            <a:ext cx="184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000080" y="94932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ъектами (участниками) правоотношений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ие лица (граждане, иностранцы, лица без гражданства, находя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я на 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а (апатри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юридические 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едприя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ре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о (в целом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убъекты Р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85840" y="285840"/>
            <a:ext cx="885816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ъекты  правоотношений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looks.ru/images/article/orig/2018/02/delovye-peregovory-vidy-pravila-i-primery-provedeniya-1.jpg"/>
          <p:cNvPicPr/>
          <p:nvPr/>
        </p:nvPicPr>
        <p:blipFill>
          <a:blip r:embed="rId1"/>
          <a:stretch/>
        </p:blipFill>
        <p:spPr>
          <a:xfrm>
            <a:off x="4572000" y="2500200"/>
            <a:ext cx="427212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хема 1" descr=""/>
          <p:cNvPicPr/>
          <p:nvPr/>
        </p:nvPicPr>
        <p:blipFill>
          <a:blip r:embed="rId1"/>
          <a:stretch/>
        </p:blipFill>
        <p:spPr>
          <a:xfrm>
            <a:off x="658800" y="1133640"/>
            <a:ext cx="8680320" cy="4730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равоотношения могут возникнуть лишь при наличии двух или более су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кты правоотношений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енные отношения во всем их многообра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57160" y="1643040"/>
            <a:ext cx="475776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ретная жизненная ситуа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едение и действия участников правоотноше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ьные благ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ховные бла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Владелец\Desktop\7efe6b770cfc88214834c30f4ffa9097_XL.jpg"/>
          <p:cNvPicPr/>
          <p:nvPr/>
        </p:nvPicPr>
        <p:blipFill>
          <a:blip r:embed="rId1"/>
          <a:stretch/>
        </p:blipFill>
        <p:spPr>
          <a:xfrm>
            <a:off x="5500800" y="2143080"/>
            <a:ext cx="32144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1357200" y="100980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правоотношения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т субъективные права и юридические обязанности его участников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ъектив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вид и мера возможного (допускаемого законом) поведения,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юридическая обязанност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и мера должного (установленного законом, необходимого)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428840" y="285840"/>
            <a:ext cx="7429320" cy="520560"/>
          </a:xfrm>
          <a:prstGeom prst="rect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правоотношения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http://img.lady.ru/data/aphoto/6/1/4/37099/large/192129.jpg"/>
          <p:cNvPicPr/>
          <p:nvPr/>
        </p:nvPicPr>
        <p:blipFill>
          <a:blip r:embed="rId1"/>
          <a:stretch/>
        </p:blipFill>
        <p:spPr>
          <a:xfrm>
            <a:off x="857160" y="3714840"/>
            <a:ext cx="4286520" cy="29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www.business-vector.info/wp-content/uploads/2017/06/gibdd.jpg"/>
          <p:cNvPicPr/>
          <p:nvPr/>
        </p:nvPicPr>
        <p:blipFill>
          <a:blip r:embed="rId2"/>
          <a:stretch/>
        </p:blipFill>
        <p:spPr>
          <a:xfrm>
            <a:off x="5429160" y="3571920"/>
            <a:ext cx="335772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а и обязанности участников право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3682800" cy="13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убъектное пра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возможное допускаем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3280" y="1571760"/>
            <a:ext cx="404208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Юрид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язанност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требуем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Владелец\Desktop\iCAYH71B9.jpg"/>
          <p:cNvPicPr/>
          <p:nvPr/>
        </p:nvPicPr>
        <p:blipFill>
          <a:blip r:embed="rId1"/>
          <a:stretch/>
        </p:blipFill>
        <p:spPr>
          <a:xfrm>
            <a:off x="4929120" y="342900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Владелец\Desktop\2979.jpg"/>
          <p:cNvPicPr/>
          <p:nvPr/>
        </p:nvPicPr>
        <p:blipFill>
          <a:blip r:embed="rId2"/>
          <a:stretch/>
        </p:blipFill>
        <p:spPr>
          <a:xfrm>
            <a:off x="1214280" y="3500280"/>
            <a:ext cx="30546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Electric1</cp:lastModifiedBy>
  <dcterms:modified xsi:type="dcterms:W3CDTF">2020-04-23T09:38:44Z</dcterms:modified>
  <cp:revision>64</cp:revision>
  <dc:subject/>
  <dc:title>Слайд 1</dc:title>
</cp:coreProperties>
</file>