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C5731-36B6-4942-990C-C0DE4E7F3E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473DC-5CD6-4868-B27C-9CED875B7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ECA6D-D12B-49E6-B7A4-AB42E79334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27A4D-1797-4730-8AD2-F5E8977F64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46EC7-299E-4422-902F-F9E3A11A89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EC5F6-3DAD-47AC-B4D8-132C0CBF9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A73BD-CE95-4F50-B9E5-30FEEAAD5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01B81-A19E-4806-9537-45DF6FF170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D35EE-A306-4B21-ADCE-74F62ADEC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49131-911B-4D4F-8E9A-6F02D7FCD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DE3A5-7414-4987-8775-D893F9E93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D4370-5FC6-48E0-9130-72B547AA2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41E0A-A8C0-4B74-9F47-3D3431D95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50007-9AB1-45D0-A6BE-2D9096675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ECAC2-CFD8-4E8F-B4FE-8B7FD8981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DE57B-EE1E-4E8F-A467-977E0B557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00F47-ACA5-4EAC-B179-274C68BECE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98DFB6-89A5-4677-897F-D297D2EA5E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2A8F0E-095D-4D2B-A145-BF1740130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B4C7C0-1B22-4D01-A349-743E88943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985891-FABF-41F1-9ABD-F245363A5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29178E-5C63-4178-B9ED-8B8E3239A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F7CA9-D667-4294-AEAE-DB9C62906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FC18C9-3B86-4077-B06F-E1C8E6D03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D525BF-A504-4845-A266-FAF37FA4D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31FA2F-A0CC-4524-9D77-E6209903E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011DFB-5127-4136-AFB9-181AD5B24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3A76EE-E181-48EE-A3AA-64C1E1972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7298B9-D31D-4B77-9833-F27D66C877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F04642-C141-480E-B631-0235D6688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F88323-C911-42A2-B586-97DEB0054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3F3DCC-A784-455A-9FF6-9B2AD426F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D9322A-1C74-4D2B-9BA9-F518D2946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A5DB4-32E8-4990-BBD1-3BA86876D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7EFC45-E0EC-492E-99B6-1F176B983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732EFB-9F64-4319-ABB6-3D4C26D6B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307E4C-5D0A-432F-A693-4AA1280CD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D6D625-0609-4146-A013-4EA98CFC4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DF2979-A4E1-4A24-94AB-F068EFD5D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309975-EB0D-4256-BFB8-4EC0A695A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76094FA-8D72-4542-81D3-0B0A0DF17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9E0F1E-02F8-44EB-8F09-856D16306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983B06-04A7-4368-9E87-E97F1A917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675678-2B9C-4DF0-A1C2-A74B5F498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5C02B-66B0-40EB-B789-9A80BF638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B29306-CC17-4171-AABD-83500AF4CB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EF479B-C4A2-426A-A405-65E8E6443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F10394-F52E-4A56-970A-91EAFC205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B95F3C-DF2D-4C3E-A3D6-32E763FB3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FBE697-39F6-4CB5-9CF7-BE78F448D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A5C584-719F-4A1E-B650-DF910671D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0CCA7A-675E-46BA-88D7-8497AEECB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43CB24-2FB0-4F35-AFCA-FC9E8818A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614C28-FA80-4DD4-AE5F-49B4DCFAB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07815D-6B7F-431C-97F2-183BDEA08A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1FAED-00D7-4FFC-A5B4-C4B41DCFB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E77CAC-C208-4C92-879E-7E3582850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E20F04-C946-4429-B622-059ACDC6E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8475B0-7FD5-4900-AB84-358F28243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4BD49F-5F43-4EA1-B03E-E83F50426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61BF4C-5B2E-431C-9A7E-31EF122DE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18D27D-8E48-454B-9BA9-515DAD039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CBB744-BB63-41B1-9005-A53345312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12416C-D567-4806-BE9D-463051B5E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53D7C75-7E01-4D89-9064-3507AEE30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CDA5D8-C295-4120-909F-558B9081D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9FC91-110E-4C0C-B6B0-48E57FA0A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799C94-0545-492D-A870-38444B2AD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4E6E7E-A8EA-4203-8AAA-4B4F5644B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3BE581-659F-4DF9-8629-2FAFA816E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14CBB-FA09-4210-BE7B-C2D78A878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D0751-4F1E-492A-9DAE-857D102F0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CB3C0-3475-4C1C-8730-9315896B24B3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олилиния 8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Полилиния 10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5AD38-DC1E-4FA4-AD18-028D9552B356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олилиния 8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Полилиния 10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085A3-08A9-46A2-94AB-DA6C567EBF52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9AAD5-0D9D-4AC1-9DC4-5949A683EBD9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3EC90-2A3C-4EF7-8912-BBF0D98281E0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E1DBE-2340-4F5D-83FA-A1352C9EAFAE}" type="slidenum">
              <a:rPr b="0" lang="ru-RU" sz="1000" spc="-1" strike="noStrike">
                <a:solidFill>
                  <a:srgbClr val="9b9a98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Picture 2" descr="J:\фильм\картинки\Мои рисунки\Осень 3\00041022.jpg"/>
          <p:cNvPicPr/>
          <p:nvPr/>
        </p:nvPicPr>
        <p:blipFill>
          <a:blip r:embed="rId1"/>
          <a:stretch/>
        </p:blipFill>
        <p:spPr>
          <a:xfrm>
            <a:off x="0" y="0"/>
            <a:ext cx="9213840" cy="6858000"/>
          </a:xfrm>
          <a:prstGeom prst="rect">
            <a:avLst/>
          </a:prstGeom>
          <a:ln w="0">
            <a:noFill/>
          </a:ln>
        </p:spPr>
      </p:pic>
      <p:pic>
        <p:nvPicPr>
          <p:cNvPr id="255" name="Заголовок 1" descr=""/>
          <p:cNvPicPr/>
          <p:nvPr/>
        </p:nvPicPr>
        <p:blipFill>
          <a:blip r:embed="rId2"/>
          <a:srcRect l="0" t="0" r="0" b="22668"/>
          <a:stretch/>
        </p:blipFill>
        <p:spPr>
          <a:xfrm>
            <a:off x="0" y="2071800"/>
            <a:ext cx="9144000" cy="4143240"/>
          </a:xfrm>
          <a:prstGeom prst="rect">
            <a:avLst/>
          </a:prstGeom>
          <a:ln w="0">
            <a:noFill/>
          </a:ln>
        </p:spPr>
      </p:pic>
      <p:sp>
        <p:nvSpPr>
          <p:cNvPr id="256" name="PlaceHolder 1"/>
          <p:cNvSpPr>
            <a:spLocks noGrp="1"/>
          </p:cNvSpPr>
          <p:nvPr>
            <p:ph type="subTitle"/>
          </p:nvPr>
        </p:nvSpPr>
        <p:spPr>
          <a:xfrm>
            <a:off x="2428920" y="642600"/>
            <a:ext cx="5500800" cy="785880"/>
          </a:xfrm>
          <a:prstGeom prst="rect">
            <a:avLst/>
          </a:prstGeom>
          <a:noFill/>
          <a:ln w="0">
            <a:noFill/>
          </a:ln>
        </p:spPr>
        <p:txBody>
          <a:bodyPr rIns="45720" tIns="0" bIns="0" anchor="b">
            <a:no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 u="sng">
                <a:solidFill>
                  <a:srgbClr val="e5e6e8"/>
                </a:solidFill>
                <a:uFillTx/>
                <a:latin typeface="Arial"/>
              </a:rPr>
              <a:t>2 занятие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686800" cy="64548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ffff"/>
                </a:solidFill>
                <a:latin typeface="Franklin Gothic Book"/>
              </a:rPr>
              <a:t>«Избушка на курьих ножках».</a:t>
            </a:r>
            <a:br>
              <a:rPr sz="8000"/>
            </a:br>
            <a:r>
              <a:rPr b="1" lang="ru-RU" sz="3200" spc="-1" strike="noStrike" u="sng">
                <a:solidFill>
                  <a:srgbClr val="ffffff"/>
                </a:solidFill>
                <a:uFillTx/>
                <a:latin typeface="Franklin Gothic Book"/>
              </a:rPr>
              <a:t>Задание:</a:t>
            </a:r>
            <a:br>
              <a:rPr sz="8000"/>
            </a:br>
            <a:r>
              <a:rPr b="1" lang="ru-RU" sz="2000" spc="-1" strike="noStrike">
                <a:solidFill>
                  <a:srgbClr val="ffffff"/>
                </a:solidFill>
                <a:latin typeface="Franklin Gothic Book"/>
              </a:rPr>
              <a:t>Сравни пьесу Чайковского и Мусоргского.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Franklin Gothic Book"/>
              </a:rPr>
              <a:t>Что общего между сказочными персонажами, а чем они отличаются? </a:t>
            </a:r>
            <a:br>
              <a:rPr sz="2000"/>
            </a:br>
            <a:r>
              <a:rPr b="0" lang="ru-RU" sz="3600" spc="-1" strike="noStrike" u="sng">
                <a:solidFill>
                  <a:srgbClr val="ffffff"/>
                </a:solidFill>
                <a:uFillTx/>
                <a:latin typeface="Franklin Gothic Book"/>
              </a:rPr>
              <a:t>https://youtu.be/Rf18K4ZYkVs</a:t>
            </a:r>
            <a:endParaRPr b="0" lang="en-US" sz="36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8"/>
          <p:cNvSpPr/>
          <p:nvPr/>
        </p:nvSpPr>
        <p:spPr>
          <a:xfrm>
            <a:off x="395280" y="260280"/>
            <a:ext cx="84978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В пьесе 3 части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1 и 3 изображают фантастический полет Бабы-Яги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«Пестом погоняет, метлой след заметает»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Средняя часть рисует картину сказочного леса, колдовство Бабы-Яги, ее хромую походку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Rectangle 9"/>
          <p:cNvSpPr/>
          <p:nvPr/>
        </p:nvSpPr>
        <p:spPr>
          <a:xfrm>
            <a:off x="324000" y="5084640"/>
            <a:ext cx="856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А в конце Баба-Яга взлетает все выше и выше в ночное небо и исчезает…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2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Рисунок 1" descr="http://oboiny.ru/wp-content/uploads/2010/12/1248333800_baba_copy-300x196.jpg"/>
          <p:cNvPicPr/>
          <p:nvPr/>
        </p:nvPicPr>
        <p:blipFill>
          <a:blip r:embed="rId1"/>
          <a:stretch/>
        </p:blipFill>
        <p:spPr>
          <a:xfrm>
            <a:off x="-158760" y="-158760"/>
            <a:ext cx="5248440" cy="4389480"/>
          </a:xfrm>
          <a:prstGeom prst="rect">
            <a:avLst/>
          </a:prstGeom>
          <a:ln w="0">
            <a:noFill/>
          </a:ln>
        </p:spPr>
      </p:pic>
      <p:pic>
        <p:nvPicPr>
          <p:cNvPr id="258" name="Рисунок 2" descr="http://oboiny.ru/wp-content/uploads/2010/12/img_chmnv34-230x300.jpg"/>
          <p:cNvPicPr/>
          <p:nvPr/>
        </p:nvPicPr>
        <p:blipFill>
          <a:blip r:embed="rId2"/>
          <a:stretch/>
        </p:blipFill>
        <p:spPr>
          <a:xfrm>
            <a:off x="4237200" y="-463680"/>
            <a:ext cx="5595840" cy="5827680"/>
          </a:xfrm>
          <a:prstGeom prst="rect">
            <a:avLst/>
          </a:prstGeom>
          <a:ln w="0">
            <a:noFill/>
          </a:ln>
        </p:spPr>
      </p:pic>
      <p:pic>
        <p:nvPicPr>
          <p:cNvPr id="259" name="Рисунок 3" descr="http://oboiny.ru/wp-content/uploads/2010/12/1259176140_ill-9-225x300.jpg"/>
          <p:cNvPicPr/>
          <p:nvPr/>
        </p:nvPicPr>
        <p:blipFill>
          <a:blip r:embed="rId3"/>
          <a:stretch/>
        </p:blipFill>
        <p:spPr>
          <a:xfrm>
            <a:off x="-463680" y="1725480"/>
            <a:ext cx="6066000" cy="5761080"/>
          </a:xfrm>
          <a:prstGeom prst="rect">
            <a:avLst/>
          </a:prstGeom>
          <a:ln w="0">
            <a:noFill/>
          </a:ln>
        </p:spPr>
      </p:pic>
      <p:pic>
        <p:nvPicPr>
          <p:cNvPr id="260" name="Рисунок 4" descr="http://oboiny.ru/wp-content/uploads/2010/12/43148695_baba_yaga_4-209x300.jpg"/>
          <p:cNvPicPr/>
          <p:nvPr/>
        </p:nvPicPr>
        <p:blipFill>
          <a:blip r:embed="rId4"/>
          <a:stretch/>
        </p:blipFill>
        <p:spPr>
          <a:xfrm>
            <a:off x="4157640" y="566640"/>
            <a:ext cx="5059440" cy="6943680"/>
          </a:xfrm>
          <a:prstGeom prst="rect">
            <a:avLst/>
          </a:prstGeom>
          <a:ln w="0">
            <a:noFill/>
          </a:ln>
        </p:spPr>
      </p:pic>
      <p:pic>
        <p:nvPicPr>
          <p:cNvPr id="261" name="Рисунок 5" descr="http://oboiny.ru/wp-content/uploads/2010/12/8c075c17c6b8-237x300.jpg"/>
          <p:cNvPicPr/>
          <p:nvPr/>
        </p:nvPicPr>
        <p:blipFill>
          <a:blip r:embed="rId5"/>
          <a:stretch/>
        </p:blipFill>
        <p:spPr>
          <a:xfrm>
            <a:off x="2146320" y="512640"/>
            <a:ext cx="4851360" cy="1120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075520" cy="6107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егодня мы продолжаем знакомится со сказочным персонажем Бабой Ягой.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усский композитор Модест Петрович создал сюиту «Картинки с выставки» в память о друге художнике и архитекторе Викторе Гартмане, побывав на его выставке. </a:t>
            </a:r>
            <a:endParaRPr b="0" lang="en-US" sz="28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42920" y="213840"/>
            <a:ext cx="8686800" cy="8413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Модест Петрович Мусоргский.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64" name="Рисунок 2" descr="0047.BMP"/>
          <p:cNvPicPr/>
          <p:nvPr/>
        </p:nvPicPr>
        <p:blipFill>
          <a:blip r:embed="rId1"/>
          <a:srcRect l="15805" t="3135" r="15805" b="12995"/>
          <a:stretch/>
        </p:blipFill>
        <p:spPr>
          <a:xfrm>
            <a:off x="2786040" y="1071720"/>
            <a:ext cx="4211640" cy="55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5" name="Picture 3" descr="C:\Users\Galina\Desktop\Не сделано\с\45.jpg"/>
          <p:cNvPicPr/>
          <p:nvPr/>
        </p:nvPicPr>
        <p:blipFill>
          <a:blip r:embed="rId1"/>
          <a:stretch/>
        </p:blipFill>
        <p:spPr>
          <a:xfrm>
            <a:off x="1332000" y="836640"/>
            <a:ext cx="3517920" cy="5025960"/>
          </a:xfrm>
          <a:prstGeom prst="rect">
            <a:avLst/>
          </a:prstGeom>
          <a:ln w="0">
            <a:noFill/>
          </a:ln>
        </p:spPr>
      </p:pic>
      <p:sp>
        <p:nvSpPr>
          <p:cNvPr id="266" name="Rectangle 7"/>
          <p:cNvSpPr/>
          <p:nvPr/>
        </p:nvSpPr>
        <p:spPr>
          <a:xfrm>
            <a:off x="5292720" y="692280"/>
            <a:ext cx="2951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Arial"/>
              </a:rPr>
              <a:t>Виктор Гартман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Rectangle 9"/>
          <p:cNvSpPr/>
          <p:nvPr/>
        </p:nvSpPr>
        <p:spPr>
          <a:xfrm>
            <a:off x="5292720" y="3068640"/>
            <a:ext cx="3311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ffff"/>
                </a:solidFill>
                <a:latin typeface="Arial"/>
              </a:rPr>
              <a:t>Русский художник, архитектор, дизайнер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8" name="Объект 3" descr=""/>
          <p:cNvPicPr/>
          <p:nvPr/>
        </p:nvPicPr>
        <p:blipFill>
          <a:blip r:embed="rId1"/>
          <a:stretch/>
        </p:blipFill>
        <p:spPr>
          <a:xfrm>
            <a:off x="250920" y="1052640"/>
            <a:ext cx="8621640" cy="5391000"/>
          </a:xfrm>
          <a:prstGeom prst="rect">
            <a:avLst/>
          </a:prstGeom>
          <a:ln w="0">
            <a:noFill/>
          </a:ln>
        </p:spPr>
      </p:pic>
      <p:sp>
        <p:nvSpPr>
          <p:cNvPr id="269" name="Rectangle 5"/>
          <p:cNvSpPr/>
          <p:nvPr/>
        </p:nvSpPr>
        <p:spPr>
          <a:xfrm>
            <a:off x="1835280" y="189000"/>
            <a:ext cx="6048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ffff"/>
                </a:solidFill>
                <a:latin typeface="Arial"/>
              </a:rPr>
              <a:t>Рисунки Гартман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74640" y="404280"/>
            <a:ext cx="7634160" cy="1117800"/>
          </a:xfrm>
          <a:prstGeom prst="rect">
            <a:avLst/>
          </a:prstGeom>
          <a:noFill/>
          <a:ln w="0">
            <a:noFill/>
          </a:ln>
        </p:spPr>
        <p:txBody>
          <a:bodyPr lIns="45720" tIns="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Избушка на курьих ножках 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(Баба-Яга).</a:t>
            </a:r>
            <a:r>
              <a:rPr b="1" lang="ru-RU" sz="2000" spc="-1" strike="noStrike">
                <a:solidFill>
                  <a:srgbClr val="ffffff"/>
                </a:solidFill>
                <a:latin typeface="Franklin Gothic Book"/>
              </a:rPr>
              <a:t>  </a:t>
            </a:r>
            <a:r>
              <a:rPr b="1" lang="ru-RU" sz="2000" spc="-1" strike="noStrike">
                <a:solidFill>
                  <a:srgbClr val="ffffff"/>
                </a:solidFill>
                <a:latin typeface="Franklin Gothic Book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Franklin Gothic Book"/>
              </a:rPr>
              <a:t>	</a:t>
            </a:r>
            <a:r>
              <a:rPr b="1" lang="ru-RU" sz="2000" spc="-1" strike="noStrike">
                <a:solidFill>
                  <a:srgbClr val="ffffff"/>
                </a:solidFill>
                <a:latin typeface="Franklin Gothic Book"/>
              </a:rPr>
              <a:t>     </a:t>
            </a:r>
            <a:endParaRPr b="0" lang="en-US" sz="20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71" name="Picture 2" descr="C:\Documents and Settings\Admin\Рабочий стол\Портфель Наташа\Картинки с выставки(рис\баба-яга\Gartman._Baba-yaga[1].jpg"/>
          <p:cNvPicPr/>
          <p:nvPr/>
        </p:nvPicPr>
        <p:blipFill>
          <a:blip r:embed="rId1"/>
          <a:stretch/>
        </p:blipFill>
        <p:spPr>
          <a:xfrm>
            <a:off x="684360" y="1700280"/>
            <a:ext cx="3511440" cy="5084640"/>
          </a:xfrm>
          <a:prstGeom prst="rect">
            <a:avLst/>
          </a:prstGeom>
          <a:ln w="0">
            <a:noFill/>
          </a:ln>
        </p:spPr>
      </p:pic>
      <p:sp>
        <p:nvSpPr>
          <p:cNvPr id="272" name="Rectangle 10"/>
          <p:cNvSpPr/>
          <p:nvPr/>
        </p:nvSpPr>
        <p:spPr>
          <a:xfrm>
            <a:off x="4859280" y="2133720"/>
            <a:ext cx="3889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У Гартмана был эскиз изящных бронзовых часов в виде избушки на курьих ножках.</a:t>
            </a: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/>
          </p:nvPr>
        </p:nvSpPr>
        <p:spPr>
          <a:xfrm>
            <a:off x="394920" y="476280"/>
            <a:ext cx="820908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68640" indent="0" algn="ctr">
              <a:lnSpc>
                <a:spcPct val="125000"/>
              </a:lnSpc>
              <a:spcBef>
                <a:spcPts val="1100"/>
              </a:spcBef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d4d2d0"/>
                </a:solidFill>
                <a:latin typeface="Arial"/>
              </a:rPr>
              <a:t>  </a:t>
            </a:r>
            <a:r>
              <a:rPr b="1" lang="ru-RU" sz="4400" spc="-1" strike="noStrike">
                <a:solidFill>
                  <a:srgbClr val="ffffff"/>
                </a:solidFill>
                <a:latin typeface="Arial"/>
              </a:rPr>
              <a:t>Однако фантазия Мусоргского изобразила совершенно другое – целую сценку в духе русских народных сказок, он сделал избушку обитаемой.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435880" cy="21463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ffffff"/>
                </a:solidFill>
                <a:latin typeface="Franklin Gothic Book"/>
              </a:rPr>
              <a:t>Прослушай пьесу «Избушка на курьих ножках» и ответь на вопросы: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07640" y="2637000"/>
            <a:ext cx="8785080" cy="34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9360" indent="-514440">
              <a:spcBef>
                <a:spcPts val="751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Какой изображена Баба Яга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49360" indent="-514440">
              <a:spcBef>
                <a:spcPts val="751"/>
              </a:spcBef>
              <a:buClr>
                <a:srgbClr val="6ea0b0"/>
              </a:buClr>
              <a:buSzPct val="8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Чем она занимается?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49360" indent="-51444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ru-RU" sz="3000" spc="-1" strike="noStrike">
                <a:solidFill>
                  <a:srgbClr val="ffffff"/>
                </a:solidFill>
                <a:latin typeface="Arial"/>
              </a:rPr>
              <a:t>летает, выслеживает, колдует, заманивает; злая, жестокая, добрая, доверчивая, простодушная)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7T10:13:20Z</dcterms:created>
  <dc:creator>Admin</dc:creator>
  <dc:description/>
  <dc:language>en-US</dc:language>
  <cp:lastModifiedBy>Админ</cp:lastModifiedBy>
  <dcterms:modified xsi:type="dcterms:W3CDTF">2020-04-22T08:34:45Z</dcterms:modified>
  <cp:revision>26</cp:revision>
  <dc:subject/>
  <dc:title>«Знакомьтесь, Баба-Яга» Библиотечный урок </dc:title>
</cp:coreProperties>
</file>