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B221-B43D-435A-920C-3A546C5D0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23C2-3AB0-4069-884E-5D58279AC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8AC1-1555-4520-B4A2-8651EB7AB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D2EC-CB37-481F-A908-4AE117EB8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37FA-46DA-4611-9372-F35B8FD81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1F210-DBA3-4F79-8152-7568B6BC0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4FF09-F307-4813-8FB9-18E0A23B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E077-09A1-4D52-A241-4C92196F8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5283-65E0-40F6-8BC5-152A926C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218B-2A50-4E23-810C-534568C3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C96A-42CD-4E11-8973-5BE277CB3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CDC2-D3C4-4008-9B56-ABA0ECD84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48AB7-4831-4F5B-B2AB-A9D25DED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227B-65B6-4557-9BB9-76953937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201EF-42BE-43CE-8BDB-C6175E86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7563-58F5-4C67-9A54-D85D691C6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79E54-864B-408A-9696-80CB67CE1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5D23E-0070-4032-B6B0-ED2625048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1E2DA-27E4-4EBC-9C39-86F582AE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85BA7-5D45-4C97-88D3-C89788833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72D0A6-C3B4-4072-8BF5-57C5F6E0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344DC2-127F-47FE-8887-C9C02C6D4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6646-94AD-4ED2-A159-650BBAF8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B0706-EA9B-40C7-B57D-46C5EA3F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431FF-3405-4BC0-B702-4C808DFA8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C8AC4-7A9C-46B9-BD3B-71B6690D6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A95E7-F437-4D0C-894B-88260923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DAE81D-7CF6-47C8-AA48-D593A577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E3B1A-73D0-4D9D-BF29-71C99A5C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63BC8-98D1-4556-A125-ACC64C8C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332B8-6649-45CC-B568-34BEBFBB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84116-BE27-475E-8C3F-BBFF0D650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8362A-3081-442F-AA7A-2DDEE1F4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679A-65E4-4E66-9510-69AA6BA0B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6FFC90-3CBF-4BA1-8582-25DDEB56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09F1D-9E33-4ACC-9D3E-06AC1BF4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86B2E-620B-482D-A6E5-6BCD0C1F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D7BCA-BFC4-4CF7-BA28-26B6C6A8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555039-C8B6-42BC-9951-24C7460C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6E1E3-D99F-4B22-8CBC-E8A614A6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1D239-7BD7-4850-88AD-CBBA3F2C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6C98C-6803-41CC-82FF-4540CF75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0F833-3326-4DEB-A91B-36240CF82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353D6-36CD-42EF-9DF9-36442AC4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B074-6440-488E-BF0E-93BC4FDB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37258-E800-43DF-BA3B-B3E566E2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58549-6B23-4F76-9280-6623B484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16C10-D731-4E2C-9B59-D0A0C2EF6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025F1-17E7-44BA-9324-D6DAE919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F5492-AF3D-4D5F-9DFF-F5D35BBF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2292E-E972-4B02-BFAF-B3798FB9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24865-1B89-4844-BD52-7629348B2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4B349D-3B9E-4B15-A89E-AE0CCA044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CA45D-C0EC-4618-B00C-56139DF2C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71CA7-3B09-4ADA-8B87-A75D3E1CA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C867-34EA-4005-9C8B-A5334251C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B7BB9-00A1-4ADA-8061-09B5F6DEC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1BF6F-0468-41D9-90C1-E09B04A32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4999D-E3D9-4C32-987B-4546D763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04391-AD7E-4AEF-AFFD-AE4B31879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4F9BB-3BD9-4DA5-8135-BBFED937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568D4-C633-4358-AF4D-C8349DFC8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287E33-75D1-4A5D-B882-E68E9CAA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ACAC1-1F1B-4C69-A7F1-0CD41ABD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1E4A28-E92E-4306-A05A-FC0FF39B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99C82-0A5B-4DC7-B137-BE0E6168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5442-30DA-4261-8642-F3F28A7F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ACE566-4466-45F3-B7E8-C3CD0A90D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A00FC-9B5B-4F89-9793-8D4A6F43C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51487-109E-401B-AB21-F4999FE6C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BFB2-45BD-4340-B73C-E153C8FC0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E590-2CDE-4607-85E2-D1EA7DB6A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7BC9E-D671-4259-9F33-409FAF69405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8982-7520-40A9-974B-C56FF26F652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B8E4F-7AF5-4DDF-B43E-1912D282EFB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BD48-C323-4605-A4A3-8F2925E62065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CD096-774C-4533-8CE8-FDAED47546D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2A000-DD7B-48CA-BC3B-CE9CB960A09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J:\фильм\картинки\Мои рисунки\Осень 3\00041022.jpg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Заголовок 1" descr=""/>
          <p:cNvPicPr/>
          <p:nvPr/>
        </p:nvPicPr>
        <p:blipFill>
          <a:blip r:embed="rId2"/>
          <a:srcRect l="0" t="0" r="0" b="22668"/>
          <a:stretch/>
        </p:blipFill>
        <p:spPr>
          <a:xfrm>
            <a:off x="0" y="2071800"/>
            <a:ext cx="9144000" cy="41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428920" y="642600"/>
            <a:ext cx="5500800" cy="7858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e5e6e8"/>
                </a:solidFill>
                <a:uFillTx/>
                <a:latin typeface="Arial"/>
              </a:rPr>
              <a:t>2 занят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645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Franklin Gothic Book"/>
              </a:rPr>
              <a:t>«Избушка на курьих ножках».</a:t>
            </a:r>
            <a:br>
              <a:rPr sz="8000"/>
            </a:br>
            <a:r>
              <a:rPr b="1" lang="ru-RU" sz="3200" spc="-1" strike="noStrike" u="sng">
                <a:solidFill>
                  <a:srgbClr val="ffffff"/>
                </a:solidFill>
                <a:uFillTx/>
                <a:latin typeface="Franklin Gothic Book"/>
              </a:rPr>
              <a:t>Задание:</a:t>
            </a:r>
            <a:br>
              <a:rPr sz="8000"/>
            </a:b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Сравни пьесу Чайковского и Мусоргского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Что общего между сказочными персонажами, а чем они отличаются? </a:t>
            </a:r>
            <a:br>
              <a:rPr sz="2000"/>
            </a:br>
            <a:r>
              <a:rPr b="0" lang="ru-RU" sz="3600" spc="-1" strike="noStrike" u="sng">
                <a:solidFill>
                  <a:srgbClr val="ffffff"/>
                </a:solidFill>
                <a:uFillTx/>
                <a:latin typeface="Franklin Gothic Book"/>
              </a:rPr>
              <a:t>https://youtu.be/Rf18K4ZYkV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395280" y="260280"/>
            <a:ext cx="84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пьесе 3 ча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 и 3 изображают фантастический полет Бабы-Яг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естом погоняет, метлой след заметает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редняя часть рисует картину сказочного леса, колдовство Бабы-Яги, ее хромую поход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324000" y="5084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 в конце Баба-Яга взлетает все выше и выше в ночное небо и исчезае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1" descr="http://oboiny.ru/wp-content/uploads/2010/12/1248333800_baba_copy-300x196.jpg"/>
          <p:cNvPicPr/>
          <p:nvPr/>
        </p:nvPicPr>
        <p:blipFill>
          <a:blip r:embed="rId1"/>
          <a:stretch/>
        </p:blipFill>
        <p:spPr>
          <a:xfrm>
            <a:off x="-158760" y="-158760"/>
            <a:ext cx="5248440" cy="43894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2" descr="http://oboiny.ru/wp-content/uploads/2010/12/img_chmnv34-230x300.jpg"/>
          <p:cNvPicPr/>
          <p:nvPr/>
        </p:nvPicPr>
        <p:blipFill>
          <a:blip r:embed="rId2"/>
          <a:stretch/>
        </p:blipFill>
        <p:spPr>
          <a:xfrm>
            <a:off x="4237200" y="-463680"/>
            <a:ext cx="5595840" cy="58276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3" descr="http://oboiny.ru/wp-content/uploads/2010/12/1259176140_ill-9-225x300.jpg"/>
          <p:cNvPicPr/>
          <p:nvPr/>
        </p:nvPicPr>
        <p:blipFill>
          <a:blip r:embed="rId3"/>
          <a:stretch/>
        </p:blipFill>
        <p:spPr>
          <a:xfrm>
            <a:off x="-463680" y="1725480"/>
            <a:ext cx="6066000" cy="57610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4" descr="http://oboiny.ru/wp-content/uploads/2010/12/43148695_baba_yaga_4-209x300.jpg"/>
          <p:cNvPicPr/>
          <p:nvPr/>
        </p:nvPicPr>
        <p:blipFill>
          <a:blip r:embed="rId4"/>
          <a:stretch/>
        </p:blipFill>
        <p:spPr>
          <a:xfrm>
            <a:off x="4157640" y="566640"/>
            <a:ext cx="5059440" cy="69436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http://oboiny.ru/wp-content/uploads/2010/12/8c075c17c6b8-237x300.jpg"/>
          <p:cNvPicPr/>
          <p:nvPr/>
        </p:nvPicPr>
        <p:blipFill>
          <a:blip r:embed="rId5"/>
          <a:stretch/>
        </p:blipFill>
        <p:spPr>
          <a:xfrm>
            <a:off x="2146320" y="512640"/>
            <a:ext cx="4851360" cy="11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61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одня мы продолжаем знакомится со сказочным персонажем Бабой Ягой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композитор Модест Петрович создал сюиту «Картинки с выставки» в память о друге художнике и архитекторе Викторе Гартмане, побывав на его выставке.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одест Петрович Мусоргский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Рисунок 2" descr="0047.BMP"/>
          <p:cNvPicPr/>
          <p:nvPr/>
        </p:nvPicPr>
        <p:blipFill>
          <a:blip r:embed="rId1"/>
          <a:srcRect l="15805" t="3135" r="15805" b="12995"/>
          <a:stretch/>
        </p:blipFill>
        <p:spPr>
          <a:xfrm>
            <a:off x="2786040" y="1071720"/>
            <a:ext cx="421164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C:\Users\Galina\Desktop\Не сделано\с\45.jpg"/>
          <p:cNvPicPr/>
          <p:nvPr/>
        </p:nvPicPr>
        <p:blipFill>
          <a:blip r:embed="rId1"/>
          <a:stretch/>
        </p:blipFill>
        <p:spPr>
          <a:xfrm>
            <a:off x="1332000" y="836640"/>
            <a:ext cx="3517920" cy="50259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7"/>
          <p:cNvSpPr/>
          <p:nvPr/>
        </p:nvSpPr>
        <p:spPr>
          <a:xfrm>
            <a:off x="5292720" y="692280"/>
            <a:ext cx="29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иктор Гартма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92720" y="3068640"/>
            <a:ext cx="33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усский художник, архитектор, дизайн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Объект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21640" cy="53910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5"/>
          <p:cNvSpPr/>
          <p:nvPr/>
        </p:nvSpPr>
        <p:spPr>
          <a:xfrm>
            <a:off x="1835280" y="1890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исунки Гартма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4640" y="404280"/>
            <a:ext cx="7634160" cy="1117800"/>
          </a:xfrm>
          <a:prstGeom prst="rect">
            <a:avLst/>
          </a:prstGeom>
          <a:noFill/>
          <a:ln w="0">
            <a:noFill/>
          </a:ln>
        </p:spPr>
        <p:txBody>
          <a:bodyPr lIns="4572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збушка на курьих ножках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(Баба-Яга).</a:t>
            </a: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1" name="Picture 2" descr="C:\Documents and Settings\Admin\Рабочий стол\Портфель Наташа\Картинки с выставки(рис\баба-яга\Gartman._Baba-yaga[1].jpg"/>
          <p:cNvPicPr/>
          <p:nvPr/>
        </p:nvPicPr>
        <p:blipFill>
          <a:blip r:embed="rId1"/>
          <a:stretch/>
        </p:blipFill>
        <p:spPr>
          <a:xfrm>
            <a:off x="684360" y="1700280"/>
            <a:ext cx="3511440" cy="5084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0"/>
          <p:cNvSpPr/>
          <p:nvPr/>
        </p:nvSpPr>
        <p:spPr>
          <a:xfrm>
            <a:off x="4859280" y="2133720"/>
            <a:ext cx="38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 Гартмана был эскиз изящных бронзовых часов в виде избушки на курьих ножках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8640" indent="0" algn="ctr">
              <a:lnSpc>
                <a:spcPct val="125000"/>
              </a:lnSpc>
              <a:spcBef>
                <a:spcPts val="11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4d2d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днако фантазия Мусоргского изобразила совершенно другое – целую сценку в духе русских народных сказок, он сделал избушку обитаемой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14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Прослушай пьесу «Избушка на курьих ножках» и ответь на вопросы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7640" y="2637000"/>
            <a:ext cx="878508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ой изображена Баба Яг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 она занимается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летает, выслеживает, колдует, заманивает; злая, жестокая, добрая, доверчивая, простодушная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0:13:20Z</dcterms:created>
  <dc:creator>Admin</dc:creator>
  <dc:description/>
  <dc:language>en-US</dc:language>
  <cp:lastModifiedBy>Админ</cp:lastModifiedBy>
  <dcterms:modified xsi:type="dcterms:W3CDTF">2020-04-22T08:34:45Z</dcterms:modified>
  <cp:revision>26</cp:revision>
  <dc:subject/>
  <dc:title>«Знакомьтесь, Баба-Яга» Библиотечный урок </dc:title>
</cp:coreProperties>
</file>