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27D-8EDB-4206-A443-F2E908F4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762-974C-4B3F-B79B-86E60A0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C77-ED67-4D36-B9AE-F96229AC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D46-B6EC-4D38-9DF5-29843CB5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AF0B-FDF8-48BC-B465-8FCFE3AB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8294-02B9-4B34-A385-069A98A2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FE2-2847-49EA-8E48-9488E2C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D41-007A-459A-8818-2DE891E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927D-C38D-45D9-ACBC-8121836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486-5560-4DF1-8765-AD89B356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A967-2AC1-4086-BB21-A9C0F07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3B2-1A9F-4D06-87EA-4D5CF71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0A7-55C7-4E0F-86BF-5809460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8CDD-E471-4F3C-AAE6-701297A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68FC-11CC-4844-BB92-61C8E8D8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AE8A-7F05-497E-9528-E351137C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4814-8F63-4711-B6C7-1EE06FBB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C1FB-25F1-4E7B-9308-CDA4A57E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6B1F-7EE3-4EA9-AA4C-8BD1F9B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D8AD-48D1-4A07-BCEA-0D326954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CB4E-D1CC-4478-8AB2-30B5E51B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E2F4-39FB-4EEE-96E5-D21915C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D3E-47B8-4568-8E8A-8EEF0B20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58AF-97D4-4DD2-8D39-D31A7CC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B61F-9BA6-4A22-8483-DD9DCDA3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0009-67C7-4909-BC44-9231C63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686D-F3D7-4144-A301-189C967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A0A6-1AE6-4691-97EA-40A3A82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C6AE-4684-4289-9972-EA81E6D3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7825-5142-4EDF-9D6E-33E9B5B6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7AEB-822A-43AF-B3E7-57EA2D7C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32A0-8662-4BC7-9E50-7A404BE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CB8C-4BA2-4C29-AD08-71C0631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DC1-8CF5-4508-B6CC-F7B59403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8315-A0B9-426D-A600-5021F1C6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33BB-9330-4B94-9FBD-F6A6EF3D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9A67-1AFD-4315-9CC5-1FF9AF2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66D0-B6A1-452A-90A1-A96BCF7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41A0-752A-48D6-9220-34BC6DE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131C-E60A-4E9A-B751-FDDD205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43DD-E4D5-42D1-A747-D5F12322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C2D5-570E-4211-9142-4C350DA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5FB9-83B9-4028-8B1F-21D51459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D29-9397-4218-9C9B-F2CB3FE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814-FD45-4134-9836-890A7EF2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D4B-4181-412E-9683-6AF60C1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C8B-B1D1-45E0-97BC-5DDD711C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127-E2F2-46D6-97E3-EE8476E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B69-B84F-4BAE-B4CA-83D2BE9EAD0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230-9979-42D9-B886-4E202394CCE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A47-282B-4635-9E4A-381681BF724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5EE-2783-4B6F-A53D-6D36BB6BBCD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010520" y="285840"/>
            <a:ext cx="65937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56 «Колибр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ООД «Ознакомление с приро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ДНЫЕ РЕСУРСЫ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Омарова Н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5148360" cy="30258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3841920" y="152280"/>
            <a:ext cx="1296720" cy="3002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Охот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5364000" y="144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3"/>
          <a:stretch/>
        </p:blipFill>
        <p:spPr>
          <a:xfrm>
            <a:off x="68400" y="3357720"/>
            <a:ext cx="4968720" cy="31194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8028000" y="176040"/>
            <a:ext cx="993600" cy="457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Балтий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3780000" y="3357720"/>
            <a:ext cx="1257120" cy="3585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Каспий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1" descr=""/>
          <p:cNvPicPr/>
          <p:nvPr/>
        </p:nvPicPr>
        <p:blipFill>
          <a:blip r:embed="rId4"/>
          <a:stretch/>
        </p:blipFill>
        <p:spPr>
          <a:xfrm>
            <a:off x="5106960" y="3141720"/>
            <a:ext cx="4284720" cy="33354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8028000" y="3252960"/>
            <a:ext cx="1260360" cy="2840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Черн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2" descr="img13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i (2).jpg"/>
          <p:cNvPicPr/>
          <p:nvPr/>
        </p:nvPicPr>
        <p:blipFill>
          <a:blip r:embed="rId1"/>
          <a:stretch/>
        </p:blipFill>
        <p:spPr>
          <a:xfrm>
            <a:off x="419040" y="214200"/>
            <a:ext cx="829620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3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http://900igr.net/datas/okruzhajuschij-mir/Beregite-vodu/0006-006-Beregite-vodu.jpg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8320" y="285840"/>
            <a:ext cx="8347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детей о разнообразии водных ресур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ники, озера, реки, моря и т. д., о том, как человек может пользо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й в своей жизни; о том, как нужно экономично относиться к 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сур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о свойствах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реплять знания о водных ресурсах родного края; о пользе воды в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ловека, животных 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5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гу я, как по лесе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амушкам зве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далека по песе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знаете мен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Руче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6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чет-течет – не вытечет, бежит-бежит – не выбежит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Р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10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угом в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с питьем беда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Мо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2857680" y="23688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лыхали о воде?</a:t>
            </a:r>
            <a:br>
              <a:rPr sz="1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 она везд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уже, в море, в океа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водопроводном кра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сулька замер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 туманом заполза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ите у нас кип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м чайника шип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е нам не умы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есться, не нап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ю вам я доло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оды нам не прожи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 Рыж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artgorbunov.ru/bb/soviet/20150707/fizmap@2x.jpg"/>
          <p:cNvPicPr/>
          <p:nvPr/>
        </p:nvPicPr>
        <p:blipFill>
          <a:blip r:embed="rId1"/>
          <a:stretch/>
        </p:blipFill>
        <p:spPr>
          <a:xfrm>
            <a:off x="0" y="5364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857240" y="214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АЯ КАРТА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749665.jpeg"/>
          <p:cNvPicPr/>
          <p:nvPr/>
        </p:nvPicPr>
        <p:blipFill>
          <a:blip r:embed="rId1"/>
          <a:stretch/>
        </p:blipFill>
        <p:spPr>
          <a:xfrm>
            <a:off x="5192640" y="3700440"/>
            <a:ext cx="3548160" cy="26607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img.jpg"/>
          <p:cNvPicPr/>
          <p:nvPr/>
        </p:nvPicPr>
        <p:blipFill>
          <a:blip r:embed="rId2"/>
          <a:stretch/>
        </p:blipFill>
        <p:spPr>
          <a:xfrm>
            <a:off x="220680" y="260280"/>
            <a:ext cx="4444920" cy="2500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3"/>
          <a:stretch/>
        </p:blipFill>
        <p:spPr>
          <a:xfrm>
            <a:off x="223920" y="3141720"/>
            <a:ext cx="4441680" cy="2960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" descr=""/>
          <p:cNvPicPr/>
          <p:nvPr/>
        </p:nvPicPr>
        <p:blipFill>
          <a:blip r:embed="rId4"/>
          <a:stretch/>
        </p:blipFill>
        <p:spPr>
          <a:xfrm>
            <a:off x="4932360" y="260280"/>
            <a:ext cx="40705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5.JPG"/>
          <p:cNvPicPr/>
          <p:nvPr/>
        </p:nvPicPr>
        <p:blipFill>
          <a:blip r:embed="rId1"/>
          <a:stretch/>
        </p:blipFill>
        <p:spPr>
          <a:xfrm>
            <a:off x="4943520" y="214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река.jpg"/>
          <p:cNvPicPr/>
          <p:nvPr/>
        </p:nvPicPr>
        <p:blipFill>
          <a:blip r:embed="rId2"/>
          <a:stretch/>
        </p:blipFill>
        <p:spPr>
          <a:xfrm>
            <a:off x="428760" y="214200"/>
            <a:ext cx="4000320" cy="29973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река4.jpg"/>
          <p:cNvPicPr/>
          <p:nvPr/>
        </p:nvPicPr>
        <p:blipFill>
          <a:blip r:embed="rId3"/>
          <a:stretch/>
        </p:blipFill>
        <p:spPr>
          <a:xfrm>
            <a:off x="214200" y="3797280"/>
            <a:ext cx="4000680" cy="28386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река1.jpg"/>
          <p:cNvPicPr/>
          <p:nvPr/>
        </p:nvPicPr>
        <p:blipFill>
          <a:blip r:embed="rId4"/>
          <a:stretch/>
        </p:blipFill>
        <p:spPr>
          <a:xfrm>
            <a:off x="4429080" y="3786120"/>
            <a:ext cx="4500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0" y="3463920"/>
            <a:ext cx="3984480" cy="330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"/>
          <p:cNvPicPr/>
          <p:nvPr/>
        </p:nvPicPr>
        <p:blipFill>
          <a:blip r:embed="rId2"/>
          <a:stretch/>
        </p:blipFill>
        <p:spPr>
          <a:xfrm>
            <a:off x="0" y="9360"/>
            <a:ext cx="4500720" cy="33022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3"/>
          <a:stretch/>
        </p:blipFill>
        <p:spPr>
          <a:xfrm>
            <a:off x="4211640" y="3463920"/>
            <a:ext cx="4824360" cy="34084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"/>
          <p:cNvPicPr/>
          <p:nvPr/>
        </p:nvPicPr>
        <p:blipFill>
          <a:blip r:embed="rId4"/>
          <a:stretch/>
        </p:blipFill>
        <p:spPr>
          <a:xfrm>
            <a:off x="4643280" y="50760"/>
            <a:ext cx="4500720" cy="32608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3444840" y="52560"/>
            <a:ext cx="914400" cy="2808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ол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8110440" y="60480"/>
            <a:ext cx="914400" cy="2728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ол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2987640" y="3573360"/>
            <a:ext cx="9144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6084720" y="3554280"/>
            <a:ext cx="2857680" cy="23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лияние Волги и Оки «Стрел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0010-010-Obitateli-vodoema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0007-007-Obitateli-vodoema.jpg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img10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3:41:22Z</dcterms:created>
  <dc:creator>Windows_7</dc:creator>
  <dc:description/>
  <dc:language>en-US</dc:language>
  <cp:lastModifiedBy>admin</cp:lastModifiedBy>
  <dcterms:modified xsi:type="dcterms:W3CDTF">2020-04-23T16:47:42Z</dcterms:modified>
  <cp:revision>33</cp:revision>
  <dc:subject/>
  <dc:title>Слайд 1</dc:title>
</cp:coreProperties>
</file>