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A3D-09CE-4639-B6E4-B5B7C14E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A0B-72B2-4FF6-897E-A6FA30F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500-665B-4CAB-9751-127C5138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40E-2479-4254-92D0-95451CB9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69F8-D4D4-4CDA-B7A3-B9D062A6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DD47-676E-4400-A89D-04B617D9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426-52EA-4F97-A947-0B0D464B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2F3-1203-4F7D-8F6E-C04B875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16A-9444-400E-A45E-AE9B5145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7D7-E64F-44C7-8989-EB9A494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687-E0DF-4235-BC3C-5B684F3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37D-9726-4BC7-83CA-0A8AF410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94E5-72E3-4911-BE93-1FC0311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269-C3A7-4ECB-B532-FEFBD8C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4AA1-21C5-4F88-9FF0-1804326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5E6-6F8B-4FF3-ACE2-69AB69FD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0A3-7E62-4849-AF42-2922178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2F14-3DF9-4672-B26C-EA0CF884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C7D0-6F95-44FB-A6AA-B9A31EF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BA3C-4165-4AD8-9BA7-8904E9CC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9E56-84EE-48F3-AFBD-FA61FDA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EEFE-22D3-4949-8072-3AA7A96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502-BB51-4E49-80DF-EDF9D05C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EAFB-47D2-4B12-A9F9-39F156E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2F50-46B9-4758-8C83-1CDE988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4F5E-A2C9-41E1-9E92-ED90805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F5B6-B26F-4272-B92C-4D5AEB3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7D18-6B18-4E41-AF72-09724D2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3E04-5121-4E78-A999-F64403AB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8161-5138-435C-9C3D-47668D24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5D3B-A8F7-4108-B541-DEBC893D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FB85-056E-4D4B-8BED-9AAAA857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3C50-54ED-46AD-B0B5-A92AF6D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D1B-7A2F-43A0-9B50-4F2A482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00CB-6F3A-4284-9E7F-0975412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DFA8-23DF-4DD3-8AE2-74416BF4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0F6C-72B2-4444-807F-B6480805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6F6C-8F11-4D59-A3F0-BF36C06B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7833-AA8A-4D03-872A-698C27B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364F-BC3D-4159-9D48-47C2DAD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2976-993C-4A80-BCEA-A04A196C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A0AC-40A2-4213-BCDF-810A585A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E010-8652-49EA-A58B-909EF981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96D-85C0-45EF-89D0-A2F1732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BBF-7DDB-4C10-82A9-9A5B900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3B8-BDCD-4821-858E-1783D7A5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BBF-B2E2-4BCF-A3A3-6530E89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5FB-98DF-4EA9-8AFE-D01D25F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2BC2-8D20-44A0-B1A5-E1F6769458F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3F30-E0F9-43AA-A5D8-94319BA27B8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13A-B695-429E-A04E-8592CF1CD5F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C21-D3B4-4B48-942E-6C489733B1F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010520" y="285840"/>
            <a:ext cx="65937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56 «Колибр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ООД «Ознакомление с приро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ДНЫЕ РЕСУРСЫ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ш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Омарова Н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5148360" cy="30258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3841920" y="152280"/>
            <a:ext cx="1296720" cy="3002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Охот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5364000" y="144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3"/>
          <a:stretch/>
        </p:blipFill>
        <p:spPr>
          <a:xfrm>
            <a:off x="68400" y="3357720"/>
            <a:ext cx="4968720" cy="31194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8028000" y="176040"/>
            <a:ext cx="993600" cy="4572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Балтий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3780000" y="3357720"/>
            <a:ext cx="1257120" cy="3585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Каспийск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1" descr=""/>
          <p:cNvPicPr/>
          <p:nvPr/>
        </p:nvPicPr>
        <p:blipFill>
          <a:blip r:embed="rId4"/>
          <a:stretch/>
        </p:blipFill>
        <p:spPr>
          <a:xfrm>
            <a:off x="5106960" y="3141720"/>
            <a:ext cx="4284720" cy="33354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8028000" y="3252960"/>
            <a:ext cx="1260360" cy="28404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rebuchet MS"/>
              </a:rPr>
              <a:t>Черное мор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2" descr="img13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i (2).jpg"/>
          <p:cNvPicPr/>
          <p:nvPr/>
        </p:nvPicPr>
        <p:blipFill>
          <a:blip r:embed="rId1"/>
          <a:stretch/>
        </p:blipFill>
        <p:spPr>
          <a:xfrm>
            <a:off x="419040" y="214200"/>
            <a:ext cx="829620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3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http://900igr.net/datas/okruzhajuschij-mir/Beregite-vodu/0006-006-Beregite-vodu.jpg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8320" y="285840"/>
            <a:ext cx="8347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детей о разнообразии водных ресур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ники, озера, реки, моря и т. д., о том, как человек может пользо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й в своей жизни; о том, как нужно экономично относиться к 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сур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о свойствах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реплять знания о водных ресурсах родного края; о пользе воды в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ловека, животных 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5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гу я, как по лесе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амушкам зве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далека по песе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знаете мен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Руче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6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чет-течет – не вытечет, бежит-бежит – не выбежит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Р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гадка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10 слай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угом в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с питьем беда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Мор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2857680" y="23688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лыхали о воде?</a:t>
            </a:r>
            <a:br>
              <a:rPr sz="1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 она везд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уже, в море, в океа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водопроводном кра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сулька замер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с туманом заполза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ите у нас кип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м чайника шип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нее нам не умы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есться, не нап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ю вам я доложи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оды нам не прожи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 Рыж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artgorbunov.ru/bb/soviet/20150707/fizmap@2x.jpg"/>
          <p:cNvPicPr/>
          <p:nvPr/>
        </p:nvPicPr>
        <p:blipFill>
          <a:blip r:embed="rId1"/>
          <a:stretch/>
        </p:blipFill>
        <p:spPr>
          <a:xfrm>
            <a:off x="0" y="5364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1857240" y="214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АЯ КАРТА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749665.jpeg"/>
          <p:cNvPicPr/>
          <p:nvPr/>
        </p:nvPicPr>
        <p:blipFill>
          <a:blip r:embed="rId1"/>
          <a:stretch/>
        </p:blipFill>
        <p:spPr>
          <a:xfrm>
            <a:off x="5192640" y="3700440"/>
            <a:ext cx="3548160" cy="26607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img.jpg"/>
          <p:cNvPicPr/>
          <p:nvPr/>
        </p:nvPicPr>
        <p:blipFill>
          <a:blip r:embed="rId2"/>
          <a:stretch/>
        </p:blipFill>
        <p:spPr>
          <a:xfrm>
            <a:off x="220680" y="260280"/>
            <a:ext cx="4444920" cy="2500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3"/>
          <a:stretch/>
        </p:blipFill>
        <p:spPr>
          <a:xfrm>
            <a:off x="223920" y="3141720"/>
            <a:ext cx="4441680" cy="2960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" descr=""/>
          <p:cNvPicPr/>
          <p:nvPr/>
        </p:nvPicPr>
        <p:blipFill>
          <a:blip r:embed="rId4"/>
          <a:stretch/>
        </p:blipFill>
        <p:spPr>
          <a:xfrm>
            <a:off x="4932360" y="260280"/>
            <a:ext cx="40705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5.JPG"/>
          <p:cNvPicPr/>
          <p:nvPr/>
        </p:nvPicPr>
        <p:blipFill>
          <a:blip r:embed="rId1"/>
          <a:stretch/>
        </p:blipFill>
        <p:spPr>
          <a:xfrm>
            <a:off x="4943520" y="214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река.jpg"/>
          <p:cNvPicPr/>
          <p:nvPr/>
        </p:nvPicPr>
        <p:blipFill>
          <a:blip r:embed="rId2"/>
          <a:stretch/>
        </p:blipFill>
        <p:spPr>
          <a:xfrm>
            <a:off x="428760" y="214200"/>
            <a:ext cx="4000320" cy="29973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река4.jpg"/>
          <p:cNvPicPr/>
          <p:nvPr/>
        </p:nvPicPr>
        <p:blipFill>
          <a:blip r:embed="rId3"/>
          <a:stretch/>
        </p:blipFill>
        <p:spPr>
          <a:xfrm>
            <a:off x="214200" y="3797280"/>
            <a:ext cx="4000680" cy="28386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река1.jpg"/>
          <p:cNvPicPr/>
          <p:nvPr/>
        </p:nvPicPr>
        <p:blipFill>
          <a:blip r:embed="rId4"/>
          <a:stretch/>
        </p:blipFill>
        <p:spPr>
          <a:xfrm>
            <a:off x="4429080" y="3786120"/>
            <a:ext cx="4500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0" y="3463920"/>
            <a:ext cx="3984480" cy="330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"/>
          <p:cNvPicPr/>
          <p:nvPr/>
        </p:nvPicPr>
        <p:blipFill>
          <a:blip r:embed="rId2"/>
          <a:stretch/>
        </p:blipFill>
        <p:spPr>
          <a:xfrm>
            <a:off x="0" y="9360"/>
            <a:ext cx="4500720" cy="33022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3"/>
          <a:stretch/>
        </p:blipFill>
        <p:spPr>
          <a:xfrm>
            <a:off x="4211640" y="3463920"/>
            <a:ext cx="4824360" cy="34084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"/>
          <p:cNvPicPr/>
          <p:nvPr/>
        </p:nvPicPr>
        <p:blipFill>
          <a:blip r:embed="rId4"/>
          <a:stretch/>
        </p:blipFill>
        <p:spPr>
          <a:xfrm>
            <a:off x="4643280" y="50760"/>
            <a:ext cx="4500720" cy="32608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3444840" y="52560"/>
            <a:ext cx="914400" cy="2808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ол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8110440" y="60480"/>
            <a:ext cx="914400" cy="2728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ол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2987640" y="3573360"/>
            <a:ext cx="914400" cy="216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6084720" y="3554280"/>
            <a:ext cx="2857680" cy="23508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лияние Волги и Оки «Стрел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0010-010-Obitateli-vodoema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0007-007-Obitateli-vodoema.jpg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img10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3:41:22Z</dcterms:created>
  <dc:creator>Windows_7</dc:creator>
  <dc:description/>
  <dc:language>en-US</dc:language>
  <cp:lastModifiedBy>admin</cp:lastModifiedBy>
  <dcterms:modified xsi:type="dcterms:W3CDTF">2020-04-23T16:47:42Z</dcterms:modified>
  <cp:revision>33</cp:revision>
  <dc:subject/>
  <dc:title>Слайд 1</dc:title>
</cp:coreProperties>
</file>