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E50-4092-4999-91B8-5BCF16D1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7D0-7927-4A26-8CB5-42A43519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EE0-CC1A-456F-8506-65495B20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034-847F-4232-8069-7D439D64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5918-18C4-4861-BC49-47AF3734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ECE6-2B11-4C62-8C0C-874CAEB1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A2AC-7FEF-487A-8E46-971FA309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EDFE-4383-4EB5-85FA-A15E8E38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8834-7997-4235-A73E-B36323E1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5D37-42CD-4482-947A-B07B1CF0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3D6B-0A6E-43A4-BDE7-36922B4E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3CC-8002-4179-A06D-8B6CD3F6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3029-9E45-4092-9860-00674D45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83A8-09DA-467E-BABD-16C2A71E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7EC8-37E8-416A-B011-762659A9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FC46-EBCC-4CCB-AD43-F5058E55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3168-AD7F-453B-A6EC-7B18A0CD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1DC4-F8C7-42B6-B331-90680651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764D-E025-4D65-9341-2BAC0F99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9626-DD20-4777-9C53-CE05579C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4E9A-1727-4F10-90B5-9663BF2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FCC0-8979-4ADB-9925-D156A437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870-5819-4A44-977D-984BD9AA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946E4-67AB-4FBC-AAE9-11D69A5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823E-2BB9-4CCE-9CA8-4EC4658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E41E-55C4-4E2A-9F50-16FCA23F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4003-E69A-435F-BFC8-6C3E9B7D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05B6-0FA1-4B86-945B-81A00643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B92E-A8EC-4445-92C4-4E6F4D80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644D-F897-467A-A631-90819FED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4CA8-D358-4063-AEBF-76EE5E61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04541-1710-4D5D-AFBE-5C7F4AE4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24338-2D93-4991-8068-F4281AD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074-19A6-4CE7-86A6-212AACD0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D7BD-7459-4C2D-A337-E4A4CF78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8DE0-DB94-485A-ADCB-10EB5E34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1463E-8DF0-4CE6-8974-4144E1F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2B9A-C1C0-45B7-8FB1-E824058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15BE-439A-487F-A24D-E7A1237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86B96-D1C7-4E7C-8554-F885DC63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02E4A-7A7F-4967-80A2-726C93CF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1E74-0A56-437A-8D2C-2A8515A9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A8EE-0E4C-4852-B104-F56F2424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77111-2E8A-4274-9D1C-816BD47D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4B6-8679-4F5A-B3B5-DBD32FC7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463C7-1C7F-48F9-86CE-5A676A63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AC845-9434-4BCC-BB89-99C536B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18F54-83EE-4AFF-AD38-248ABC90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BFB7-0FCB-4147-A205-6BFA5128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49A31-FD7C-4316-B717-3C684E89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AA799-6D92-4A25-AD76-A082F70C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87D4B-9856-4168-BEC1-4E0FD367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74EAB-4660-40A6-A085-0C654215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518A2-6833-4662-9BD3-E1F4EC2C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79B6-DC5C-4398-9E48-7B4678B6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524-F78D-4C2A-952C-21B7EF0F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1645E-8931-4F58-81ED-53997D2B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289BF-763A-45D4-A6D5-1B9D5EE0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68564-9F48-4A22-9910-4D568829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2BA3-55AE-4927-B877-D231C74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9E077-C86C-4103-B490-2A9626AD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7F96-78C6-4598-A2C7-EE941C2C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603F-F434-481F-A4A8-78C98A78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84CC-14CA-4EC5-A026-BB4937E0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C0EA0-AC89-4A61-B6EE-F87250A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6ABA-38F4-4821-B9A5-CF5CA898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B69-B00F-4527-AF0F-C718D25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497E-1A8C-4387-9062-14DB9B66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C67F7-B44A-4028-A397-A4C2272A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48AAA-7B51-4917-B5AA-63650508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CF0D3-F37A-4DC1-B61B-FE3AB248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B3179-2AE6-4248-A807-286C5DB8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8E1F7-BD03-4C71-90B4-44AB2B21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5559C-3601-4F46-971C-287787F6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11A89-44FC-42B2-AF75-AD8D09FD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670DD-76D8-4AC5-9C8F-13348631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6AC4D-4EEE-4657-8A04-3ABF122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08E-5C7B-43B4-BFF9-143E55C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1981C-C8FC-4CC5-902C-B4C09633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4241D-0444-4BC5-A259-7ED42F99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153C7-BE57-4A15-8F49-6ACB2D74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5338C-BC3E-4971-B9E8-D905FFA1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5BDCB-8EF4-440F-86BC-E87BE104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D5634-7E48-4BDB-8FF2-5790830A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8E10-CBA9-4D33-BF0D-5037544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E9BDF-31FA-4AFF-95B4-5EED6ABB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A785C-0B3C-4F0F-BD54-FE1117A3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3378-D682-4D76-A6BA-97DBCE5C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C04-FBC7-4E30-8594-5CD88038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7DF30-B094-433E-8CE5-88E02C94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2811-A9AF-4602-912E-D46B46F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5592F-18B3-4759-84F2-EB20D21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29189-17A2-43F1-BA47-9853F2C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A9166-6D83-4491-BEE1-464919A1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7416E-801E-4764-9096-5BE1E23B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AF98D-FD74-4835-8155-114B54C2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0B4A7-CEE6-4482-8FA2-0D799256CFB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F6730-7383-43B4-A83F-46EA6F8FE01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03DF3-A9FA-4DB2-8DFA-8E48D3B5679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6E4D2-95C2-46AE-80D7-0C181D9D765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42828-047F-4EC7-AD1E-6EBF468EDB2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0"/>
            <a:ext cx="3349800" cy="75596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340080" y="0"/>
            <a:ext cx="54000" cy="75596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383760" y="7120080"/>
            <a:ext cx="216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968640" y="7120080"/>
            <a:ext cx="38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3D436-BE32-4C65-84FC-7712FA34D5C3}" type="slidenum">
              <a:rPr b="0" lang="ru-RU" sz="11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0" y="5459400"/>
            <a:ext cx="10077480" cy="21002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5418000"/>
            <a:ext cx="10077480" cy="698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C45F6-209F-4497-929B-4B3976AC180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C2788-B8B8-49E7-B507-403201A01D4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27280" y="1618920"/>
            <a:ext cx="69134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Заводской    район.</a:t>
            </a:r>
            <a:br>
              <a:rPr sz="6000"/>
            </a:br>
            <a:br>
              <a:rPr sz="6000"/>
            </a:br>
            <a:r>
              <a:rPr b="0" lang="ru-RU" sz="24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досуг, культура, спорт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5977080" y="5724360"/>
            <a:ext cx="33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ываева Вера Виктор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О «Станция юных натуралистов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овокузнец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ровская область - Кузб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2"/>
          <p:cNvSpPr/>
          <p:nvPr/>
        </p:nvSpPr>
        <p:spPr>
          <a:xfrm>
            <a:off x="287280" y="466560"/>
            <a:ext cx="957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юных жителей работают «Дом детского творчества № 4», школа искусств № 58, Технический центр «Меридиан», Станция юных натуралистов, 5 детско-юношеских спортивных шко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 чудес Завод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среди  жителей района прошла акция «Семь чудес Заводского района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исок, предложенный для голосования, вошло около 20 объектов, семь из них набрали наибольшее количество голос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ЗСМК», ДК ЗСМК, бассейн «Запсибовец», профилакторий «Озёрный», конный центр «Фаворит», Памятник Воину-Созидателю, «Дом детского творчества № 4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" descr="https://libnvkz.ru/chitatelyam/o-novokuznetske/raioni-novokuznetska/zapsib/38102.img"/>
          <p:cNvPicPr/>
          <p:nvPr/>
        </p:nvPicPr>
        <p:blipFill>
          <a:blip r:embed="rId1"/>
          <a:stretch/>
        </p:blipFill>
        <p:spPr>
          <a:xfrm>
            <a:off x="360360" y="3492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s://libnvkz.ru/chitatelyam/o-novokuznetske/raioni-novokuznetska/zapsib/38104.img"/>
          <p:cNvPicPr/>
          <p:nvPr/>
        </p:nvPicPr>
        <p:blipFill>
          <a:blip r:embed="rId2"/>
          <a:stretch/>
        </p:blipFill>
        <p:spPr>
          <a:xfrm>
            <a:off x="5545080" y="3492360"/>
            <a:ext cx="3826080" cy="285768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1"/>
          <p:cNvSpPr/>
          <p:nvPr/>
        </p:nvSpPr>
        <p:spPr>
          <a:xfrm>
            <a:off x="5977080" y="6443640"/>
            <a:ext cx="32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детского творчества №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2"/>
          <p:cNvSpPr/>
          <p:nvPr/>
        </p:nvSpPr>
        <p:spPr>
          <a:xfrm>
            <a:off x="503280" y="6516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ный центр «Фаворит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7000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3981600" y="21528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Досуг, культура, спо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Рисунок 1" descr="Фото ДК ЗСМК"/>
          <p:cNvPicPr/>
          <p:nvPr/>
        </p:nvPicPr>
        <p:blipFill>
          <a:blip r:embed="rId1"/>
          <a:stretch/>
        </p:blipFill>
        <p:spPr>
          <a:xfrm>
            <a:off x="219240" y="249120"/>
            <a:ext cx="3500280" cy="263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7" name="TextBox 4"/>
          <p:cNvSpPr/>
          <p:nvPr/>
        </p:nvSpPr>
        <p:spPr>
          <a:xfrm>
            <a:off x="284040" y="3059280"/>
            <a:ext cx="35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ый центр КСЦМ "Евраза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19" descr="Фото без названия"/>
          <p:cNvPicPr/>
          <p:nvPr/>
        </p:nvPicPr>
        <p:blipFill>
          <a:blip r:embed="rId2"/>
          <a:stretch/>
        </p:blipFill>
        <p:spPr>
          <a:xfrm>
            <a:off x="3846600" y="838080"/>
            <a:ext cx="3446280" cy="229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9" name="TextBox 7"/>
          <p:cNvSpPr/>
          <p:nvPr/>
        </p:nvSpPr>
        <p:spPr>
          <a:xfrm>
            <a:off x="4103640" y="3271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сейн «Запсибове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Рисунок 7" descr="Фото Дворец спорта Богатырь"/>
          <p:cNvPicPr/>
          <p:nvPr/>
        </p:nvPicPr>
        <p:blipFill>
          <a:blip r:embed="rId3"/>
          <a:stretch/>
        </p:blipFill>
        <p:spPr>
          <a:xfrm>
            <a:off x="146160" y="3591000"/>
            <a:ext cx="3463920" cy="260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1" name="TextBox 10"/>
          <p:cNvSpPr/>
          <p:nvPr/>
        </p:nvSpPr>
        <p:spPr>
          <a:xfrm>
            <a:off x="431640" y="63295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ец спорта «Богатырь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25" descr="Фото парк осенью"/>
          <p:cNvPicPr/>
          <p:nvPr/>
        </p:nvPicPr>
        <p:blipFill>
          <a:blip r:embed="rId4"/>
          <a:stretch/>
        </p:blipFill>
        <p:spPr>
          <a:xfrm>
            <a:off x="3730680" y="3740040"/>
            <a:ext cx="3684600" cy="245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3" name="Рисунок 16" descr="Фото без названия"/>
          <p:cNvPicPr/>
          <p:nvPr/>
        </p:nvPicPr>
        <p:blipFill>
          <a:blip r:embed="rId5"/>
          <a:stretch/>
        </p:blipFill>
        <p:spPr>
          <a:xfrm>
            <a:off x="7412040" y="1006560"/>
            <a:ext cx="2646360" cy="3778200"/>
          </a:xfrm>
          <a:prstGeom prst="rect">
            <a:avLst/>
          </a:prstGeom>
          <a:ln w="0">
            <a:noFill/>
          </a:ln>
        </p:spPr>
      </p:pic>
      <p:sp>
        <p:nvSpPr>
          <p:cNvPr id="364" name="TextBox 11"/>
          <p:cNvSpPr/>
          <p:nvPr/>
        </p:nvSpPr>
        <p:spPr>
          <a:xfrm>
            <a:off x="7632720" y="4859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у-созидател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4319640" y="62355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 металлур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00720" y="900000"/>
            <a:ext cx="4464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ние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сскажи о своем любимом занятии и своих любимых местах отдыха.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909720" y="4911480"/>
            <a:ext cx="831672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800" spc="-1" strike="noStrike">
                <a:solidFill>
                  <a:srgbClr val="40749b"/>
                </a:solidFill>
                <a:latin typeface="Times New Roman"/>
                <a:ea typeface="Times New Roman"/>
              </a:rPr>
              <a:t>СПАСИБО ЗА РАБОТУ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8" name="Picture 2" descr="https://avatars.mds.yandex.net/get-altay/1352335/2a00000162b82805dbe737e01414584c9dfe/XXL"/>
          <p:cNvPicPr/>
          <p:nvPr/>
        </p:nvPicPr>
        <p:blipFill>
          <a:blip r:embed="rId1"/>
          <a:stretch/>
        </p:blipFill>
        <p:spPr>
          <a:xfrm>
            <a:off x="291960" y="585720"/>
            <a:ext cx="5102280" cy="737568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2016000" y="324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О «Станция юных натуралистов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ПАША</dc:creator>
  <dc:description/>
  <dc:language>en-US</dc:language>
  <cp:lastModifiedBy>алинка порываева</cp:lastModifiedBy>
  <dcterms:modified xsi:type="dcterms:W3CDTF">2020-04-23T05:09:07Z</dcterms:modified>
  <cp:revision>65</cp:revision>
  <dc:subject/>
  <dc:title>Слайд 1</dc:title>
</cp:coreProperties>
</file>