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B99-2575-4F9A-A66B-602580E4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27C-8692-4DDC-A1A5-FC521FB8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0BB-734C-47BD-89DA-0CA6A93D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30A-972E-4BDD-B5ED-9ED5FD97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3C5F-044D-48BC-B268-64D8A037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D9D4-E141-4671-89A5-DAC36561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07EF-85DE-46DB-93FD-52AF234E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7A04-006E-4EB7-B728-0051048F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6DF2-3F09-436D-8DC6-0BAB1BCC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D2A8-49CE-4EE1-8496-DE94E70E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A5C8-9AF4-42C4-99EC-9CF22BD6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858-4669-46DC-ABCE-87D8F9F3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81EB-8080-4CF0-ABBE-98E1F837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42CA-A392-4866-AC01-0516B7E8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7D65-D3BC-4BC6-93EC-613032F9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DA3E-8FB5-4B71-9EC6-7E863886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910E-422D-47A8-AA63-687F843D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C184-010D-43B8-B9F0-1AA00B82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EFB9-6F72-48B3-AD0B-A927933B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3247-A5E3-4536-8915-DA822973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FBB69-AE2A-43F6-8586-4D76A2F3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AE72-0464-4776-9A65-369C9481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565-B7B1-4628-9C07-541F491C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3123-5494-4557-8AFD-55FD4BD2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F5AF-A24D-4BC1-81F4-2FD8E14A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3D2C-662E-4116-B168-27E641C3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9E5F-DAD6-4621-9BE1-BAB0FE7A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5C6A-14AB-48F7-893A-0E1A900D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6A06-7EE6-483E-9923-09C706A0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3D088-57E2-4620-A24F-4D599636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D2BD2-6BCB-4E99-A43E-4A813B81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346FA-0C2D-43DE-95F9-E06DFA6E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52ED-8E87-458D-8490-C57EE8A2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62E-F0A0-481B-ADAE-A53F80B2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7C06-37DB-450A-AC3B-3082315A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77EB-ABE8-404B-84D9-FD7002FB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9FA6-7AB2-4D57-980D-98A3FFB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300F-68CC-4E72-A6E3-63BD32BE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289C3-E713-4B91-BD57-64FA2DED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280D6-283A-428B-B626-639E262E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E0C5-F4F7-472C-B597-E0D139F3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3209A-FDC4-4662-A520-9F707E50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987D7-E17E-4CCB-9D32-079EDEA2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2EE75-8193-460B-9815-7F12AA11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AF0-375B-4F00-B258-D8D230CA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24A09-D27C-477B-8EEB-88029C9C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C4829-F9CD-4596-A6CF-9D5ED5DB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33AD8-72EE-4979-B689-CC01BF09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C3548-819B-4DFD-8211-A1E60251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E9A20-81DE-401B-99F3-7D7A6183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5074B-2F05-4FF2-8A6B-F78FE4EB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90573-6A83-465E-A0F8-667CEB0E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9274-FE17-4193-BC75-314C6E6E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131AE-0261-44D3-AC5E-81E6482C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17E86-DAD4-4194-A6AF-3ED2B7A2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745-76F0-45FF-AE40-C975D3FD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0595-C0C5-41EF-8031-60C88CF4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1AD2F-A973-4046-A0EF-C92116C6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9CA8A-73D6-4727-83D0-2B3C89B4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CE2DE-8435-4F14-A522-E88021EB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573DE-6BAA-4942-AA54-04CC7D1F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CB9A4-03E9-4F8B-98AB-874FADB5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AF364-157E-4B05-842E-AC599971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BF22C-4C5A-4871-80CA-BAB8D3BB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F47F0-C29E-4CE5-8C09-B7F4626C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B87F1-3DC5-420E-9DD5-AA6609DB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238-8DA5-45AE-AC29-50F9EB63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B40D1-21E6-4732-8C26-C8E098B0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04D44-7933-4F9F-8DBC-BBA487AB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4D64D-6773-4186-807C-5113C38E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BD89A-9D64-4C2C-9E7E-EF8CECCE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3E27D-09E7-4533-9EAA-9186D489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38FD6-5157-4E0A-8BEA-159383A7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D4449-64C0-4DB9-894E-E7EDF424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307F2-88BF-4DAC-9043-0BD22B48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6C3F9-385C-4854-9EF3-315E08F6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6610E-1389-4440-8D92-1192C8D3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981-CD66-4CE6-8921-0D8868EC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67679-56B4-448C-9414-62B5A96A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1C373-D53A-4BEB-A30C-24D029E8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28BA5-8855-48AE-AC38-DDA397DE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C4040-9DF1-4CAC-B9DF-75C65CF3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7B5CF-718D-4533-886D-7200C457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99D14-1869-4794-8847-A7FAE175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91B68-4069-450D-A347-9D214E2C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A039A-BCC0-492B-AB1A-8F3E0983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32146-E754-4B82-9D4C-A1419D19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5522E-A3B8-433F-8C26-00D66F6B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DF7-15DB-495E-AB6D-2A63D72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44DDF-F427-4356-B4A4-2387AF50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6BB3B-F278-4AAC-B994-722B269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33491-C33F-44AA-AD5D-94807128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DB969-B43B-42D5-AFC0-011A9E2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09F4D-E3AF-4D2E-811B-104C8A62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15CD-1EE2-4911-8051-5BAA12ED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BB946-E018-4046-A8A3-BFA351F8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F49C1-4A50-4F16-911F-8F9C377E594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23F37-AC83-4282-806B-D3EA95A1BF3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2657B-6761-489C-8C59-8B0A5BE4EA7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C1DB1-B82B-4531-B963-0D8E3214416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D6577-6875-4A8A-89EC-44E2D2539C9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0" y="0"/>
            <a:ext cx="3349800" cy="75596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340080" y="0"/>
            <a:ext cx="54000" cy="75596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383760" y="7120080"/>
            <a:ext cx="216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968640" y="7120080"/>
            <a:ext cx="38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0F491-83FC-44A7-B9F1-282815E84D7F}" type="slidenum">
              <a:rPr b="0" lang="ru-RU" sz="11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0" y="5459400"/>
            <a:ext cx="10077480" cy="21002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0" y="5418000"/>
            <a:ext cx="10077480" cy="698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0D729-7243-4CD3-8BFD-F07C6F3FFE2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0F8AF-4143-4A34-9C50-2D17A47A498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27280" y="1618920"/>
            <a:ext cx="69134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Заводской    район.</a:t>
            </a:r>
            <a:br>
              <a:rPr sz="6000"/>
            </a:br>
            <a:br>
              <a:rPr sz="6000"/>
            </a:br>
            <a:r>
              <a:rPr b="0" lang="ru-RU" sz="24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досуг, культура, спорт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5977080" y="5724360"/>
            <a:ext cx="33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ываева Вера Виктор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О «Станция юных натуралистов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овокузнец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ровская область - Кузб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2"/>
          <p:cNvSpPr/>
          <p:nvPr/>
        </p:nvSpPr>
        <p:spPr>
          <a:xfrm>
            <a:off x="287280" y="466560"/>
            <a:ext cx="957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юных жителей работают «Дом детского творчества № 4», школа искусств № 58, Технический центр «Меридиан», Станция юных натуралистов, 5 детско-юношеских спортивных шко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 чудес Завод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среди  жителей района прошла акция «Семь чудес Заводского района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исок, предложенный для голосования, вошло около 20 объектов, семь из них набрали наибольшее количество голос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«ЗСМК», ДК ЗСМК, бассейн «Запсибовец», профилакторий «Озёрный», конный центр «Фаворит», Памятник Воину-Созидателю, «Дом детского творчества № 4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4" descr="https://libnvkz.ru/chitatelyam/o-novokuznetske/raioni-novokuznetska/zapsib/38102.img"/>
          <p:cNvPicPr/>
          <p:nvPr/>
        </p:nvPicPr>
        <p:blipFill>
          <a:blip r:embed="rId1"/>
          <a:stretch/>
        </p:blipFill>
        <p:spPr>
          <a:xfrm>
            <a:off x="360360" y="3492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https://libnvkz.ru/chitatelyam/o-novokuznetske/raioni-novokuznetska/zapsib/38104.img"/>
          <p:cNvPicPr/>
          <p:nvPr/>
        </p:nvPicPr>
        <p:blipFill>
          <a:blip r:embed="rId2"/>
          <a:stretch/>
        </p:blipFill>
        <p:spPr>
          <a:xfrm>
            <a:off x="5545080" y="3492360"/>
            <a:ext cx="3826080" cy="285768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1"/>
          <p:cNvSpPr/>
          <p:nvPr/>
        </p:nvSpPr>
        <p:spPr>
          <a:xfrm>
            <a:off x="5977080" y="6443640"/>
            <a:ext cx="32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детского творчества №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2"/>
          <p:cNvSpPr/>
          <p:nvPr/>
        </p:nvSpPr>
        <p:spPr>
          <a:xfrm>
            <a:off x="503280" y="6516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ный центр «Фаворит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7000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3981600" y="215280"/>
            <a:ext cx="41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Досуг, культура, спо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Рисунок 1" descr="Фото ДК ЗСМК"/>
          <p:cNvPicPr/>
          <p:nvPr/>
        </p:nvPicPr>
        <p:blipFill>
          <a:blip r:embed="rId1"/>
          <a:stretch/>
        </p:blipFill>
        <p:spPr>
          <a:xfrm>
            <a:off x="219240" y="249120"/>
            <a:ext cx="3500280" cy="263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7" name="TextBox 4"/>
          <p:cNvSpPr/>
          <p:nvPr/>
        </p:nvSpPr>
        <p:spPr>
          <a:xfrm>
            <a:off x="284040" y="3059280"/>
            <a:ext cx="35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ый центр КСЦМ "Евраза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19" descr="Фото без названия"/>
          <p:cNvPicPr/>
          <p:nvPr/>
        </p:nvPicPr>
        <p:blipFill>
          <a:blip r:embed="rId2"/>
          <a:stretch/>
        </p:blipFill>
        <p:spPr>
          <a:xfrm>
            <a:off x="3846600" y="838080"/>
            <a:ext cx="3446280" cy="229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9" name="TextBox 7"/>
          <p:cNvSpPr/>
          <p:nvPr/>
        </p:nvSpPr>
        <p:spPr>
          <a:xfrm>
            <a:off x="4103640" y="3271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сейн «Запсибове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Рисунок 7" descr="Фото Дворец спорта Богатырь"/>
          <p:cNvPicPr/>
          <p:nvPr/>
        </p:nvPicPr>
        <p:blipFill>
          <a:blip r:embed="rId3"/>
          <a:stretch/>
        </p:blipFill>
        <p:spPr>
          <a:xfrm>
            <a:off x="146160" y="3591000"/>
            <a:ext cx="3463920" cy="260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1" name="TextBox 10"/>
          <p:cNvSpPr/>
          <p:nvPr/>
        </p:nvSpPr>
        <p:spPr>
          <a:xfrm>
            <a:off x="431640" y="63295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рец спорта «Богатырь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25" descr="Фото парк осенью"/>
          <p:cNvPicPr/>
          <p:nvPr/>
        </p:nvPicPr>
        <p:blipFill>
          <a:blip r:embed="rId4"/>
          <a:stretch/>
        </p:blipFill>
        <p:spPr>
          <a:xfrm>
            <a:off x="3730680" y="3740040"/>
            <a:ext cx="3684600" cy="245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63" name="Рисунок 16" descr="Фото без названия"/>
          <p:cNvPicPr/>
          <p:nvPr/>
        </p:nvPicPr>
        <p:blipFill>
          <a:blip r:embed="rId5"/>
          <a:stretch/>
        </p:blipFill>
        <p:spPr>
          <a:xfrm>
            <a:off x="7412040" y="1006560"/>
            <a:ext cx="2646360" cy="3778200"/>
          </a:xfrm>
          <a:prstGeom prst="rect">
            <a:avLst/>
          </a:prstGeom>
          <a:ln w="0">
            <a:noFill/>
          </a:ln>
        </p:spPr>
      </p:pic>
      <p:sp>
        <p:nvSpPr>
          <p:cNvPr id="364" name="TextBox 11"/>
          <p:cNvSpPr/>
          <p:nvPr/>
        </p:nvSpPr>
        <p:spPr>
          <a:xfrm>
            <a:off x="7632720" y="4859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у-созидател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4319640" y="62355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 металлур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00720" y="900000"/>
            <a:ext cx="44640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ние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сскажи о своем любимом занятии и своих любимых местах отдыха.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909720" y="4911480"/>
            <a:ext cx="831672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2800" spc="-1" strike="noStrike">
                <a:solidFill>
                  <a:srgbClr val="40749b"/>
                </a:solidFill>
                <a:latin typeface="Times New Roman"/>
                <a:ea typeface="Times New Roman"/>
              </a:rPr>
              <a:t>СПАСИБО ЗА РАБОТУ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8" name="Picture 2" descr="https://avatars.mds.yandex.net/get-altay/1352335/2a00000162b82805dbe737e01414584c9dfe/XXL"/>
          <p:cNvPicPr/>
          <p:nvPr/>
        </p:nvPicPr>
        <p:blipFill>
          <a:blip r:embed="rId1"/>
          <a:stretch/>
        </p:blipFill>
        <p:spPr>
          <a:xfrm>
            <a:off x="291960" y="585720"/>
            <a:ext cx="5102280" cy="737568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2016000" y="324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О «Станция юных натуралистов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ПАША</dc:creator>
  <dc:description/>
  <dc:language>en-US</dc:language>
  <cp:lastModifiedBy>алинка порываева</cp:lastModifiedBy>
  <dcterms:modified xsi:type="dcterms:W3CDTF">2020-04-23T05:09:07Z</dcterms:modified>
  <cp:revision>65</cp:revision>
  <dc:subject/>
  <dc:title>Слайд 1</dc:title>
</cp:coreProperties>
</file>