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B09-A552-48D7-8CC8-C9AF8599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778-DEE2-4292-9D39-7C423CF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28C-2FB6-464C-B040-10441BCF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C43-C622-45B8-AAC8-1D7F74DF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E31D-40D8-495F-A9D6-49AB5954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4B22-B69B-47FD-9015-7BDE8769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5162-6A14-457B-9204-3F9CE0A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A38B-8A5C-41D6-AD34-66CD1E48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3B45-EB04-43CB-9FAA-511C89D8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83D4-AC8E-4E71-B2AA-AF8F827F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67BE-412D-46E7-8447-A81F461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297-67DF-42CE-B712-8969B43D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6292-8CE4-4CA6-8F7A-D35BC5E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C31F-7D81-4931-AF25-F69DE1C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F68E-F7A7-421C-B3B3-175AAC6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82DC-7E9B-4D32-B7FC-0721CAE7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4716-89BC-4691-B335-396CB192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3502-AA6E-4AA6-94EC-756CDAC9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FAE2-2342-4B59-8D6F-EBF4C150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5537-E64D-4D2F-9D56-AEC4F9FE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09C0-F64A-4738-9640-D2FA4AC1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190B-5131-4EAA-BF17-2E9CB11E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13F-BD2F-4BAE-AAD9-5A5E488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7AE5-DB68-4CCD-BA49-677C63D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5BAA-F69C-4E11-A023-7C7DAE3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9D24-841E-4AC4-9A27-22F5DDA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5707-A560-4C83-990C-B0508704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2D50-9E6E-4AD3-A9FB-43FB2112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8578-CF52-411C-835D-C3C8C997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0618-FDA6-437C-A613-3EA5DB9F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FBCC5-C45A-4DF5-B2C5-860CC3CA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811D-0D90-4F8F-BDBA-AF578799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CAC7D-FFBD-496A-B15E-D939D31C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393-3919-4E8E-8275-956D7F1C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7432-470C-4A1E-AE29-5A31CBE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46EC4-96ED-4562-911A-A4153442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1137-A339-4D78-8B2E-60FB08FE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049A8-F17D-4732-9389-5AB36D34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4CA4-B394-40D3-B143-3984166B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0602-6F07-4454-8F1F-C431BD8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81E0-679E-4A2E-A516-2EFA368F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583F-B393-47FA-9D0C-9D5C732F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0868-18B1-477E-9DF1-935BCEC5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7472-ACD6-416A-A97C-B31A8F34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C2D-2B39-4398-AE0E-8C707471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B12C-86CE-4068-B239-2237B8F8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50E1-55EF-432B-9663-594296AB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8B3BF-084B-409B-AA14-B2252DCB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1815E-A527-4DAA-B4C3-FB11AB1F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BF90-C7DC-456F-B6AE-BA72FEA6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EC985-DD97-41A0-9E39-A6DBC04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5410E-340C-4A59-A596-9643310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481F-E56B-43EF-8164-0E8DDC7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68FB-1D2D-4EE3-BF23-4FD4148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5A80-E9EC-43F1-B6BE-F0B8884A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962-B6B0-4773-B18C-9A62AF4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04A1C-84B6-4A96-A77C-D90CE6DD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13F19-D7EE-4297-B411-4C1A7914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EA465-DDAC-4E57-B130-298E1A1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7E15C-5E43-4AB0-B2BB-93BE1660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C1E69-BCD6-4536-B3F1-DA1BE89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7430F-828D-44C2-A00F-4C66BE29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0515-11F8-4A99-A56F-1A35962B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C5917-A3B0-4269-98C7-9B695D53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5CEB8-99C9-432E-81E7-7829086E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1C91B-EF35-4DA1-B4D3-04A7D68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19D-B2FB-4844-ACD4-2A15B4D7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D6ECC-EAC9-47C2-85EF-E76038B3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15182-C764-4CD4-90E3-ABD717E7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18070-0EE0-4FCA-83FF-297CA6F1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B7D3-695D-47C0-8E5D-A8D218AA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2D34E-0924-4E2C-8CFC-A4F7C4F9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D60F8-13F7-47E0-8E7A-960E88ED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586DB-F693-4477-85CB-243B34AA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46709-2E54-48BE-8388-4DDCF59B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7B883-AE5D-4052-BC68-999D4CC2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E05E8-CDF2-4805-B33C-150B5556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D99-9814-4F11-BBE1-48882EF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E3A46-ADC1-4076-8C82-2B2779EF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060EE-76A2-46E5-85DF-50F89107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E9E27-04C9-41EF-B417-1E85DB25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D93CD-E88C-4A5C-972F-8CC0FA7D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8E92-E49A-4474-B185-136AA8EE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461A2-99C4-41C6-B153-0CE11738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8C8B9-B2EF-4C1B-BAA0-92E927EB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51F2A-4EE5-46E6-A4C9-C988E32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BAC3A-9C21-47C9-AB59-474249D3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3AC4C-43AF-4422-9F10-8943C296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2A6-43C8-482A-BAB6-49AC253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F0654-0A5C-4227-B3C9-FB06ECF0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C349-890C-474D-952E-3EB196FA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4909F-8082-438C-9212-BB76E13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55153-3D3F-4224-B14C-6B55A6C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29397-3030-4DF8-91D2-4FEDD760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744C1-A843-409E-833E-85A31BEE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A9185-2616-4F7D-9425-6F92BC7D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1D501-9106-4F1D-A408-A06D58CF064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FD743-9392-44D4-B6AA-09080E41479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D6155-0775-43F7-9D00-D236ED02DE8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01629-D720-4E58-908D-33F076C9ABD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399C7-DD19-41DD-857B-875F9B9A4A5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0"/>
            <a:ext cx="3349800" cy="75596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340080" y="0"/>
            <a:ext cx="54000" cy="75596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383760" y="7120080"/>
            <a:ext cx="216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968640" y="7120080"/>
            <a:ext cx="38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D561A-902F-4107-8102-87137998684C}" type="slidenum">
              <a:rPr b="0" lang="ru-RU" sz="11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0" y="5459400"/>
            <a:ext cx="10077480" cy="21002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5418000"/>
            <a:ext cx="10077480" cy="698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A2E79-0705-4576-BC1D-B146D69D44C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ACB2B-1B0C-40CF-8845-C35B49529B9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06480" y="836640"/>
            <a:ext cx="8316720" cy="39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Заводской    район.</a:t>
            </a:r>
            <a:br>
              <a:rPr sz="6000"/>
            </a:br>
            <a:br>
              <a:rPr sz="6000"/>
            </a:br>
            <a:r>
              <a:rPr b="0" lang="ru-RU" sz="2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географическое положение и начало строительства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6048360" y="5796000"/>
            <a:ext cx="352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ываева Вера Викторовна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О «Станция юных натуралистов»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овокузнецк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ровская область - Кузбасс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http://www.fototerra.ru/image.html?id=186842&amp;size=medium"/>
          <p:cNvPicPr/>
          <p:nvPr/>
        </p:nvPicPr>
        <p:blipFill>
          <a:blip r:embed="rId1"/>
          <a:stretch/>
        </p:blipFill>
        <p:spPr>
          <a:xfrm>
            <a:off x="287280" y="179280"/>
            <a:ext cx="4248360" cy="31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1" name="TextBox 4"/>
          <p:cNvSpPr/>
          <p:nvPr/>
        </p:nvSpPr>
        <p:spPr>
          <a:xfrm>
            <a:off x="4753080" y="971640"/>
            <a:ext cx="518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ской район Новокузнецка 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амый большой по площади район города –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109, 9 кв. км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амый протяжённый район с С-В на Ю-3 - </a:t>
            </a:r>
            <a:r>
              <a:rPr b="1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21 км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амый низкий район города –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урез реки Томи </a:t>
            </a:r>
            <a:r>
              <a:rPr b="1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188 метров 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над уровнем моря.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4968720" y="3995640"/>
            <a:ext cx="46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ской райо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административный район Новокузнецка,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 берегу реки Том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района связано с расположенным на его территории Западно - Сибирским металлургическим комбинатом.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йона есть неофициальное именование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си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353" name="Picture 7" descr="https://libnvkz.ru/chitatelyam/o-novokuznetske/raioni-novokuznetska/zapsib/38091.img"/>
          <p:cNvPicPr/>
          <p:nvPr/>
        </p:nvPicPr>
        <p:blipFill>
          <a:blip r:embed="rId2"/>
          <a:stretch/>
        </p:blipFill>
        <p:spPr>
          <a:xfrm>
            <a:off x="262080" y="3618000"/>
            <a:ext cx="4273560" cy="320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8000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3"/>
          <p:cNvSpPr/>
          <p:nvPr/>
        </p:nvSpPr>
        <p:spPr>
          <a:xfrm>
            <a:off x="4913280" y="1258920"/>
            <a:ext cx="495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 расположен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веро-восточной части города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: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ильинск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м Ильинским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о-западе,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ким район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юге,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оровским сельским поселени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,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м районом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юге-запад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355" name="Picture 5" descr="Карта"/>
          <p:cNvPicPr/>
          <p:nvPr/>
        </p:nvPicPr>
        <p:blipFill>
          <a:blip r:embed="rId1"/>
          <a:stretch/>
        </p:blipFill>
        <p:spPr>
          <a:xfrm>
            <a:off x="195120" y="1262160"/>
            <a:ext cx="4737240" cy="8076960"/>
          </a:xfrm>
          <a:prstGeom prst="rect">
            <a:avLst/>
          </a:prstGeom>
          <a:ln w="0">
            <a:noFill/>
          </a:ln>
        </p:spPr>
      </p:pic>
    </p:spTree>
  </p:cSld>
  <p:transition advTm="8000"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6" descr="http://www.fototerra.ru/image.html?id=186838&amp;size=medium"/>
          <p:cNvPicPr/>
          <p:nvPr/>
        </p:nvPicPr>
        <p:blipFill>
          <a:blip r:embed="rId1"/>
          <a:stretch/>
        </p:blipFill>
        <p:spPr>
          <a:xfrm>
            <a:off x="5877000" y="-182520"/>
            <a:ext cx="3578040" cy="36082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http://www.fototerra.ru/image.html?id=186839&amp;size=medium"/>
          <p:cNvPicPr/>
          <p:nvPr/>
        </p:nvPicPr>
        <p:blipFill>
          <a:blip r:embed="rId2"/>
          <a:stretch/>
        </p:blipFill>
        <p:spPr>
          <a:xfrm>
            <a:off x="6381720" y="3286080"/>
            <a:ext cx="3395520" cy="342576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2303640" y="6970680"/>
            <a:ext cx="71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сиб – стальное сердце Сибири!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5256360" y="2771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оуправлен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6408720" y="6300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ный цех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361" name="Picture 2" descr="Novokuznetsk / Новокузнецк ЗСМК космическое шоссе"/>
          <p:cNvPicPr/>
          <p:nvPr/>
        </p:nvPicPr>
        <p:blipFill>
          <a:blip r:embed="rId3"/>
          <a:stretch/>
        </p:blipFill>
        <p:spPr>
          <a:xfrm>
            <a:off x="449280" y="128520"/>
            <a:ext cx="4608360" cy="345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62" name="TextBox 8"/>
          <p:cNvSpPr/>
          <p:nvPr/>
        </p:nvSpPr>
        <p:spPr>
          <a:xfrm>
            <a:off x="0" y="3795840"/>
            <a:ext cx="648000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водскому району дал жизнь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падно-Сибирский металлургический комбинат.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В ноябре 1956 года Совет Министров СССР вынес решение о строительстве  ЗСМК - Запсиба на </a:t>
            </a:r>
            <a:r>
              <a:rPr b="1" i="1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Антоновской площадке.</a:t>
            </a:r>
            <a:br>
              <a:rPr sz="1700"/>
            </a:b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псиб был объявлен всесоюзной ударной комсомольской стройкой,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тал принимать молодых строителей из разных районов страны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ЗСМК начал работу в 1963 году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крупных предприятий района  -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Западно-Сибирская ТЭЦ.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2013 года на территории района работает 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басская ярмарка.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 advTm="12000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06120" y="836640"/>
            <a:ext cx="8310600" cy="29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нтрольные вопрос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Расскажи о географическом положении Заводского райо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Заводской район самый…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. Почему Запсиб называют Стальное сердце Сибири?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909720" y="5074920"/>
            <a:ext cx="830736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ПАША</dc:creator>
  <dc:description/>
  <dc:language>en-US</dc:language>
  <cp:lastModifiedBy>алинка порываева</cp:lastModifiedBy>
  <dcterms:modified xsi:type="dcterms:W3CDTF">2020-04-23T05:05:19Z</dcterms:modified>
  <cp:revision>72</cp:revision>
  <dc:subject/>
  <dc:title>Слайд 1</dc:title>
</cp:coreProperties>
</file>