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DF9-79D0-4F60-82B3-8C4AD937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967-524D-4E40-ACE3-983F0850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757-FEA6-4DB7-A08D-E106376C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E1E-18E2-45AD-AD50-CE990E87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BF24-2A9E-44EC-93C1-1F646455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293D-2903-4655-BEDD-4573EEE6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8440-0516-43B4-B6B5-7460BC30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366D-A8DB-4133-971A-9183BE74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3E09-D48F-463C-AFB1-AA7F2901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65D3-D498-4295-A60D-E917EA95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04A3-A292-450A-AD4E-DFA2CF0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33E-112B-463C-B3A7-9E21C8DD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1AF0-F0A1-4AE2-8AF3-452EDDD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E0A6-45AF-4783-A116-5B59F48A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5BEE-16DA-4DAC-AEA5-D45F4B6F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44AE-BD97-41A9-8719-58CB2924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DADE-D1D6-4D7B-A6E8-7715E75C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D69A-5674-4A27-AB51-38FDEFC8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3E25C-2312-4283-86FC-196069EE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8DC2-DBAC-4B2B-97CB-9A41A82F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5DC4-4481-486F-9A9C-FC11915D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D971D-3EC4-4BAB-A3B5-D456F90B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5FF-990B-4D47-B8FD-23CF0832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6D88-E874-4DD2-B8B3-61A65407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8D06-8483-41AE-9CA8-16A8FB99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6594-9B6E-4DD0-99EB-8E82FAB7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F48A-6E5E-46CD-8801-06680CD2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ADAE-C024-41C9-852F-EBE09DA9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726A-BE1A-4092-95B9-8E6A832E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AC00B-D10D-4FD8-819C-1C7F0A9F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FAAD-6CE7-4426-8CC7-7F854EDC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CBE0-9C23-4779-B82C-50407E7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45C12-53ED-4520-AE71-75FE72CD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7A2-9DF1-47E0-902E-1E294FB1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06F2-BD89-44C8-8517-E8CF282E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BAA8-6F89-4220-93B7-B688170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B8BC-8777-431B-AF33-8D268C20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26149-508F-43D4-81AB-360DA34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D5561-60FA-4933-9994-B7CC006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9C98-3C96-45B6-945D-4147F268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D271B-32F8-45BC-AB5A-5B90C6A5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6A0F-0467-4CA2-8F53-6A8D4736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E57AA-744A-48F6-BEE3-541F38DF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A2B7-E815-4463-8223-B985C252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664-2480-471D-8CA5-AE4EBA5A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EC19-C854-4582-808E-BCDE70F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DAB61-1228-4D58-9AF5-817AA378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F38DE-51CA-4932-AD04-20D20F3B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DCAAA-0F4C-4FB9-9A6B-79E88B1F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329E9-E799-4152-8912-CB4FB94A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07FB2-6316-4D8E-9D4F-723EDF8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26244-6A54-41A1-BF23-373D7D1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6DF4-586A-427D-8FAD-0175A1E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4A383-1E1A-49D3-9DB3-1752AD3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C5A12-EF19-4719-9547-0DAB85A3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617-B2D3-4BD3-B567-B24D55AA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F75F-F7D5-4422-8E62-E846B653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A195-F664-467E-AB76-8FF54A85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27627-6E26-4808-A769-9AD1244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A797-236F-4BF3-8A44-5C3927F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AB04F-669A-485D-BA5B-F6728EF7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A73BB-64E4-47DE-912B-928076B9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DDAC-243E-463A-9EF3-79C88E5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14B0A-4BB2-4C69-8AD5-441EB5B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3D62D-4C27-4D4B-918E-99E643B8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AE6B6-ADF9-463C-A559-6020E16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8A6-CF6A-4E21-8996-26482497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C8CE9-F145-45B7-BA7C-AE3DC892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34548-D15E-4FFE-B0CC-5CCFC9A9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0333D-E878-4937-82AC-5DD1CC44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9EFF6-9E41-445C-9549-CC06CF93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17519-AC58-4101-A790-0D5B31D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626AC-3BF9-430A-A984-FAC24B71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0E04-6F25-41BC-9AF7-CEE08EC1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8A3DF-9212-4D3B-9195-B8AE5F5A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A0038-A5F9-415C-BFF0-31604499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1C194-8E1D-4740-AC1F-F83F926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C72-1D3C-4297-9A60-F301EAC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A6DF8-347B-432B-A368-194A04BE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0C479-41E5-45D3-B089-F3E6FF9B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7FE2-8029-4A08-9A2B-91FA3625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92A09-8B9A-45A8-86CD-F780F08B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F3D65-1695-40DF-8607-B611561C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DA386-FAEB-4512-B5C6-9A90E586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4D98-618C-402E-806A-5D0007C3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06B17-6A7E-4B7F-B390-3840BFF2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32B53-2011-4C6B-A7D1-E2799318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CF4DA-E4B7-4512-80FE-BF93EAD5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B6E-E626-45A9-B7D9-E20C1877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D3C70-6DDB-44E0-8CA0-E4CDFF01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C3E06-F4A2-4ACE-B7D8-3552E8CE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BF4D7-2CCE-49DC-BFFA-83F3E8A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48D80-2673-4208-9968-4B55706A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687AC-549E-4F50-8212-41CA4713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8571-F709-4E3E-9579-D9BDCE93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10052-42AA-4C25-8249-0C0AEA68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70018-3FC2-4C6D-98D3-E844435FFAB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AF8BB-379F-44E8-823F-57F56EDE968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48612-D63D-4B37-B023-EF59029F7DF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F146D-D30D-4106-A4E8-8DA87C95B16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36A62-2DCE-47EE-94D9-A8D41BF3B41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0"/>
            <a:ext cx="3349800" cy="75596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340080" y="0"/>
            <a:ext cx="54000" cy="75596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383760" y="7120080"/>
            <a:ext cx="216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968640" y="7120080"/>
            <a:ext cx="38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F361F-0D86-46DC-A39E-B6386715C42E}" type="slidenum">
              <a:rPr b="0" lang="ru-RU" sz="11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0" y="5459400"/>
            <a:ext cx="10077480" cy="21002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5418000"/>
            <a:ext cx="10077480" cy="698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F0C59-0969-41B2-B112-8863509545B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AD6CC-56D1-48C2-963A-6D7300E57E0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06480" y="836640"/>
            <a:ext cx="8316720" cy="39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Заводской    район.</a:t>
            </a:r>
            <a:br>
              <a:rPr sz="6000"/>
            </a:br>
            <a:br>
              <a:rPr sz="6000"/>
            </a:br>
            <a:r>
              <a:rPr b="0" lang="ru-RU" sz="2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географическое положение и начало строительства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6048360" y="5796000"/>
            <a:ext cx="352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ываева Вера Викторовна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О «Станция юных натуралистов»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овокузнецк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ровская область - Кузбасс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http://www.fototerra.ru/image.html?id=186842&amp;size=medium"/>
          <p:cNvPicPr/>
          <p:nvPr/>
        </p:nvPicPr>
        <p:blipFill>
          <a:blip r:embed="rId1"/>
          <a:stretch/>
        </p:blipFill>
        <p:spPr>
          <a:xfrm>
            <a:off x="287280" y="179280"/>
            <a:ext cx="4248360" cy="31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1" name="TextBox 4"/>
          <p:cNvSpPr/>
          <p:nvPr/>
        </p:nvSpPr>
        <p:spPr>
          <a:xfrm>
            <a:off x="4753080" y="971640"/>
            <a:ext cx="518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ской район Новокузнецка 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амый большой по площади район города –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109, 9 кв. км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амый протяжённый район с С-В на Ю-3 - </a:t>
            </a:r>
            <a:r>
              <a:rPr b="1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21 км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амый низкий район города –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урез реки Томи </a:t>
            </a:r>
            <a:r>
              <a:rPr b="1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188 метров </a:t>
            </a:r>
            <a:r>
              <a:rPr b="0" lang="ru-RU" sz="18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над уровнем моря.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4968720" y="3995640"/>
            <a:ext cx="46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ской райо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административный район Новокузнецка,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 берегу реки Том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района связано с расположенным на его территории Западно - Сибирским металлургическим комбинатом.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йона есть неофициальное именование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си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353" name="Picture 7" descr="https://libnvkz.ru/chitatelyam/o-novokuznetske/raioni-novokuznetska/zapsib/38091.img"/>
          <p:cNvPicPr/>
          <p:nvPr/>
        </p:nvPicPr>
        <p:blipFill>
          <a:blip r:embed="rId2"/>
          <a:stretch/>
        </p:blipFill>
        <p:spPr>
          <a:xfrm>
            <a:off x="262080" y="3618000"/>
            <a:ext cx="4273560" cy="320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8000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3"/>
          <p:cNvSpPr/>
          <p:nvPr/>
        </p:nvSpPr>
        <p:spPr>
          <a:xfrm>
            <a:off x="4913280" y="1258920"/>
            <a:ext cx="495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 расположен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веро-восточной части города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: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ильинск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м Ильинским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о-западе,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ким район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юге,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оровским сельским поселени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,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м районом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юге-запад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355" name="Picture 5" descr="Карта"/>
          <p:cNvPicPr/>
          <p:nvPr/>
        </p:nvPicPr>
        <p:blipFill>
          <a:blip r:embed="rId1"/>
          <a:stretch/>
        </p:blipFill>
        <p:spPr>
          <a:xfrm>
            <a:off x="195120" y="1262160"/>
            <a:ext cx="4737240" cy="8076960"/>
          </a:xfrm>
          <a:prstGeom prst="rect">
            <a:avLst/>
          </a:prstGeom>
          <a:ln w="0">
            <a:noFill/>
          </a:ln>
        </p:spPr>
      </p:pic>
    </p:spTree>
  </p:cSld>
  <p:transition advTm="8000"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6" descr="http://www.fototerra.ru/image.html?id=186838&amp;size=medium"/>
          <p:cNvPicPr/>
          <p:nvPr/>
        </p:nvPicPr>
        <p:blipFill>
          <a:blip r:embed="rId1"/>
          <a:stretch/>
        </p:blipFill>
        <p:spPr>
          <a:xfrm>
            <a:off x="5877000" y="-182520"/>
            <a:ext cx="3578040" cy="36082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http://www.fototerra.ru/image.html?id=186839&amp;size=medium"/>
          <p:cNvPicPr/>
          <p:nvPr/>
        </p:nvPicPr>
        <p:blipFill>
          <a:blip r:embed="rId2"/>
          <a:stretch/>
        </p:blipFill>
        <p:spPr>
          <a:xfrm>
            <a:off x="6381720" y="3286080"/>
            <a:ext cx="3395520" cy="342576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2303640" y="6970680"/>
            <a:ext cx="71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сиб – стальное сердце Сибири!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5256360" y="2771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оуправлен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6408720" y="6300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ный цех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361" name="Picture 2" descr="Novokuznetsk / Новокузнецк ЗСМК космическое шоссе"/>
          <p:cNvPicPr/>
          <p:nvPr/>
        </p:nvPicPr>
        <p:blipFill>
          <a:blip r:embed="rId3"/>
          <a:stretch/>
        </p:blipFill>
        <p:spPr>
          <a:xfrm>
            <a:off x="449280" y="128520"/>
            <a:ext cx="4608360" cy="345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62" name="TextBox 8"/>
          <p:cNvSpPr/>
          <p:nvPr/>
        </p:nvSpPr>
        <p:spPr>
          <a:xfrm>
            <a:off x="0" y="3795840"/>
            <a:ext cx="648000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водскому району дал жизнь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падно-Сибирский металлургический комбинат.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В ноябре 1956 года Совет Министров СССР вынес решение о строительстве  ЗСМК - Запсиба на </a:t>
            </a:r>
            <a:r>
              <a:rPr b="1" i="1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Антоновской площадке.</a:t>
            </a:r>
            <a:br>
              <a:rPr sz="1700"/>
            </a:b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псиб был объявлен всесоюзной ударной комсомольской стройкой,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тал принимать молодых строителей из разных районов страны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ЗСМК начал работу в 1963 году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крупных предприятий района  -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Западно-Сибирская ТЭЦ.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2013 года на территории района работает  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басская ярмарка.</a:t>
            </a:r>
            <a:endParaRPr b="0" lang="en-US" sz="17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 advTm="12000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06120" y="836640"/>
            <a:ext cx="8310600" cy="29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нтрольные вопрос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Расскажи о географическом положении Заводского райо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Заводской район самый…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. Почему Запсиб называют Стальное сердце Сибири?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909720" y="5074920"/>
            <a:ext cx="830736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ПАША</dc:creator>
  <dc:description/>
  <dc:language>en-US</dc:language>
  <cp:lastModifiedBy>алинка порываева</cp:lastModifiedBy>
  <dcterms:modified xsi:type="dcterms:W3CDTF">2020-04-23T05:05:19Z</dcterms:modified>
  <cp:revision>72</cp:revision>
  <dc:subject/>
  <dc:title>Слайд 1</dc:title>
</cp:coreProperties>
</file>