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515-9B33-430E-9A07-30054F73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F88-0540-4D2B-89B4-0C72B233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074-11A2-48B1-98CD-21E3A05B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487-75AA-40AE-B702-AE27895A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596E-113B-4394-AA2F-66D4B9DB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9B62-FB75-4103-B45B-25E98DAD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F653-D477-4176-B712-EDE78A0D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6960-09DF-47C1-9670-7AB14DEC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6275-12DD-476C-A891-429AA46B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80E1-3E7E-4E2B-B816-5244732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1995-6D70-406C-BCD8-38CC8B32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AD4-95D9-452C-9699-3D1784B3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DF59-CE55-43AD-A4E2-AE9311C0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B770-08A9-4FC6-95DA-0147B7A3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49E7-5DA6-4857-827B-394A3F0E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7AE6-FE2A-4F94-932B-C544B7B8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34AB-4A7C-48F7-9511-6BA88A64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95CB6-232B-4ACD-A0D3-58FF79EE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F8E4-6B39-42E9-BE7C-83A2FB9C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C5CC-2D06-4B69-9BB6-3C2D3C99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F3A8-5E9C-47A8-B084-471EF2DA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9DCB1-A245-4BFB-A095-68C5DBFE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7C3-612E-415E-9272-100A6C93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1399-2D98-4EA6-B000-8175B17F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8B8D-1EF5-4E45-BA2C-EBF102B5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325FD-B929-470A-9D6D-4210D3B1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D029-2F6F-4254-96F3-B0730EAA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5647-B17A-4F7C-9B3D-332C47C1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4C7C-2715-4F13-91C7-A76DE6EE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0213-9C72-447B-90C4-7183DFC4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0214-59FD-4F12-8D13-5A2A7C9B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B4DF0-FD0E-470F-9768-5EBA2ABD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37DD9-11FE-4239-A08D-8AD91EDC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B9F-271F-4918-A843-B1625CE0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14D4-FF1F-4B03-9EB7-2F830103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4A428-C874-4019-80AE-8F8F5883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B5C1C-4D75-4F4F-A3E3-0BC553E5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92155-ACAA-4D42-B543-365174D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FCEF-A5F0-476E-AD7B-BEAE6464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84450-A9D3-4015-96D6-2B0AD29A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E5BF-1738-4570-9B45-31FC728B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7FA6-A34C-4D08-A685-22673E3B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F3C9-4E87-4CC9-997F-12E10D14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5ECF7-9D60-46A6-9165-A8D9B3D7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5D6-2D44-4912-A31A-56411B88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3FB95-5D08-4C70-AE6C-4C5A3F51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42F6-8991-492A-A4AC-455F4304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284DD-395F-4267-8036-8827732D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B8E9B-9454-4FD5-B79F-AE11432B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25318-5CF7-4778-AFBC-20A1BB67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42ACD-918E-4D82-B673-D59A3D7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498C-BFC0-4A16-AACE-E07AF3E6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3F56A-A6C5-4435-A3B8-A402B935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22A66-070A-44AB-9BA7-42E3E678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3917B-6AAD-40DA-9896-455F7598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F29-E1AA-4544-9A48-9B568160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ED79C-F477-4C8A-B68E-E0539CD4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4698C-E789-48E2-A7E6-FBF69104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6C82F-901C-438F-9728-1997B69D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F62AE-07F3-46CB-88F4-3CD45F7B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588F-A3BC-4089-A959-78B72E2E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FC98C-698F-481D-9720-12CC23D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99352-9574-4CA0-B6E7-DA403FCF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D8324-DB18-4813-9B6C-14618FF9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BB2B-005E-49E4-A958-AC70C963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9AE47-05F2-4DD5-BB7D-83A9D84E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B40-0BC3-44CE-9E1C-7AB03C29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99DE1-13EE-456B-9FE5-F1D2DCEC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3E443-19A8-4893-A69E-F0B05D73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2516-10B7-4A35-A3B2-93E4CA9C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28B30-A915-4D90-BD71-0DF20510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EBB62-2673-42A0-BB6A-C25A70D8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B59B7-7F65-4DAA-88E1-69D555CC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C96FE-9478-4C67-A22A-56C330F7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31CAB-D6C9-4E85-ACEF-FD06AE8D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EC132-C523-475F-8B80-56F542F4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0583A-B9DE-4A52-B3B0-A098128B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7E1-3B4A-4552-B188-18DCA8AA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5B896-4E94-4F92-99DC-A307A478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1ECB-AC17-490B-85A8-9D159B88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1CF2F-FE5B-41B2-B1DF-2C5D4C3C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8BB30-D8F4-415A-9320-F0EC64D6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1B22E-5ACA-4162-B493-53BFC21F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79C08-DB5C-480A-A318-9029C4F7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5FDDD-9A54-4A36-9B2D-90318FD8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17169-F053-405B-A850-EB947E2F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ED97C-FB1C-4BDE-ADC7-B80D1146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7A9FD-621C-43CB-A096-96EAD622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54E-D61B-43F3-A114-EDABE79F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906480" y="316080"/>
            <a:ext cx="83167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B4FC6-1FA0-4BE0-B060-1B0E803A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DF58E-D90D-481E-931F-A7CA58EE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C7FC4-4DA4-497F-A306-DCD347FA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56AD3-6705-4685-A8FF-038459B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906480" y="4350960"/>
            <a:ext cx="83167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12526-FD24-43B8-8F06-727F0D4E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8160" y="203472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90648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168160" y="4350960"/>
            <a:ext cx="4058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5D691-5BEF-4484-A151-0D0EA2FA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648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71844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530400" y="203472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90648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71844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530400" y="4350960"/>
            <a:ext cx="26776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3D1FF-7CDB-4EA6-9DE8-64ACC0C5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A3028-5D7F-4F3A-9C0E-0B6D19C14E3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A874C-89EC-482E-9FC7-5CD07A5C43D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98640" y="4788000"/>
            <a:ext cx="8164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11E2C-F6DE-4792-9CD5-000D76B9B19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7056360"/>
            <a:ext cx="1008072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6981840"/>
            <a:ext cx="10080720" cy="730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9"/>
          <p:cNvSpPr/>
          <p:nvPr/>
        </p:nvSpPr>
        <p:spPr>
          <a:xfrm>
            <a:off x="987480" y="1916280"/>
            <a:ext cx="82407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733CA-51AA-4388-8EA8-B47F6EC490C4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0FB1A-92AE-4122-9B09-2341C4DD7EF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0" y="0"/>
            <a:ext cx="3349800" cy="75596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340080" y="0"/>
            <a:ext cx="54000" cy="75596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383760" y="7120080"/>
            <a:ext cx="216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968640" y="7120080"/>
            <a:ext cx="38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6407E-7C62-44F4-9605-2A40CE48FC98}" type="slidenum">
              <a:rPr b="0" lang="ru-RU" sz="11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0" y="5459400"/>
            <a:ext cx="10077480" cy="210024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0" y="5418000"/>
            <a:ext cx="10077480" cy="6984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FD60C-4C08-4754-A120-6D62DDE3C81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240" y="7056360"/>
            <a:ext cx="10077480" cy="50328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981840"/>
            <a:ext cx="10077480" cy="7128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06480" y="316080"/>
            <a:ext cx="831672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5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6480" y="2034720"/>
            <a:ext cx="83167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00080" indent="-10008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 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222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6238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3" marL="8254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4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e48312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5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6" marL="1027080" indent="-200160">
              <a:lnSpc>
                <a:spcPct val="90000"/>
              </a:lnSpc>
              <a:spcBef>
                <a:spcPts val="1324"/>
              </a:spcBef>
              <a:spcAft>
                <a:spcPts val="224"/>
              </a:spcAft>
              <a:buClr>
                <a:srgbClr val="000000"/>
              </a:buClr>
              <a:buFont typeface="Calibri"/>
              <a:buChar char="◦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907920" y="7120080"/>
            <a:ext cx="20433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47760" y="7120080"/>
            <a:ext cx="3987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8185320" y="7120080"/>
            <a:ext cx="10857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1DFE3-554D-4448-8D2B-9185F9708D4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92000" y="1619280"/>
            <a:ext cx="806472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Заводской    район.</a:t>
            </a:r>
            <a:br>
              <a:rPr sz="6000"/>
            </a:br>
            <a:br>
              <a:rPr sz="6000"/>
            </a:br>
            <a:r>
              <a:rPr b="0" lang="ru-RU" sz="24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прогулка по улицам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5977080" y="5724360"/>
            <a:ext cx="345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ываева Вера Виктор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О «Станция юных натуралистов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овокузнец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ровская область - Кузб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2"/>
          <p:cNvSpPr/>
          <p:nvPr/>
        </p:nvSpPr>
        <p:spPr>
          <a:xfrm>
            <a:off x="576360" y="684360"/>
            <a:ext cx="885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водскому району дал жизнь Западно-Сибирский металлургический комбинат. В ноябре 1956 года Совет Министров СССР вынес решение о строительстве Западно-Сибирского металлургического завода (ЗСМК, Запсиба) на 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Антоновской площадке.</a:t>
            </a:r>
            <a:br>
              <a:rPr sz="2000"/>
            </a:b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псиб, который объявили всесоюзной ударной комсомольской стройк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стал принимать молодых строителей из разных районов стра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Поэтому в  </a:t>
            </a:r>
            <a:r>
              <a:rPr b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названиях улиц</a:t>
            </a: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 района сегодня запечатлена вся география строителей ЗСМК: проспект 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Ижевский, улицы Горьковская,   Ярославская. </a:t>
            </a: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Многие улицы названы в честь комсомольцев-строителей –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 улица 40 лет ВЛКСМ; </a:t>
            </a: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в память демобилизованных воинов, прибывших на строительство завода – проспект Советской Арми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В апреле 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1958 года </a:t>
            </a: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поселок на Антоновской площадке был отнесен к категории рабочих поселков и получил название – 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водской.</a:t>
            </a:r>
            <a:br>
              <a:rPr sz="2000"/>
            </a:b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Поселок строился и развивался вместе с заводом и 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1 февра­ля 1963 года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Указом Президиума Верховного Совета РСФСР поселок Заводской был преобразован в </a:t>
            </a:r>
            <a:r>
              <a:rPr b="1" i="1" lang="ru-RU" sz="2000" spc="-1" strike="noStrike">
                <a:solidFill>
                  <a:srgbClr val="242120"/>
                </a:solidFill>
                <a:latin typeface="Times New Roman"/>
                <a:ea typeface="Times New Roman"/>
              </a:rPr>
              <a:t>Заводской район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7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3"/>
          <p:cNvSpPr/>
          <p:nvPr/>
        </p:nvSpPr>
        <p:spPr>
          <a:xfrm>
            <a:off x="5688000" y="2509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Улицы райо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Рисунок 20" descr="File:Ул. М.Тореза .jpg"/>
          <p:cNvPicPr/>
          <p:nvPr/>
        </p:nvPicPr>
        <p:blipFill>
          <a:blip r:embed="rId1"/>
          <a:stretch/>
        </p:blipFill>
        <p:spPr>
          <a:xfrm>
            <a:off x="291960" y="285840"/>
            <a:ext cx="4157640" cy="40003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431640" y="23367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Мориса Торе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Рисунок 10" descr="Фото пр. Советской Армии"/>
          <p:cNvPicPr/>
          <p:nvPr/>
        </p:nvPicPr>
        <p:blipFill>
          <a:blip r:embed="rId2"/>
          <a:stretch/>
        </p:blipFill>
        <p:spPr>
          <a:xfrm>
            <a:off x="4906800" y="4224240"/>
            <a:ext cx="4992840" cy="23846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7"/>
          <p:cNvSpPr/>
          <p:nvPr/>
        </p:nvSpPr>
        <p:spPr>
          <a:xfrm>
            <a:off x="5327640" y="6372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ект Советской Арм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2" descr="г Новокузнецк. Улица 40 лет ВЛКСМ"/>
          <p:cNvPicPr/>
          <p:nvPr/>
        </p:nvPicPr>
        <p:blipFill>
          <a:blip r:embed="rId3"/>
          <a:stretch/>
        </p:blipFill>
        <p:spPr>
          <a:xfrm>
            <a:off x="5553000" y="1096920"/>
            <a:ext cx="3816360" cy="28656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0"/>
          <p:cNvSpPr/>
          <p:nvPr/>
        </p:nvSpPr>
        <p:spPr>
          <a:xfrm>
            <a:off x="3879720" y="370188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40 лет ВЛК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Прямоугольник 1"/>
          <p:cNvSpPr/>
          <p:nvPr/>
        </p:nvSpPr>
        <p:spPr>
          <a:xfrm>
            <a:off x="647640" y="4211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какой улице живете вы и что вы знаете о ее назван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2303640" y="70786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ПАША</dc:creator>
  <dc:description/>
  <dc:language>en-US</dc:language>
  <cp:lastModifiedBy>алинка порываева</cp:lastModifiedBy>
  <dcterms:modified xsi:type="dcterms:W3CDTF">2020-04-23T05:10:54Z</dcterms:modified>
  <cp:revision>67</cp:revision>
  <dc:subject/>
  <dc:title>Слайд 1</dc:title>
</cp:coreProperties>
</file>