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0200-1B74-4382-B60C-7EE8716E5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06480" y="435096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57AB-637D-4431-9548-31B9746A0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816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6ED7-8EAB-4498-B1F8-A8E387A8A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844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3040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0648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844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3040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80FB-EEDA-4002-B8EE-745BB9DDE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D789F-3A2F-4C38-9A21-064E3BBE8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0FC14-7F7C-4591-94E1-6E837908A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19852-9AB8-4560-B03F-451A5ACDB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62F70-8A3A-4162-9500-9832A715F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33232-A7D0-4E42-B5FE-9D990B77F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06480" y="316080"/>
            <a:ext cx="8316720" cy="74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E614B-FDD5-4E05-B51E-4A64B0160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B2F0C-8D28-4FCD-A3E1-E5BBDC04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622D-9A00-4505-8060-17C43C9EF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6816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71C9E-899E-4D56-9956-9FA0E956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A1B46-ADF3-4DF9-8C23-1BBA0DE5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06480" y="435096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9456B-2FC9-4F55-9995-20D36E434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6816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3F062-1183-4024-8E40-B9AEF08C5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71844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53040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0648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71844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53040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BC3EB-BD8F-4BBD-92E0-D4FC2E56D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F4B99-54D8-4C76-A556-E0820245E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02B60-5C45-4059-A763-A4CB9711A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FFF9E-F79F-42F0-A4E7-51763755D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DC789-6CF1-4109-ABF0-2F16FEEA3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FD541-A41E-4017-B021-B87B440DA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AB33-98E6-42C6-A4CE-FA6648C69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906480" y="316080"/>
            <a:ext cx="8316720" cy="74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05264-A4CD-46BA-BCEB-FE7417DD8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956AD-8C75-4235-9650-BB709FB3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16816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4611D-51EA-4ACB-B306-449DD5B3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0FAF7-8B50-4920-8EF8-5B52CA73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906480" y="435096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02F60-A388-49E5-984F-8F7901B68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16816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A2FAE-8FC7-4E8C-B991-9DA496D9E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71844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53040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90648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71844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53040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9E0FA-1247-43A8-AA78-A5C74496F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2B864-F776-40CF-A9E9-A52F627C9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BA9F7-DD99-4F5E-972E-81F3AFBE8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1A820-16D0-467B-9F0C-2805D3C99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D189-595A-49C2-AFCB-D1EF8A1D0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60A34-9509-44C1-A01C-5C03DB881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CE945-76F4-421D-9B2E-F9E89CBE8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906480" y="316080"/>
            <a:ext cx="8316720" cy="74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FD70B-651A-4189-947F-40B943917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AB1A5-AC8A-443F-B9A2-BB1DBEB4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16816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12541-820A-4FD8-855B-480DD84F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60ABB-6859-4434-B00D-E96DFE90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906480" y="435096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FF5F4-C11B-4A0A-B0E2-747D682ED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16816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BA47C-FEBC-423C-AA93-46EC32049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71844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53040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90648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71844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53040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3FCBC-AFF1-4CAA-ACCF-08F90F0ED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63AC1-6C97-496F-A4BA-AA7768E5B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6B0A-726B-4395-B5D6-BB5DD1440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F5197-D3B1-4591-8AA0-70930423E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B8E3C-D552-490A-9AAF-CC4650ADB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15E47-1E7E-4D6A-A1D3-171EA04A9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F634B-67CC-4493-A9CC-E55E2DA79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906480" y="316080"/>
            <a:ext cx="8316720" cy="74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A59E6-A30B-4602-9BBD-AA6101534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C5E81-5BB0-4D5A-903F-33CBAE91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16816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212E9-81E0-4305-8E46-CB5DB842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86775-751D-480F-A61F-8C596C9B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906480" y="435096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4A1DE-2C73-4156-85E4-27B776B94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16816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2B6AC-D150-44E4-93AD-6BD33C60B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06480" y="316080"/>
            <a:ext cx="8316720" cy="74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5CC6-583A-4C89-BDF9-C82BD6EDB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71844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53040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90648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71844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53040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61131-3129-47DE-AB9E-DD8110D03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CE139-6F6E-431C-AE46-D96CE6CB8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400DA-2B98-4F1E-AC04-8C23AEB3C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E67561-EC63-4EE2-8022-584485B16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C46F1-396F-4051-89A2-51F7079BE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25863-6926-4B9B-8A6E-C4B8C9F3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906480" y="316080"/>
            <a:ext cx="8316720" cy="74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25BA9-C30E-4758-9611-E5974582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79F461-C7BA-4586-87CA-82797DC3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16816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480AD-7488-4E82-AAF2-1C34B866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F2F9C-DDEF-4E69-AC23-1346A792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BDBA-A2F8-4B22-8D6A-EB10DEE4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906480" y="435096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AA932-B9A3-4659-ADA7-4A12D7C85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516816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D3D96-3F77-4267-859D-28B09C95E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71844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53040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90648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71844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53040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44786-2A1D-4E8B-A9B1-3B0D75F25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C75023-2D7A-4161-9F84-876805493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07785F-33E8-4039-9452-3F93C6F1D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F4228-8C8A-472E-ACB9-FB8C0F2B1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54A4C3-BA08-4AF4-B907-33E9E9351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1C644-FDD8-46DB-B866-F849FF210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906480" y="316080"/>
            <a:ext cx="8316720" cy="74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380180-B488-4984-92B8-A82B62CAD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72FB7-9131-4489-84B9-0CD528B0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816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2EBB-0ED9-4B5F-9F2D-0670C936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16816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322A5-CBF5-4E8B-86F3-328C64BD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F7405-02EC-43D5-A602-F25AA0AA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906480" y="435096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3DD631-79F6-4E0A-AB75-5B878DD5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516816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52B6F3-F1DE-4F15-B229-112F0583D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71844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53040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90648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71844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53040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43061-424E-4E0C-80BB-2AAE294F4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4AAE2F-07AE-42A7-B514-F5E4392FD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F7EFA1-20BD-44D6-8B96-F90BAEEA1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4F5057-C6FD-4C29-ACB8-BE11D726D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B95F09-26B5-46BA-9FAF-7069188E2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93657-3505-4DC5-B7C5-6E4770D6D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E228-4180-4CDA-99B9-99026F10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906480" y="316080"/>
            <a:ext cx="8316720" cy="74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3F596E-C242-4ABB-BFA2-4B2162858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5D306C-E1DA-4D8B-9B18-27FA9FF6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16816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56AF09-C5B5-45D8-A159-0B5D1C6D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42A7AA-CB8E-4FC6-9076-D9B54D2C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906480" y="435096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AB6DA5-BE02-4DD6-9F3A-F41A7BAEC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16816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07899E-21C9-4449-A1C1-A7EB96B62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71844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53040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90648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71844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53040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E54C6-C816-48B8-A598-086FEA768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7056360"/>
            <a:ext cx="10080720" cy="50328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981840"/>
            <a:ext cx="10080720" cy="7308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52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00080" indent="-10008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 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4222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6238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3" marL="8254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4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5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000000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6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000000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07920" y="7120080"/>
            <a:ext cx="20433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7120080"/>
            <a:ext cx="39877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85320" y="7120080"/>
            <a:ext cx="10857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2F80F6-DD3F-4C3F-A14E-E64195BC2840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987480" y="1916280"/>
            <a:ext cx="82407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3240" y="7056360"/>
            <a:ext cx="10077480" cy="50328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6981840"/>
            <a:ext cx="10077480" cy="7128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8"/>
          <p:cNvSpPr/>
          <p:nvPr/>
        </p:nvSpPr>
        <p:spPr>
          <a:xfrm>
            <a:off x="998640" y="4788000"/>
            <a:ext cx="81644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52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00080" indent="-10008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 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4222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6238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3" marL="8254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4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5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000000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6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000000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07920" y="7120080"/>
            <a:ext cx="20433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047760" y="7120080"/>
            <a:ext cx="39877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185320" y="7120080"/>
            <a:ext cx="10857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0B84C5-D2BF-4866-AC2E-483A2884A326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3240" y="7056360"/>
            <a:ext cx="10077480" cy="50328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6981840"/>
            <a:ext cx="10077480" cy="7128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traight Connector 8"/>
          <p:cNvSpPr/>
          <p:nvPr/>
        </p:nvSpPr>
        <p:spPr>
          <a:xfrm>
            <a:off x="998640" y="4788000"/>
            <a:ext cx="81644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52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00080" indent="-10008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 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4222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6238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3" marL="8254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4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5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000000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6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000000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907920" y="7120080"/>
            <a:ext cx="20433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047760" y="7120080"/>
            <a:ext cx="39877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185320" y="7120080"/>
            <a:ext cx="10857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AAB9D7-A3DC-449F-870A-113B980D58CD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7056360"/>
            <a:ext cx="10080720" cy="50328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0" y="6981840"/>
            <a:ext cx="10080720" cy="7308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9"/>
          <p:cNvSpPr/>
          <p:nvPr/>
        </p:nvSpPr>
        <p:spPr>
          <a:xfrm>
            <a:off x="987480" y="1916280"/>
            <a:ext cx="82407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52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00080" indent="-10008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 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4222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6238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3" marL="8254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4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5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000000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6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000000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907920" y="7120080"/>
            <a:ext cx="20433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047760" y="7120080"/>
            <a:ext cx="39877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185320" y="7120080"/>
            <a:ext cx="10857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054B25-5721-458A-B050-F2DB07EAC48A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4"/>
          <p:cNvSpPr/>
          <p:nvPr/>
        </p:nvSpPr>
        <p:spPr>
          <a:xfrm>
            <a:off x="3240" y="7056360"/>
            <a:ext cx="10077480" cy="50328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0" y="6981840"/>
            <a:ext cx="10077480" cy="7128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52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00080" indent="-10008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 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4222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6238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3" marL="8254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4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5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000000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6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000000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907920" y="7120080"/>
            <a:ext cx="20433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047760" y="7120080"/>
            <a:ext cx="39877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8185320" y="7120080"/>
            <a:ext cx="10857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31BA21-C0AF-493C-94B5-5E4533EC7442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0" y="0"/>
            <a:ext cx="3349800" cy="755964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3340080" y="0"/>
            <a:ext cx="54000" cy="755964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52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00080" indent="-10008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 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4222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6238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3" marL="8254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4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5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000000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6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000000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383760" y="7120080"/>
            <a:ext cx="21654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3968640" y="7120080"/>
            <a:ext cx="38433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8185320" y="7120080"/>
            <a:ext cx="10857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100" spc="-1" strike="noStrike">
                <a:solidFill>
                  <a:srgbClr val="6370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DE6CB5-E7C5-4CBC-858E-04D0AF1E7571}" type="slidenum">
              <a:rPr b="0" lang="ru-RU" sz="1100" spc="-1" strike="noStrike">
                <a:solidFill>
                  <a:srgbClr val="637052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0" y="5459400"/>
            <a:ext cx="10077480" cy="210024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ectangle 8"/>
          <p:cNvSpPr/>
          <p:nvPr/>
        </p:nvSpPr>
        <p:spPr>
          <a:xfrm>
            <a:off x="0" y="5418000"/>
            <a:ext cx="10077480" cy="6984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52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00080" indent="-10008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 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4222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6238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3" marL="8254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4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5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000000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6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000000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907920" y="7120080"/>
            <a:ext cx="20433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047760" y="7120080"/>
            <a:ext cx="39877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8185320" y="7120080"/>
            <a:ext cx="10857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F4A384-3CC3-484B-9940-0D1498DE422B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3240" y="7056360"/>
            <a:ext cx="10077480" cy="50328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0" y="6981840"/>
            <a:ext cx="10077480" cy="7128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52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00080" indent="-10008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 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4222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6238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3" marL="8254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4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5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000000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6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000000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22"/>
          </p:nvPr>
        </p:nvSpPr>
        <p:spPr>
          <a:xfrm>
            <a:off x="907920" y="7120080"/>
            <a:ext cx="20433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3"/>
          </p:nvPr>
        </p:nvSpPr>
        <p:spPr>
          <a:xfrm>
            <a:off x="3047760" y="7120080"/>
            <a:ext cx="39877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24"/>
          </p:nvPr>
        </p:nvSpPr>
        <p:spPr>
          <a:xfrm>
            <a:off x="8185320" y="7120080"/>
            <a:ext cx="10857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E4F1D2-AA6A-4373-BD58-6A3387AB669B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92000" y="1619280"/>
            <a:ext cx="8064720" cy="26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6000" spc="-1" strike="noStrike">
                <a:solidFill>
                  <a:srgbClr val="203a4e"/>
                </a:solidFill>
                <a:latin typeface="Times New Roman"/>
                <a:ea typeface="Times New Roman"/>
              </a:rPr>
              <a:t> </a:t>
            </a:r>
            <a:r>
              <a:rPr b="0" lang="ru-RU" sz="6000" spc="-1" strike="noStrike">
                <a:solidFill>
                  <a:srgbClr val="203a4e"/>
                </a:solidFill>
                <a:latin typeface="Times New Roman"/>
                <a:ea typeface="Times New Roman"/>
              </a:rPr>
              <a:t>Заводской    район.</a:t>
            </a:r>
            <a:br>
              <a:rPr sz="6000"/>
            </a:br>
            <a:br>
              <a:rPr sz="6000"/>
            </a:br>
            <a:r>
              <a:rPr b="0" lang="ru-RU" sz="2400" spc="-1" strike="noStrike">
                <a:solidFill>
                  <a:srgbClr val="203a4e"/>
                </a:solidFill>
                <a:latin typeface="Times New Roman"/>
                <a:ea typeface="Times New Roman"/>
              </a:rPr>
              <a:t>прогулка по улицам</a:t>
            </a:r>
            <a:endParaRPr b="0" lang="en-US" sz="24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9" name="TextBox 4"/>
          <p:cNvSpPr/>
          <p:nvPr/>
        </p:nvSpPr>
        <p:spPr>
          <a:xfrm>
            <a:off x="5977080" y="5724360"/>
            <a:ext cx="3456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ываева Вера Викторов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 дополнительного образова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У ДО «Станция юных натуралистов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д Новокузнец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меровская область - Кузбас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3000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Box 2"/>
          <p:cNvSpPr/>
          <p:nvPr/>
        </p:nvSpPr>
        <p:spPr>
          <a:xfrm>
            <a:off x="576360" y="684360"/>
            <a:ext cx="8856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242120"/>
                </a:solidFill>
                <a:latin typeface="Times New Roman"/>
                <a:ea typeface="Times New Roman"/>
              </a:rPr>
              <a:t>Заводскому району дал жизнь Западно-Сибирский металлургический комбинат. В ноябре 1956 года Совет Министров СССР вынес решение о строительстве Западно-Сибирского металлургического завода (ЗСМК, Запсиба) на </a:t>
            </a:r>
            <a:r>
              <a:rPr b="1" i="1" lang="ru-RU" sz="2000" spc="-1" strike="noStrike">
                <a:solidFill>
                  <a:srgbClr val="242120"/>
                </a:solidFill>
                <a:latin typeface="Times New Roman"/>
                <a:ea typeface="Times New Roman"/>
              </a:rPr>
              <a:t>Антоновской площадке.</a:t>
            </a:r>
            <a:br>
              <a:rPr sz="2000"/>
            </a:br>
            <a:r>
              <a:rPr b="0" lang="ru-RU" sz="2000" spc="-1" strike="noStrike">
                <a:solidFill>
                  <a:srgbClr val="242120"/>
                </a:solidFill>
                <a:latin typeface="Times New Roman"/>
                <a:ea typeface="Times New Roman"/>
              </a:rPr>
              <a:t>Запсиб, который объявили всесоюзной ударной комсомольской стройкой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242120"/>
                </a:solidFill>
                <a:latin typeface="Times New Roman"/>
                <a:ea typeface="Times New Roman"/>
              </a:rPr>
              <a:t>стал принимать молодых строителей из разных районов стран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242120"/>
                </a:solidFill>
                <a:latin typeface="Times New Roman"/>
                <a:ea typeface="Times New Roman"/>
              </a:rPr>
              <a:t>Поэтому в  </a:t>
            </a:r>
            <a:r>
              <a:rPr b="1" lang="ru-RU" sz="2000" spc="-1" strike="noStrike">
                <a:solidFill>
                  <a:srgbClr val="242120"/>
                </a:solidFill>
                <a:latin typeface="Times New Roman"/>
                <a:ea typeface="Times New Roman"/>
              </a:rPr>
              <a:t>названиях улиц</a:t>
            </a:r>
            <a:r>
              <a:rPr b="0" lang="ru-RU" sz="2000" spc="-1" strike="noStrike">
                <a:solidFill>
                  <a:srgbClr val="242120"/>
                </a:solidFill>
                <a:latin typeface="Times New Roman"/>
                <a:ea typeface="Times New Roman"/>
              </a:rPr>
              <a:t> района сегодня запечатлена вся география строителей ЗСМК: проспект </a:t>
            </a:r>
            <a:r>
              <a:rPr b="1" i="1" lang="ru-RU" sz="2000" spc="-1" strike="noStrike">
                <a:solidFill>
                  <a:srgbClr val="242120"/>
                </a:solidFill>
                <a:latin typeface="Times New Roman"/>
                <a:ea typeface="Times New Roman"/>
              </a:rPr>
              <a:t>Ижевский, улицы Горьковская,   Ярославская. </a:t>
            </a:r>
            <a:r>
              <a:rPr b="0" lang="ru-RU" sz="2000" spc="-1" strike="noStrike">
                <a:solidFill>
                  <a:srgbClr val="242120"/>
                </a:solidFill>
                <a:latin typeface="Times New Roman"/>
                <a:ea typeface="Times New Roman"/>
              </a:rPr>
              <a:t>Многие улицы названы в честь комсомольцев-строителей –</a:t>
            </a:r>
            <a:r>
              <a:rPr b="1" i="1" lang="ru-RU" sz="2000" spc="-1" strike="noStrike">
                <a:solidFill>
                  <a:srgbClr val="242120"/>
                </a:solidFill>
                <a:latin typeface="Times New Roman"/>
                <a:ea typeface="Times New Roman"/>
              </a:rPr>
              <a:t> улица 40 лет ВЛКСМ; </a:t>
            </a:r>
            <a:r>
              <a:rPr b="0" lang="ru-RU" sz="2000" spc="-1" strike="noStrike">
                <a:solidFill>
                  <a:srgbClr val="242120"/>
                </a:solidFill>
                <a:latin typeface="Times New Roman"/>
                <a:ea typeface="Times New Roman"/>
              </a:rPr>
              <a:t>в память демобилизованных воинов, прибывших на строительство завода – проспект Советской Армии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242120"/>
                </a:solidFill>
                <a:latin typeface="Times New Roman"/>
                <a:ea typeface="Times New Roman"/>
              </a:rPr>
              <a:t>В апреле </a:t>
            </a:r>
            <a:r>
              <a:rPr b="1" i="1" lang="ru-RU" sz="2000" spc="-1" strike="noStrike">
                <a:solidFill>
                  <a:srgbClr val="242120"/>
                </a:solidFill>
                <a:latin typeface="Times New Roman"/>
                <a:ea typeface="Times New Roman"/>
              </a:rPr>
              <a:t>1958 года </a:t>
            </a:r>
            <a:r>
              <a:rPr b="0" lang="ru-RU" sz="2000" spc="-1" strike="noStrike">
                <a:solidFill>
                  <a:srgbClr val="242120"/>
                </a:solidFill>
                <a:latin typeface="Times New Roman"/>
                <a:ea typeface="Times New Roman"/>
              </a:rPr>
              <a:t>поселок на Антоновской площадке был отнесен к категории рабочих поселков и получил название – </a:t>
            </a:r>
            <a:r>
              <a:rPr b="1" i="1" lang="ru-RU" sz="2000" spc="-1" strike="noStrike">
                <a:solidFill>
                  <a:srgbClr val="242120"/>
                </a:solidFill>
                <a:latin typeface="Times New Roman"/>
                <a:ea typeface="Times New Roman"/>
              </a:rPr>
              <a:t>Заводской.</a:t>
            </a:r>
            <a:br>
              <a:rPr sz="2000"/>
            </a:br>
            <a:r>
              <a:rPr b="0" lang="ru-RU" sz="2000" spc="-1" strike="noStrike">
                <a:solidFill>
                  <a:srgbClr val="242120"/>
                </a:solidFill>
                <a:latin typeface="Times New Roman"/>
                <a:ea typeface="Times New Roman"/>
              </a:rPr>
              <a:t>Поселок строился и развивался вместе с заводом и </a:t>
            </a:r>
            <a:r>
              <a:rPr b="1" i="1" lang="ru-RU" sz="2000" spc="-1" strike="noStrike">
                <a:solidFill>
                  <a:srgbClr val="242120"/>
                </a:solidFill>
                <a:latin typeface="Times New Roman"/>
                <a:ea typeface="Times New Roman"/>
              </a:rPr>
              <a:t>1 февра­ля 1963 года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242120"/>
                </a:solidFill>
                <a:latin typeface="Times New Roman"/>
                <a:ea typeface="Times New Roman"/>
              </a:rPr>
              <a:t>Указом Президиума Верховного Совета РСФСР поселок Заводской был преобразован в </a:t>
            </a:r>
            <a:r>
              <a:rPr b="1" i="1" lang="ru-RU" sz="2000" spc="-1" strike="noStrike">
                <a:solidFill>
                  <a:srgbClr val="242120"/>
                </a:solidFill>
                <a:latin typeface="Times New Roman"/>
                <a:ea typeface="Times New Roman"/>
              </a:rPr>
              <a:t>Заводской район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7000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Прямоугольник 3"/>
          <p:cNvSpPr/>
          <p:nvPr/>
        </p:nvSpPr>
        <p:spPr>
          <a:xfrm>
            <a:off x="5688000" y="25092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203a4e"/>
                </a:solidFill>
                <a:latin typeface="Times New Roman"/>
                <a:ea typeface="Times New Roman"/>
              </a:rPr>
              <a:t>Улицы район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2" name="Рисунок 20" descr="File:Ул. М.Тореза .jpg"/>
          <p:cNvPicPr/>
          <p:nvPr/>
        </p:nvPicPr>
        <p:blipFill>
          <a:blip r:embed="rId1"/>
          <a:stretch/>
        </p:blipFill>
        <p:spPr>
          <a:xfrm>
            <a:off x="291960" y="285840"/>
            <a:ext cx="4157640" cy="4000320"/>
          </a:xfrm>
          <a:prstGeom prst="rect">
            <a:avLst/>
          </a:prstGeom>
          <a:ln w="0">
            <a:noFill/>
          </a:ln>
        </p:spPr>
      </p:pic>
      <p:sp>
        <p:nvSpPr>
          <p:cNvPr id="353" name="TextBox 4"/>
          <p:cNvSpPr/>
          <p:nvPr/>
        </p:nvSpPr>
        <p:spPr>
          <a:xfrm>
            <a:off x="431640" y="233676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ица Мориса Торез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4" name="Рисунок 10" descr="Фото пр. Советской Армии"/>
          <p:cNvPicPr/>
          <p:nvPr/>
        </p:nvPicPr>
        <p:blipFill>
          <a:blip r:embed="rId2"/>
          <a:stretch/>
        </p:blipFill>
        <p:spPr>
          <a:xfrm>
            <a:off x="4906800" y="4224240"/>
            <a:ext cx="4992840" cy="2384640"/>
          </a:xfrm>
          <a:prstGeom prst="rect">
            <a:avLst/>
          </a:prstGeom>
          <a:ln w="0">
            <a:noFill/>
          </a:ln>
        </p:spPr>
      </p:pic>
      <p:sp>
        <p:nvSpPr>
          <p:cNvPr id="355" name="TextBox 7"/>
          <p:cNvSpPr/>
          <p:nvPr/>
        </p:nvSpPr>
        <p:spPr>
          <a:xfrm>
            <a:off x="5327640" y="637236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пект Советской Арм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6" name="Picture 2" descr="г Новокузнецк. Улица 40 лет ВЛКСМ"/>
          <p:cNvPicPr/>
          <p:nvPr/>
        </p:nvPicPr>
        <p:blipFill>
          <a:blip r:embed="rId3"/>
          <a:stretch/>
        </p:blipFill>
        <p:spPr>
          <a:xfrm>
            <a:off x="5553000" y="1096920"/>
            <a:ext cx="3816360" cy="2865600"/>
          </a:xfrm>
          <a:prstGeom prst="rect">
            <a:avLst/>
          </a:prstGeom>
          <a:ln w="0">
            <a:noFill/>
          </a:ln>
        </p:spPr>
      </p:pic>
      <p:sp>
        <p:nvSpPr>
          <p:cNvPr id="357" name="TextBox 10"/>
          <p:cNvSpPr/>
          <p:nvPr/>
        </p:nvSpPr>
        <p:spPr>
          <a:xfrm>
            <a:off x="3879720" y="3701880"/>
            <a:ext cx="25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ица 40 лет ВЛКС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Прямоугольник 1"/>
          <p:cNvSpPr/>
          <p:nvPr/>
        </p:nvSpPr>
        <p:spPr>
          <a:xfrm>
            <a:off x="647640" y="421164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на какой улице живете вы и что вы знаете о ее названии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Прямоугольник 4"/>
          <p:cNvSpPr/>
          <p:nvPr/>
        </p:nvSpPr>
        <p:spPr>
          <a:xfrm>
            <a:off x="2303640" y="707868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пасибо за работ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7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5" dur="2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5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1:32:32Z</dcterms:created>
  <dc:creator>ПАША</dc:creator>
  <dc:description/>
  <dc:language>en-US</dc:language>
  <cp:lastModifiedBy>алинка порываева</cp:lastModifiedBy>
  <dcterms:modified xsi:type="dcterms:W3CDTF">2020-04-23T05:10:54Z</dcterms:modified>
  <cp:revision>67</cp:revision>
  <dc:subject/>
  <dc:title>Слайд 1</dc:title>
</cp:coreProperties>
</file>