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28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25.png" ContentType="image/png"/>
  <Override PartName="/ppt/media/image24.jpeg" ContentType="image/jpeg"/>
  <Override PartName="/ppt/media/image1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2C1-ED60-4699-8088-6F24E199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5D0-8BBC-41FA-AAEF-B8B1497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C43-AD7C-4B50-9472-7BA08624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F10-B57E-4963-92D5-EA337583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C4B-196C-49C7-8569-FAEDBBD4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79A-F13E-480D-BDA4-5E95F4C9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BC2-D638-47B3-B26D-FED2126C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914-DA15-4E3C-9B84-83B76F77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55E-ADAA-4CD7-A6DE-8118FF68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AFB-D548-4A67-BB4C-2693BFF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DCA-D359-4AB6-864D-5B51255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E09-54CA-440C-9A85-2A8C166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625-51E5-4217-A4D4-0DF71B03E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hyperlink" Target="http://smiles.33b.ru/smile.103428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Bookman Old Style"/>
              </a:rPr>
              <a:t>«Безработица, её причины и последствия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357120" y="5445000"/>
            <a:ext cx="8572680" cy="1055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Обществозн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8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4" descr=""/>
          <p:cNvPicPr/>
          <p:nvPr/>
        </p:nvPicPr>
        <p:blipFill>
          <a:blip r:embed="rId1"/>
          <a:stretch/>
        </p:blipFill>
        <p:spPr>
          <a:xfrm>
            <a:off x="457200" y="1255680"/>
            <a:ext cx="8272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езработными признают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92160" y="2335320"/>
            <a:ext cx="77356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1225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Bookman Old Style"/>
              </a:rPr>
              <a:t>Безработица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143160" y="2571840"/>
            <a:ext cx="5786640" cy="3000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5968"/>
                </a:solidFill>
                <a:latin typeface="Georgia"/>
              </a:rPr>
              <a:t>положение в экономике, когда часть трудоспособного населения желающего трудится, не может найти себе рабо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786040" cy="1539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28760" y="3048120"/>
            <a:ext cx="228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Уровень безработиц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с двумя вырезанными противолежащими углами 5"/>
          <p:cNvSpPr/>
          <p:nvPr/>
        </p:nvSpPr>
        <p:spPr>
          <a:xfrm>
            <a:off x="2000160" y="1857240"/>
            <a:ext cx="6429600" cy="4143600"/>
          </a:xfrm>
          <a:custGeom>
            <a:avLst/>
            <a:gdLst/>
            <a:ahLst/>
            <a:rect l="l" t="t" r="r" b="b"/>
            <a:pathLst>
              <a:path w="6429375" h="4143375">
                <a:moveTo>
                  <a:pt x="0" y="0"/>
                </a:moveTo>
                <a:lnTo>
                  <a:pt x="5738799" y="0"/>
                </a:lnTo>
                <a:lnTo>
                  <a:pt x="6429375" y="690576"/>
                </a:lnTo>
                <a:lnTo>
                  <a:pt x="6429375" y="4143375"/>
                </a:lnTo>
                <a:lnTo>
                  <a:pt x="6429375" y="4143375"/>
                </a:lnTo>
                <a:lnTo>
                  <a:pt x="690576" y="4143375"/>
                </a:lnTo>
                <a:lnTo>
                  <a:pt x="0" y="345279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еление 8"/>
          <p:cNvSpPr/>
          <p:nvPr/>
        </p:nvSpPr>
        <p:spPr>
          <a:xfrm>
            <a:off x="2714760" y="3286080"/>
            <a:ext cx="3786120" cy="714600"/>
          </a:xfrm>
          <a:custGeom>
            <a:avLst/>
            <a:gdLst/>
            <a:ahLst/>
            <a:rect l="l" t="t" r="r" b="b"/>
            <a:pathLst>
              <a:path w="3786188" h="714375">
                <a:moveTo>
                  <a:pt x="1893094" y="84225"/>
                </a:moveTo>
                <a:cubicBezTo>
                  <a:pt x="1939492" y="84225"/>
                  <a:pt x="1977105" y="121838"/>
                  <a:pt x="1977105" y="168236"/>
                </a:cubicBezTo>
                <a:cubicBezTo>
                  <a:pt x="1977105" y="214634"/>
                  <a:pt x="1939492" y="252247"/>
                  <a:pt x="1893094" y="252247"/>
                </a:cubicBezTo>
                <a:cubicBezTo>
                  <a:pt x="1846696" y="252247"/>
                  <a:pt x="1809083" y="214634"/>
                  <a:pt x="1809083" y="168236"/>
                </a:cubicBezTo>
                <a:cubicBezTo>
                  <a:pt x="1809083" y="121838"/>
                  <a:pt x="1846696" y="84225"/>
                  <a:pt x="1893094" y="84225"/>
                </a:cubicBezTo>
                <a:close/>
                <a:moveTo>
                  <a:pt x="1893094" y="630150"/>
                </a:moveTo>
                <a:cubicBezTo>
                  <a:pt x="1846696" y="630150"/>
                  <a:pt x="1809083" y="592537"/>
                  <a:pt x="1809083" y="546139"/>
                </a:cubicBezTo>
                <a:cubicBezTo>
                  <a:pt x="1809083" y="499741"/>
                  <a:pt x="1846696" y="462128"/>
                  <a:pt x="1893094" y="462128"/>
                </a:cubicBezTo>
                <a:cubicBezTo>
                  <a:pt x="1939492" y="462128"/>
                  <a:pt x="1977105" y="499741"/>
                  <a:pt x="1977105" y="546139"/>
                </a:cubicBezTo>
                <a:cubicBezTo>
                  <a:pt x="1977105" y="592537"/>
                  <a:pt x="1939492" y="630150"/>
                  <a:pt x="1893094" y="630150"/>
                </a:cubicBezTo>
                <a:close/>
                <a:moveTo>
                  <a:pt x="501859" y="273177"/>
                </a:moveTo>
                <a:lnTo>
                  <a:pt x="3284329" y="273177"/>
                </a:lnTo>
                <a:lnTo>
                  <a:pt x="3284329" y="441198"/>
                </a:lnTo>
                <a:lnTo>
                  <a:pt x="501859" y="441198"/>
                </a:lnTo>
                <a:lnTo>
                  <a:pt x="501859" y="27317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2857680" y="2643120"/>
            <a:ext cx="33573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Число безраб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571840" y="4071960"/>
            <a:ext cx="39290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рудоспособ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6643800" y="2928960"/>
            <a:ext cx="15714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AG00021_"/>
          <p:cNvPicPr/>
          <p:nvPr/>
        </p:nvPicPr>
        <p:blipFill>
          <a:blip r:embed="rId1"/>
          <a:stretch/>
        </p:blipFill>
        <p:spPr>
          <a:xfrm>
            <a:off x="162000" y="2286000"/>
            <a:ext cx="1714320" cy="2357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с двумя вырезанными противолежащими углами 13"/>
          <p:cNvSpPr/>
          <p:nvPr/>
        </p:nvSpPr>
        <p:spPr>
          <a:xfrm>
            <a:off x="2000160" y="1857240"/>
            <a:ext cx="6429600" cy="41436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«Безработица в России за 2017 год существенно сократилась: с 8 % в начале года до 6,3 % к завершению год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(по материалам сайта «Биржевой лидер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6080" y="285480"/>
            <a:ext cx="54720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Закрепля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6800" y="1428480"/>
            <a:ext cx="7929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Кто из причисленных граждан является безработ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9680" y="221472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Georgia"/>
              </a:rPr>
              <a:t>а)программист, работающий мастером производственного участка на заводе, уволился по собственному желанию и ищет работу по специаль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Georgia"/>
              </a:rPr>
              <a:t>б)студент, не работающий и обучающийся на дневном отделении вуз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Georgia"/>
              </a:rPr>
              <a:t>в)рабочий, уволенный в связи с ликвидацией предприятия, обратился в поисках работы в государственную службу занят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Georgia"/>
              </a:rPr>
              <a:t>г)учитель школы уволился из-за переезда на новое место жительства в другой город и ищет работу по специа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Z:\мама\рабочий стол мама\Школа 2008-2011\Матер. по Презинтациям,АНИМАЦИЯ\Буквы и цифры\Другие\slovar2.gif"/>
          <p:cNvPicPr/>
          <p:nvPr/>
        </p:nvPicPr>
        <p:blipFill>
          <a:blip r:embed="rId1"/>
          <a:stretch/>
        </p:blipFill>
        <p:spPr>
          <a:xfrm>
            <a:off x="1285920" y="285840"/>
            <a:ext cx="16477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8e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86080" y="285480"/>
            <a:ext cx="54720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Закрепляе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56800" y="1428840"/>
            <a:ext cx="79297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Восемнадцатилетний юноша остался без работы в результате сокращения числа работников предпри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5880" y="2785680"/>
            <a:ext cx="7215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5968"/>
                </a:solidFill>
                <a:latin typeface="Georgia"/>
              </a:rPr>
              <a:t>Посоветуйте оставшемуся без работы, как вести себя в эт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5968"/>
                </a:solidFill>
                <a:latin typeface="Georgia"/>
              </a:rPr>
              <a:t>Что необходимо для получения статуса безработного и пособия на время поиска работ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Z:\мама\рабочий стол мама\Школа 2008-2011\Матер. по Презинтациям,АНИМАЦИЯ\Буквы и цифры\Другие\slovar2.gif"/>
          <p:cNvPicPr/>
          <p:nvPr/>
        </p:nvPicPr>
        <p:blipFill>
          <a:blip r:embed="rId1"/>
          <a:stretch/>
        </p:blipFill>
        <p:spPr>
          <a:xfrm>
            <a:off x="1285920" y="285840"/>
            <a:ext cx="16477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714348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Bookman Old Style"/>
              </a:rPr>
              <a:t>2.Причины безработ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Выноска со стрелкой вниз 3"/>
          <p:cNvSpPr/>
          <p:nvPr/>
        </p:nvSpPr>
        <p:spPr>
          <a:xfrm>
            <a:off x="2071800" y="1643040"/>
            <a:ext cx="4929120" cy="1214640"/>
          </a:xfrm>
          <a:prstGeom prst="downArrowCallout">
            <a:avLst>
              <a:gd name="adj1" fmla="val 24990"/>
              <a:gd name="adj2" fmla="val 24987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Изменение потребительского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Z:\мама\рабочий стол мама\Школа 2008-2011\Матер. по Презинтациям,АНИМАЦИЯ\Люди\constr05.gif"/>
          <p:cNvPicPr/>
          <p:nvPr/>
        </p:nvPicPr>
        <p:blipFill>
          <a:blip r:embed="rId1"/>
          <a:stretch/>
        </p:blipFill>
        <p:spPr>
          <a:xfrm>
            <a:off x="285840" y="1571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Z:\мама\рабочий стол мама\Школа 2008-2011\Матер. по Презинтациям,АНИМАЦИЯ\Люди\b38.gif"/>
          <p:cNvPicPr/>
          <p:nvPr/>
        </p:nvPicPr>
        <p:blipFill>
          <a:blip r:embed="rId2"/>
          <a:stretch/>
        </p:blipFill>
        <p:spPr>
          <a:xfrm>
            <a:off x="7143840" y="1571760"/>
            <a:ext cx="178596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Блок-схема: знак завершения 6"/>
          <p:cNvSpPr/>
          <p:nvPr/>
        </p:nvSpPr>
        <p:spPr>
          <a:xfrm>
            <a:off x="857160" y="3214800"/>
            <a:ext cx="7572600" cy="785880"/>
          </a:xfrm>
          <a:prstGeom prst="flowChartTerminator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ыход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:  Переучиться  или повысить квалифик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7"/>
          <p:cNvSpPr/>
          <p:nvPr/>
        </p:nvSpPr>
        <p:spPr>
          <a:xfrm>
            <a:off x="2143080" y="4214880"/>
            <a:ext cx="4929120" cy="121428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Bookman Old Style"/>
              </a:rPr>
              <a:t>Поиск и ожидани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bbede0006c530d485ca772fc67e59d7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4143240"/>
            <a:ext cx="1089000" cy="1814760"/>
          </a:xfrm>
          <a:prstGeom prst="rect">
            <a:avLst/>
          </a:prstGeom>
          <a:ln w="0">
            <a:noFill/>
          </a:ln>
        </p:spPr>
      </p:pic>
      <p:sp>
        <p:nvSpPr>
          <p:cNvPr id="102" name="Блок-схема: знак завершения 9"/>
          <p:cNvSpPr/>
          <p:nvPr/>
        </p:nvSpPr>
        <p:spPr>
          <a:xfrm>
            <a:off x="785880" y="5429160"/>
            <a:ext cx="7572240" cy="1071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4f6228"/>
                </a:solidFill>
                <a:latin typeface="Georgia"/>
              </a:rPr>
              <a:t>выход</a:t>
            </a:r>
            <a:r>
              <a:rPr b="1" i="1" lang="ru-RU" sz="2400" spc="-1" strike="noStrike">
                <a:solidFill>
                  <a:srgbClr val="4f6228"/>
                </a:solidFill>
                <a:latin typeface="Georgia"/>
              </a:rPr>
              <a:t>: предлагать свои способности и трудовые навыки, изучать рынок труда , использовать услуги ЦЗ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Z:\мама\рабочий стол мама\Школа 2008-2011\Матер. по Презинтациям,АНИМАЦИЯ\Люди\Копия b104.gif"/>
          <p:cNvPicPr/>
          <p:nvPr/>
        </p:nvPicPr>
        <p:blipFill>
          <a:blip r:embed="rId5"/>
          <a:stretch/>
        </p:blipFill>
        <p:spPr>
          <a:xfrm>
            <a:off x="7858080" y="4071960"/>
            <a:ext cx="1000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714348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Bookman Old Style"/>
              </a:rPr>
              <a:t>2.Причины безработ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Выноска со стрелкой вниз 3"/>
          <p:cNvSpPr/>
          <p:nvPr/>
        </p:nvSpPr>
        <p:spPr>
          <a:xfrm>
            <a:off x="2071800" y="1643040"/>
            <a:ext cx="4929120" cy="1214640"/>
          </a:xfrm>
          <a:prstGeom prst="downArrowCallout">
            <a:avLst>
              <a:gd name="adj1" fmla="val 24990"/>
              <a:gd name="adj2" fmla="val 24987"/>
              <a:gd name="adj3" fmla="val 25000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пад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знак завершения 6"/>
          <p:cNvSpPr/>
          <p:nvPr/>
        </p:nvSpPr>
        <p:spPr>
          <a:xfrm>
            <a:off x="857160" y="3000240"/>
            <a:ext cx="7572600" cy="78588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выход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: создание условий для роста спроса на това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носка со стрелкой вниз 7"/>
          <p:cNvSpPr/>
          <p:nvPr/>
        </p:nvSpPr>
        <p:spPr>
          <a:xfrm>
            <a:off x="2143080" y="4071960"/>
            <a:ext cx="4929120" cy="121428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man Old Style"/>
              </a:rPr>
              <a:t>Сезонный спад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9"/>
          <p:cNvSpPr/>
          <p:nvPr/>
        </p:nvSpPr>
        <p:spPr>
          <a:xfrm>
            <a:off x="785880" y="5429160"/>
            <a:ext cx="7572240" cy="1071720"/>
          </a:xfrm>
          <a:prstGeom prst="flowChartTermina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Georgia"/>
              </a:rPr>
              <a:t>выход: </a:t>
            </a:r>
            <a:r>
              <a:rPr b="1" i="1" lang="ru-RU" sz="2400" spc="-1" strike="noStrike">
                <a:solidFill>
                  <a:srgbClr val="17375e"/>
                </a:solidFill>
                <a:latin typeface="Georgia"/>
              </a:rPr>
              <a:t>создание условий для роста самозанят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072200" y="1571760"/>
            <a:ext cx="1822680" cy="12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1770120" cy="131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171468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7143840" y="4143240"/>
            <a:ext cx="17859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615000" cy="1511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3.Последствия безработицы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(с.168-1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9680" y="2071440"/>
            <a:ext cx="8186760" cy="44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Позитивн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формируется мобильный </a:t>
            </a:r>
            <a:r>
              <a:rPr b="1" i="1" lang="ru-RU" sz="2400" spc="-1" strike="noStrike" u="sng">
                <a:solidFill>
                  <a:srgbClr val="17375e"/>
                </a:solidFill>
                <a:uFillTx/>
                <a:latin typeface="Bookman Old Style"/>
              </a:rPr>
              <a:t>«резерв» </a:t>
            </a: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рабочей силы, который можно задействовать при расширении производ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i="1" lang="ru-RU" sz="2400" spc="-1" strike="noStrike" u="sng">
                <a:solidFill>
                  <a:srgbClr val="17375e"/>
                </a:solidFill>
                <a:uFillTx/>
                <a:latin typeface="Bookman Old Style"/>
              </a:rPr>
              <a:t>сдерживаются требования профсоюзов </a:t>
            </a: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в части повышения заработной платы, что снижает предполагаемый уровень инфля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усиливается </a:t>
            </a:r>
            <a:r>
              <a:rPr b="1" i="1" lang="ru-RU" sz="2400" spc="-1" strike="noStrike" u="sng">
                <a:solidFill>
                  <a:srgbClr val="17375e"/>
                </a:solidFill>
                <a:uFillTx/>
                <a:latin typeface="Bookman Old Style"/>
              </a:rPr>
              <a:t>трудовая мотивация </a:t>
            </a: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работающих, так как гарантии занятости и опасение потерять работу начинают выступать в качестве самостоятельного стимула к тру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00040" y="2071800"/>
            <a:ext cx="8215200" cy="4429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га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доиспользование экономического потенциала общества, когда реальный ВНП существенно меньше потенциаль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нижение уровня жизни на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теря профессиональных знаний и навыков, что затрудняет возможность трудоу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ральная травма, ведущая к алкоголизму, наркомании, самоубийствам, росту преступности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иды безработиц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90560" y="2637000"/>
            <a:ext cx="835344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Цель урока: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явлением безработицы, её причинами и последстви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иды безработиц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Объект 4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53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0320" y="1257120"/>
            <a:ext cx="83455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рикционная безрабо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6240" y="23061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62120" y="3733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55640" y="45813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55640" y="544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фрикционным безработным относят люд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96840" y="2184480"/>
            <a:ext cx="307800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ожид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восстановления на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1101600" y="4687920"/>
            <a:ext cx="199872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Уволившие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собственному жел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724360" y="4581360"/>
            <a:ext cx="30783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шедшие раб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о е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е приступившие к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372360" y="2276640"/>
            <a:ext cx="250164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уволенные с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 прика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1219320" y="1465200"/>
            <a:ext cx="1441440" cy="719280"/>
          </a:xfrm>
          <a:prstGeom prst="line">
            <a:avLst/>
          </a:prstGeom>
          <a:ln w="57240">
            <a:solidFill>
              <a:srgbClr val="605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2268360" y="1592280"/>
            <a:ext cx="2376720" cy="3095640"/>
          </a:xfrm>
          <a:prstGeom prst="line">
            <a:avLst/>
          </a:prstGeom>
          <a:ln w="57240">
            <a:solidFill>
              <a:srgbClr val="605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932360" y="1547640"/>
            <a:ext cx="2016000" cy="3024360"/>
          </a:xfrm>
          <a:prstGeom prst="line">
            <a:avLst/>
          </a:prstGeom>
          <a:ln w="57240">
            <a:solidFill>
              <a:srgbClr val="605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522760" y="1465200"/>
            <a:ext cx="1656000" cy="792360"/>
          </a:xfrm>
          <a:prstGeom prst="line">
            <a:avLst/>
          </a:prstGeom>
          <a:ln w="57240">
            <a:solidFill>
              <a:srgbClr val="605e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7624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труктурная безрабо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4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407880" y="755640"/>
            <a:ext cx="8388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3920" y="1341360"/>
            <a:ext cx="743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Циклическая безработи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3c18"/>
                </a:solidFill>
                <a:latin typeface="Calibri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4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3213000"/>
            <a:ext cx="850752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116000" y="5013360"/>
            <a:ext cx="6858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</a:t>
            </a:r>
            <a:r>
              <a:rPr b="1" lang="ru-RU" sz="2800" spc="-1" strike="noStrike">
                <a:solidFill>
                  <a:srgbClr val="c0504d"/>
                </a:solidFill>
                <a:latin typeface="Comic Sans MS"/>
              </a:rPr>
              <a:t>оту</a:t>
            </a:r>
            <a:r>
              <a:rPr b="0" lang="ru-RU" sz="2800" spc="-1" strike="noStrike">
                <a:solidFill>
                  <a:srgbClr val="c0504d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2320" y="177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Сезонная безработи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280" y="263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a3c18"/>
                </a:solidFill>
                <a:latin typeface="Calibri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4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Bookman Old Style"/>
              </a:rPr>
              <a:t>4. Роль государства в обеспечении занят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643120" y="1928520"/>
            <a:ext cx="6215040" cy="419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215968"/>
                </a:solidFill>
                <a:latin typeface="Georgia"/>
              </a:rPr>
              <a:t>создание условий для занятост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Georgia"/>
              </a:rPr>
              <a:t>реализация мер социальной защиты от безработ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7" descr="39d9fc251bfb6691f195990a903c79d7"/>
          <p:cNvPicPr/>
          <p:nvPr/>
        </p:nvPicPr>
        <p:blipFill>
          <a:blip r:embed="rId1"/>
          <a:stretch/>
        </p:blipFill>
        <p:spPr>
          <a:xfrm>
            <a:off x="285840" y="1643040"/>
            <a:ext cx="1989000" cy="14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7" descr="39d9fc251bfb6691f195990a903c79d7"/>
          <p:cNvPicPr/>
          <p:nvPr/>
        </p:nvPicPr>
        <p:blipFill>
          <a:blip r:embed="rId2"/>
          <a:stretch/>
        </p:blipFill>
        <p:spPr>
          <a:xfrm>
            <a:off x="214200" y="4000680"/>
            <a:ext cx="19893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зработица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о добро или з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9800" y="274320"/>
            <a:ext cx="635796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360" y="2182320"/>
            <a:ext cx="4572000" cy="208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П.2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Z:\мама\рабочий стол мама\Школа 2008-2011\Матер. по Презинтациям,АНИМАЦИЯ\Анимация для презентаций\школа\69.GIF"/>
          <p:cNvPicPr/>
          <p:nvPr/>
        </p:nvPicPr>
        <p:blipFill>
          <a:blip r:embed="rId1"/>
          <a:stretch/>
        </p:blipFill>
        <p:spPr>
          <a:xfrm>
            <a:off x="6643800" y="178596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6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I. Безработица – спутник рыночной экономик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II. Причины безработицы. Виды и формы безработиц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III. Экономические и социальные последствия безработицы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IV. Роль государства в обеспечении занят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-396720" y="1700280"/>
            <a:ext cx="8291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роблема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езработица –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это добро или зло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400" y="285840"/>
            <a:ext cx="6715080" cy="10000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Bookman Old Style"/>
              </a:rPr>
              <a:t>1. Безработица — спутник рыноч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Блок-схема: несколько документов 5"/>
          <p:cNvSpPr/>
          <p:nvPr/>
        </p:nvSpPr>
        <p:spPr>
          <a:xfrm>
            <a:off x="3857760" y="1428840"/>
            <a:ext cx="5072040" cy="5072040"/>
          </a:xfrm>
          <a:prstGeom prst="flowChartMultidocumen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«1. Труд свободен. Каждый имеет право свободно распоряжаться своими способностями к труду, выбирать род деятельности и профе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2. Принудительный труд запрещё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771640" cy="3929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7"/>
          <p:cNvSpPr/>
          <p:nvPr/>
        </p:nvSpPr>
        <p:spPr>
          <a:xfrm>
            <a:off x="285840" y="5643720"/>
            <a:ext cx="32144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Статья 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65240" y="542880"/>
            <a:ext cx="8991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Выноска со стрелкой вниз 8"/>
          <p:cNvSpPr/>
          <p:nvPr/>
        </p:nvSpPr>
        <p:spPr>
          <a:xfrm>
            <a:off x="214200" y="214200"/>
            <a:ext cx="3643560" cy="3286080"/>
          </a:xfrm>
          <a:prstGeom prst="downArrowCallout">
            <a:avLst>
              <a:gd name="adj1" fmla="val 25001"/>
              <a:gd name="adj2" fmla="val 25004"/>
              <a:gd name="adj3" fmla="val 25000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Коман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 со стрелкой вниз 9"/>
          <p:cNvSpPr/>
          <p:nvPr/>
        </p:nvSpPr>
        <p:spPr>
          <a:xfrm>
            <a:off x="5143680" y="214200"/>
            <a:ext cx="3643200" cy="3286080"/>
          </a:xfrm>
          <a:prstGeom prst="downArrowCallout">
            <a:avLst>
              <a:gd name="adj1" fmla="val 24999"/>
              <a:gd name="adj2" fmla="val 25001"/>
              <a:gd name="adj3" fmla="val 25000"/>
              <a:gd name="adj4" fmla="val 649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ын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movserp[1]"/>
          <p:cNvPicPr/>
          <p:nvPr/>
        </p:nvPicPr>
        <p:blipFill>
          <a:blip r:embed="rId1"/>
          <a:stretch/>
        </p:blipFill>
        <p:spPr>
          <a:xfrm>
            <a:off x="357120" y="3000240"/>
            <a:ext cx="14860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Z:\мама\рабочий стол мама\Школа 2008-2011\Матер. по Презинтациям,АНИМАЦИЯ\Люди\constr30.gif"/>
          <p:cNvPicPr/>
          <p:nvPr/>
        </p:nvPicPr>
        <p:blipFill>
          <a:blip r:embed="rId2"/>
          <a:stretch/>
        </p:blipFill>
        <p:spPr>
          <a:xfrm>
            <a:off x="2643120" y="300024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j0283209"/>
          <p:cNvPicPr/>
          <p:nvPr/>
        </p:nvPicPr>
        <p:blipFill>
          <a:blip r:embed="rId3"/>
          <a:stretch/>
        </p:blipFill>
        <p:spPr>
          <a:xfrm>
            <a:off x="5072040" y="2928960"/>
            <a:ext cx="125568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Z:\мама\рабочий стол мама\Школа 2008-2011\Матер. по Презинтациям,АНИМАЦИЯ\Анимация Дети _школа\899301404.jpg.gif"/>
          <p:cNvPicPr/>
          <p:nvPr/>
        </p:nvPicPr>
        <p:blipFill>
          <a:blip r:embed="rId4"/>
          <a:stretch/>
        </p:blipFill>
        <p:spPr>
          <a:xfrm>
            <a:off x="7572240" y="2928960"/>
            <a:ext cx="1517760" cy="1214280"/>
          </a:xfrm>
          <a:prstGeom prst="rect">
            <a:avLst/>
          </a:prstGeom>
          <a:ln w="0">
            <a:noFill/>
          </a:ln>
        </p:spPr>
      </p:pic>
      <p:sp>
        <p:nvSpPr>
          <p:cNvPr id="59" name="Табличка 15"/>
          <p:cNvSpPr/>
          <p:nvPr/>
        </p:nvSpPr>
        <p:spPr>
          <a:xfrm>
            <a:off x="357120" y="4500720"/>
            <a:ext cx="3571920" cy="1857240"/>
          </a:xfrm>
          <a:custGeom>
            <a:avLst/>
            <a:gdLst>
              <a:gd name="textAreaLeft" fmla="*/ 218880 w 3571920"/>
              <a:gd name="textAreaRight" fmla="*/ 3353040 w 3571920"/>
              <a:gd name="textAreaTop" fmla="*/ 218880 h 1857240"/>
              <a:gd name="textAreaBottom" fmla="*/ 1638360 h 1857240"/>
            </a:gdLst>
            <a:ahLst/>
            <a:rect l="textAreaLeft" t="textAreaTop" r="textAreaRight" b="textAreaBottom"/>
            <a:pathLst>
              <a:path w="415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938" y="21600"/>
                </a:lnTo>
                <a:arcTo wR="3600" hR="3600" stAng="10800000" swAng="5400000"/>
                <a:lnTo>
                  <a:pt x="4153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Bookman Old Style"/>
              </a:rPr>
              <a:t>100% занят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абличка 16"/>
          <p:cNvSpPr/>
          <p:nvPr/>
        </p:nvSpPr>
        <p:spPr>
          <a:xfrm>
            <a:off x="5143680" y="4500720"/>
            <a:ext cx="3571560" cy="1857240"/>
          </a:xfrm>
          <a:custGeom>
            <a:avLst/>
            <a:gdLst>
              <a:gd name="textAreaLeft" fmla="*/ 218880 w 3571560"/>
              <a:gd name="textAreaRight" fmla="*/ 3352680 w 3571560"/>
              <a:gd name="textAreaTop" fmla="*/ 218880 h 1857240"/>
              <a:gd name="textAreaBottom" fmla="*/ 1638360 h 1857240"/>
            </a:gdLst>
            <a:ahLst/>
            <a:rect l="textAreaLeft" t="textAreaTop" r="textAreaRight" b="textAreaBottom"/>
            <a:pathLst>
              <a:path w="415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934" y="21600"/>
                </a:lnTo>
                <a:arcTo wR="3600" hR="3600" stAng="10800000" swAng="5400000"/>
                <a:lnTo>
                  <a:pt x="4153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Bookman Old Style"/>
              </a:rPr>
              <a:t>Безработ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Bookman Old Style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7"/>
          <p:cNvCxnSpPr>
            <a:stCxn id="61" idx="2"/>
          </p:cNvCxnSpPr>
          <p:nvPr/>
        </p:nvCxnSpPr>
        <p:spPr>
          <a:xfrm>
            <a:off x="4786200" y="1356840"/>
            <a:ext cx="2929680" cy="35820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63" name="Прямая со стрелкой 8"/>
          <p:cNvCxnSpPr>
            <a:stCxn id="61" idx="2"/>
          </p:cNvCxnSpPr>
          <p:nvPr/>
        </p:nvCxnSpPr>
        <p:spPr>
          <a:xfrm flipH="1">
            <a:off x="2142720" y="1356840"/>
            <a:ext cx="2643840" cy="35820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64" name="Багетная рамка 11"/>
          <p:cNvSpPr/>
          <p:nvPr/>
        </p:nvSpPr>
        <p:spPr>
          <a:xfrm>
            <a:off x="285840" y="1785960"/>
            <a:ext cx="4071960" cy="857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Трудоспособные 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агетная рамка 12"/>
          <p:cNvSpPr/>
          <p:nvPr/>
        </p:nvSpPr>
        <p:spPr>
          <a:xfrm>
            <a:off x="4857840" y="1785960"/>
            <a:ext cx="4071960" cy="857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Bookman Old Style"/>
              </a:rPr>
              <a:t>Нетрудоспособные  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880" y="2819520"/>
            <a:ext cx="3575520" cy="1146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Занятые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(трудоспособные, имеющие работ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15"/>
          <p:cNvSpPr/>
          <p:nvPr/>
        </p:nvSpPr>
        <p:spPr>
          <a:xfrm>
            <a:off x="214200" y="4143240"/>
            <a:ext cx="4214880" cy="2000520"/>
          </a:xfrm>
          <a:custGeom>
            <a:avLst/>
            <a:gdLst>
              <a:gd name="textAreaLeft" fmla="*/ 235800 w 4214880"/>
              <a:gd name="textAreaRight" fmla="*/ 3979080 w 4214880"/>
              <a:gd name="textAreaTop" fmla="*/ 235800 h 2000520"/>
              <a:gd name="textAreaBottom" fmla="*/ 1764720 h 2000520"/>
            </a:gdLst>
            <a:ahLst/>
            <a:rect l="textAreaLeft" t="textAreaTop" r="textAreaRight" b="textAreaBottom"/>
            <a:pathLst>
              <a:path w="455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905" y="21600"/>
                </a:lnTo>
                <a:arcTo wR="3600" hR="3600" stAng="10800000" swAng="5400000"/>
                <a:lnTo>
                  <a:pt x="4550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Bookman Old Style"/>
              </a:rPr>
              <a:t>Безраб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(трудоспособные, не имеющие работу, но стремятся най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абличка 17"/>
          <p:cNvSpPr/>
          <p:nvPr/>
        </p:nvSpPr>
        <p:spPr>
          <a:xfrm>
            <a:off x="4714920" y="2786040"/>
            <a:ext cx="4214880" cy="3786120"/>
          </a:xfrm>
          <a:custGeom>
            <a:avLst/>
            <a:gdLst>
              <a:gd name="textAreaLeft" fmla="*/ 446040 w 4214880"/>
              <a:gd name="textAreaRight" fmla="*/ 3768840 w 4214880"/>
              <a:gd name="textAreaTop" fmla="*/ 446040 h 3786120"/>
              <a:gd name="textAreaBottom" fmla="*/ 3340080 h 3786120"/>
            </a:gdLst>
            <a:ahLst/>
            <a:rect l="textAreaLeft" t="textAreaTop" r="textAreaRight" b="textAreaBottom"/>
            <a:pathLst>
              <a:path w="240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446" y="21600"/>
                </a:lnTo>
                <a:arcTo wR="3600" hR="3600" stAng="10800000" swAng="5400000"/>
                <a:lnTo>
                  <a:pt x="2404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84807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Bookman Old Style"/>
              </a:rPr>
              <a:t>дети  до 16 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84807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Bookman Old Style"/>
              </a:rPr>
              <a:t>пенсионеры  (мужчины старше 60 лет,  женщины  старше 55 ле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84807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Bookman Old Style"/>
              </a:rPr>
              <a:t>инвал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Табличка 9"/>
          <p:cNvSpPr/>
          <p:nvPr/>
        </p:nvSpPr>
        <p:spPr>
          <a:xfrm>
            <a:off x="0" y="6215040"/>
            <a:ext cx="4500720" cy="642960"/>
          </a:xfrm>
          <a:custGeom>
            <a:avLst/>
            <a:gdLst>
              <a:gd name="textAreaLeft" fmla="*/ 75600 w 4500720"/>
              <a:gd name="textAreaRight" fmla="*/ 4425120 w 4500720"/>
              <a:gd name="textAreaTop" fmla="*/ 75600 h 642960"/>
              <a:gd name="textAreaBottom" fmla="*/ 567360 h 642960"/>
            </a:gdLst>
            <a:ahLst/>
            <a:rect l="textAreaLeft" t="textAreaTop" r="textAreaRight" b="textAreaBottom"/>
            <a:pathLst>
              <a:path w="15112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27" y="21600"/>
                </a:lnTo>
                <a:arcTo wR="3600" hR="3600" stAng="10800000" swAng="5400000"/>
                <a:lnTo>
                  <a:pt x="151127" y="3600"/>
                </a:lnTo>
                <a:arcTo wR="3600" hR="3600" stAng="5400000" swAng="5400000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Добровольно незаня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42924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 занятым относя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122400" y="1054080"/>
            <a:ext cx="8856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5:53:12Z</dcterms:created>
  <dc:creator>Родионова И.В.</dc:creator>
  <dc:description/>
  <dc:language>en-US</dc:language>
  <cp:lastModifiedBy>Ирина</cp:lastModifiedBy>
  <dcterms:modified xsi:type="dcterms:W3CDTF">2018-05-24T20:40:01Z</dcterms:modified>
  <cp:revision>22</cp:revision>
  <dc:subject/>
  <dc:title>«Безработица, её причины и последствия»</dc:title>
</cp:coreProperties>
</file>