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22.png" ContentType="image/png"/>
  <Override PartName="/ppt/media/image5.png" ContentType="image/png"/>
  <Override PartName="/ppt/media/image10.png" ContentType="image/png"/>
  <Override PartName="/ppt/media/image23.jpeg" ContentType="image/jpe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25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89BF-CBCA-4907-A5B0-F6044F485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E42C-FC7F-441E-9442-3C05E9C9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99DD-9CF2-4D8D-B297-93FF0510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3178-2323-4D09-8CCF-37D95C06C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BAC0-B4FC-4996-90CF-20A636008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681C4-A05A-45C0-9407-6530F9D7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929F-E981-421A-A274-5DB14EAEC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2422E-B0EB-4466-AC1E-113B4C4C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12C2E-4407-46B0-A2EE-94557AFC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88693-1FCB-4414-931A-D87C720B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AEC6B-09EB-477E-A0A4-6D1E82E9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DAC8-9265-4C2A-AA39-61AB04C24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44F4-0E94-4087-A0EA-D8209150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A022-F041-4A85-B164-133AC257A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A773-9F67-427D-BAD9-96762756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6E44-04AE-4F07-961D-2A589B39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6560F-1EC5-4DD0-8BF2-E2394FC8F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06118-A20D-42FB-944A-DC4979773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2FA33-81B5-4FFA-B939-82D5509C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7AA96-D1C8-46DF-AF5D-B5BE0E99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25011-8D60-48F6-9F9B-36F61F905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06454-BF0A-4E6E-98DB-339425D7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9ACE3-1EF1-4E02-8BEA-31739E04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69662-2A34-4191-9F4C-80252D79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C11D7-4615-4387-B39B-70C84F99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D5130-1B42-469D-931A-0B31A3D7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80EF4-B414-4957-BA21-3C788FE9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C40ED2-001F-44A5-BC3A-1C1F1D22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B9D6D-161A-44D9-A66A-CA99DFBD8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136E0-814C-4B9B-9D88-99FD67B2F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79A56-9031-4D07-B84B-F657928F7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D3E91D-296F-4E80-B7C0-89B360F1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8D211-058E-4D2C-B93F-6B5A8F33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A855-2710-468E-B438-0B728A98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B3F36-DA70-4793-A608-36A465E8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06EF3-082F-4461-826F-22487CDD6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9EAF0-536A-4297-998E-6EC4B0173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170CE-31D5-47B3-BC2C-EB3511B5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575B7-1A8A-4870-93A8-5C409B73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94924-7105-4210-B3F6-9D25B8916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1B3B9-CEC7-45F0-9D88-10A971B8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4C609-C469-43F4-A594-CE02B1BC2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01672-EEEB-4342-A2C3-E9ED8172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AB61-546C-418B-8901-97312F1EE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EEDF-633B-4A46-951D-3E052E15D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7610-E2FB-4955-ACFF-69B70A47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CF27-B32B-4C1D-97CF-DC1E3E7A5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0DCF-DB6F-4126-A89F-02DEF7AF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99C6-65A9-48EC-A8D6-9CCB39F51FAC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A5F0-BB54-4174-9A41-FEA07BF9AA0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785F-FFCC-4A93-B0E6-6199F3078FC6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B6B4-63E4-4C56-866F-AA4162922E88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476360" y="429264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Trebuchet MS"/>
              </a:rPr>
              <a:t>Подготовила учитель начальных классов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Trebuchet MS"/>
              </a:rPr>
              <a:t>МБОУ СШ №10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2745"/>
                </a:solidFill>
                <a:latin typeface="Trebuchet MS"/>
              </a:rPr>
              <a:t>Курбанова Индира Фидусовн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536400" y="1243080"/>
            <a:ext cx="79185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Безимени-1"/>
          <p:cNvPicPr/>
          <p:nvPr/>
        </p:nvPicPr>
        <p:blipFill>
          <a:blip r:embed="rId1"/>
          <a:stretch/>
        </p:blipFill>
        <p:spPr>
          <a:xfrm>
            <a:off x="7991640" y="6540480"/>
            <a:ext cx="1152360" cy="317520"/>
          </a:xfrm>
          <a:prstGeom prst="rect">
            <a:avLst/>
          </a:prstGeom>
          <a:ln w="0">
            <a:noFill/>
          </a:ln>
        </p:spPr>
      </p:pic>
      <p:pic>
        <p:nvPicPr>
          <p:cNvPr id="247" name="Заголовок 4" descr=""/>
          <p:cNvPicPr/>
          <p:nvPr/>
        </p:nvPicPr>
        <p:blipFill>
          <a:blip r:embed="rId2"/>
          <a:stretch/>
        </p:blipFill>
        <p:spPr>
          <a:xfrm>
            <a:off x="901800" y="274680"/>
            <a:ext cx="7456320" cy="85248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684360" y="1125000"/>
            <a:ext cx="78832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увидеть учебный материал целостно и системно и спроектировать учебный процесс по освоению темы с учетом цели курса предмет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выстраивать алгоритм работы по теме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определять виды УУД, которые формируются на изучаемом материале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реализовать воспитательные возможности темы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установить преемственность в изучении материала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-реализовать межпредметные связи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442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3"/>
          <p:cNvSpPr/>
          <p:nvPr/>
        </p:nvSpPr>
        <p:spPr>
          <a:xfrm>
            <a:off x="971640" y="1506600"/>
            <a:ext cx="7704000" cy="44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еспечивает возможность ориентироваться в образовательных целях в контексте стандартов 2-го покол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зволяет четко отслеживать выполнение программы, осуществлять методическую помощь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беспечивает системный мониторинг результатов  образовательного процесса, деятельности учителя и  обучаю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26"/>
          <p:cNvSpPr/>
          <p:nvPr/>
        </p:nvSpPr>
        <p:spPr>
          <a:xfrm>
            <a:off x="647640" y="549360"/>
            <a:ext cx="813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хнологическая карта как административный инструмен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6" descr="Безимени-1"/>
          <p:cNvPicPr/>
          <p:nvPr/>
        </p:nvPicPr>
        <p:blipFill>
          <a:blip r:embed="rId1"/>
          <a:stretch/>
        </p:blipFill>
        <p:spPr>
          <a:xfrm>
            <a:off x="7991640" y="6540480"/>
            <a:ext cx="1152360" cy="3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15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15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5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Box 1"/>
          <p:cNvSpPr/>
          <p:nvPr/>
        </p:nvSpPr>
        <p:spPr>
          <a:xfrm>
            <a:off x="1763640" y="2038320"/>
            <a:ext cx="59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76360" y="429264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17" name="Заголовок 1" descr=""/>
          <p:cNvPicPr/>
          <p:nvPr/>
        </p:nvPicPr>
        <p:blipFill>
          <a:blip r:embed="rId1"/>
          <a:stretch/>
        </p:blipFill>
        <p:spPr>
          <a:xfrm>
            <a:off x="676440" y="1322280"/>
            <a:ext cx="809604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Заголовок 1" descr=""/>
          <p:cNvPicPr/>
          <p:nvPr/>
        </p:nvPicPr>
        <p:blipFill>
          <a:blip r:embed="rId1"/>
          <a:stretch/>
        </p:blipFill>
        <p:spPr>
          <a:xfrm>
            <a:off x="1792440" y="4370400"/>
            <a:ext cx="6516360" cy="16336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076720" y="1267920"/>
            <a:ext cx="29512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0" name="Picture 4" descr="C:\Documents and Settings\Администратор\Мои документы\post-it-note.jpg"/>
          <p:cNvPicPr/>
          <p:nvPr/>
        </p:nvPicPr>
        <p:blipFill>
          <a:blip r:embed="rId2"/>
          <a:srcRect l="16753" t="9290" r="17471" b="15549"/>
          <a:stretch/>
        </p:blipFill>
        <p:spPr>
          <a:xfrm>
            <a:off x="1793880" y="549360"/>
            <a:ext cx="4681440" cy="393048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4"/>
          <p:cNvSpPr/>
          <p:nvPr/>
        </p:nvSpPr>
        <p:spPr>
          <a:xfrm rot="21387600">
            <a:off x="2547360" y="1766880"/>
            <a:ext cx="33955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ехнологическая карта урок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обобщенно-графическое выражение сценария урока, основа его проектирования, средство представления индивидуальных методов работы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792440" y="4370400"/>
            <a:ext cx="6516360" cy="114624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C:\Documents and Settings\Администратор\Мои документы\post-it-note.jpg"/>
          <p:cNvPicPr/>
          <p:nvPr/>
        </p:nvPicPr>
        <p:blipFill>
          <a:blip r:embed="rId2"/>
          <a:srcRect l="16759" t="9289" r="17477" b="15556"/>
          <a:stretch/>
        </p:blipFill>
        <p:spPr>
          <a:xfrm>
            <a:off x="3244680" y="1386000"/>
            <a:ext cx="2778120" cy="280800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Documents and Settings\Администратор\Мои документы\post-it-note.jpg"/>
          <p:cNvPicPr/>
          <p:nvPr/>
        </p:nvPicPr>
        <p:blipFill>
          <a:blip r:embed="rId3"/>
          <a:srcRect l="16759" t="9289" r="17477" b="15556"/>
          <a:stretch/>
        </p:blipFill>
        <p:spPr>
          <a:xfrm>
            <a:off x="395280" y="1386000"/>
            <a:ext cx="2776680" cy="2808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4" descr="C:\Documents and Settings\Администратор\Мои документы\post-it-note.jpg"/>
          <p:cNvPicPr/>
          <p:nvPr/>
        </p:nvPicPr>
        <p:blipFill>
          <a:blip r:embed="rId4"/>
          <a:srcRect l="16760" t="9296" r="17474" b="15558"/>
          <a:stretch/>
        </p:blipFill>
        <p:spPr>
          <a:xfrm>
            <a:off x="6156360" y="1386000"/>
            <a:ext cx="2651040" cy="26812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6"/>
          <p:cNvSpPr/>
          <p:nvPr/>
        </p:nvSpPr>
        <p:spPr>
          <a:xfrm rot="21427200">
            <a:off x="6419520" y="1687680"/>
            <a:ext cx="23097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ая карта урока составляется учителем в соответствии с рабочей программой учебного курса, предмета, дисциплины (модуля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8"/>
          <p:cNvSpPr/>
          <p:nvPr/>
        </p:nvSpPr>
        <p:spPr>
          <a:xfrm rot="21444600">
            <a:off x="3684600" y="1809360"/>
            <a:ext cx="2087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технологической карты урока является обязательным для работы учителя общеобразовательного учрежд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4" descr="C:\Documents and Settings\Администратор\Мои документы\post-it-note.jpg"/>
          <p:cNvPicPr/>
          <p:nvPr/>
        </p:nvPicPr>
        <p:blipFill>
          <a:blip r:embed="rId5"/>
          <a:srcRect l="16759" t="9294" r="17477" b="15550"/>
          <a:stretch/>
        </p:blipFill>
        <p:spPr>
          <a:xfrm>
            <a:off x="3138480" y="3879720"/>
            <a:ext cx="2778120" cy="29973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7"/>
          <p:cNvSpPr/>
          <p:nvPr/>
        </p:nvSpPr>
        <p:spPr>
          <a:xfrm rot="21403800">
            <a:off x="3460680" y="4330440"/>
            <a:ext cx="2305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ая карта урока может быть составлена в форме конспекта или таблицы, в которой фиксируются узловые блок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10"/>
          <p:cNvSpPr/>
          <p:nvPr/>
        </p:nvSpPr>
        <p:spPr>
          <a:xfrm rot="21436800">
            <a:off x="669600" y="1981080"/>
            <a:ext cx="23781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ая карта урока относится к локальным актам общеобразовательного учреж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785880" y="274680"/>
            <a:ext cx="7572240" cy="9208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842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38520" algn="ctr">
              <a:lnSpc>
                <a:spcPct val="9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Исходя из особенностей системно-деятельностного подхода определился перечень основных вертикальных столбцов карты: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lnSpc>
                <a:spcPct val="90000"/>
              </a:lnSpc>
              <a:spcBef>
                <a:spcPts val="476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8520" algn="just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   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8520" algn="just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8520" algn="just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8520" algn="just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8520" algn="just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8520" algn="just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rebuchet MS"/>
              </a:rPr>
              <a:t>Количество горизонтальных столбцов в таблице, конечно же, зависит от типа урока, который проектирует учитель. Именно тип урока определяет количество необходимых для его реализации этапов.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8520">
              <a:lnSpc>
                <a:spcPct val="90000"/>
              </a:lnSpc>
              <a:spcBef>
                <a:spcPts val="42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Picture 4" descr="C:\Documents and Settings\Администратор\Мои документы\post-it-note.jpg"/>
          <p:cNvPicPr/>
          <p:nvPr/>
        </p:nvPicPr>
        <p:blipFill>
          <a:blip r:embed="rId2"/>
          <a:srcRect l="16756" t="9291" r="17470" b="15555"/>
          <a:stretch/>
        </p:blipFill>
        <p:spPr>
          <a:xfrm>
            <a:off x="581040" y="2349360"/>
            <a:ext cx="2422440" cy="2448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4" descr="C:\Documents and Settings\Администратор\Мои документы\post-it-note.jpg"/>
          <p:cNvPicPr/>
          <p:nvPr/>
        </p:nvPicPr>
        <p:blipFill>
          <a:blip r:embed="rId3"/>
          <a:srcRect l="16756" t="9291" r="17470" b="15555"/>
          <a:stretch/>
        </p:blipFill>
        <p:spPr>
          <a:xfrm>
            <a:off x="3348000" y="2259000"/>
            <a:ext cx="2422440" cy="2449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C:\Documents and Settings\Администратор\Мои документы\post-it-note.jpg"/>
          <p:cNvPicPr/>
          <p:nvPr/>
        </p:nvPicPr>
        <p:blipFill>
          <a:blip r:embed="rId4"/>
          <a:srcRect l="16756" t="9291" r="17470" b="15555"/>
          <a:stretch/>
        </p:blipFill>
        <p:spPr>
          <a:xfrm>
            <a:off x="6084720" y="2259000"/>
            <a:ext cx="2421000" cy="2449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 rot="21436800">
            <a:off x="887040" y="2808000"/>
            <a:ext cx="1870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д урока (с фиксированием этапа уро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7"/>
          <p:cNvSpPr/>
          <p:nvPr/>
        </p:nvSpPr>
        <p:spPr>
          <a:xfrm rot="21357000">
            <a:off x="3692160" y="2979720"/>
            <a:ext cx="181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8"/>
          <p:cNvSpPr/>
          <p:nvPr/>
        </p:nvSpPr>
        <p:spPr>
          <a:xfrm rot="21357000">
            <a:off x="6384600" y="2987640"/>
            <a:ext cx="18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ятельность обучающего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Заголовок 1" descr=""/>
          <p:cNvPicPr/>
          <p:nvPr/>
        </p:nvPicPr>
        <p:blipFill>
          <a:blip r:embed="rId1"/>
          <a:stretch/>
        </p:blipFill>
        <p:spPr>
          <a:xfrm>
            <a:off x="1792440" y="4157640"/>
            <a:ext cx="6838920" cy="2919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 txBox="1"/>
          <p:nvPr/>
        </p:nvSpPr>
        <p:spPr>
          <a:xfrm>
            <a:off x="25092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404040"/>
                </a:solidFill>
                <a:latin typeface="Trebuchet MS"/>
              </a:rPr>
              <a:t>Единых требований к составлению технологических карт не существует; учитель выбирает ту форму, которая для него наиболее приемлема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442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785880" y="371520"/>
            <a:ext cx="7572240" cy="792000"/>
          </a:xfrm>
          <a:prstGeom prst="rect">
            <a:avLst/>
          </a:prstGeom>
          <a:ln w="0">
            <a:noFill/>
          </a:ln>
        </p:spPr>
      </p:pic>
      <p:pic>
        <p:nvPicPr>
          <p:cNvPr id="242" name="table" descr=""/>
          <p:cNvPicPr/>
          <p:nvPr/>
        </p:nvPicPr>
        <p:blipFill>
          <a:blip r:embed="rId2"/>
          <a:stretch/>
        </p:blipFill>
        <p:spPr>
          <a:xfrm>
            <a:off x="755640" y="907920"/>
            <a:ext cx="7848720" cy="4897440"/>
          </a:xfrm>
          <a:prstGeom prst="rect">
            <a:avLst/>
          </a:prstGeom>
          <a:ln w="0">
            <a:noFill/>
          </a:ln>
        </p:spPr>
      </p:pic>
      <p:sp>
        <p:nvSpPr>
          <p:cNvPr id="243" name="TextBox 2"/>
          <p:cNvSpPr/>
          <p:nvPr/>
        </p:nvSpPr>
        <p:spPr>
          <a:xfrm>
            <a:off x="2771640" y="26028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меры Т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4" name=""/>
          <p:cNvGraphicFramePr/>
          <p:nvPr/>
        </p:nvGraphicFramePr>
        <p:xfrm>
          <a:off x="611280" y="476280"/>
          <a:ext cx="8208720" cy="5614920"/>
        </p:xfrm>
        <a:graphic>
          <a:graphicData uri="http://schemas.openxmlformats.org/drawingml/2006/table">
            <a:tbl>
              <a:tblPr/>
              <a:tblGrid>
                <a:gridCol w="2916000"/>
                <a:gridCol w="5292720"/>
              </a:tblGrid>
              <a:tr h="30492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ЧЕСКАЯ КАРТА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разовательные: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вающие: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ь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У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УУД:                                   Регулятивные УУД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муникативные УУД:                      Познавательные УУД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18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нируемые результат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метные: знать…                              уметь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стные:</a:t>
                      </a:r>
                      <a:br>
                        <a:rPr sz="1400"/>
                      </a:b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тапредметны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ые пон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жпредметные связ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сурсы: основные и дополните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ур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Администратор\Мои документы\Технологическая карта урока по ФГОС\karta.jpg"/>
          <p:cNvPicPr/>
          <p:nvPr/>
        </p:nvPicPr>
        <p:blipFill>
          <a:blip r:embed="rId1"/>
          <a:stretch/>
        </p:blipFill>
        <p:spPr>
          <a:xfrm>
            <a:off x="395280" y="277920"/>
            <a:ext cx="8353440" cy="63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3T11:42:07Z</dcterms:created>
  <dc:creator>Comp</dc:creator>
  <dc:description/>
  <dc:language>en-US</dc:language>
  <cp:lastModifiedBy>Индира Курбанова</cp:lastModifiedBy>
  <dcterms:modified xsi:type="dcterms:W3CDTF">2020-04-23T11:19:20Z</dcterms:modified>
  <cp:revision>58</cp:revision>
  <dc:subject/>
  <dc:title>Слайд 1</dc:title>
</cp:coreProperties>
</file>