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F16-78BF-4B84-B6B9-306DA161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41F-D983-45ED-BB50-FF2D55DE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673-AEDE-412D-B0B0-9CCB13EC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B09-7045-48B3-850D-CA2DC32C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3BE-3052-4E7A-BBCB-14DF74A0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AD3A-9AE4-489D-B5A8-82F36A93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7B9-E32D-4285-A86C-BB70F12E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46E-7A35-4E71-ADD0-0B9534A4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D16A-2FED-4DF6-B60E-566A2419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2CB1-BC86-4F6A-B2B3-576D5446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113F-B6DB-4770-A71F-EB35E7C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CAD-BAEC-4095-B397-CF0BBFF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CE42-8C2A-4422-832F-C9CF778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A98F-30A2-4A39-947E-0251DCF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D5BC-4EF3-4BBB-9524-84950EA3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D5C6-9BCD-4904-B49C-D3F1FEAC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F034-A22C-4D7C-BD7D-BD24C80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AAA0-EAD0-4B12-8B64-DC0B95E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5BAA-612A-4924-97B4-4D4FDFE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AA13-BC7B-4941-860B-C14C4DC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6DB4-30C0-4822-9EB5-123370D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6E2E-15E2-476C-8A23-A233B88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50E-F12A-4F67-A99D-AF59ABD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BE1C-6FFE-4D40-9BFE-3D8500E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4709-546E-4F7C-941D-CFBDD26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32B9-B98D-451E-82D6-2692CF1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C347-8AD9-44B5-A5BB-AF6837B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4693-4543-40AB-BE20-858853B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31C8-710D-423E-B28F-EA25DC71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3F34-9F34-49AA-8961-23DF3343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0039-0766-48AB-95DC-664DA20B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85B9-7802-4D72-98FF-606AB5C5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8D56-BE54-4FF1-8623-52C52B8F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3AA-8AA3-424D-AADA-D2DEFDA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6546-66C5-4416-84A1-B6B1BB3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DEF4-4B59-4695-8E25-2CD9058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2F57-D3B4-43E3-9263-91A2F6A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B526-4A1E-4DDD-8EBC-6D5BA67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FAE8-F686-4A68-A11C-4771330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390B-9444-4364-B9E9-558686C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5931-CFC6-40C4-86F8-B01E5CA9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55EF-B13A-45EC-8569-AEAC67AE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A043-968B-45FE-90B8-D332DFA0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D0D-ED9E-44DF-AE97-5B5E5E3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D49-B1D7-4EF5-A571-0967C6D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E41-40E7-484D-8278-A74784D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D0C-3FF6-41A0-944A-94203F8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B82-8CB2-4676-80F8-3E9D8B9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8614-E2E4-43DB-813A-B0250C4959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5C8-DE23-4146-8DEF-7AFEEF8590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4A53-F1BB-45C3-9C04-A295D7BAE8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116-05E7-4335-81B7-15A8B997994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Подготовила учитель начальных класс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МБОУ СШ №1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Курбанова Индира Фидус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1243080"/>
            <a:ext cx="791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4" descr=""/>
          <p:cNvPicPr/>
          <p:nvPr/>
        </p:nvPicPr>
        <p:blipFill>
          <a:blip r:embed="rId2"/>
          <a:stretch/>
        </p:blipFill>
        <p:spPr>
          <a:xfrm>
            <a:off x="901800" y="274680"/>
            <a:ext cx="7456320" cy="852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84360" y="1125000"/>
            <a:ext cx="7883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видеть учебный материал целостно и системно и спроектировать учебный процесс по освоению темы с учетом цели курса предмет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выстраивать алгоритм работы по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определять виды УУД, которые формируются на изучаемом материал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воспитательные возможности тем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становить преемственность в изучении материал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межпредметные связ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971640" y="1506600"/>
            <a:ext cx="7704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возможность ориентироваться в образовательных целях в контексте стандартов 2-го 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четко отслеживать выполнение программы, осуществлять методическую помощ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системный мониторинг результатов  образовательного процесса, деятельности учителя и 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647640" y="549360"/>
            <a:ext cx="81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ая карта как административный инструм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763640" y="203832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322280"/>
            <a:ext cx="8096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633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076720" y="1267920"/>
            <a:ext cx="295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C:\Documents and Settings\Администратор\Мои документы\post-it-note.jpg"/>
          <p:cNvPicPr/>
          <p:nvPr/>
        </p:nvPicPr>
        <p:blipFill>
          <a:blip r:embed="rId2"/>
          <a:srcRect l="16753" t="9290" r="17471" b="15549"/>
          <a:stretch/>
        </p:blipFill>
        <p:spPr>
          <a:xfrm>
            <a:off x="1793880" y="549360"/>
            <a:ext cx="4681440" cy="39304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 rot="21387600">
            <a:off x="2547360" y="1766880"/>
            <a:ext cx="339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ческая карта уро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общенно-графическое выражение сценария урока, основа его проектирования, средство представления индивидуальных методов рабо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14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Администратор\Мои документы\post-it-note.jpg"/>
          <p:cNvPicPr/>
          <p:nvPr/>
        </p:nvPicPr>
        <p:blipFill>
          <a:blip r:embed="rId2"/>
          <a:srcRect l="16759" t="9289" r="17477" b="15556"/>
          <a:stretch/>
        </p:blipFill>
        <p:spPr>
          <a:xfrm>
            <a:off x="3244680" y="1386000"/>
            <a:ext cx="2778120" cy="28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Администратор\Мои документы\post-it-note.jpg"/>
          <p:cNvPicPr/>
          <p:nvPr/>
        </p:nvPicPr>
        <p:blipFill>
          <a:blip r:embed="rId3"/>
          <a:srcRect l="16759" t="9289" r="17477" b="15556"/>
          <a:stretch/>
        </p:blipFill>
        <p:spPr>
          <a:xfrm>
            <a:off x="395280" y="1386000"/>
            <a:ext cx="2776680" cy="280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Администратор\Мои документы\post-it-note.jpg"/>
          <p:cNvPicPr/>
          <p:nvPr/>
        </p:nvPicPr>
        <p:blipFill>
          <a:blip r:embed="rId4"/>
          <a:srcRect l="16760" t="9296" r="17474" b="15558"/>
          <a:stretch/>
        </p:blipFill>
        <p:spPr>
          <a:xfrm>
            <a:off x="6156360" y="1386000"/>
            <a:ext cx="2651040" cy="2681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 rot="21427200">
            <a:off x="6419520" y="1687680"/>
            <a:ext cx="2309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составляется учителем в соответствии с рабочей программой учебного курса, предмета, дисциплины (модул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21444600">
            <a:off x="3684600" y="1809360"/>
            <a:ext cx="208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технологической карты урока является обязательным для работы учителя общеобразовательного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Администратор\Мои документы\post-it-note.jpg"/>
          <p:cNvPicPr/>
          <p:nvPr/>
        </p:nvPicPr>
        <p:blipFill>
          <a:blip r:embed="rId5"/>
          <a:srcRect l="16759" t="9294" r="17477" b="15550"/>
          <a:stretch/>
        </p:blipFill>
        <p:spPr>
          <a:xfrm>
            <a:off x="3138480" y="3879720"/>
            <a:ext cx="2778120" cy="299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 rot="21403800">
            <a:off x="3460680" y="43304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может быть составлена в форме конспекта или таблицы, в которой фиксируются узловые бл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 rot="21436800">
            <a:off x="669600" y="1981080"/>
            <a:ext cx="237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относится к локальным актам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920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84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сходя из особенностей системно-деятельностного подхода определился перечень основных вертикальных столбцов карты: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Количество горизонтальных столбцов в таблице, конечно же, зависит от типа урока, который проектирует учитель. Именно тип урока определяет количество необходимых для его реализации этап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4" descr="C:\Documents and Settings\Администратор\Мои документы\post-it-note.jpg"/>
          <p:cNvPicPr/>
          <p:nvPr/>
        </p:nvPicPr>
        <p:blipFill>
          <a:blip r:embed="rId2"/>
          <a:srcRect l="16756" t="9291" r="17470" b="15555"/>
          <a:stretch/>
        </p:blipFill>
        <p:spPr>
          <a:xfrm>
            <a:off x="581040" y="2349360"/>
            <a:ext cx="2422440" cy="244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Администратор\Мои документы\post-it-note.jpg"/>
          <p:cNvPicPr/>
          <p:nvPr/>
        </p:nvPicPr>
        <p:blipFill>
          <a:blip r:embed="rId3"/>
          <a:srcRect l="16756" t="9291" r="17470" b="15555"/>
          <a:stretch/>
        </p:blipFill>
        <p:spPr>
          <a:xfrm>
            <a:off x="3348000" y="2259000"/>
            <a:ext cx="2422440" cy="244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Администратор\Мои документы\post-it-note.jpg"/>
          <p:cNvPicPr/>
          <p:nvPr/>
        </p:nvPicPr>
        <p:blipFill>
          <a:blip r:embed="rId4"/>
          <a:srcRect l="16756" t="9291" r="17470" b="15555"/>
          <a:stretch/>
        </p:blipFill>
        <p:spPr>
          <a:xfrm>
            <a:off x="6084720" y="2259000"/>
            <a:ext cx="2421000" cy="2449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 rot="21436800">
            <a:off x="887040" y="2808000"/>
            <a:ext cx="187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урока (с фиксированием этапа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 rot="21357000">
            <a:off x="3692160" y="297972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 rot="21357000">
            <a:off x="6384600" y="2987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2919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Единых требований к составлению технологических карт не существует; учитель выбирает ту форму, которая для него наиболее приемлем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785880" y="371520"/>
            <a:ext cx="7572240" cy="792000"/>
          </a:xfrm>
          <a:prstGeom prst="rect">
            <a:avLst/>
          </a:prstGeom>
          <a:ln w="0">
            <a:noFill/>
          </a:ln>
        </p:spPr>
      </p:pic>
      <p:pic>
        <p:nvPicPr>
          <p:cNvPr id="242" name="table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848720" cy="4897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2771640" y="260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Т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611280" y="476280"/>
          <a:ext cx="8208720" cy="5614920"/>
        </p:xfrm>
        <a:graphic>
          <a:graphicData uri="http://schemas.openxmlformats.org/drawingml/2006/table">
            <a:tbl>
              <a:tblPr/>
              <a:tblGrid>
                <a:gridCol w="2916000"/>
                <a:gridCol w="5292720"/>
              </a:tblGrid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УУД:                                   Регулятив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:                      Познаватель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 знать…                              уметь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: основные и допол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дминистратор\Мои документы\Технологическая карта урока по ФГОС\karta.jpg"/>
          <p:cNvPicPr/>
          <p:nvPr/>
        </p:nvPicPr>
        <p:blipFill>
          <a:blip r:embed="rId1"/>
          <a:stretch/>
        </p:blipFill>
        <p:spPr>
          <a:xfrm>
            <a:off x="395280" y="277920"/>
            <a:ext cx="835344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Индира Курбанова</cp:lastModifiedBy>
  <dcterms:modified xsi:type="dcterms:W3CDTF">2020-04-23T11:19:20Z</dcterms:modified>
  <cp:revision>58</cp:revision>
  <dc:subject/>
  <dc:title>Слайд 1</dc:title>
</cp:coreProperties>
</file>