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E41-67A7-4BF1-A14B-FC60833F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4DE-C7DC-4076-A8FF-17177D68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B5E-E441-4D2C-BAF9-D4F4AACC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69E-76F1-43DD-9AD0-49D11C22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A27B-3058-4462-A044-54B7F4D9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5869-D257-4BB4-9140-F20F9EFF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B59E-3B45-4CF3-9741-D33F2558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F031-C451-488D-A2FA-E6E14E2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3DA2-EB7F-437C-950A-6480E32B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1FBB-1557-4A5E-96D3-93AF3205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ECBB-DE0C-44C7-BB87-46D1A3D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BC6-D4BA-4737-B4A1-FF34DF6C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76BA-AADB-4B39-96F5-5644E557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4E0-09DA-4E87-9BF6-8EB82D4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93A2-E59B-49A9-857B-324D096F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CD97-7EA6-4BE9-BF33-5632F563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B54A-9374-4104-BAF8-6155B750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99709-0408-4BFB-82EA-D68F359D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ED75-3980-4D6D-8DA1-E4D6C304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6F86-3B16-49DF-A4DC-AF7D91BF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7E71-3F6D-423B-97A3-7C945FC7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F85F-F407-48BF-BD24-5883D374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CAF-6662-421E-A168-0A9B118F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24915-DB31-4AAA-BA86-C581BAA8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AED9-F447-4D0F-90C3-52313D7D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6E1B-123F-426C-9BEC-605C8E8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562F0-7622-4858-B172-3659AD14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3908-12B8-4FA1-B7A6-FEA09F27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96AC-01D3-4C1F-A5AB-7AE47CAA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A7FA-19AB-4A5E-B3B4-04300733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412D-9E1C-4DF4-9A4B-DA52849D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6B6B-171F-45F6-AF80-8B6BC3FF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F18E-2FCA-4A54-9842-0B243ED3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EF3-E345-40B5-A154-E6D320C2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3403-2CB4-4724-9E23-37AAD9A8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BCFBE-F138-4A81-A961-67B54BD6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FE92-7DCE-47DC-AED3-053AB3BF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A026-43AE-4B92-8786-C99663B5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5FD6D-B502-4386-ADF9-8DF5E2F4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B270-A8A6-4803-B99B-6EC5AC28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A26F-54BE-4B68-BFC8-B8C61EE7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CA5F-7AE9-4181-B069-88A51EEB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0846-C0C1-491C-AA30-00DB0C1C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6C6-F369-4687-ABA4-3D8E2F6F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DE2-6740-4699-9BDA-A0CC2240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5CF-A1C9-4665-AB20-097FAB13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44E-2D7C-4ECA-A08F-678241AF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6B3-3F33-4344-8D65-1C32361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A721-BE5C-413C-82E7-2F0860737D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078-5520-430E-8534-6541157AD9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6D5E-F8BD-4A7B-B68F-02768DBFDBF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0512-EBA7-409B-ADC5-9C5B1B0B68F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Подготовила учитель начальных класс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МБОУ СШ №1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Курбанова Индира Фидус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6400" y="1243080"/>
            <a:ext cx="791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Безимени-1"/>
          <p:cNvPicPr/>
          <p:nvPr/>
        </p:nvPicPr>
        <p:blipFill>
          <a:blip r:embed="rId1"/>
          <a:stretch/>
        </p:blipFill>
        <p:spPr>
          <a:xfrm>
            <a:off x="7991640" y="6540480"/>
            <a:ext cx="1152360" cy="317520"/>
          </a:xfrm>
          <a:prstGeom prst="rect">
            <a:avLst/>
          </a:prstGeom>
          <a:ln w="0">
            <a:noFill/>
          </a:ln>
        </p:spPr>
      </p:pic>
      <p:pic>
        <p:nvPicPr>
          <p:cNvPr id="247" name="Заголовок 4" descr=""/>
          <p:cNvPicPr/>
          <p:nvPr/>
        </p:nvPicPr>
        <p:blipFill>
          <a:blip r:embed="rId2"/>
          <a:stretch/>
        </p:blipFill>
        <p:spPr>
          <a:xfrm>
            <a:off x="901800" y="274680"/>
            <a:ext cx="7456320" cy="852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684360" y="1125000"/>
            <a:ext cx="7883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увидеть учебный материал целостно и системно и спроектировать учебный процесс по освоению темы с учетом цели курса предмет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выстраивать алгоритм работы по тем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определять виды УУД, которые формируются на изучаемом материал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реализовать воспитательные возможности темы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установить преемственность в изучении материал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реализовать межпредметные связ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971640" y="1506600"/>
            <a:ext cx="77040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ет возможность ориентироваться в образовательных целях в контексте стандартов 2-го поко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четко отслеживать выполнение программы, осуществлять методическую помощ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ет системный мониторинг результатов  образовательного процесса, деятельности учителя и 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647640" y="549360"/>
            <a:ext cx="81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ая карта как административный инструме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Безимени-1"/>
          <p:cNvPicPr/>
          <p:nvPr/>
        </p:nvPicPr>
        <p:blipFill>
          <a:blip r:embed="rId1"/>
          <a:stretch/>
        </p:blipFill>
        <p:spPr>
          <a:xfrm>
            <a:off x="7991640" y="6540480"/>
            <a:ext cx="1152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763640" y="203832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676440" y="1322280"/>
            <a:ext cx="80960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792440" y="4370400"/>
            <a:ext cx="6516360" cy="1633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076720" y="1267920"/>
            <a:ext cx="295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Picture 4" descr="C:\Documents and Settings\Администратор\Мои документы\post-it-note.jpg"/>
          <p:cNvPicPr/>
          <p:nvPr/>
        </p:nvPicPr>
        <p:blipFill>
          <a:blip r:embed="rId2"/>
          <a:srcRect l="16753" t="9290" r="17471" b="15549"/>
          <a:stretch/>
        </p:blipFill>
        <p:spPr>
          <a:xfrm>
            <a:off x="1793880" y="549360"/>
            <a:ext cx="4681440" cy="39304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 rot="21387600">
            <a:off x="2547360" y="1766880"/>
            <a:ext cx="3395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ческая карта уро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бобщенно-графическое выражение сценария урока, основа его проектирования, средство представления индивидуальных методов рабо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792440" y="4370400"/>
            <a:ext cx="6516360" cy="1146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Documents and Settings\Администратор\Мои документы\post-it-note.jpg"/>
          <p:cNvPicPr/>
          <p:nvPr/>
        </p:nvPicPr>
        <p:blipFill>
          <a:blip r:embed="rId2"/>
          <a:srcRect l="16759" t="9289" r="17477" b="15556"/>
          <a:stretch/>
        </p:blipFill>
        <p:spPr>
          <a:xfrm>
            <a:off x="3244680" y="1386000"/>
            <a:ext cx="2778120" cy="28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Администратор\Мои документы\post-it-note.jpg"/>
          <p:cNvPicPr/>
          <p:nvPr/>
        </p:nvPicPr>
        <p:blipFill>
          <a:blip r:embed="rId3"/>
          <a:srcRect l="16759" t="9289" r="17477" b="15556"/>
          <a:stretch/>
        </p:blipFill>
        <p:spPr>
          <a:xfrm>
            <a:off x="395280" y="1386000"/>
            <a:ext cx="2776680" cy="280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Documents and Settings\Администратор\Мои документы\post-it-note.jpg"/>
          <p:cNvPicPr/>
          <p:nvPr/>
        </p:nvPicPr>
        <p:blipFill>
          <a:blip r:embed="rId4"/>
          <a:srcRect l="16760" t="9296" r="17474" b="15558"/>
          <a:stretch/>
        </p:blipFill>
        <p:spPr>
          <a:xfrm>
            <a:off x="6156360" y="1386000"/>
            <a:ext cx="2651040" cy="26812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 rot="21427200">
            <a:off x="6419520" y="1687680"/>
            <a:ext cx="2309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 составляется учителем в соответствии с рабочей программой учебного курса, предмета, дисциплины (модул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21444600">
            <a:off x="3684600" y="1809360"/>
            <a:ext cx="2087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технологической карты урока является обязательным для работы учителя общеобразовательного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Documents and Settings\Администратор\Мои документы\post-it-note.jpg"/>
          <p:cNvPicPr/>
          <p:nvPr/>
        </p:nvPicPr>
        <p:blipFill>
          <a:blip r:embed="rId5"/>
          <a:srcRect l="16759" t="9294" r="17477" b="15550"/>
          <a:stretch/>
        </p:blipFill>
        <p:spPr>
          <a:xfrm>
            <a:off x="3138480" y="3879720"/>
            <a:ext cx="2778120" cy="299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 rot="21403800">
            <a:off x="3460680" y="4330440"/>
            <a:ext cx="2305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 может быть составлена в форме конспекта или таблицы, в которой фиксируются узловые бло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 rot="21436800">
            <a:off x="669600" y="1981080"/>
            <a:ext cx="237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 относится к локальным актам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920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84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520"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сходя из особенностей системно-деятельностного подхода определился перечень основных вертикальных столбцов карты: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Количество горизонтальных столбцов в таблице, конечно же, зависит от типа урока, который проектирует учитель. Именно тип урока определяет количество необходимых для его реализации этап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4" descr="C:\Documents and Settings\Администратор\Мои документы\post-it-note.jpg"/>
          <p:cNvPicPr/>
          <p:nvPr/>
        </p:nvPicPr>
        <p:blipFill>
          <a:blip r:embed="rId2"/>
          <a:srcRect l="16756" t="9291" r="17470" b="15555"/>
          <a:stretch/>
        </p:blipFill>
        <p:spPr>
          <a:xfrm>
            <a:off x="581040" y="2349360"/>
            <a:ext cx="2422440" cy="244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Documents and Settings\Администратор\Мои документы\post-it-note.jpg"/>
          <p:cNvPicPr/>
          <p:nvPr/>
        </p:nvPicPr>
        <p:blipFill>
          <a:blip r:embed="rId3"/>
          <a:srcRect l="16756" t="9291" r="17470" b="15555"/>
          <a:stretch/>
        </p:blipFill>
        <p:spPr>
          <a:xfrm>
            <a:off x="3348000" y="2259000"/>
            <a:ext cx="2422440" cy="244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Documents and Settings\Администратор\Мои документы\post-it-note.jpg"/>
          <p:cNvPicPr/>
          <p:nvPr/>
        </p:nvPicPr>
        <p:blipFill>
          <a:blip r:embed="rId4"/>
          <a:srcRect l="16756" t="9291" r="17470" b="15555"/>
          <a:stretch/>
        </p:blipFill>
        <p:spPr>
          <a:xfrm>
            <a:off x="6084720" y="2259000"/>
            <a:ext cx="2421000" cy="2449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 rot="21436800">
            <a:off x="887040" y="2808000"/>
            <a:ext cx="187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урока (с фиксированием этапа ур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 rot="21357000">
            <a:off x="3692160" y="297972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 rot="21357000">
            <a:off x="6384600" y="298764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обучаю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8920" cy="2919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Единых требований к составлению технологических карт не существует; учитель выбирает ту форму, которая для него наиболее приемлем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785880" y="371520"/>
            <a:ext cx="7572240" cy="792000"/>
          </a:xfrm>
          <a:prstGeom prst="rect">
            <a:avLst/>
          </a:prstGeom>
          <a:ln w="0">
            <a:noFill/>
          </a:ln>
        </p:spPr>
      </p:pic>
      <p:pic>
        <p:nvPicPr>
          <p:cNvPr id="242" name="table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848720" cy="48974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2771640" y="2602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Т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611280" y="476280"/>
          <a:ext cx="8208720" cy="5614920"/>
        </p:xfrm>
        <a:graphic>
          <a:graphicData uri="http://schemas.openxmlformats.org/drawingml/2006/table">
            <a:tbl>
              <a:tblPr/>
              <a:tblGrid>
                <a:gridCol w="2916000"/>
                <a:gridCol w="5292720"/>
              </a:tblGrid>
              <a:tr h="30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ЧЕСКАЯ КАРТ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УУД:                                   Регулятивные УУ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:                      Познавательные УУ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: знать…                              уметь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предметные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: основные и допол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Администратор\Мои документы\Технологическая карта урока по ФГОС\karta.jpg"/>
          <p:cNvPicPr/>
          <p:nvPr/>
        </p:nvPicPr>
        <p:blipFill>
          <a:blip r:embed="rId1"/>
          <a:stretch/>
        </p:blipFill>
        <p:spPr>
          <a:xfrm>
            <a:off x="395280" y="277920"/>
            <a:ext cx="8353440" cy="63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Индира Курбанова</cp:lastModifiedBy>
  <dcterms:modified xsi:type="dcterms:W3CDTF">2020-04-23T11:19:20Z</dcterms:modified>
  <cp:revision>58</cp:revision>
  <dc:subject/>
  <dc:title>Слайд 1</dc:title>
</cp:coreProperties>
</file>