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CCD-CF1E-476D-AA1C-27EE2BF7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84A-6975-43AD-A5B4-0973A372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524-9B65-44E7-AA3F-D662B514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CE9-F289-4758-9D84-A386CB05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BCC8-9D17-4215-BF31-A7BF360E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8EF7-A2DE-47F8-BA6D-2C431384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03D2-2CF9-40E3-B76F-44A84017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5366-2F61-41A6-B1D8-7CE50B71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B609-F510-40B0-9670-0BF827BE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CAF5-2590-483A-9C76-7CAC4856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6030-35D9-4DA8-9C6D-49E7122C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10D-0B9F-4C83-89EC-2A8B6090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C763-9C36-4C08-9D11-068E0FF2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6785-3CD4-436E-BB36-C4AEEF10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92AF-9D30-4A94-9C1B-260647C8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24A9-FEE6-4F43-9E00-A21ABD7E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899A-E6FA-439D-99C3-E3DDACB6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BAC-89F5-4422-8474-7B0E359A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208-101B-4FAE-8C6C-130F3CE8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845-CEB4-4131-A04F-880A4D66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CE6-6A96-452E-A530-9F3A3A91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F9F3-6946-4476-B51A-958193EC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F05-4EB0-4FFB-B1BA-BD7B8613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841-2BEA-4567-A025-57F5EBF3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9442-BFE1-47C3-898E-30E0D72E5E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3C16-90BF-46A4-BB76-C5127318A79F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-92160" y="2917800"/>
            <a:ext cx="5580000" cy="3911760"/>
          </a:xfrm>
          <a:prstGeom prst="rect">
            <a:avLst/>
          </a:prstGeom>
          <a:ln w="0">
            <a:noFill/>
          </a:ln>
        </p:spPr>
      </p:pic>
      <p:sp>
        <p:nvSpPr>
          <p:cNvPr id="352" name="WordArt 4"/>
          <p:cNvSpPr txBox="1"/>
          <p:nvPr/>
        </p:nvSpPr>
        <p:spPr>
          <a:xfrm>
            <a:off x="250920" y="333360"/>
            <a:ext cx="3816360" cy="19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 м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296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осле Октябрьской революции 1917 года праздник стал официальным: в этот день проводились демонстрации трудящихся и военные парады (первый первомайский парад РККА состоялся в 1918 году на Ходынском поле). На второй день праздника, как правило, во всей стране проходили «маёвки» — массовые празднования на природ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36248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1640" y="2421000"/>
            <a:ext cx="381492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ервомайская демонстрация в Москве, 1960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09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В эпоху «развитого социализма» в СССР первомайские демонстрации стали нести иную смысловую нагрузку. В день первого мая трудящиеся СССР «выражают свою солидарность с революционной борьбой трудящихся капиталистических стран, с национально-освободительным движением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490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 1992 году праздник был переименован в «Праздник весны и труда»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Социальное звучание этого праздника сегодня изменилось. Сейчас Первомай (1 мая) - это праздник весны и труда, праздник всех людей, кто трудится , создавая богатство страны . Этот день символизирует начало весны и несет в себе большой эмоциональный заряд весеннего пробуждения. И пусть традиция широко отмечать этот праздник уходит в прошлое, он все равно привносит в нашу жизнь много дружелюбия, радости и свет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80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пять, над миром поднима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се выше чистоту небес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летает юный ветер ма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К нам с обещанием чудес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усть будет этот праздник светел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Я поздравляю вас, и внов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Желаю чтоб и вам, и детям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арил он радости любовь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Живите в мире и любви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Трудитесь всем во благо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есны желаю для души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 ласкового мая!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1 МАЯ 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ервома́й — другие названия: День труда, День весны, Праздник весны и труда (в РФ), День международной солидарности трудящихся — отмечается в 142 странах и территориях мира 1 мая или в первый понедельник мая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В некоторых странах День труда отмечается в другое время — к ним относятся, например, США, Япония, Австралия и Новая Зеландия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57200" y="549360"/>
            <a:ext cx="82296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Традиция праздновать Первомай возникла очень давно, еще в конце 19 века. 1 мая 1886 года рабочие многих стран мира вышли на демонстрации с требованием введения восьмичасового рабочего дня. В результате жестоких действий властей по разгону демонстрантов несколько человек погибло, многие получили ранения, а организаторы были приговорены к казни. Именно в память об этих событиях 1 мая стал Днем международной солидарности трудящихся и по всему миру отмечался выступлениями рабочих с социальными требованиями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0072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447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В Российской империи Первомай как день международной солидарности впервые отметили в 1890 году в Варшаве проведением стачки 10 тыс. рабочих. С 1897 года маёвки стали носить политический характер и сопровождались массовыми демонстрациями. Первомайские выступления рабочих в 1901 году в Петербурге, Тбилиси, Гомеле, Харькове и др. городах впервые сопровождались лозунгами: «Долой самодержавие!», «Да здравствует республика!», столкновениями с войсками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296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На первомайские стачки и демонстрации 1912—1914 годов выходило более 400 тыс. рабочих. В 1917 году, после Февральской революции, Первомай впервые отпраздновали открыто: миллионы рабочих вышли на улицы с лозунгами «Долой министров-капиталистов», «Вся власть Советам», «Долой империалистическую войну!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8:05:20Z</dcterms:created>
  <dc:creator>sc24</dc:creator>
  <dc:description/>
  <dc:language>en-US</dc:language>
  <cp:lastModifiedBy>Natasha</cp:lastModifiedBy>
  <dcterms:modified xsi:type="dcterms:W3CDTF">2020-04-25T01:14:34Z</dcterms:modified>
  <cp:revision>7</cp:revision>
  <dc:subject/>
  <dc:title>Слайд 1</dc:title>
</cp:coreProperties>
</file>