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A6-15DE-4244-95FC-0EEF062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29E-2068-4AAF-819D-7A66E2EF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DB06B-1B38-42C6-9284-EA8AB70E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E1178-9AE2-4AD9-99CA-DCCEFDB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677D-A427-40CA-B2B1-1911CCAC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79196-1861-40CD-B950-F0A43FFE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DCC61-685E-49D4-BBE8-B857958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3339-62A5-45AF-9ED8-AF2608C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0DE55-B48A-4FCB-93D6-5A37836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81F22-D896-4D61-A92C-827845EF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08BF-DCC8-4F1B-A372-0B6EE684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5F3-7877-42C9-AF90-E04AC581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307-4418-49C6-884A-196AC3AC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078-8814-4B44-ADE1-978D157F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FA5-D9AF-4C44-BD83-B0FEC01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DCFA-6982-462A-A346-80B3F0C4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D29-1F56-4D4E-BBDF-B19C2A6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CEAD-69AD-4AED-AD6E-2A5068B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7E73-7425-4EC0-A0E0-1244C3B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7DC9-2395-4470-A053-2536F3E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8FD-DB83-49E9-B999-77AAA0D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1DE-9FB0-42E5-B748-642688D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8AFA-53B4-42FF-9F02-B234FB1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811-1923-4C19-A281-55BCA14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527-502F-411C-AFAB-2CF8EF4F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4A38-0AA4-409A-A829-A9D60ECC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EFFC-B3E3-481F-937C-7287CDFC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422F-5FF1-496E-972D-14EACF8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97F7-FA7C-49B9-A6CB-B0C5281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E4D3-560F-4927-9A44-EA37029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F567-419E-4E65-B724-AC8159B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7DF-10CC-4C46-850E-87175F5D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B1E4-5C7C-40C6-A41E-1BA3BCA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82B1-3828-46EA-A708-76A2863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02DF-F88B-4033-A691-625B4E0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3AD8-ADEE-4884-A80D-46FC15C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48AB-DBCB-4D8A-9AD3-1D168DD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4DB5-5E39-4748-AB41-F0765280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3CBD-011A-4BDB-96BA-AABB3318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FA13-FE4B-408B-AEC6-232D6A6C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DF30-9096-441F-9671-F98A66B9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5DC7-8A45-422D-8269-D5D24196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D30-199B-47A3-9DC8-8A93B5F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2FE9-F4DF-40CD-A5BC-06D684E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5CA1-FD4F-4090-98A0-65EC10BD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A0F3-CD3D-45BC-A356-01F94A38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6F0B-266D-4560-8DE8-89B28D7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2A22-C361-4D8B-BF40-D6D6D76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84DB-0A47-4FD5-A255-ED4B2C28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123D-1E48-40E7-ABAD-FE9686F0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A10C-A20F-4940-B075-E899D8DC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6189-5B0F-4954-A1A2-A9B85EC0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C463-AC75-47C2-8761-B0D21E85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743-00B0-4206-AE9C-EC00C05F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8ED4-027B-42F8-8E35-FD20F67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1272-BD68-4F25-9E73-C0B29B95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642C-D24A-4C4C-8DC3-17001292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79AD-5F06-45E7-AAE8-8C9B4AF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6410-30FF-49E9-9E48-5BE5692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2E9D-21B7-45BE-9A04-1B3295C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9DF34-6496-482D-BB01-A895536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6B90-9169-4CB5-A29B-1555DAB5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EB9D-2064-42E3-A4E3-D26432A1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BC0F-B2C5-46FC-80C7-CB32F425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2B6-C88A-4198-A3BF-4AA052D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AF4D-45EA-4D8E-B6A9-C1965EF8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2225-D062-45AC-AB00-1042A119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D7DD-8430-4A8A-8441-967F98E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AC55-8EB2-4B40-839B-9DA6753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74E5-E0D7-4C65-A433-56CAE78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8D32-4865-459E-B7B7-CF6E4F0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0B1E-8E97-43B1-885A-F8A299C8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EEBE0-4DC1-4166-A3E6-1AB0E8F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409B-F582-4578-917D-B5B483F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ABCA-899B-4539-8262-F981E1A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DFF-371D-4EA5-8DC4-7FC09ED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50A1-3ECB-4ED0-A142-7AD38CE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6632-CD76-4AD3-8316-5CB2297D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5ABD-5554-4822-A6A5-BC8AB1FE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CDF78-2D08-4657-BE2E-9A075BFD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36E6-A085-4693-8399-9416812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DF39-D54E-4C3E-AD25-8ABC8C8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9144-EB11-4188-B235-3A3C4B4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507B-53F7-47C1-9D66-54FAE003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7EDBC-75A5-4DBA-8A95-DA80E23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0978-5A7C-487E-80C2-22D3297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D62-EFCA-45D6-8771-51A71F2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4EE9-397D-49DD-94AC-2C2A993D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26D03-B76C-48F5-8C51-F2B7DF6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96AD-B1E3-479C-96B4-EEBE098B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BB08-15A6-4CC5-9029-016E5DD2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C38E-17CE-4043-A439-4AE3FC9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4BE3-8B01-4833-B2E3-8A881D82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4EAB-0F43-4AFD-A7EB-643A6FE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4125-6488-4708-9CFA-C31B97E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5A32-BD7A-446F-AE49-750E8B7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8C01-FAC5-42A6-AD3F-3D20EB3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3D5-669D-4A78-870B-1846AD9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3618-313C-4B72-82D3-55B3F3B1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D6E47-F979-45A0-A9A4-84218F7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88F6-24A7-40DD-845E-DDB4DF5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94E7-47DD-4FB0-A010-34266B6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9133B-792F-42DF-B07B-65FFCE3B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D9D5A-175B-4BC7-B5AF-FF2AF08E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1FA13-1898-4187-A8AC-A0315774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4C970-830B-4903-9730-87BBED39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30169-8F7B-4A33-BE75-29F80464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86F38-3B29-449E-AB9A-5522F39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03D0-62A1-497A-A797-AAE140836ED5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E57F-7B2A-4031-AF81-E8DF880FAA81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6F0-9555-40E2-A4C1-1146F5586E36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89C4-0EBB-4721-9C3E-66353E3175BD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9B0-A8FA-4FF8-A396-C7E2DB5D573D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A34-FA1E-4D8A-AC7E-D9C3FCD10CAE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AA6-82FD-4843-906B-343BA0527542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E914-ED2A-4A37-BDF8-3625B442CBEE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AA1-68DB-4903-95DD-880A098EF281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127160" y="1347840"/>
            <a:ext cx="7029360" cy="134604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212920" y="3213000"/>
            <a:ext cx="4767480" cy="584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Рисунок1 копия.png"/>
          <p:cNvPicPr/>
          <p:nvPr/>
        </p:nvPicPr>
        <p:blipFill>
          <a:blip r:embed="rId3"/>
          <a:stretch/>
        </p:blipFill>
        <p:spPr>
          <a:xfrm>
            <a:off x="2500200" y="428616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Рисунок1 копия.png"/>
          <p:cNvPicPr/>
          <p:nvPr/>
        </p:nvPicPr>
        <p:blipFill>
          <a:blip r:embed="rId4"/>
          <a:stretch/>
        </p:blipFill>
        <p:spPr>
          <a:xfrm>
            <a:off x="4071960" y="542916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Рисунок1 копия.png"/>
          <p:cNvPicPr/>
          <p:nvPr/>
        </p:nvPicPr>
        <p:blipFill>
          <a:blip r:embed="rId5"/>
          <a:stretch/>
        </p:blipFill>
        <p:spPr>
          <a:xfrm>
            <a:off x="4286160" y="3929040"/>
            <a:ext cx="890640" cy="12146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8" descr="Рисунок1 копия.png"/>
          <p:cNvPicPr/>
          <p:nvPr/>
        </p:nvPicPr>
        <p:blipFill>
          <a:blip r:embed="rId6"/>
          <a:stretch/>
        </p:blipFill>
        <p:spPr>
          <a:xfrm>
            <a:off x="2214720" y="542916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9" descr="Рисунок1 копия.png"/>
          <p:cNvPicPr/>
          <p:nvPr/>
        </p:nvPicPr>
        <p:blipFill>
          <a:blip r:embed="rId7"/>
          <a:stretch/>
        </p:blipFill>
        <p:spPr>
          <a:xfrm>
            <a:off x="5715000" y="4071960"/>
            <a:ext cx="928800" cy="12762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0" descr="Рисунок1 копия.png"/>
          <p:cNvPicPr/>
          <p:nvPr/>
        </p:nvPicPr>
        <p:blipFill>
          <a:blip r:embed="rId8"/>
          <a:stretch/>
        </p:blipFill>
        <p:spPr>
          <a:xfrm>
            <a:off x="6357960" y="5151600"/>
            <a:ext cx="102240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и ребят найди три близнеца и нажми на одного из них левой кнопкой м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2" descr="Рисунок1 копия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8592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Рисунок1 копия.png"/>
          <p:cNvPicPr/>
          <p:nvPr/>
        </p:nvPicPr>
        <p:blipFill>
          <a:blip r:embed="rId3"/>
          <a:stretch/>
        </p:blipFill>
        <p:spPr>
          <a:xfrm>
            <a:off x="5143680" y="4357800"/>
            <a:ext cx="785520" cy="10713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4" descr="Рисунок1 копия.png"/>
          <p:cNvPicPr/>
          <p:nvPr/>
        </p:nvPicPr>
        <p:blipFill>
          <a:blip r:embed="rId4"/>
          <a:stretch/>
        </p:blipFill>
        <p:spPr>
          <a:xfrm>
            <a:off x="3286080" y="2428920"/>
            <a:ext cx="785880" cy="10713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Рисунок1 копия.png"/>
          <p:cNvPicPr/>
          <p:nvPr/>
        </p:nvPicPr>
        <p:blipFill>
          <a:blip r:embed="rId5"/>
          <a:stretch/>
        </p:blipFill>
        <p:spPr>
          <a:xfrm>
            <a:off x="1428840" y="5357880"/>
            <a:ext cx="785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2714760" y="1143000"/>
            <a:ext cx="3714480" cy="5065560"/>
          </a:xfrm>
          <a:prstGeom prst="rect">
            <a:avLst/>
          </a:prstGeom>
          <a:ln w="0">
            <a:noFill/>
          </a:ln>
        </p:spPr>
      </p:pic>
      <p:pic>
        <p:nvPicPr>
          <p:cNvPr id="413" name="TextBox 2" descr=""/>
          <p:cNvPicPr/>
          <p:nvPr/>
        </p:nvPicPr>
        <p:blipFill>
          <a:blip r:embed="rId2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14" name="j0214098.wav" descr=""/>
          <p:cNvPicPr/>
          <p:nvPr/>
        </p:nvPicPr>
        <p:blipFill>
          <a:blip r:embed="rId3"/>
          <a:stretch/>
        </p:blipFill>
        <p:spPr>
          <a:xfrm>
            <a:off x="614376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157176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2" descr="Рисунок1 копия.png"/>
          <p:cNvPicPr/>
          <p:nvPr/>
        </p:nvPicPr>
        <p:blipFill>
          <a:blip r:embed="rId2"/>
          <a:stretch/>
        </p:blipFill>
        <p:spPr>
          <a:xfrm>
            <a:off x="3357720" y="164304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" descr="Рисунок1 копия.png"/>
          <p:cNvPicPr/>
          <p:nvPr/>
        </p:nvPicPr>
        <p:blipFill>
          <a:blip r:embed="rId3"/>
          <a:stretch/>
        </p:blipFill>
        <p:spPr>
          <a:xfrm>
            <a:off x="6215040" y="450072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Рисунок1 копия.png"/>
          <p:cNvPicPr/>
          <p:nvPr/>
        </p:nvPicPr>
        <p:blipFill>
          <a:blip r:embed="rId4"/>
          <a:stretch/>
        </p:blipFill>
        <p:spPr>
          <a:xfrm>
            <a:off x="1500120" y="5429160"/>
            <a:ext cx="12384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extBox 2" descr=""/>
          <p:cNvPicPr/>
          <p:nvPr/>
        </p:nvPicPr>
        <p:blipFill>
          <a:blip r:embed="rId1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20" name="j0214098.wav" descr=""/>
          <p:cNvPicPr/>
          <p:nvPr/>
        </p:nvPicPr>
        <p:blipFill>
          <a:blip r:embed="rId2"/>
          <a:stretch/>
        </p:blipFill>
        <p:spPr>
          <a:xfrm>
            <a:off x="614376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Рисунок1 копия.png"/>
          <p:cNvPicPr/>
          <p:nvPr/>
        </p:nvPicPr>
        <p:blipFill>
          <a:blip r:embed="rId3"/>
          <a:stretch/>
        </p:blipFill>
        <p:spPr>
          <a:xfrm>
            <a:off x="2571840" y="2143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164304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2" descr="Рисунок1 копия.png"/>
          <p:cNvPicPr/>
          <p:nvPr/>
        </p:nvPicPr>
        <p:blipFill>
          <a:blip r:embed="rId2"/>
          <a:stretch/>
        </p:blipFill>
        <p:spPr>
          <a:xfrm>
            <a:off x="4435560" y="500040"/>
            <a:ext cx="965160" cy="10717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Рисунок1 копия.png"/>
          <p:cNvPicPr/>
          <p:nvPr/>
        </p:nvPicPr>
        <p:blipFill>
          <a:blip r:embed="rId3"/>
          <a:stretch/>
        </p:blipFill>
        <p:spPr>
          <a:xfrm>
            <a:off x="5429160" y="3286080"/>
            <a:ext cx="965160" cy="1071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5" descr="Рисунок1 копия.png"/>
          <p:cNvPicPr/>
          <p:nvPr/>
        </p:nvPicPr>
        <p:blipFill>
          <a:blip r:embed="rId4"/>
          <a:stretch/>
        </p:blipFill>
        <p:spPr>
          <a:xfrm>
            <a:off x="5357880" y="4357800"/>
            <a:ext cx="9651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2786040" y="1928880"/>
            <a:ext cx="3279960" cy="3643200"/>
          </a:xfrm>
          <a:prstGeom prst="rect">
            <a:avLst/>
          </a:prstGeom>
          <a:ln w="0">
            <a:noFill/>
          </a:ln>
        </p:spPr>
      </p:pic>
      <p:pic>
        <p:nvPicPr>
          <p:cNvPr id="427" name="TextBox 2" descr=""/>
          <p:cNvPicPr/>
          <p:nvPr/>
        </p:nvPicPr>
        <p:blipFill>
          <a:blip r:embed="rId2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28" name="j0214098.wav" descr=""/>
          <p:cNvPicPr/>
          <p:nvPr/>
        </p:nvPicPr>
        <p:blipFill>
          <a:blip r:embed="rId3"/>
          <a:stretch/>
        </p:blipFill>
        <p:spPr>
          <a:xfrm>
            <a:off x="6072120" y="107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extBox 1" descr=""/>
          <p:cNvPicPr/>
          <p:nvPr/>
        </p:nvPicPr>
        <p:blipFill>
          <a:blip r:embed="rId1"/>
          <a:stretch/>
        </p:blipFill>
        <p:spPr>
          <a:xfrm>
            <a:off x="2925720" y="1859040"/>
            <a:ext cx="2706840" cy="1103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4259160" y="514368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17:49Z</dcterms:created>
  <dc:creator>ОЕМ</dc:creator>
  <dc:description/>
  <dc:language>en-US</dc:language>
  <cp:lastModifiedBy>user</cp:lastModifiedBy>
  <dcterms:modified xsi:type="dcterms:W3CDTF">2020-04-15T17:49:20Z</dcterms:modified>
  <cp:revision>6</cp:revision>
  <dc:subject/>
  <dc:title>Слайд 1</dc:title>
</cp:coreProperties>
</file>