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79B6-C748-47B1-8F5C-0112412B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32FC-1BA4-4319-B272-136783F4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27D81-3E06-42EE-BDCB-07051D6B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60E08-4B90-4501-8EEB-0D7B4410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9B77F-48B4-48BF-A8CE-E3392827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F3319-E258-4811-8553-DC750989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5C07C-E0C7-4FCB-8DB3-8C7B4A8D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51BB5-8973-4706-8D9C-B457A34F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952E4-CDDB-4EEA-B456-A212B43C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02AE9-989E-4F12-BD23-B6650840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70A5F-8AD6-4774-8A4D-D91DDD9A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BD2-9A3B-48E8-8A89-46726B3F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1E3-F47D-41E8-A051-B04030AE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A7CB-ED6E-4ECF-AE03-308A2AB8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9248-F1A9-4737-BF2E-50C678CB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CDED-4C3E-418B-B4A1-BBCA395C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31D0-5B9D-40B4-B944-97AD3828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96AC-7FCC-4A57-9CDF-109E82EA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1C86-B9BE-43CE-842E-4599337A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F6E9-CE01-4ADD-B0E2-F6AC070E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B54-51C5-4461-AE2C-840C3C94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15DA-CEC2-461F-8071-4A1D9DDC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1495-9D9C-4827-8410-A95E8782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2A21-B4B9-4373-9EFC-42984706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C829-0F01-4BCA-94BB-F1D318FF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D17A-5DBC-4E19-B51E-A7E9FAED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90620-FC7A-466A-BEB3-CFFFA911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91833-AE4D-4FEA-B611-8C311991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87F9-EF0B-4AB9-A8B3-17B5B976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A589-2F41-4311-8756-82B947CC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A887-6E5B-4F11-ABFF-71B07BB6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65A-B39F-44AF-8B6E-905A5AE7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5A935-7787-4256-BB34-4EA540FC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10CC-C770-4022-BB4F-D4967AB5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99A98-6405-4CA7-85C9-2C0720E5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05892-DBEB-42CE-B214-38034A3B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4E02D-946E-42E4-95CF-8D291D56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2B9E2-FA86-4470-AB66-4723E7B7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9C0F5-C8F7-4CB4-9141-F48CB6A7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85DB4-DEF7-4BA7-9A86-B15862F6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8BBC2-79E3-40B5-BB57-9027D448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52F8C-0D40-42CD-94C3-A9511435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AD20-BF29-41AF-AFB2-8178B69F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E6908-FA51-4B59-A805-71F610AC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11865-718C-491A-AECF-D6C3727D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9F5ED-1B44-4FD9-B48E-233A6B5A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41F4E-16BF-44F1-AB1C-F009001A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C2247-13EE-48FD-BB13-2FADD34A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3351C-B27D-4DDC-9441-FADC660E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173E6-0715-476C-8193-1A81DB01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B455E-9C3D-468F-B62A-88D7622E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92E4A-86A4-4616-8C78-FB7A8B13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6A68E-5AEC-4106-B8C2-91E374CD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380-6B24-4E70-8D23-1C79D8BE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1409F-0AC1-40D7-B38D-C6BFEAC7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66351-0527-4D0D-91AA-8F1A7633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31DE9-261A-4A57-AEB8-B2CCB78F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9CE7F-0E36-4F53-99A4-115A9661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49D4E-C68D-4DFF-82C5-CD274AB3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99792-61F4-41A2-A9EB-3FDB5C7E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BE2E1-6A42-4785-908B-D2A85369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FFF2F-9EAD-43F9-8A37-D241DA68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01EB9-2F06-4C65-9AE9-F63BFA81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45FAF-6FB3-4E91-B217-11ED78D8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2AE-7EBD-470D-B616-135C9A20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4B6C6-5805-4822-9398-A855B674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743E8-9AD7-4F02-93DF-EBC8338B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D34B5-6BD1-4DDF-8454-DFCEDF31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5456F-9F35-4425-8A74-05B9540A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B50F0-8C90-44E7-AC77-58591DD1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743CE-F88B-4733-94AB-B18EC44A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F926B-390F-48EE-8A35-EA7A71B5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21795-F2D3-4F35-A31E-B14E0334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EAAE1-8D3A-4707-9151-3B226DA6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74664-4D68-41B9-8B97-8E1A32A0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BD5-3B05-4CE7-A2A1-7811F738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BD4AE-D485-441C-9821-02418C0E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3D54E-EFB8-4EA1-A267-ECB7E7A2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7F19F-4A19-426B-BAAF-C5229910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5F809-E782-4A63-8289-923AD204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50934-D3C1-44BC-99D8-4223334F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17FC3-4EBF-4E94-A7E0-AD87BD10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49041-7520-40B6-AF83-9300105D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6ECDC-142F-43BD-886A-5E07E44A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5AE21-3631-404C-B6DA-885F1E02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9792A-B544-4BAF-ADD0-EFFC80E3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3BBB-EAD4-4BBD-A561-A40402DA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9759E-1073-4273-9D55-BB1A5394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7F066-C9EB-473E-9C2D-6EC79297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91C12-2869-41BD-963A-527A2555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25ED3-9FA3-4BBE-A248-41DE514F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E9E8D-B73A-4FC8-973B-71AB4617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EB813-0E5D-4E6D-B74C-BAE58BEC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7ABAE-FD70-40B0-9133-964A1AC7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7B3D7-36E1-4F9C-9B14-6826ABB8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9E17F-8BBA-4582-8511-82E65F45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033EF-3BC4-47D1-A281-EC8D738A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AA2-942A-4C9C-8F81-A8FDA8B2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2C281-F99B-4303-AE55-2C3DE841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E00A0-FE28-40AC-9557-98F9F627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4A173-3FA3-40B5-8177-220C99D7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49D29-CF1A-4BA6-9D2B-28E2798B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769C4-A27D-4250-B123-0B35F487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327AD-3811-4D59-A9F5-691CFFE3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520C8-27E6-482B-853C-DC736966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082FD-522F-4B35-9D30-AC51C8F0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511B5-F166-405A-8904-D022050B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39FEE-3613-452C-8D4A-EB6BA30A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8E88-F092-4442-8674-C9CD939EA978}" type="slidenum"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8D22-E61A-4556-BA1E-8AB272EB740B}" type="slidenum"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6D81-C822-460F-B980-7F47E09E4F92}" type="slidenum"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1AC3-C759-4E92-B0A1-2B34E9866853}" type="slidenum"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A612-70CF-43B6-96B5-950F82AF0E4C}" type="slidenum"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1517-8792-45DA-9F20-E4A7B196C406}" type="slidenum"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CB17-D281-4486-A6F7-060B9FF18831}" type="slidenum"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BDF3-B887-4F0F-B5F7-367F39A07CCE}" type="slidenum"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7EBA-A9AB-4FA9-A397-26D2EF5AFAAE}" type="slidenum">
              <a:rPr b="0" lang="ru-RU" sz="1200" spc="-1" strike="noStrike">
                <a:solidFill>
                  <a:srgbClr val="b5a35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extBox 3" descr=""/>
          <p:cNvPicPr/>
          <p:nvPr/>
        </p:nvPicPr>
        <p:blipFill>
          <a:blip r:embed="rId1"/>
          <a:stretch/>
        </p:blipFill>
        <p:spPr>
          <a:xfrm>
            <a:off x="1127160" y="1347840"/>
            <a:ext cx="7029360" cy="1346040"/>
          </a:xfrm>
          <a:prstGeom prst="rect">
            <a:avLst/>
          </a:prstGeom>
          <a:ln w="0">
            <a:noFill/>
          </a:ln>
        </p:spPr>
      </p:pic>
      <p:pic>
        <p:nvPicPr>
          <p:cNvPr id="400" name="TextBox 4" descr=""/>
          <p:cNvPicPr/>
          <p:nvPr/>
        </p:nvPicPr>
        <p:blipFill>
          <a:blip r:embed="rId2"/>
          <a:stretch/>
        </p:blipFill>
        <p:spPr>
          <a:xfrm>
            <a:off x="2212920" y="3213000"/>
            <a:ext cx="4767480" cy="58428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Рисунок1 копия.png"/>
          <p:cNvPicPr/>
          <p:nvPr/>
        </p:nvPicPr>
        <p:blipFill>
          <a:blip r:embed="rId3"/>
          <a:stretch/>
        </p:blipFill>
        <p:spPr>
          <a:xfrm>
            <a:off x="2500200" y="4286160"/>
            <a:ext cx="1238400" cy="92880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6" descr="Рисунок1 копия.png"/>
          <p:cNvPicPr/>
          <p:nvPr/>
        </p:nvPicPr>
        <p:blipFill>
          <a:blip r:embed="rId4"/>
          <a:stretch/>
        </p:blipFill>
        <p:spPr>
          <a:xfrm>
            <a:off x="4071960" y="5429160"/>
            <a:ext cx="1238400" cy="9288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7" descr="Рисунок1 копия.png"/>
          <p:cNvPicPr/>
          <p:nvPr/>
        </p:nvPicPr>
        <p:blipFill>
          <a:blip r:embed="rId5"/>
          <a:stretch/>
        </p:blipFill>
        <p:spPr>
          <a:xfrm>
            <a:off x="4286160" y="3929040"/>
            <a:ext cx="890640" cy="121464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8" descr="Рисунок1 копия.png"/>
          <p:cNvPicPr/>
          <p:nvPr/>
        </p:nvPicPr>
        <p:blipFill>
          <a:blip r:embed="rId6"/>
          <a:stretch/>
        </p:blipFill>
        <p:spPr>
          <a:xfrm>
            <a:off x="2214720" y="542916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9" descr="Рисунок1 копия.png"/>
          <p:cNvPicPr/>
          <p:nvPr/>
        </p:nvPicPr>
        <p:blipFill>
          <a:blip r:embed="rId7"/>
          <a:stretch/>
        </p:blipFill>
        <p:spPr>
          <a:xfrm>
            <a:off x="5715000" y="4071960"/>
            <a:ext cx="928800" cy="127620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10" descr="Рисунок1 копия.png"/>
          <p:cNvPicPr/>
          <p:nvPr/>
        </p:nvPicPr>
        <p:blipFill>
          <a:blip r:embed="rId8"/>
          <a:stretch/>
        </p:blipFill>
        <p:spPr>
          <a:xfrm>
            <a:off x="6357960" y="5151600"/>
            <a:ext cx="1022400" cy="11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2"/>
          <p:cNvSpPr/>
          <p:nvPr/>
        </p:nvSpPr>
        <p:spPr>
          <a:xfrm>
            <a:off x="1785960" y="1500120"/>
            <a:ext cx="535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реди ребят найди три близнеца и нажми на одного из них левой кнопкой мы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2" descr="Рисунок1 копия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85920" y="428760"/>
            <a:ext cx="5848200" cy="594828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3" descr="Рисунок1 копия.png"/>
          <p:cNvPicPr/>
          <p:nvPr/>
        </p:nvPicPr>
        <p:blipFill>
          <a:blip r:embed="rId3"/>
          <a:stretch/>
        </p:blipFill>
        <p:spPr>
          <a:xfrm>
            <a:off x="5143680" y="4357800"/>
            <a:ext cx="785520" cy="107136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4" descr="Рисунок1 копия.png"/>
          <p:cNvPicPr/>
          <p:nvPr/>
        </p:nvPicPr>
        <p:blipFill>
          <a:blip r:embed="rId4"/>
          <a:stretch/>
        </p:blipFill>
        <p:spPr>
          <a:xfrm>
            <a:off x="3286080" y="2428920"/>
            <a:ext cx="785880" cy="107136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5" descr="Рисунок1 копия.png"/>
          <p:cNvPicPr/>
          <p:nvPr/>
        </p:nvPicPr>
        <p:blipFill>
          <a:blip r:embed="rId5"/>
          <a:stretch/>
        </p:blipFill>
        <p:spPr>
          <a:xfrm>
            <a:off x="1428840" y="5357880"/>
            <a:ext cx="78588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Рисунок 1" descr="Рисунок1 копия.png"/>
          <p:cNvPicPr/>
          <p:nvPr/>
        </p:nvPicPr>
        <p:blipFill>
          <a:blip r:embed="rId1"/>
          <a:stretch/>
        </p:blipFill>
        <p:spPr>
          <a:xfrm>
            <a:off x="2714760" y="1143000"/>
            <a:ext cx="3714480" cy="5065560"/>
          </a:xfrm>
          <a:prstGeom prst="rect">
            <a:avLst/>
          </a:prstGeom>
          <a:ln w="0">
            <a:noFill/>
          </a:ln>
        </p:spPr>
      </p:pic>
      <p:pic>
        <p:nvPicPr>
          <p:cNvPr id="413" name="TextBox 2" descr=""/>
          <p:cNvPicPr/>
          <p:nvPr/>
        </p:nvPicPr>
        <p:blipFill>
          <a:blip r:embed="rId2"/>
          <a:stretch/>
        </p:blipFill>
        <p:spPr>
          <a:xfrm>
            <a:off x="2925720" y="785880"/>
            <a:ext cx="3255840" cy="847800"/>
          </a:xfrm>
          <a:prstGeom prst="rect">
            <a:avLst/>
          </a:prstGeom>
          <a:ln w="0">
            <a:noFill/>
          </a:ln>
        </p:spPr>
      </p:pic>
      <p:pic>
        <p:nvPicPr>
          <p:cNvPr id="414" name="j0214098.wav" descr=""/>
          <p:cNvPicPr/>
          <p:nvPr/>
        </p:nvPicPr>
        <p:blipFill>
          <a:blip r:embed="rId3"/>
          <a:stretch/>
        </p:blipFill>
        <p:spPr>
          <a:xfrm>
            <a:off x="614376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1" descr="Рисунок1 копия.png"/>
          <p:cNvPicPr/>
          <p:nvPr/>
        </p:nvPicPr>
        <p:blipFill>
          <a:blip r:embed="rId1"/>
          <a:stretch/>
        </p:blipFill>
        <p:spPr>
          <a:xfrm>
            <a:off x="1571760" y="428760"/>
            <a:ext cx="5848200" cy="594828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2" descr="Рисунок1 копия.png"/>
          <p:cNvPicPr/>
          <p:nvPr/>
        </p:nvPicPr>
        <p:blipFill>
          <a:blip r:embed="rId2"/>
          <a:stretch/>
        </p:blipFill>
        <p:spPr>
          <a:xfrm>
            <a:off x="3357720" y="1643040"/>
            <a:ext cx="1238040" cy="92880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3" descr="Рисунок1 копия.png"/>
          <p:cNvPicPr/>
          <p:nvPr/>
        </p:nvPicPr>
        <p:blipFill>
          <a:blip r:embed="rId3"/>
          <a:stretch/>
        </p:blipFill>
        <p:spPr>
          <a:xfrm>
            <a:off x="6215040" y="4500720"/>
            <a:ext cx="1238400" cy="92844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4" descr="Рисунок1 копия.png"/>
          <p:cNvPicPr/>
          <p:nvPr/>
        </p:nvPicPr>
        <p:blipFill>
          <a:blip r:embed="rId4"/>
          <a:stretch/>
        </p:blipFill>
        <p:spPr>
          <a:xfrm>
            <a:off x="1500120" y="5429160"/>
            <a:ext cx="12384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extBox 2" descr=""/>
          <p:cNvPicPr/>
          <p:nvPr/>
        </p:nvPicPr>
        <p:blipFill>
          <a:blip r:embed="rId1"/>
          <a:stretch/>
        </p:blipFill>
        <p:spPr>
          <a:xfrm>
            <a:off x="2925720" y="785880"/>
            <a:ext cx="3255840" cy="847800"/>
          </a:xfrm>
          <a:prstGeom prst="rect">
            <a:avLst/>
          </a:prstGeom>
          <a:ln w="0">
            <a:noFill/>
          </a:ln>
        </p:spPr>
      </p:pic>
      <p:pic>
        <p:nvPicPr>
          <p:cNvPr id="420" name="j0214098.wav" descr=""/>
          <p:cNvPicPr/>
          <p:nvPr/>
        </p:nvPicPr>
        <p:blipFill>
          <a:blip r:embed="rId2"/>
          <a:stretch/>
        </p:blipFill>
        <p:spPr>
          <a:xfrm>
            <a:off x="6143760" y="114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4" descr="Рисунок1 копия.png"/>
          <p:cNvPicPr/>
          <p:nvPr/>
        </p:nvPicPr>
        <p:blipFill>
          <a:blip r:embed="rId3"/>
          <a:stretch/>
        </p:blipFill>
        <p:spPr>
          <a:xfrm>
            <a:off x="2571840" y="2143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Рисунок 1" descr="Рисунок1 копия.png"/>
          <p:cNvPicPr/>
          <p:nvPr/>
        </p:nvPicPr>
        <p:blipFill>
          <a:blip r:embed="rId1"/>
          <a:stretch/>
        </p:blipFill>
        <p:spPr>
          <a:xfrm>
            <a:off x="1643040" y="428760"/>
            <a:ext cx="5848200" cy="594828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2" descr="Рисунок1 копия.png"/>
          <p:cNvPicPr/>
          <p:nvPr/>
        </p:nvPicPr>
        <p:blipFill>
          <a:blip r:embed="rId2"/>
          <a:stretch/>
        </p:blipFill>
        <p:spPr>
          <a:xfrm>
            <a:off x="4435560" y="500040"/>
            <a:ext cx="965160" cy="107172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4" descr="Рисунок1 копия.png"/>
          <p:cNvPicPr/>
          <p:nvPr/>
        </p:nvPicPr>
        <p:blipFill>
          <a:blip r:embed="rId3"/>
          <a:stretch/>
        </p:blipFill>
        <p:spPr>
          <a:xfrm>
            <a:off x="5429160" y="3286080"/>
            <a:ext cx="965160" cy="10717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5" descr="Рисунок1 копия.png"/>
          <p:cNvPicPr/>
          <p:nvPr/>
        </p:nvPicPr>
        <p:blipFill>
          <a:blip r:embed="rId4"/>
          <a:stretch/>
        </p:blipFill>
        <p:spPr>
          <a:xfrm>
            <a:off x="5357880" y="4357800"/>
            <a:ext cx="9651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Рисунок 1" descr="Рисунок1 копия.png"/>
          <p:cNvPicPr/>
          <p:nvPr/>
        </p:nvPicPr>
        <p:blipFill>
          <a:blip r:embed="rId1"/>
          <a:stretch/>
        </p:blipFill>
        <p:spPr>
          <a:xfrm>
            <a:off x="2786040" y="1928880"/>
            <a:ext cx="3279960" cy="3643200"/>
          </a:xfrm>
          <a:prstGeom prst="rect">
            <a:avLst/>
          </a:prstGeom>
          <a:ln w="0">
            <a:noFill/>
          </a:ln>
        </p:spPr>
      </p:pic>
      <p:pic>
        <p:nvPicPr>
          <p:cNvPr id="427" name="TextBox 2" descr=""/>
          <p:cNvPicPr/>
          <p:nvPr/>
        </p:nvPicPr>
        <p:blipFill>
          <a:blip r:embed="rId2"/>
          <a:stretch/>
        </p:blipFill>
        <p:spPr>
          <a:xfrm>
            <a:off x="2925720" y="785880"/>
            <a:ext cx="3255840" cy="847800"/>
          </a:xfrm>
          <a:prstGeom prst="rect">
            <a:avLst/>
          </a:prstGeom>
          <a:ln w="0">
            <a:noFill/>
          </a:ln>
        </p:spPr>
      </p:pic>
      <p:pic>
        <p:nvPicPr>
          <p:cNvPr id="428" name="j0214098.wav" descr=""/>
          <p:cNvPicPr/>
          <p:nvPr/>
        </p:nvPicPr>
        <p:blipFill>
          <a:blip r:embed="rId3"/>
          <a:stretch/>
        </p:blipFill>
        <p:spPr>
          <a:xfrm>
            <a:off x="6072120" y="107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4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extBox 1" descr=""/>
          <p:cNvPicPr/>
          <p:nvPr/>
        </p:nvPicPr>
        <p:blipFill>
          <a:blip r:embed="rId1"/>
          <a:stretch/>
        </p:blipFill>
        <p:spPr>
          <a:xfrm>
            <a:off x="2925720" y="1859040"/>
            <a:ext cx="2706840" cy="1103400"/>
          </a:xfrm>
          <a:prstGeom prst="rect">
            <a:avLst/>
          </a:prstGeom>
          <a:ln w="0">
            <a:noFill/>
          </a:ln>
        </p:spPr>
      </p:pic>
      <p:sp>
        <p:nvSpPr>
          <p:cNvPr id="430" name="TextBox 2"/>
          <p:cNvSpPr/>
          <p:nvPr/>
        </p:nvSpPr>
        <p:spPr>
          <a:xfrm>
            <a:off x="4259160" y="514368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3:17:49Z</dcterms:created>
  <dc:creator>ОЕМ</dc:creator>
  <dc:description/>
  <dc:language>en-US</dc:language>
  <cp:lastModifiedBy>user</cp:lastModifiedBy>
  <dcterms:modified xsi:type="dcterms:W3CDTF">2020-04-15T17:49:20Z</dcterms:modified>
  <cp:revision>6</cp:revision>
  <dc:subject/>
  <dc:title>Слайд 1</dc:title>
</cp:coreProperties>
</file>