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EDEB-3B2E-46C6-A11C-ECC5E52381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0C5B-291F-4DD6-B78F-657D9A5151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74E-8ABE-4C61-902C-F6DA1E6A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3DA-D7C0-47B5-A0E8-AA7A9B9E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A2F-E1A6-4FA0-8F98-E732375D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2B7-E929-4C55-8F7D-58767BCA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F209-E1C1-4881-BA48-2EDDCE00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E6C6-5576-48A0-9AF4-8F8A0478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6A9F-4DB9-4232-8B62-E7AB9512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4F6C-67CA-490B-97A1-910A8B7D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743E-D713-43C9-978D-B0C645C8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BADD-B502-410D-834D-9AF765EA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5195-D69C-4F9F-81E2-86C5D6B4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921-4A41-45EA-A93D-1A09CF69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FACC-6CCE-41F1-AD78-513652A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1DDA-0FB5-4CCC-B8B0-A858433F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7BB3-B566-46E8-9A62-44B1BEB0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EB47-B8B8-4035-9B78-4B8CBE8E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7BA4-2D43-43C5-AA15-D4BAB91E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944B-D39D-4528-812A-4E5AAB15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3134-C28C-4C7C-A6AE-F8387A22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9316-3876-46BD-9444-7C8C4D1C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8B53-0263-45D0-BD92-60B4F75A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9539-BDA3-4989-B687-2E8A2AC1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659-0728-489D-A1DC-0AA28F1F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8006-6E40-45E6-9548-EE97AF6D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EC3A9-654A-46C6-AA82-0C1545E1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08A9-2C5B-44EC-AAC1-032825E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8E56-6457-486D-8771-09241684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2556-ADF0-4279-97C9-073BB937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60EC-3349-47F9-851E-562C9BB9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027D-E438-49EB-B639-7A3CB117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FCA5-8A3F-4DD2-8CFC-1C398916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9AE65-B0DF-4CDC-878F-B18753DE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93D5-B7D6-484E-A269-627ADB71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FA5-BCDE-4DF0-91BE-5A1FCEC3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426B-6793-496D-AE50-7B2DF612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D216-BB2E-4F7C-A8A6-392F2437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A2513-73B5-4A81-B7DC-53CA23B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CB29-549F-47E3-AC25-478CC48A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D0D2-7C36-4FDD-A4BE-21E565F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BA8B-960D-463C-A1EC-DEF4C0AB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29C9-ABE9-41C8-ACAB-F4018F4A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9263-01C0-48B5-A86A-E0B232D4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CFE2-EB1E-4C17-AEB8-C570FDB0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59C90-A3BA-448D-9D4A-0F8755F2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0E8-0253-4534-A18D-8B77F57B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B3DC-D8F7-4A44-B31B-C93251D4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E432-47C4-487D-A9C0-F020DCD7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E3487-9B65-4AEF-9EAB-1F5699EB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D189A-0C59-429C-B694-F82A995B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73B6E-BBDE-4EE4-8671-1D89791B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456C-AFCD-42F7-98A0-8AEEDD8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D9C1A-7E5C-4609-A156-B06371A1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10BB9-F91B-48CF-AB24-E656ED64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5DE82-B85B-4B01-8AAC-42A4A0FA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538A-65DB-4652-9FB1-3D9E785E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748-43F4-4BBF-B4EF-86D794C9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C2ED-E2FA-4705-9643-95253FC6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AFF-32AE-4AF6-BE62-5B583F6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FC0-2017-476C-A11A-DFB2F86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4D7-0111-4AF1-8F0B-A2017751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3B70-FE49-4D25-AA4B-55CD7E820557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0E3C-A350-4B3F-B1F3-11FB6CE5CD92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67E2-AFC3-48AA-821D-11F22C8220A2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6F22-6B3F-4DD3-9706-E87A9FDD5A48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983-C422-4F9F-8E74-2E40E52BAAD6}" type="slidenum">
              <a:rPr b="0" lang="ru-RU" sz="1000" spc="-1" strike="noStrike">
                <a:solidFill>
                  <a:srgbClr val="bcb3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" Target="slide4.xml"/><Relationship Id="rId5" Type="http://schemas.openxmlformats.org/officeDocument/2006/relationships/image" Target="../media/image12.jpeg"/><Relationship Id="rId6" Type="http://schemas.openxmlformats.org/officeDocument/2006/relationships/slide" Target="slide3.xml"/><Relationship Id="rId7" Type="http://schemas.openxmlformats.org/officeDocument/2006/relationships/image" Target="../media/image13.jpeg"/><Relationship Id="rId8" Type="http://schemas.openxmlformats.org/officeDocument/2006/relationships/slide" Target="slide3.xm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6" descr="2ccb41fcde35.jpg"/>
          <p:cNvPicPr/>
          <p:nvPr/>
        </p:nvPicPr>
        <p:blipFill>
          <a:blip r:embed="rId1"/>
          <a:stretch/>
        </p:blipFill>
        <p:spPr>
          <a:xfrm>
            <a:off x="1000080" y="857160"/>
            <a:ext cx="1677960" cy="13431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749160" y="271476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Verdana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Verdana"/>
              </a:rPr>
              <a:t>«Найди недостающий фраг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85880" y="49291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игры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развитие мыслительных процессов: анализа и синтеза, глазомера у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5" descr="2ccb41fcde3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12880" y="1212840"/>
            <a:ext cx="335160" cy="3538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7" descr="9bec3e23234f.jpg"/>
          <p:cNvPicPr/>
          <p:nvPr/>
        </p:nvPicPr>
        <p:blipFill>
          <a:blip r:embed="rId4"/>
          <a:stretch/>
        </p:blipFill>
        <p:spPr>
          <a:xfrm>
            <a:off x="3929040" y="857160"/>
            <a:ext cx="1697040" cy="13575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8" descr="2ccb41fcde35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45080" y="1139760"/>
            <a:ext cx="407880" cy="4334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9" descr="48e5cadad306.jpg"/>
          <p:cNvPicPr/>
          <p:nvPr/>
        </p:nvPicPr>
        <p:blipFill>
          <a:blip r:embed="rId7"/>
          <a:stretch/>
        </p:blipFill>
        <p:spPr>
          <a:xfrm>
            <a:off x="6620040" y="857160"/>
            <a:ext cx="1761840" cy="13208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0" descr="2ccb41fcde35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570800" y="927000"/>
            <a:ext cx="48276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48e5cadad306.jpg"/>
          <p:cNvPicPr/>
          <p:nvPr/>
        </p:nvPicPr>
        <p:blipFill>
          <a:blip r:embed="rId1"/>
          <a:stretch/>
        </p:blipFill>
        <p:spPr>
          <a:xfrm>
            <a:off x="1714680" y="357120"/>
            <a:ext cx="6143400" cy="46069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2821680" y="535788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j0214098.wav" descr=""/>
          <p:cNvPicPr/>
          <p:nvPr/>
        </p:nvPicPr>
        <p:blipFill>
          <a:blip r:embed="rId2"/>
          <a:stretch/>
        </p:blipFill>
        <p:spPr>
          <a:xfrm>
            <a:off x="6643800" y="578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995200" y="2571840"/>
            <a:ext cx="312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75c01"/>
                </a:solidFill>
                <a:latin typeface="Verdana"/>
              </a:rPr>
              <a:t>Кон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1000080" y="2690640"/>
            <a:ext cx="692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бери из трех фрагментов-картинок правильный, именно тот, который вырезан из большой картинки, если ответ правильный, то ты перейдешь к следующему задани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2945160" y="1071720"/>
            <a:ext cx="309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a3d01"/>
                </a:solidFill>
                <a:latin typeface="Verdana"/>
              </a:rPr>
              <a:t>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2ccb41fcde35.jpg"/>
          <p:cNvPicPr/>
          <p:nvPr/>
        </p:nvPicPr>
        <p:blipFill>
          <a:blip r:embed="rId1"/>
          <a:stretch/>
        </p:blipFill>
        <p:spPr>
          <a:xfrm>
            <a:off x="2071800" y="285840"/>
            <a:ext cx="5108400" cy="40860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2ccb41fcde3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45040" y="1073160"/>
            <a:ext cx="1353960" cy="142560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2ccb41fcde35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285920" y="46432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2ccb41fcde35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643200" y="457200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5" descr="2ccb41fcde35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86680" y="46432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2ccb41fcde35.jpg"/>
          <p:cNvPicPr/>
          <p:nvPr/>
        </p:nvPicPr>
        <p:blipFill>
          <a:blip r:embed="rId1"/>
          <a:stretch/>
        </p:blipFill>
        <p:spPr>
          <a:xfrm>
            <a:off x="1714680" y="500040"/>
            <a:ext cx="5929200" cy="4743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3303360" y="550080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668c4"/>
                </a:solidFill>
                <a:latin typeface="Verdana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j0214098.wav" descr=""/>
          <p:cNvPicPr/>
          <p:nvPr/>
        </p:nvPicPr>
        <p:blipFill>
          <a:blip r:embed="rId2"/>
          <a:stretch/>
        </p:blipFill>
        <p:spPr>
          <a:xfrm>
            <a:off x="664380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1" descr="9bec3e23234f.jpg"/>
          <p:cNvPicPr/>
          <p:nvPr/>
        </p:nvPicPr>
        <p:blipFill>
          <a:blip r:embed="rId1"/>
          <a:stretch/>
        </p:blipFill>
        <p:spPr>
          <a:xfrm>
            <a:off x="1928880" y="357120"/>
            <a:ext cx="5446800" cy="43578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9bec3e23234f.jpg">
            <a:hlinkClick r:id="rId2" action="ppaction://hlinksldjump"/>
          </p:cNvPr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3929040" y="1000080"/>
            <a:ext cx="1643040" cy="1857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9bec3e23234f.jpg"/>
          <p:cNvPicPr/>
          <p:nvPr/>
        </p:nvPicPr>
        <p:blipFill>
          <a:blip r:embed="rId4"/>
          <a:stretch/>
        </p:blipFill>
        <p:spPr>
          <a:xfrm>
            <a:off x="6357960" y="4857840"/>
            <a:ext cx="1515960" cy="1714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9bec3e23234f.jpg"/>
          <p:cNvPicPr/>
          <p:nvPr/>
        </p:nvPicPr>
        <p:blipFill>
          <a:blip r:embed="rId5"/>
          <a:stretch/>
        </p:blipFill>
        <p:spPr>
          <a:xfrm>
            <a:off x="3714840" y="485784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6" descr="9bec3e23234f.jpg"/>
          <p:cNvPicPr/>
          <p:nvPr/>
        </p:nvPicPr>
        <p:blipFill>
          <a:blip r:embed="rId6"/>
          <a:stretch/>
        </p:blipFill>
        <p:spPr>
          <a:xfrm>
            <a:off x="1143000" y="4857840"/>
            <a:ext cx="1428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9bec3e23234f.jpg"/>
          <p:cNvPicPr/>
          <p:nvPr/>
        </p:nvPicPr>
        <p:blipFill>
          <a:blip r:embed="rId1"/>
          <a:stretch/>
        </p:blipFill>
        <p:spPr>
          <a:xfrm>
            <a:off x="1928880" y="357120"/>
            <a:ext cx="5446800" cy="43578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3036240" y="521496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5c01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j0214098.wav" descr=""/>
          <p:cNvPicPr/>
          <p:nvPr/>
        </p:nvPicPr>
        <p:blipFill>
          <a:blip r:embed="rId2"/>
          <a:stretch/>
        </p:blipFill>
        <p:spPr>
          <a:xfrm>
            <a:off x="6786720" y="564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8502408607e4.jpg"/>
          <p:cNvPicPr/>
          <p:nvPr/>
        </p:nvPicPr>
        <p:blipFill>
          <a:blip r:embed="rId1"/>
          <a:stretch/>
        </p:blipFill>
        <p:spPr>
          <a:xfrm>
            <a:off x="1857240" y="357120"/>
            <a:ext cx="5643720" cy="45147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" descr="8502408607e4.jpg"/>
          <p:cNvPicPr/>
          <p:nvPr/>
        </p:nvPicPr>
        <p:blipFill>
          <a:blip r:embed="rId2"/>
          <a:stretch/>
        </p:blipFill>
        <p:spPr>
          <a:xfrm>
            <a:off x="3786120" y="250020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" descr="8502408607e4.jpg"/>
          <p:cNvPicPr/>
          <p:nvPr/>
        </p:nvPicPr>
        <p:blipFill>
          <a:blip r:embed="rId3"/>
          <a:stretch/>
        </p:blipFill>
        <p:spPr>
          <a:xfrm>
            <a:off x="3857760" y="507204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8502408607e4.jpg"/>
          <p:cNvPicPr/>
          <p:nvPr/>
        </p:nvPicPr>
        <p:blipFill>
          <a:blip r:embed="rId4"/>
          <a:stretch/>
        </p:blipFill>
        <p:spPr>
          <a:xfrm>
            <a:off x="114300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5" descr="8502408607e4.jpg"/>
          <p:cNvPicPr/>
          <p:nvPr/>
        </p:nvPicPr>
        <p:blipFill>
          <a:blip r:embed="rId5"/>
          <a:stretch/>
        </p:blipFill>
        <p:spPr>
          <a:xfrm>
            <a:off x="6572160" y="507204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8502408607e4.jpg"/>
          <p:cNvPicPr/>
          <p:nvPr/>
        </p:nvPicPr>
        <p:blipFill>
          <a:blip r:embed="rId1"/>
          <a:stretch/>
        </p:blipFill>
        <p:spPr>
          <a:xfrm>
            <a:off x="1857240" y="357120"/>
            <a:ext cx="5643720" cy="45147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3036240" y="514368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Verdana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j0214098.wav" descr=""/>
          <p:cNvPicPr/>
          <p:nvPr/>
        </p:nvPicPr>
        <p:blipFill>
          <a:blip r:embed="rId2"/>
          <a:stretch/>
        </p:blipFill>
        <p:spPr>
          <a:xfrm>
            <a:off x="685800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48e5cadad306.jpg"/>
          <p:cNvPicPr/>
          <p:nvPr/>
        </p:nvPicPr>
        <p:blipFill>
          <a:blip r:embed="rId1"/>
          <a:stretch/>
        </p:blipFill>
        <p:spPr>
          <a:xfrm>
            <a:off x="1714680" y="357120"/>
            <a:ext cx="6143400" cy="4606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2" descr="48e5cadad306.jpg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5000760" y="571680"/>
            <a:ext cx="1643040" cy="19285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3" descr="48e5cadad306.jpg"/>
          <p:cNvPicPr/>
          <p:nvPr/>
        </p:nvPicPr>
        <p:blipFill>
          <a:blip r:embed="rId3"/>
          <a:stretch/>
        </p:blipFill>
        <p:spPr>
          <a:xfrm>
            <a:off x="642960" y="5037120"/>
            <a:ext cx="1428840" cy="16779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" descr="48e5cadad306.jpg"/>
          <p:cNvPicPr/>
          <p:nvPr/>
        </p:nvPicPr>
        <p:blipFill>
          <a:blip r:embed="rId4"/>
          <a:stretch/>
        </p:blipFill>
        <p:spPr>
          <a:xfrm>
            <a:off x="3714840" y="5000760"/>
            <a:ext cx="1428840" cy="16891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6" descr="48e5cadad306.jpg"/>
          <p:cNvPicPr/>
          <p:nvPr/>
        </p:nvPicPr>
        <p:blipFill>
          <a:blip r:embed="rId5"/>
          <a:stretch/>
        </p:blipFill>
        <p:spPr>
          <a:xfrm>
            <a:off x="6786720" y="5072040"/>
            <a:ext cx="1369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3:25:11Z</dcterms:created>
  <dc:creator>ОЕМ</dc:creator>
  <dc:description/>
  <dc:language>en-US</dc:language>
  <cp:lastModifiedBy>user</cp:lastModifiedBy>
  <dcterms:modified xsi:type="dcterms:W3CDTF">2020-04-25T08:59:57Z</dcterms:modified>
  <cp:revision>18</cp:revision>
  <dc:subject/>
  <dc:title>Слайд 1</dc:title>
</cp:coreProperties>
</file>