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0779-3F1B-45B4-8714-37481A81D2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3CA6-C5A8-46EA-ADBC-39FB293AD4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957-5008-437B-A1FF-D3587563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0D8-3567-4232-81D4-C5C080B6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066-E17A-4503-99DD-108A94C9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8CC-E721-4B78-AE29-3CA34E95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3FF-4F17-422D-929A-E1A526F1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405A-C5B9-4A63-8E6E-5182387A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4591-AE86-4F75-BC16-39540052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558B-1382-4299-920F-9872ED18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891-3CDA-4B84-AECD-A152753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A4C5-AB1B-45D0-AE87-EDCBB3B9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4792-CC15-4712-B7DC-4DEF1B3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F3F-E114-404F-8DBC-AF43D981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8FEC-A0E8-48D9-9D79-E5B6C77D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05A-11E3-4094-92A2-FC95FCA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0357-3A94-4C33-963D-DC085AC3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2BE-C02C-4A0F-B29B-28CFE3CA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3C09-E28C-4317-B476-0BAD0064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64A6-6D28-4411-BD28-50A6766D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92E6-B4A4-4723-993E-D6F52295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49BD-CAE0-4808-A242-47CE6E0B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3944-5DCB-479B-AB9C-2D57BDED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02BD6-C006-4AC9-98BF-0BF4DDB8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693-8F3B-40F4-B4B8-F77A4A3C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9412-BFFC-4781-A661-9159EE2F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D5FC-B425-4409-BC2E-6C93C9FB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B9A3-6030-4E57-8516-C2BA7572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9FE6-C931-495B-BFBD-CE99909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8E08-7256-418D-9E06-F84E337C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C85E-1279-4F27-B33A-472CC8D7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12C1-F5D1-476D-8293-FB5E05BD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64E9-F08B-4C7C-9748-3B1D7B1F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4DEF-4C7A-48A3-BCA5-50E25129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20CF8-6C8A-4C2E-A5F0-C935920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9E7-2577-40A9-8332-C5CF0CBF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655C-6929-414C-B325-17AF4E69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E998-240D-4A85-9FEF-6F158E96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6638-060F-48F4-9FA9-E009B48D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2F9BD-F05A-4E01-9671-04429B39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4F4E-0C0D-426D-A10A-893C0A8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CE95-AB1B-438E-B975-F2EFD3E1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14A1-62A1-43E2-A53A-BB95E165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31A6-8DBF-4E69-A666-6387358F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6C10-59FF-4405-90B3-6FDFF69D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5D7E6-B009-45AB-BCA8-FB032DB9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DC1-9351-4B60-97F5-A596C034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4E32-A959-4EC5-9E46-77FA3C7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D5F0-E6DE-4ADC-9A2F-47E1B7FE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A2C1F-8473-4AA4-B88E-240BA5F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5F78-6BD2-4EF0-BA98-EA28F2A4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53288-646D-4D21-8716-86B2AFFC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2F95-A4E2-4B54-8E2E-DC72BBD2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819E-606D-4D6D-A9F6-16C65ED2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69DD2-BEC6-4474-A88E-9FFCAD5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DA3C-8364-4A09-AFDF-0B7EDC16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F256-DB00-45C6-BB03-BAFAC496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8E4-E5FD-4979-82A9-922BB8E2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A401-25DA-4044-A190-441D02CA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9BD-7CBE-44A6-A098-486D3F4E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6E0-C177-4089-9B65-CC9CC54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C5D-AFB9-4394-9B76-CA08067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4490-EBA0-43B7-923A-1A84718C9584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3BE1-E003-47A7-9E36-1589FCD05323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91B-8575-4D58-96AC-1E5D062DF952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B3BF-3C21-476B-93A6-8DA661307A8A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868-2503-4669-BA33-58EE9DA2706B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" Target="slide4.xml"/><Relationship Id="rId5" Type="http://schemas.openxmlformats.org/officeDocument/2006/relationships/image" Target="../media/image12.jpeg"/><Relationship Id="rId6" Type="http://schemas.openxmlformats.org/officeDocument/2006/relationships/slide" Target="slide3.xml"/><Relationship Id="rId7" Type="http://schemas.openxmlformats.org/officeDocument/2006/relationships/image" Target="../media/image13.jpeg"/><Relationship Id="rId8" Type="http://schemas.openxmlformats.org/officeDocument/2006/relationships/slide" Target="slide3.xm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6" descr="2ccb41fcde35.jpg"/>
          <p:cNvPicPr/>
          <p:nvPr/>
        </p:nvPicPr>
        <p:blipFill>
          <a:blip r:embed="rId1"/>
          <a:stretch/>
        </p:blipFill>
        <p:spPr>
          <a:xfrm>
            <a:off x="1000080" y="857160"/>
            <a:ext cx="1677960" cy="13431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749160" y="2714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Verdana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Verdana"/>
              </a:rPr>
              <a:t>«Найди недостающий фраг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85880" y="49291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развитие мыслительных процессов: анализа и синтеза, глазомера 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5" descr="2ccb41fcde3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12880" y="1212840"/>
            <a:ext cx="335160" cy="3538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7" descr="9bec3e23234f.jpg"/>
          <p:cNvPicPr/>
          <p:nvPr/>
        </p:nvPicPr>
        <p:blipFill>
          <a:blip r:embed="rId4"/>
          <a:stretch/>
        </p:blipFill>
        <p:spPr>
          <a:xfrm>
            <a:off x="3929040" y="857160"/>
            <a:ext cx="1697040" cy="13575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8" descr="2ccb41fcde35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45080" y="1139760"/>
            <a:ext cx="407880" cy="4334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48e5cadad306.jpg"/>
          <p:cNvPicPr/>
          <p:nvPr/>
        </p:nvPicPr>
        <p:blipFill>
          <a:blip r:embed="rId7"/>
          <a:stretch/>
        </p:blipFill>
        <p:spPr>
          <a:xfrm>
            <a:off x="6620040" y="857160"/>
            <a:ext cx="1761840" cy="13208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0" descr="2ccb41fcde35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570800" y="927000"/>
            <a:ext cx="48276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48e5cadad306.jpg"/>
          <p:cNvPicPr/>
          <p:nvPr/>
        </p:nvPicPr>
        <p:blipFill>
          <a:blip r:embed="rId1"/>
          <a:stretch/>
        </p:blipFill>
        <p:spPr>
          <a:xfrm>
            <a:off x="1714680" y="357120"/>
            <a:ext cx="6143400" cy="46069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2821680" y="535788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j0214098.wav" descr=""/>
          <p:cNvPicPr/>
          <p:nvPr/>
        </p:nvPicPr>
        <p:blipFill>
          <a:blip r:embed="rId2"/>
          <a:stretch/>
        </p:blipFill>
        <p:spPr>
          <a:xfrm>
            <a:off x="6643800" y="578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995200" y="2571840"/>
            <a:ext cx="312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75c01"/>
                </a:solidFill>
                <a:latin typeface="Verdana"/>
              </a:rPr>
              <a:t>Кон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1000080" y="2690640"/>
            <a:ext cx="692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бери из трех фрагментов-картинок правильный, именно тот, который вырезан из большой картинки, если ответ правильный, то ты перейдешь к следующему задани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2945160" y="1071720"/>
            <a:ext cx="309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a3d01"/>
                </a:solidFill>
                <a:latin typeface="Verdana"/>
              </a:rPr>
              <a:t>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2ccb41fcde35.jpg"/>
          <p:cNvPicPr/>
          <p:nvPr/>
        </p:nvPicPr>
        <p:blipFill>
          <a:blip r:embed="rId1"/>
          <a:stretch/>
        </p:blipFill>
        <p:spPr>
          <a:xfrm>
            <a:off x="2071800" y="285840"/>
            <a:ext cx="5108400" cy="40860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2ccb41fcde3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45040" y="1073160"/>
            <a:ext cx="1353960" cy="14256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2ccb41fcde3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285920" y="46432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2ccb41fcde35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43200" y="457200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5" descr="2ccb41fcde35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86680" y="4643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2ccb41fcde35.jpg"/>
          <p:cNvPicPr/>
          <p:nvPr/>
        </p:nvPicPr>
        <p:blipFill>
          <a:blip r:embed="rId1"/>
          <a:stretch/>
        </p:blipFill>
        <p:spPr>
          <a:xfrm>
            <a:off x="1714680" y="500040"/>
            <a:ext cx="5929200" cy="4743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3303360" y="550080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668c4"/>
                </a:solidFill>
                <a:latin typeface="Verdana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2"/>
          <a:stretch/>
        </p:blipFill>
        <p:spPr>
          <a:xfrm>
            <a:off x="664380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1" descr="9bec3e23234f.jpg"/>
          <p:cNvPicPr/>
          <p:nvPr/>
        </p:nvPicPr>
        <p:blipFill>
          <a:blip r:embed="rId1"/>
          <a:stretch/>
        </p:blipFill>
        <p:spPr>
          <a:xfrm>
            <a:off x="1928880" y="357120"/>
            <a:ext cx="5446800" cy="43578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9bec3e23234f.jpg">
            <a:hlinkClick r:id="rId2" action="ppaction://hlinksldjump"/>
          </p:cNvPr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3929040" y="1000080"/>
            <a:ext cx="1643040" cy="1857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9bec3e23234f.jpg"/>
          <p:cNvPicPr/>
          <p:nvPr/>
        </p:nvPicPr>
        <p:blipFill>
          <a:blip r:embed="rId4"/>
          <a:stretch/>
        </p:blipFill>
        <p:spPr>
          <a:xfrm>
            <a:off x="6357960" y="4857840"/>
            <a:ext cx="1515960" cy="1714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9bec3e23234f.jpg"/>
          <p:cNvPicPr/>
          <p:nvPr/>
        </p:nvPicPr>
        <p:blipFill>
          <a:blip r:embed="rId5"/>
          <a:stretch/>
        </p:blipFill>
        <p:spPr>
          <a:xfrm>
            <a:off x="3714840" y="485784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6" descr="9bec3e23234f.jpg"/>
          <p:cNvPicPr/>
          <p:nvPr/>
        </p:nvPicPr>
        <p:blipFill>
          <a:blip r:embed="rId6"/>
          <a:stretch/>
        </p:blipFill>
        <p:spPr>
          <a:xfrm>
            <a:off x="1143000" y="4857840"/>
            <a:ext cx="1428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9bec3e23234f.jpg"/>
          <p:cNvPicPr/>
          <p:nvPr/>
        </p:nvPicPr>
        <p:blipFill>
          <a:blip r:embed="rId1"/>
          <a:stretch/>
        </p:blipFill>
        <p:spPr>
          <a:xfrm>
            <a:off x="1928880" y="357120"/>
            <a:ext cx="5446800" cy="43578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3036240" y="521496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5c01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j0214098.wav" descr=""/>
          <p:cNvPicPr/>
          <p:nvPr/>
        </p:nvPicPr>
        <p:blipFill>
          <a:blip r:embed="rId2"/>
          <a:stretch/>
        </p:blipFill>
        <p:spPr>
          <a:xfrm>
            <a:off x="678672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8502408607e4.jpg"/>
          <p:cNvPicPr/>
          <p:nvPr/>
        </p:nvPicPr>
        <p:blipFill>
          <a:blip r:embed="rId1"/>
          <a:stretch/>
        </p:blipFill>
        <p:spPr>
          <a:xfrm>
            <a:off x="1857240" y="357120"/>
            <a:ext cx="5643720" cy="45147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8502408607e4.jpg"/>
          <p:cNvPicPr/>
          <p:nvPr/>
        </p:nvPicPr>
        <p:blipFill>
          <a:blip r:embed="rId2"/>
          <a:stretch/>
        </p:blipFill>
        <p:spPr>
          <a:xfrm>
            <a:off x="3786120" y="250020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8502408607e4.jpg"/>
          <p:cNvPicPr/>
          <p:nvPr/>
        </p:nvPicPr>
        <p:blipFill>
          <a:blip r:embed="rId3"/>
          <a:stretch/>
        </p:blipFill>
        <p:spPr>
          <a:xfrm>
            <a:off x="3857760" y="507204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8502408607e4.jpg"/>
          <p:cNvPicPr/>
          <p:nvPr/>
        </p:nvPicPr>
        <p:blipFill>
          <a:blip r:embed="rId4"/>
          <a:stretch/>
        </p:blipFill>
        <p:spPr>
          <a:xfrm>
            <a:off x="114300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" descr="8502408607e4.jpg"/>
          <p:cNvPicPr/>
          <p:nvPr/>
        </p:nvPicPr>
        <p:blipFill>
          <a:blip r:embed="rId5"/>
          <a:stretch/>
        </p:blipFill>
        <p:spPr>
          <a:xfrm>
            <a:off x="6572160" y="50720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8502408607e4.jpg"/>
          <p:cNvPicPr/>
          <p:nvPr/>
        </p:nvPicPr>
        <p:blipFill>
          <a:blip r:embed="rId1"/>
          <a:stretch/>
        </p:blipFill>
        <p:spPr>
          <a:xfrm>
            <a:off x="1857240" y="357120"/>
            <a:ext cx="5643720" cy="4514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3036240" y="514368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j0214098.wav" descr=""/>
          <p:cNvPicPr/>
          <p:nvPr/>
        </p:nvPicPr>
        <p:blipFill>
          <a:blip r:embed="rId2"/>
          <a:stretch/>
        </p:blipFill>
        <p:spPr>
          <a:xfrm>
            <a:off x="685800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48e5cadad306.jpg"/>
          <p:cNvPicPr/>
          <p:nvPr/>
        </p:nvPicPr>
        <p:blipFill>
          <a:blip r:embed="rId1"/>
          <a:stretch/>
        </p:blipFill>
        <p:spPr>
          <a:xfrm>
            <a:off x="1714680" y="357120"/>
            <a:ext cx="6143400" cy="4606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" descr="48e5cadad306.jp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5000760" y="571680"/>
            <a:ext cx="1643040" cy="19285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3" descr="48e5cadad306.jpg"/>
          <p:cNvPicPr/>
          <p:nvPr/>
        </p:nvPicPr>
        <p:blipFill>
          <a:blip r:embed="rId3"/>
          <a:stretch/>
        </p:blipFill>
        <p:spPr>
          <a:xfrm>
            <a:off x="642960" y="5037120"/>
            <a:ext cx="1428840" cy="16779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" descr="48e5cadad306.jpg"/>
          <p:cNvPicPr/>
          <p:nvPr/>
        </p:nvPicPr>
        <p:blipFill>
          <a:blip r:embed="rId4"/>
          <a:stretch/>
        </p:blipFill>
        <p:spPr>
          <a:xfrm>
            <a:off x="3714840" y="5000760"/>
            <a:ext cx="1428840" cy="16891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6" descr="48e5cadad306.jpg"/>
          <p:cNvPicPr/>
          <p:nvPr/>
        </p:nvPicPr>
        <p:blipFill>
          <a:blip r:embed="rId5"/>
          <a:stretch/>
        </p:blipFill>
        <p:spPr>
          <a:xfrm>
            <a:off x="6786720" y="5072040"/>
            <a:ext cx="1369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3:25:11Z</dcterms:created>
  <dc:creator>ОЕМ</dc:creator>
  <dc:description/>
  <dc:language>en-US</dc:language>
  <cp:lastModifiedBy>user</cp:lastModifiedBy>
  <dcterms:modified xsi:type="dcterms:W3CDTF">2020-04-25T08:59:57Z</dcterms:modified>
  <cp:revision>18</cp:revision>
  <dc:subject/>
  <dc:title>Слайд 1</dc:title>
</cp:coreProperties>
</file>