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9C7D-53D0-45BA-A9B5-A4068C08FF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0713-9050-4B4E-A461-7FC3DEC167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90B-A30E-4D81-BE8A-0F096684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872-DA5B-4B04-850A-83DBAEA1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74A-3A26-4025-A2A6-14B44ECB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5C9-37A5-42A9-A2FC-C214BAE6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5CD9-60E8-43B8-B9DC-A5313D74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7AE9-C244-4C51-8936-7C0BA51B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0131-7321-4155-873C-F94CDF66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2693-C3A6-483D-833C-5AAD5088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9E39-ADEF-4DF7-8795-1277C2FC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218C-12CC-45C9-9095-BF76BEA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FCFC-E311-4B43-9926-7ADC5E29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2FA-D84F-40D7-8534-3791221A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5E9A-A8ED-4777-81FF-41238D81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DF4C-41DB-4660-8BB0-0DF85FF0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F7AE-29D4-42B3-9F17-FE93705A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FECE-A454-466A-8B25-CB1775D4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993E-7014-4E98-B87D-7F602595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4C29-CED0-4841-B781-0F8ECFE1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8CB1-78F2-4780-AFF6-041CFCD6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2C2C-E207-418A-A341-B9F50258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A023-586A-4E08-A2ED-245C96D7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FCED-C771-40DA-9BD3-A30D5F34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3C7-81B3-4B60-A3D0-97F38EF6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1EC3-CA90-4AA9-8A33-7D19239E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449B-5CA1-4E7C-9558-A5285278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53FE-5591-4F2D-9175-9BF34E12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828C-54E1-4EFC-81A4-7C6848D2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D707C-8B00-4BD6-B740-FEE42DB9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16B1-694D-4E48-B5D9-B5616EF1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5627-2248-45AB-944F-4A6FE9AD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74E4-D164-4C84-9FD7-77B2AA74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2FD20-1F2F-4B13-917B-7AF0B964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6FB5-76F9-4B50-9F3C-DC7150F6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37E-35A8-4782-A0FD-4C85EA12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22014-7634-417A-8993-2816BB60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A2C39-43B9-4AE6-9973-4ABF0B25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01FE3-1BC7-4671-8A58-742E1E32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9D3D-6974-4262-881B-F20C40AB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FA0D5-CA95-4413-84E5-E2CAA6F1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18CF-8CE2-405F-8EE6-498B8A1C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9B3A-98B9-46F2-BDD1-907781B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DDBD-7E33-4E83-B1D7-7295BC2E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8DBD-0E17-480D-A78B-6375C499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CE24A-81FD-479A-84C6-23A7ABC4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632-9F71-4FD3-B206-7302A0B7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0F98-F7FD-434D-8A6A-6F7B25AB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0CDE8-E9B8-4072-87FF-F8CD0FE2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8770-DBA2-4317-9F8A-760B8ADE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8F781-8DC1-49FD-8D62-29D0D66B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3EA93-5706-43A5-9403-48846AE5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1E92-7045-47F6-A1F7-1F933024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63F05-B3FE-4D48-8F09-D87CCC7D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A097C-C713-465D-A53F-65CB079B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7AEA-5AC2-4CF9-8A04-0A0638DE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B732C-62E7-4E41-80AC-0C98ECEF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4E7-274D-4A19-9AF7-D78EB2FE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52126-988C-40A7-B145-81E4F4C2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0FC-28E7-45EB-8779-604090F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764-A135-4C27-A721-6E68ADA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662-EFA7-4C51-A971-A2BADC9A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A94F-D8EB-42E2-923D-763D0948F962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1082-F9E8-490C-9CE8-A16EEDB7249E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6706-DFC3-4FFC-9C28-B6940650F72D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2FFF-98F0-4C20-91A7-50F4A9613A57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D9FC-AC72-4C27-8AE8-E6ECB76FE21C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" Target="slide5.xml"/><Relationship Id="rId11" Type="http://schemas.openxmlformats.org/officeDocument/2006/relationships/image" Target="../media/image10.jpeg"/><Relationship Id="rId12" Type="http://schemas.openxmlformats.org/officeDocument/2006/relationships/slide" Target="slide5.xml"/><Relationship Id="rId13" Type="http://schemas.openxmlformats.org/officeDocument/2006/relationships/image" Target="../media/image11.jpeg"/><Relationship Id="rId14" Type="http://schemas.openxmlformats.org/officeDocument/2006/relationships/slide" Target="slide5.xml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13.jpeg"/><Relationship Id="rId4" Type="http://schemas.openxmlformats.org/officeDocument/2006/relationships/slide" Target="slide4.xml"/><Relationship Id="rId5" Type="http://schemas.openxmlformats.org/officeDocument/2006/relationships/image" Target="../media/image13.jpeg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749160" y="2714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Verdana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Verdana"/>
              </a:rPr>
              <a:t>«Найди недостающий фраг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785880" y="49291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игры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развитие мыслительных процессов: анализа и синтеза, глазомера у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5" descr="2ccb41fcde3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12880" y="1212840"/>
            <a:ext cx="335160" cy="3538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2ccb41fcde35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5080" y="1139760"/>
            <a:ext cx="407880" cy="4334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0" descr="2ccb41fcde35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70800" y="927000"/>
            <a:ext cx="482760" cy="5050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9" descr="3aba4aee7277.jpg"/>
          <p:cNvPicPr/>
          <p:nvPr/>
        </p:nvPicPr>
        <p:blipFill>
          <a:blip r:embed="rId7"/>
          <a:stretch/>
        </p:blipFill>
        <p:spPr>
          <a:xfrm>
            <a:off x="1000080" y="857160"/>
            <a:ext cx="199404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a29a862536a6.jpg"/>
          <p:cNvPicPr/>
          <p:nvPr/>
        </p:nvPicPr>
        <p:blipFill>
          <a:blip r:embed="rId8"/>
          <a:stretch/>
        </p:blipFill>
        <p:spPr>
          <a:xfrm>
            <a:off x="3714840" y="1285920"/>
            <a:ext cx="1881000" cy="14112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2" descr="16b538b9dbb2.jpg"/>
          <p:cNvPicPr/>
          <p:nvPr/>
        </p:nvPicPr>
        <p:blipFill>
          <a:blip r:embed="rId9"/>
          <a:stretch/>
        </p:blipFill>
        <p:spPr>
          <a:xfrm>
            <a:off x="6311880" y="785880"/>
            <a:ext cx="2043000" cy="15001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3" descr="3aba4aee7277.jpg">
            <a:hlinkClick r:id="rId10" action="ppaction://hlinksldjump"/>
          </p:cNvPr>
          <p:cNvPicPr/>
          <p:nvPr/>
        </p:nvPicPr>
        <p:blipFill>
          <a:blip r:embed="rId11">
            <a:lum bright="100000"/>
          </a:blip>
          <a:stretch/>
        </p:blipFill>
        <p:spPr>
          <a:xfrm>
            <a:off x="1857240" y="1143000"/>
            <a:ext cx="270000" cy="2858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4" descr="3aba4aee7277.jpg">
            <a:hlinkClick r:id="rId12" action="ppaction://hlinksldjump"/>
          </p:cNvPr>
          <p:cNvPicPr/>
          <p:nvPr/>
        </p:nvPicPr>
        <p:blipFill>
          <a:blip r:embed="rId13">
            <a:lum bright="100000"/>
          </a:blip>
          <a:stretch/>
        </p:blipFill>
        <p:spPr>
          <a:xfrm>
            <a:off x="4357800" y="1357200"/>
            <a:ext cx="404640" cy="4287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5" descr="3aba4aee7277.jpg">
            <a:hlinkClick r:id="rId14" action="ppaction://hlinksldjump"/>
          </p:cNvPr>
          <p:cNvPicPr/>
          <p:nvPr/>
        </p:nvPicPr>
        <p:blipFill>
          <a:blip r:embed="rId15">
            <a:lum bright="100000"/>
          </a:blip>
          <a:stretch/>
        </p:blipFill>
        <p:spPr>
          <a:xfrm>
            <a:off x="6500880" y="1500120"/>
            <a:ext cx="40464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2821680" y="535788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j0214098.wav" descr=""/>
          <p:cNvPicPr/>
          <p:nvPr/>
        </p:nvPicPr>
        <p:blipFill>
          <a:blip r:embed="rId1"/>
          <a:stretch/>
        </p:blipFill>
        <p:spPr>
          <a:xfrm>
            <a:off x="6643800" y="578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a29a862536a6.jpg"/>
          <p:cNvPicPr/>
          <p:nvPr/>
        </p:nvPicPr>
        <p:blipFill>
          <a:blip r:embed="rId2"/>
          <a:stretch/>
        </p:blipFill>
        <p:spPr>
          <a:xfrm>
            <a:off x="1214280" y="35712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2995200" y="2571840"/>
            <a:ext cx="312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75c01"/>
                </a:solidFill>
                <a:latin typeface="Verdana"/>
              </a:rPr>
              <a:t>Кон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000080" y="2690640"/>
            <a:ext cx="692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бери из трех фрагментов-картинок правильный, именно тот, который вырезан из большой картинки, если ответ правильный, то ты перейдешь к следующему задани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2945160" y="1071720"/>
            <a:ext cx="309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a3d01"/>
                </a:solidFill>
                <a:latin typeface="Verdana"/>
              </a:rPr>
              <a:t>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4b92f99e3601.jpg"/>
          <p:cNvPicPr/>
          <p:nvPr/>
        </p:nvPicPr>
        <p:blipFill>
          <a:blip r:embed="rId1"/>
          <a:stretch/>
        </p:blipFill>
        <p:spPr>
          <a:xfrm>
            <a:off x="642960" y="714240"/>
            <a:ext cx="3610080" cy="53578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4b92f99e3601.jpg">
            <a:hlinkClick r:id="rId2" action="ppaction://hlinksldjump"/>
          </p:cNvPr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2428920" y="2357280"/>
            <a:ext cx="1571760" cy="16434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4b92f99e360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64312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4b92f99e3601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14920" y="421488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4b92f99e3601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43280" y="928800"/>
            <a:ext cx="16812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>
            <a:off x="5089320" y="301464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668c4"/>
                </a:solidFill>
                <a:latin typeface="Verdana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j0214098.wav" descr=""/>
          <p:cNvPicPr/>
          <p:nvPr/>
        </p:nvPicPr>
        <p:blipFill>
          <a:blip r:embed="rId1"/>
          <a:stretch/>
        </p:blipFill>
        <p:spPr>
          <a:xfrm>
            <a:off x="6643800" y="3857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4b92f99e3601.jpg"/>
          <p:cNvPicPr/>
          <p:nvPr/>
        </p:nvPicPr>
        <p:blipFill>
          <a:blip r:embed="rId2"/>
          <a:stretch/>
        </p:blipFill>
        <p:spPr>
          <a:xfrm>
            <a:off x="928800" y="428760"/>
            <a:ext cx="3609720" cy="53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3aba4aee7277.jpg"/>
          <p:cNvPicPr/>
          <p:nvPr/>
        </p:nvPicPr>
        <p:blipFill>
          <a:blip r:embed="rId1"/>
          <a:stretch/>
        </p:blipFill>
        <p:spPr>
          <a:xfrm>
            <a:off x="1714680" y="357120"/>
            <a:ext cx="5910120" cy="4233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3aba4aee7277.jp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786120" y="857160"/>
            <a:ext cx="121464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3aba4aee7277.jpg"/>
          <p:cNvPicPr/>
          <p:nvPr/>
        </p:nvPicPr>
        <p:blipFill>
          <a:blip r:embed="rId3"/>
          <a:stretch/>
        </p:blipFill>
        <p:spPr>
          <a:xfrm>
            <a:off x="3786120" y="5000760"/>
            <a:ext cx="1214640" cy="1285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3aba4aee7277.jpg"/>
          <p:cNvPicPr/>
          <p:nvPr/>
        </p:nvPicPr>
        <p:blipFill>
          <a:blip r:embed="rId4"/>
          <a:stretch/>
        </p:blipFill>
        <p:spPr>
          <a:xfrm>
            <a:off x="1285920" y="500076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3aba4aee7277.jpg"/>
          <p:cNvPicPr/>
          <p:nvPr/>
        </p:nvPicPr>
        <p:blipFill>
          <a:blip r:embed="rId5"/>
          <a:stretch/>
        </p:blipFill>
        <p:spPr>
          <a:xfrm>
            <a:off x="6643800" y="5000760"/>
            <a:ext cx="1143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2"/>
          <p:cNvSpPr/>
          <p:nvPr/>
        </p:nvSpPr>
        <p:spPr>
          <a:xfrm>
            <a:off x="3036240" y="521496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5c01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j0214098.wav" descr=""/>
          <p:cNvPicPr/>
          <p:nvPr/>
        </p:nvPicPr>
        <p:blipFill>
          <a:blip r:embed="rId1"/>
          <a:stretch/>
        </p:blipFill>
        <p:spPr>
          <a:xfrm>
            <a:off x="6786720" y="564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" descr="3aba4aee7277.jpg"/>
          <p:cNvPicPr/>
          <p:nvPr/>
        </p:nvPicPr>
        <p:blipFill>
          <a:blip r:embed="rId2"/>
          <a:stretch/>
        </p:blipFill>
        <p:spPr>
          <a:xfrm>
            <a:off x="1714680" y="500040"/>
            <a:ext cx="5910120" cy="42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16b538b9dbb2.jpg"/>
          <p:cNvPicPr/>
          <p:nvPr/>
        </p:nvPicPr>
        <p:blipFill>
          <a:blip r:embed="rId1"/>
          <a:stretch/>
        </p:blipFill>
        <p:spPr>
          <a:xfrm>
            <a:off x="1785960" y="357120"/>
            <a:ext cx="5572080" cy="40924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16b538b9dbb2.jp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2071800" y="2071800"/>
            <a:ext cx="1357200" cy="15001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16b538b9dbb2.jpg"/>
          <p:cNvPicPr/>
          <p:nvPr/>
        </p:nvPicPr>
        <p:blipFill>
          <a:blip r:embed="rId3"/>
          <a:stretch/>
        </p:blipFill>
        <p:spPr>
          <a:xfrm>
            <a:off x="6786720" y="4857840"/>
            <a:ext cx="1357200" cy="15001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4" descr="16b538b9dbb2.jpg"/>
          <p:cNvPicPr/>
          <p:nvPr/>
        </p:nvPicPr>
        <p:blipFill>
          <a:blip r:embed="rId4"/>
          <a:stretch/>
        </p:blipFill>
        <p:spPr>
          <a:xfrm>
            <a:off x="4000680" y="4786200"/>
            <a:ext cx="1285560" cy="15717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16b538b9dbb2.jpg"/>
          <p:cNvPicPr/>
          <p:nvPr/>
        </p:nvPicPr>
        <p:blipFill>
          <a:blip r:embed="rId5"/>
          <a:stretch/>
        </p:blipFill>
        <p:spPr>
          <a:xfrm>
            <a:off x="1285920" y="4857840"/>
            <a:ext cx="12859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2"/>
          <p:cNvSpPr/>
          <p:nvPr/>
        </p:nvSpPr>
        <p:spPr>
          <a:xfrm>
            <a:off x="3036240" y="514368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j0214098.wav" descr=""/>
          <p:cNvPicPr/>
          <p:nvPr/>
        </p:nvPicPr>
        <p:blipFill>
          <a:blip r:embed="rId1"/>
          <a:stretch/>
        </p:blipFill>
        <p:spPr>
          <a:xfrm>
            <a:off x="68580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16b538b9dbb2.jpg"/>
          <p:cNvPicPr/>
          <p:nvPr/>
        </p:nvPicPr>
        <p:blipFill>
          <a:blip r:embed="rId2"/>
          <a:stretch/>
        </p:blipFill>
        <p:spPr>
          <a:xfrm>
            <a:off x="1571760" y="571680"/>
            <a:ext cx="612756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2" descr="a29a862536a6.jpg"/>
          <p:cNvPicPr/>
          <p:nvPr/>
        </p:nvPicPr>
        <p:blipFill>
          <a:blip r:embed="rId1"/>
          <a:stretch/>
        </p:blipFill>
        <p:spPr>
          <a:xfrm>
            <a:off x="1785960" y="357120"/>
            <a:ext cx="5524560" cy="41436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3" descr="a29a862536a6.jp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286080" y="42876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a29a862536a6.jpg"/>
          <p:cNvPicPr/>
          <p:nvPr/>
        </p:nvPicPr>
        <p:blipFill>
          <a:blip r:embed="rId3"/>
          <a:stretch/>
        </p:blipFill>
        <p:spPr>
          <a:xfrm>
            <a:off x="4143240" y="464328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" descr="a29a862536a6.jpg"/>
          <p:cNvPicPr/>
          <p:nvPr/>
        </p:nvPicPr>
        <p:blipFill>
          <a:blip r:embed="rId4"/>
          <a:stretch/>
        </p:blipFill>
        <p:spPr>
          <a:xfrm>
            <a:off x="1214280" y="4643280"/>
            <a:ext cx="1643400" cy="16434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a29a862536a6.jpg"/>
          <p:cNvPicPr/>
          <p:nvPr/>
        </p:nvPicPr>
        <p:blipFill>
          <a:blip r:embed="rId5"/>
          <a:srcRect l="0" t="0" r="-3405" b="0"/>
          <a:stretch/>
        </p:blipFill>
        <p:spPr>
          <a:xfrm>
            <a:off x="7000920" y="4643280"/>
            <a:ext cx="12859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3:25:11Z</dcterms:created>
  <dc:creator>ОЕМ</dc:creator>
  <dc:description/>
  <dc:language>en-US</dc:language>
  <cp:lastModifiedBy>user</cp:lastModifiedBy>
  <dcterms:modified xsi:type="dcterms:W3CDTF">2020-04-25T08:54:05Z</dcterms:modified>
  <cp:revision>27</cp:revision>
  <dc:subject/>
  <dc:title>Слайд 1</dc:title>
</cp:coreProperties>
</file>