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C107-C84B-4387-9320-339D21F929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D4F9-1DDD-4FB1-9E48-FE1277E850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7B40-AAE5-477C-82DF-4663AAC5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3D2-2B8A-4198-9FFD-5429A0D6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0DE-6FB4-4123-B230-DAB2372B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C2D-F076-438B-98DD-24A63878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60D8-1899-466B-BE10-7056C2C0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CFA4-13B0-4092-BA38-43FCC2C6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B870-DDAF-4B66-B294-024DAC84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65AC-3C39-42AC-9C77-819450E5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1F89-1A7C-4D39-A194-9AE02A76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2C06-E9FF-475D-96BD-F1C0E331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6985-C509-42E3-A5C6-2496BE7B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3CA-F7F5-47CB-935A-E729E640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A16A-BFFB-446B-A7E4-80A29282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5464-33FB-45A8-B62F-905B8A4C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C2B3-CB7D-4F63-AFBA-7D9020A6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0C03-0A75-430E-B879-DC699EA8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76AE-2ED4-4FAE-A2C9-8076E5C4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A8868-C5B2-469D-B59C-5185208C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11825-3155-437A-81C0-851236A5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F57EF-21B8-409D-976E-B3017D2D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B5917-6105-4DAC-8C4C-4016251D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2F893-1881-490A-ACC0-E5E7D092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ACA-C55F-45F7-944B-DDA91D0E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83A1-3B5B-4EFF-9DBE-DC59322C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6BF45-B27E-4053-86B5-9EC1562C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D9F65-D806-4A1F-A3D2-0EDD1455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650AE-3304-402F-9D7B-45A7A98A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B571A-FD2F-4572-952E-F9FF6E1E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88C74-9B01-4CC8-A72A-E8CF4360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895F0-A009-4730-A5BB-6AC8E478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A4D5C-07F2-4FF8-B755-A160CE1B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3D1E1-A256-45BB-929F-C7DF2C93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26272-D909-451E-BE5E-027A35EB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F50-902F-44F0-99E0-9F48E06A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D0A5F-E227-47CF-A0E1-18464920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520FE-D5E5-4BB4-AE26-C8BC3E03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3D2D1-4659-4D33-9CFD-2D4D891D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BF025-6A11-481A-9CB9-29A5E43B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019DB-58E9-4A70-A8A9-430CD3FF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CBB5E-EC00-44F0-9732-88647379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0AB2F-BF00-4659-AF46-9CA2F7CB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921E2-6FE0-46DA-82BD-C4144A18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2A6A5-003E-468F-8534-2BC6D5B5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8CBCF-0529-4D34-8EBE-5205089E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4CA-2A07-4136-BD20-DFEFC0C8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CD7E5-7581-47D4-995F-84DA11E1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DD107-1A61-4EA6-9F90-FFA870F9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3F8E3-F9A8-45F6-BC0D-5AC21B74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A765D-75DD-4ED2-8944-1D6D90DE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20279-B32E-4409-ACAF-954FF186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665E1-CDE3-4333-9F46-2129005E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83441-8DDB-4DF5-9C4A-CC1B8A05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7D6C5-6466-4E62-A23A-356F345F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30AA2-D4E9-4D4A-82E4-82127857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41338-28AA-4DD3-9263-0E099271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F5F-914B-4A8C-8D6E-F61C810F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D26D3-BEAC-4DAE-BE33-A2D1C844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B663-4C0F-4A2E-9E6A-F327037F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737-9943-48A1-A941-B45A1D9E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318-4854-4278-A3B0-6F51E8C3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4E94-1BA1-461D-974F-A5077DC7E8FC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88C4-633A-4A21-89EE-9A913ACB0994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203D-98F3-4069-8AF8-0BA3A0147A6C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8411-3E7A-4742-BE07-42376903083E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14BF-A039-405E-A389-033852474502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" Target="slide2.xml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" Target="slide5.xml"/><Relationship Id="rId11" Type="http://schemas.openxmlformats.org/officeDocument/2006/relationships/image" Target="../media/image10.jpeg"/><Relationship Id="rId12" Type="http://schemas.openxmlformats.org/officeDocument/2006/relationships/slide" Target="slide5.xml"/><Relationship Id="rId13" Type="http://schemas.openxmlformats.org/officeDocument/2006/relationships/image" Target="../media/image11.jpeg"/><Relationship Id="rId14" Type="http://schemas.openxmlformats.org/officeDocument/2006/relationships/slide" Target="slide5.xml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image" Target="../media/image13.jpeg"/><Relationship Id="rId4" Type="http://schemas.openxmlformats.org/officeDocument/2006/relationships/slide" Target="slide4.xml"/><Relationship Id="rId5" Type="http://schemas.openxmlformats.org/officeDocument/2006/relationships/image" Target="../media/image13.jpeg"/><Relationship Id="rId6" Type="http://schemas.openxmlformats.org/officeDocument/2006/relationships/slide" Target="slide3.xml"/><Relationship Id="rId7" Type="http://schemas.openxmlformats.org/officeDocument/2006/relationships/image" Target="../media/image14.jpeg"/><Relationship Id="rId8" Type="http://schemas.openxmlformats.org/officeDocument/2006/relationships/slide" Target="slide3.xm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749160" y="2714760"/>
            <a:ext cx="76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a3d01"/>
                </a:solidFill>
                <a:latin typeface="Verdana"/>
              </a:rPr>
              <a:t>Развивающ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a3d01"/>
                </a:solidFill>
                <a:latin typeface="Verdana"/>
              </a:rPr>
              <a:t>«Найди недостающий фрагмен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4"/>
          <p:cNvSpPr/>
          <p:nvPr/>
        </p:nvSpPr>
        <p:spPr>
          <a:xfrm>
            <a:off x="785880" y="492912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ль игры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развитие мыслительных процессов: анализа и синтеза, глазомера у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5" descr="2ccb41fcde3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12880" y="1212840"/>
            <a:ext cx="335160" cy="3538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8" descr="2ccb41fcde35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45080" y="1139760"/>
            <a:ext cx="407880" cy="4334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0" descr="2ccb41fcde35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70800" y="927000"/>
            <a:ext cx="482760" cy="5050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9" descr="3aba4aee7277.jpg"/>
          <p:cNvPicPr/>
          <p:nvPr/>
        </p:nvPicPr>
        <p:blipFill>
          <a:blip r:embed="rId7"/>
          <a:stretch/>
        </p:blipFill>
        <p:spPr>
          <a:xfrm>
            <a:off x="1000080" y="857160"/>
            <a:ext cx="1994040" cy="14288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1" descr="a29a862536a6.jpg"/>
          <p:cNvPicPr/>
          <p:nvPr/>
        </p:nvPicPr>
        <p:blipFill>
          <a:blip r:embed="rId8"/>
          <a:stretch/>
        </p:blipFill>
        <p:spPr>
          <a:xfrm>
            <a:off x="3714840" y="1285920"/>
            <a:ext cx="1881000" cy="14112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2" descr="16b538b9dbb2.jpg"/>
          <p:cNvPicPr/>
          <p:nvPr/>
        </p:nvPicPr>
        <p:blipFill>
          <a:blip r:embed="rId9"/>
          <a:stretch/>
        </p:blipFill>
        <p:spPr>
          <a:xfrm>
            <a:off x="6311880" y="785880"/>
            <a:ext cx="2043000" cy="150012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3" descr="3aba4aee7277.jpg">
            <a:hlinkClick r:id="rId10" action="ppaction://hlinksldjump"/>
          </p:cNvPr>
          <p:cNvPicPr/>
          <p:nvPr/>
        </p:nvPicPr>
        <p:blipFill>
          <a:blip r:embed="rId11">
            <a:lum bright="100000"/>
          </a:blip>
          <a:stretch/>
        </p:blipFill>
        <p:spPr>
          <a:xfrm>
            <a:off x="1857240" y="1143000"/>
            <a:ext cx="270000" cy="28584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4" descr="3aba4aee7277.jpg">
            <a:hlinkClick r:id="rId12" action="ppaction://hlinksldjump"/>
          </p:cNvPr>
          <p:cNvPicPr/>
          <p:nvPr/>
        </p:nvPicPr>
        <p:blipFill>
          <a:blip r:embed="rId13">
            <a:lum bright="100000"/>
          </a:blip>
          <a:stretch/>
        </p:blipFill>
        <p:spPr>
          <a:xfrm>
            <a:off x="4357800" y="1357200"/>
            <a:ext cx="404640" cy="4287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5" descr="3aba4aee7277.jpg">
            <a:hlinkClick r:id="rId14" action="ppaction://hlinksldjump"/>
          </p:cNvPr>
          <p:cNvPicPr/>
          <p:nvPr/>
        </p:nvPicPr>
        <p:blipFill>
          <a:blip r:embed="rId15">
            <a:lum bright="100000"/>
          </a:blip>
          <a:stretch/>
        </p:blipFill>
        <p:spPr>
          <a:xfrm>
            <a:off x="6500880" y="1500120"/>
            <a:ext cx="40464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2"/>
          <p:cNvSpPr/>
          <p:nvPr/>
        </p:nvSpPr>
        <p:spPr>
          <a:xfrm>
            <a:off x="2821680" y="5357880"/>
            <a:ext cx="364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j0214098.wav" descr=""/>
          <p:cNvPicPr/>
          <p:nvPr/>
        </p:nvPicPr>
        <p:blipFill>
          <a:blip r:embed="rId1"/>
          <a:stretch/>
        </p:blipFill>
        <p:spPr>
          <a:xfrm>
            <a:off x="6643800" y="578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a29a862536a6.jpg"/>
          <p:cNvPicPr/>
          <p:nvPr/>
        </p:nvPicPr>
        <p:blipFill>
          <a:blip r:embed="rId2"/>
          <a:stretch/>
        </p:blipFill>
        <p:spPr>
          <a:xfrm>
            <a:off x="1214280" y="357120"/>
            <a:ext cx="65725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2995200" y="2571840"/>
            <a:ext cx="312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75c01"/>
                </a:solidFill>
                <a:latin typeface="Verdana"/>
              </a:rPr>
              <a:t>Кон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1000080" y="2690640"/>
            <a:ext cx="692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ыбери из трех фрагментов-картинок правильный, именно тот, который вырезан из большой картинки, если ответ правильный, то ты перейдешь к следующему заданию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2945160" y="1071720"/>
            <a:ext cx="309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a3d01"/>
                </a:solidFill>
                <a:latin typeface="Verdana"/>
              </a:rPr>
              <a:t>Зад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1" descr="4b92f99e3601.jpg"/>
          <p:cNvPicPr/>
          <p:nvPr/>
        </p:nvPicPr>
        <p:blipFill>
          <a:blip r:embed="rId1"/>
          <a:stretch/>
        </p:blipFill>
        <p:spPr>
          <a:xfrm>
            <a:off x="642960" y="714240"/>
            <a:ext cx="3610080" cy="535788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" descr="4b92f99e3601.jpg">
            <a:hlinkClick r:id="rId2" action="ppaction://hlinksldjump"/>
          </p:cNvPr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2428920" y="2357280"/>
            <a:ext cx="1571760" cy="16434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" descr="4b92f99e3601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72160" y="2643120"/>
            <a:ext cx="1571760" cy="16430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4" descr="4b92f99e3601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14920" y="421488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5" descr="4b92f99e3601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643280" y="928800"/>
            <a:ext cx="16812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2"/>
          <p:cNvSpPr/>
          <p:nvPr/>
        </p:nvSpPr>
        <p:spPr>
          <a:xfrm>
            <a:off x="5089320" y="3014640"/>
            <a:ext cx="32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668c4"/>
                </a:solidFill>
                <a:latin typeface="Verdana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j0214098.wav" descr=""/>
          <p:cNvPicPr/>
          <p:nvPr/>
        </p:nvPicPr>
        <p:blipFill>
          <a:blip r:embed="rId1"/>
          <a:stretch/>
        </p:blipFill>
        <p:spPr>
          <a:xfrm>
            <a:off x="6643800" y="3857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5" descr="4b92f99e3601.jpg"/>
          <p:cNvPicPr/>
          <p:nvPr/>
        </p:nvPicPr>
        <p:blipFill>
          <a:blip r:embed="rId2"/>
          <a:stretch/>
        </p:blipFill>
        <p:spPr>
          <a:xfrm>
            <a:off x="928800" y="428760"/>
            <a:ext cx="3609720" cy="53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3aba4aee7277.jpg"/>
          <p:cNvPicPr/>
          <p:nvPr/>
        </p:nvPicPr>
        <p:blipFill>
          <a:blip r:embed="rId1"/>
          <a:stretch/>
        </p:blipFill>
        <p:spPr>
          <a:xfrm>
            <a:off x="1714680" y="357120"/>
            <a:ext cx="5910120" cy="4233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2" descr="3aba4aee7277.jpg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3786120" y="857160"/>
            <a:ext cx="1214640" cy="12859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3aba4aee7277.jpg"/>
          <p:cNvPicPr/>
          <p:nvPr/>
        </p:nvPicPr>
        <p:blipFill>
          <a:blip r:embed="rId3"/>
          <a:stretch/>
        </p:blipFill>
        <p:spPr>
          <a:xfrm>
            <a:off x="3786120" y="5000760"/>
            <a:ext cx="1214640" cy="1285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3aba4aee7277.jpg"/>
          <p:cNvPicPr/>
          <p:nvPr/>
        </p:nvPicPr>
        <p:blipFill>
          <a:blip r:embed="rId4"/>
          <a:stretch/>
        </p:blipFill>
        <p:spPr>
          <a:xfrm>
            <a:off x="1285920" y="5000760"/>
            <a:ext cx="1143000" cy="12142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3aba4aee7277.jpg"/>
          <p:cNvPicPr/>
          <p:nvPr/>
        </p:nvPicPr>
        <p:blipFill>
          <a:blip r:embed="rId5"/>
          <a:stretch/>
        </p:blipFill>
        <p:spPr>
          <a:xfrm>
            <a:off x="6643800" y="5000760"/>
            <a:ext cx="1143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2"/>
          <p:cNvSpPr/>
          <p:nvPr/>
        </p:nvSpPr>
        <p:spPr>
          <a:xfrm>
            <a:off x="3036240" y="5214960"/>
            <a:ext cx="364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75c01"/>
                </a:solidFill>
                <a:latin typeface="Verdana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j0214098.wav" descr=""/>
          <p:cNvPicPr/>
          <p:nvPr/>
        </p:nvPicPr>
        <p:blipFill>
          <a:blip r:embed="rId1"/>
          <a:stretch/>
        </p:blipFill>
        <p:spPr>
          <a:xfrm>
            <a:off x="6786720" y="564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4" descr="3aba4aee7277.jpg"/>
          <p:cNvPicPr/>
          <p:nvPr/>
        </p:nvPicPr>
        <p:blipFill>
          <a:blip r:embed="rId2"/>
          <a:stretch/>
        </p:blipFill>
        <p:spPr>
          <a:xfrm>
            <a:off x="1714680" y="500040"/>
            <a:ext cx="5910120" cy="423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16b538b9dbb2.jpg"/>
          <p:cNvPicPr/>
          <p:nvPr/>
        </p:nvPicPr>
        <p:blipFill>
          <a:blip r:embed="rId1"/>
          <a:stretch/>
        </p:blipFill>
        <p:spPr>
          <a:xfrm>
            <a:off x="1785960" y="357120"/>
            <a:ext cx="5572080" cy="40924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" descr="16b538b9dbb2.jpg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2071800" y="2071800"/>
            <a:ext cx="1357200" cy="150012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3" descr="16b538b9dbb2.jpg"/>
          <p:cNvPicPr/>
          <p:nvPr/>
        </p:nvPicPr>
        <p:blipFill>
          <a:blip r:embed="rId3"/>
          <a:stretch/>
        </p:blipFill>
        <p:spPr>
          <a:xfrm>
            <a:off x="6786720" y="4857840"/>
            <a:ext cx="1357200" cy="15001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4" descr="16b538b9dbb2.jpg"/>
          <p:cNvPicPr/>
          <p:nvPr/>
        </p:nvPicPr>
        <p:blipFill>
          <a:blip r:embed="rId4"/>
          <a:stretch/>
        </p:blipFill>
        <p:spPr>
          <a:xfrm>
            <a:off x="4000680" y="4786200"/>
            <a:ext cx="1285560" cy="15717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16b538b9dbb2.jpg"/>
          <p:cNvPicPr/>
          <p:nvPr/>
        </p:nvPicPr>
        <p:blipFill>
          <a:blip r:embed="rId5"/>
          <a:stretch/>
        </p:blipFill>
        <p:spPr>
          <a:xfrm>
            <a:off x="1285920" y="4857840"/>
            <a:ext cx="128592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2"/>
          <p:cNvSpPr/>
          <p:nvPr/>
        </p:nvSpPr>
        <p:spPr>
          <a:xfrm>
            <a:off x="3036240" y="5143680"/>
            <a:ext cx="364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Verdana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j0214098.wav" descr=""/>
          <p:cNvPicPr/>
          <p:nvPr/>
        </p:nvPicPr>
        <p:blipFill>
          <a:blip r:embed="rId1"/>
          <a:stretch/>
        </p:blipFill>
        <p:spPr>
          <a:xfrm>
            <a:off x="685800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16b538b9dbb2.jpg"/>
          <p:cNvPicPr/>
          <p:nvPr/>
        </p:nvPicPr>
        <p:blipFill>
          <a:blip r:embed="rId2"/>
          <a:stretch/>
        </p:blipFill>
        <p:spPr>
          <a:xfrm>
            <a:off x="1571760" y="571680"/>
            <a:ext cx="6127560" cy="45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2" descr="a29a862536a6.jpg"/>
          <p:cNvPicPr/>
          <p:nvPr/>
        </p:nvPicPr>
        <p:blipFill>
          <a:blip r:embed="rId1"/>
          <a:stretch/>
        </p:blipFill>
        <p:spPr>
          <a:xfrm>
            <a:off x="1785960" y="357120"/>
            <a:ext cx="5524560" cy="41436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3" descr="a29a862536a6.jpg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3286080" y="428760"/>
            <a:ext cx="1714680" cy="15714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4" descr="a29a862536a6.jpg"/>
          <p:cNvPicPr/>
          <p:nvPr/>
        </p:nvPicPr>
        <p:blipFill>
          <a:blip r:embed="rId3"/>
          <a:stretch/>
        </p:blipFill>
        <p:spPr>
          <a:xfrm>
            <a:off x="4143240" y="4643280"/>
            <a:ext cx="1714680" cy="15717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5" descr="a29a862536a6.jpg"/>
          <p:cNvPicPr/>
          <p:nvPr/>
        </p:nvPicPr>
        <p:blipFill>
          <a:blip r:embed="rId4"/>
          <a:stretch/>
        </p:blipFill>
        <p:spPr>
          <a:xfrm>
            <a:off x="1214280" y="4643280"/>
            <a:ext cx="1643400" cy="16434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6" descr="a29a862536a6.jpg"/>
          <p:cNvPicPr/>
          <p:nvPr/>
        </p:nvPicPr>
        <p:blipFill>
          <a:blip r:embed="rId5"/>
          <a:srcRect l="0" t="0" r="-3405" b="0"/>
          <a:stretch/>
        </p:blipFill>
        <p:spPr>
          <a:xfrm>
            <a:off x="7000920" y="4643280"/>
            <a:ext cx="12859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3:25:11Z</dcterms:created>
  <dc:creator>ОЕМ</dc:creator>
  <dc:description/>
  <dc:language>en-US</dc:language>
  <cp:lastModifiedBy>user</cp:lastModifiedBy>
  <dcterms:modified xsi:type="dcterms:W3CDTF">2020-04-25T08:54:05Z</dcterms:modified>
  <cp:revision>27</cp:revision>
  <dc:subject/>
  <dc:title>Слайд 1</dc:title>
</cp:coreProperties>
</file>