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F4B-36D4-4C44-B658-E512E200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442-2407-43BA-85A0-30729247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C6C9B-7229-4FF8-A998-3C2A4913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1CEF5-4E47-42DD-93F2-0E1BE707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83CDD-3D5D-4C2C-B19F-DF2B00C9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17020-D7D5-4274-8246-149FE235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A616C-E9C6-4965-8615-B7C940C6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EA896-7CEB-4485-B29B-95BC2EAA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DA2C1-8A0B-44F2-A865-4672A0AF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7770E-3F9E-4ECF-9992-7FD0E375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FA1E9-F517-4524-B4C0-CEF9B6F6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224-A482-4181-98B5-9A6CAD2F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E99-8587-4AD1-94C5-425BCE74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488F-68A5-4245-B1C3-B184B901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B2B5-BE12-4E0A-A0A7-B143DF56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C34D-C6D0-4270-91D2-10B0EDB8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4087-473F-45F1-899F-F199A744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611F-4C53-4D4B-8540-39F9E601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2B54-A9E4-4750-A9D9-670E3B7D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4CDB-2900-4B87-95D7-89C85590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852-7077-442A-8EC1-6D7D7007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A2D9-7D9E-4F06-9BAB-2A58986F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D66D-40DA-4DA9-A0FD-973DB3B8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9787-68C7-4E68-95DA-9D5F03A5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ADE0-102E-409E-8E88-8E41BB10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B643-AEAE-48A6-8F0F-EBB8C893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6DD63-DDBB-42F2-B2E1-5A9AB39A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35ED8-9D27-4DEF-8DE1-5C3F16C6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D176-BAC2-4A0F-B756-5F081491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EAB16-EBDE-4D06-AF3E-3E422D6A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2D303-8BDC-4416-BBF0-609B46EA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303-8B64-4325-BB13-F2FDAB5F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4191-3FBE-411E-9A33-EAF9C4E2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6DE6B-2C8D-45B7-A7A3-5FDB1942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EB3B-193F-4E08-BC62-EEBDB7C2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297A-5C5F-4342-AE77-5630F62C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61BCB-E2E0-4779-9874-A8EF564C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6DBE-15D0-4926-9C98-192544BB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8AC4-C90C-41FE-A717-F8B655B5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62403-915C-4F81-BD0E-DD828A14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B15BE-6A3E-4F93-92D7-06E08ED1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1F92-7FEF-454F-BEB2-827F94C6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486-B6A2-4586-A9CE-EB598B1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A0E0C-AF40-44FF-A6B8-B0117D84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24E8A-55D5-4D06-890E-4A0AACE1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C16AD-FB48-44AC-B806-4593AA6F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52CC4-E824-4329-A210-79F6B7E7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56028-45CF-433B-BCB6-5ADF9AA9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ED06A-A416-4A59-93FD-21CCC584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75FFA-A41F-41B5-9A20-C4BBE457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87086-A089-4B35-ADB6-5BAE1DE7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2C808-BDA5-4A77-8C7C-F605512E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6D657-2669-4FEC-A668-5A179E34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B08-10AE-4E17-A54D-6325B54A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F52F3-96FD-4DDF-B5ED-2B5FB216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94C6B-AB84-4A7A-B0D4-460B0C27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DAB73-1160-4B3A-AB2A-6962CE8B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B1F68-6B1A-46BE-8762-FEF05DB6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82B3A-A87B-4180-9429-50605164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DA0C0-3AB8-461F-8EA9-0608C6CD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FCCA8-AACF-4C76-A929-C381AD55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5B79D-AFB1-4559-86C3-DE1A1C76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05D26-ED8E-40C1-9109-199EAF34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6E4E2-D3CD-4C5B-A6FF-01126C07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A09-832D-46B4-B2B4-67CD8888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0D7B-5BF1-4958-BF8D-80D3734D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9C818-A729-423E-A486-70B7B508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12F4C-DC06-4DC6-A47C-4880FA7E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40175-C3C6-4F48-81CF-53014D07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1F294-52BE-481C-ACA3-D2950E96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C1745-7290-462A-B2A2-E6E6A76D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ABA75-9532-4F09-A38A-7E6C2BC3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936B5-D5F2-42BE-AC66-6B63FB68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D3FFA-BDB5-439B-8894-3A1516B0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0232E-B8BE-4768-A4FD-AB301E22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3B5-DF67-4B43-8B0D-8E528C21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560D1-6BD4-4A59-9890-6B746207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62604-E398-4F73-8033-0B372CF4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DE591-155D-4E6B-BFB1-AE325FA0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DDFEA-38CB-40A2-81A1-9045F5EA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470F9-80EF-47D2-8BA7-776869BA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5FB89-8634-4764-8AD5-9FEA5CDD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DE97D-0780-4210-B683-464A7ADE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7D8B4-C6D8-4933-A145-4188DE29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E09E9-8436-46D4-84D5-697A39E7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F210E-599B-461B-AD41-C63FF772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963-ED7F-4374-8C6F-D3305B70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8E616-9BD5-4BF0-9A2C-6DC0B215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BEEFA-2098-4E9A-8074-FADC97B7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1E4A4-5243-41A2-A400-9D23C890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F83B1-849D-4E72-857E-A02C20AB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E2B16-D94C-47FC-BF1F-285495D9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DAC47-6F59-4C9E-91AD-B0A02351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95B9C-84CD-4386-AF0D-3A79D658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1B84D-C52D-4017-A7EC-A1BCEFB6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89C43-F441-470D-9B5A-52F1767B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36A8A-4078-44A7-BE9B-B9FCE731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C1B-4B5E-4DE4-AECC-7C43F09D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11F5D-5537-4D26-8B91-2F548A2B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F4974-517D-4578-A62B-9DF9EBB5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2B852-5253-426D-AF00-1AC578EB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2C049-74E9-4FBE-B138-0EF3E38A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6C02F-D55D-4E83-A8A5-2E0A1C88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551A3-B6FD-4EE8-9C24-4EB0CBE7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15798-EA4B-4A4E-9B26-AE3507D4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92763-8FE6-4E5A-84BF-42F57570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FAF7D-B30E-48E1-A585-32ECA999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1C339-943B-4EB7-A75B-0F10D25B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C2B6-834B-45B8-84E2-EFE9FDDCC61A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399B-3762-4DC9-9FE4-49AA7BDC9C69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0140-5038-414B-B280-35925E25FB4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610C-E8EE-42C0-AB29-CDC76F40FB5F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1080-15E2-4DF1-BAE6-D4E9DB9E70EF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999D-38D0-4BCE-A048-B69A1C4927AC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D595-63E6-45FC-A13E-1E511270F4AA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C26C-4B26-4186-82EB-4B13AAD6AA39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72B1-94B4-4750-BCC4-413718BD7DD2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image" Target="../media/image5.wmf"/><Relationship Id="rId4" Type="http://schemas.openxmlformats.org/officeDocument/2006/relationships/slide" Target="slide3.xml"/><Relationship Id="rId5" Type="http://schemas.openxmlformats.org/officeDocument/2006/relationships/image" Target="../media/image6.wmf"/><Relationship Id="rId6" Type="http://schemas.openxmlformats.org/officeDocument/2006/relationships/slide" Target="slide3.xml"/><Relationship Id="rId7" Type="http://schemas.openxmlformats.org/officeDocument/2006/relationships/image" Target="../media/image7.wmf"/><Relationship Id="rId8" Type="http://schemas.openxmlformats.org/officeDocument/2006/relationships/slide" Target="slide3.xml"/><Relationship Id="rId9" Type="http://schemas.openxmlformats.org/officeDocument/2006/relationships/image" Target="../media/image8.wmf"/><Relationship Id="rId10" Type="http://schemas.openxmlformats.org/officeDocument/2006/relationships/slide" Target="slide3.xml"/><Relationship Id="rId11" Type="http://schemas.openxmlformats.org/officeDocument/2006/relationships/image" Target="../media/image9.wmf"/><Relationship Id="rId12" Type="http://schemas.openxmlformats.org/officeDocument/2006/relationships/slide" Target="slide3.xml"/><Relationship Id="rId13" Type="http://schemas.openxmlformats.org/officeDocument/2006/relationships/image" Target="../media/image10.wmf"/><Relationship Id="rId14" Type="http://schemas.openxmlformats.org/officeDocument/2006/relationships/slide" Target="slide3.xml"/><Relationship Id="rId15" Type="http://schemas.openxmlformats.org/officeDocument/2006/relationships/image" Target="../media/image11.wmf"/><Relationship Id="rId16" Type="http://schemas.openxmlformats.org/officeDocument/2006/relationships/slide" Target="slide3.xml"/><Relationship Id="rId17" Type="http://schemas.openxmlformats.org/officeDocument/2006/relationships/image" Target="../media/image12.wmf"/><Relationship Id="rId18" Type="http://schemas.openxmlformats.org/officeDocument/2006/relationships/image" Target="../media/image4.wmf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" Target="slide4.xml"/><Relationship Id="rId4" Type="http://schemas.openxmlformats.org/officeDocument/2006/relationships/image" Target="../media/image5.wmf"/><Relationship Id="rId5" Type="http://schemas.openxmlformats.org/officeDocument/2006/relationships/slide" Target="slide4.xml"/><Relationship Id="rId6" Type="http://schemas.openxmlformats.org/officeDocument/2006/relationships/image" Target="../media/image6.wmf"/><Relationship Id="rId7" Type="http://schemas.openxmlformats.org/officeDocument/2006/relationships/slide" Target="slide4.xml"/><Relationship Id="rId8" Type="http://schemas.openxmlformats.org/officeDocument/2006/relationships/image" Target="../media/image7.wmf"/><Relationship Id="rId9" Type="http://schemas.openxmlformats.org/officeDocument/2006/relationships/slide" Target="slide4.xml"/><Relationship Id="rId10" Type="http://schemas.openxmlformats.org/officeDocument/2006/relationships/image" Target="../media/image8.wmf"/><Relationship Id="rId11" Type="http://schemas.openxmlformats.org/officeDocument/2006/relationships/slide" Target="slide4.xml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slide" Target="slide4.xml"/><Relationship Id="rId15" Type="http://schemas.openxmlformats.org/officeDocument/2006/relationships/image" Target="../media/image11.wmf"/><Relationship Id="rId16" Type="http://schemas.openxmlformats.org/officeDocument/2006/relationships/slide" Target="slide4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3.xml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" Target="slide5.xml"/><Relationship Id="rId7" Type="http://schemas.openxmlformats.org/officeDocument/2006/relationships/image" Target="../media/image7.wmf"/><Relationship Id="rId8" Type="http://schemas.openxmlformats.org/officeDocument/2006/relationships/slide" Target="slide5.xml"/><Relationship Id="rId9" Type="http://schemas.openxmlformats.org/officeDocument/2006/relationships/image" Target="../media/image8.wmf"/><Relationship Id="rId10" Type="http://schemas.openxmlformats.org/officeDocument/2006/relationships/slide" Target="slide5.xml"/><Relationship Id="rId11" Type="http://schemas.openxmlformats.org/officeDocument/2006/relationships/image" Target="../media/image9.wmf"/><Relationship Id="rId12" Type="http://schemas.openxmlformats.org/officeDocument/2006/relationships/slide" Target="slide5.xml"/><Relationship Id="rId13" Type="http://schemas.openxmlformats.org/officeDocument/2006/relationships/image" Target="../media/image10.wmf"/><Relationship Id="rId14" Type="http://schemas.openxmlformats.org/officeDocument/2006/relationships/slide" Target="slide5.xml"/><Relationship Id="rId15" Type="http://schemas.openxmlformats.org/officeDocument/2006/relationships/image" Target="../media/image11.wmf"/><Relationship Id="rId16" Type="http://schemas.openxmlformats.org/officeDocument/2006/relationships/slide" Target="slide5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4.xml"/><Relationship Id="rId20" Type="http://schemas.openxmlformats.org/officeDocument/2006/relationships/image" Target="../media/image6.wmf"/><Relationship Id="rId2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image" Target="../media/image5.wmf"/><Relationship Id="rId5" Type="http://schemas.openxmlformats.org/officeDocument/2006/relationships/slide" Target="slide6.xml"/><Relationship Id="rId6" Type="http://schemas.openxmlformats.org/officeDocument/2006/relationships/image" Target="../media/image6.wmf"/><Relationship Id="rId7" Type="http://schemas.openxmlformats.org/officeDocument/2006/relationships/slide" Target="slide6.xml"/><Relationship Id="rId8" Type="http://schemas.openxmlformats.org/officeDocument/2006/relationships/image" Target="../media/image7.wmf"/><Relationship Id="rId9" Type="http://schemas.openxmlformats.org/officeDocument/2006/relationships/slide" Target="slide6.xml"/><Relationship Id="rId10" Type="http://schemas.openxmlformats.org/officeDocument/2006/relationships/image" Target="../media/image8.wmf"/><Relationship Id="rId11" Type="http://schemas.openxmlformats.org/officeDocument/2006/relationships/slide" Target="slide6.xml"/><Relationship Id="rId12" Type="http://schemas.openxmlformats.org/officeDocument/2006/relationships/image" Target="../media/image9.wmf"/><Relationship Id="rId13" Type="http://schemas.openxmlformats.org/officeDocument/2006/relationships/slide" Target="slide6.xml"/><Relationship Id="rId14" Type="http://schemas.openxmlformats.org/officeDocument/2006/relationships/image" Target="../media/image10.wmf"/><Relationship Id="rId15" Type="http://schemas.openxmlformats.org/officeDocument/2006/relationships/slide" Target="slide6.xml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5.xml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wmf"/><Relationship Id="rId3" Type="http://schemas.openxmlformats.org/officeDocument/2006/relationships/slide" Target="slide7.xml"/><Relationship Id="rId4" Type="http://schemas.openxmlformats.org/officeDocument/2006/relationships/image" Target="../media/image5.wmf"/><Relationship Id="rId5" Type="http://schemas.openxmlformats.org/officeDocument/2006/relationships/slide" Target="slide7.xml"/><Relationship Id="rId6" Type="http://schemas.openxmlformats.org/officeDocument/2006/relationships/image" Target="../media/image6.wmf"/><Relationship Id="rId7" Type="http://schemas.openxmlformats.org/officeDocument/2006/relationships/slide" Target="slide7.xml"/><Relationship Id="rId8" Type="http://schemas.openxmlformats.org/officeDocument/2006/relationships/image" Target="../media/image7.wmf"/><Relationship Id="rId9" Type="http://schemas.openxmlformats.org/officeDocument/2006/relationships/slide" Target="slide7.xml"/><Relationship Id="rId10" Type="http://schemas.openxmlformats.org/officeDocument/2006/relationships/image" Target="../media/image8.wmf"/><Relationship Id="rId11" Type="http://schemas.openxmlformats.org/officeDocument/2006/relationships/slide" Target="slide7.xml"/><Relationship Id="rId12" Type="http://schemas.openxmlformats.org/officeDocument/2006/relationships/image" Target="../media/image9.wmf"/><Relationship Id="rId13" Type="http://schemas.openxmlformats.org/officeDocument/2006/relationships/slide" Target="slide7.xml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13.png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TextBox 3"/>
          <p:cNvGrpSpPr/>
          <p:nvPr/>
        </p:nvGrpSpPr>
        <p:grpSpPr>
          <a:xfrm>
            <a:off x="1030320" y="1127160"/>
            <a:ext cx="7004160" cy="2030400"/>
            <a:chOff x="1030320" y="1127160"/>
            <a:chExt cx="7004160" cy="2030400"/>
          </a:xfrm>
        </p:grpSpPr>
        <p:pic>
          <p:nvPicPr>
            <p:cNvPr id="400" name="TextBox 3" descr=""/>
            <p:cNvPicPr/>
            <p:nvPr/>
          </p:nvPicPr>
          <p:blipFill>
            <a:blip r:embed="rId1"/>
            <a:stretch/>
          </p:blipFill>
          <p:spPr>
            <a:xfrm>
              <a:off x="1030320" y="1127160"/>
              <a:ext cx="700416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285920" y="1285920"/>
              <a:ext cx="6491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вивающая игр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Найди такой же объект.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4"/>
          <p:cNvSpPr/>
          <p:nvPr/>
        </p:nvSpPr>
        <p:spPr>
          <a:xfrm>
            <a:off x="1466280" y="40719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Franklin Gothic Book"/>
              </a:rPr>
              <a:t>Цель: развитие вни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1071720" y="1428840"/>
            <a:ext cx="700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кажи в таблице  тот предм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торый изображен сл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ответ верный, ты услышишь аплодисмент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перейти к следующему заданию, кликни левую кнопку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13" descr="J0215358.WMF"/>
          <p:cNvPicPr/>
          <p:nvPr/>
        </p:nvPicPr>
        <p:blipFill>
          <a:blip r:embed="rId1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4" descr="J0215360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5" descr="J0215361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29240" y="114300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29240" y="428616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22" descr="J0215358.WMF"/>
          <p:cNvPicPr/>
          <p:nvPr/>
        </p:nvPicPr>
        <p:blipFill>
          <a:blip r:embed="rId18"/>
          <a:stretch/>
        </p:blipFill>
        <p:spPr>
          <a:xfrm>
            <a:off x="857160" y="2214720"/>
            <a:ext cx="1627200" cy="2301840"/>
          </a:xfrm>
          <a:prstGeom prst="rect">
            <a:avLst/>
          </a:prstGeom>
          <a:ln w="0">
            <a:noFill/>
          </a:ln>
        </p:spPr>
      </p:pic>
      <p:pic>
        <p:nvPicPr>
          <p:cNvPr id="423" name="j0214098.wav" descr=""/>
          <p:cNvPicPr/>
          <p:nvPr/>
        </p:nvPicPr>
        <p:blipFill>
          <a:blip r:embed="rId19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745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4286160"/>
            <a:ext cx="1530000" cy="11304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00760" y="1214280"/>
            <a:ext cx="1149120" cy="10051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92880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414324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19" descr="J0215163.WMF"/>
          <p:cNvPicPr/>
          <p:nvPr/>
        </p:nvPicPr>
        <p:blipFill>
          <a:blip r:embed="rId13"/>
          <a:stretch/>
        </p:blipFill>
        <p:spPr>
          <a:xfrm>
            <a:off x="6572160" y="257184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86080" y="2714760"/>
            <a:ext cx="1201680" cy="111096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4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3" descr="J0215163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00040" y="2286000"/>
            <a:ext cx="2252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14920" y="4214880"/>
            <a:ext cx="1530360" cy="11304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5" descr="J0215361.WMF"/>
          <p:cNvPicPr/>
          <p:nvPr/>
        </p:nvPicPr>
        <p:blipFill>
          <a:blip r:embed="rId5"/>
          <a:stretch/>
        </p:blipFill>
        <p:spPr>
          <a:xfrm>
            <a:off x="3500280" y="442908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929120" y="271476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29240" y="1143000"/>
            <a:ext cx="1202040" cy="111132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50088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6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22" descr="J0215361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85840" y="2143080"/>
            <a:ext cx="261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21488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29120" y="1214280"/>
            <a:ext cx="1149480" cy="100512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100008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000760" y="4286160"/>
            <a:ext cx="1071360" cy="115884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929120" y="264312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20" descr="J0215161.WM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21" descr="J0215368.WMF"/>
          <p:cNvPicPr/>
          <p:nvPr/>
        </p:nvPicPr>
        <p:blipFill>
          <a:blip r:embed="rId17"/>
          <a:stretch/>
        </p:blipFill>
        <p:spPr>
          <a:xfrm>
            <a:off x="357192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8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23" descr="J0215368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42960" y="2000160"/>
            <a:ext cx="1901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745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0" descr="J0215161.WMF"/>
          <p:cNvPicPr/>
          <p:nvPr/>
        </p:nvPicPr>
        <p:blipFill>
          <a:blip r:embed="rId15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1" descr="J0215368.WMF"/>
          <p:cNvPicPr/>
          <p:nvPr/>
        </p:nvPicPr>
        <p:blipFill>
          <a:blip r:embed="rId16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02" name="j0214098.wav" descr=""/>
          <p:cNvPicPr/>
          <p:nvPr/>
        </p:nvPicPr>
        <p:blipFill>
          <a:blip r:embed="rId17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2" descr="J0215161.WMF"/>
          <p:cNvPicPr/>
          <p:nvPr/>
        </p:nvPicPr>
        <p:blipFill>
          <a:blip r:embed="rId18"/>
          <a:stretch/>
        </p:blipFill>
        <p:spPr>
          <a:xfrm>
            <a:off x="428760" y="2571840"/>
            <a:ext cx="23968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10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45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Рисунок 13" descr="J0215358.WMF"/>
          <p:cNvPicPr/>
          <p:nvPr/>
        </p:nvPicPr>
        <p:blipFill>
          <a:blip r:embed="rId1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14" descr="J0215360.WMF"/>
          <p:cNvPicPr/>
          <p:nvPr/>
        </p:nvPicPr>
        <p:blipFill>
          <a:blip r:embed="rId2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5" descr="J0215361.WMF"/>
          <p:cNvPicPr/>
          <p:nvPr/>
        </p:nvPicPr>
        <p:blipFill>
          <a:blip r:embed="rId3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6" descr="J0215362.WMF"/>
          <p:cNvPicPr/>
          <p:nvPr/>
        </p:nvPicPr>
        <p:blipFill>
          <a:blip r:embed="rId4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7" descr="J0215363.WMF"/>
          <p:cNvPicPr/>
          <p:nvPr/>
        </p:nvPicPr>
        <p:blipFill>
          <a:blip r:embed="rId5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18" descr="J0215155.WMF"/>
          <p:cNvPicPr/>
          <p:nvPr/>
        </p:nvPicPr>
        <p:blipFill>
          <a:blip r:embed="rId6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19" descr="J0215163.WMF"/>
          <p:cNvPicPr/>
          <p:nvPr/>
        </p:nvPicPr>
        <p:blipFill>
          <a:blip r:embed="rId7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20" descr="J0215161.WMF"/>
          <p:cNvPicPr/>
          <p:nvPr/>
        </p:nvPicPr>
        <p:blipFill>
          <a:blip r:embed="rId8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21" descr="J0215368.WMF"/>
          <p:cNvPicPr/>
          <p:nvPr/>
        </p:nvPicPr>
        <p:blipFill>
          <a:blip r:embed="rId9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22" name="j0214098.wav" descr=""/>
          <p:cNvPicPr/>
          <p:nvPr/>
        </p:nvPicPr>
        <p:blipFill>
          <a:blip r:embed="rId10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23" descr="J0215363.WMF"/>
          <p:cNvPicPr/>
          <p:nvPr/>
        </p:nvPicPr>
        <p:blipFill>
          <a:blip r:embed="rId11"/>
          <a:stretch/>
        </p:blipFill>
        <p:spPr>
          <a:xfrm>
            <a:off x="0" y="2571840"/>
            <a:ext cx="2543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83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84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745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extBox 2" descr=""/>
          <p:cNvPicPr/>
          <p:nvPr/>
        </p:nvPicPr>
        <p:blipFill>
          <a:blip r:embed="rId1"/>
          <a:stretch/>
        </p:blipFill>
        <p:spPr>
          <a:xfrm>
            <a:off x="2859120" y="2146320"/>
            <a:ext cx="30542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4:47:34Z</dcterms:created>
  <dc:creator>ОЕМ</dc:creator>
  <dc:description/>
  <dc:language>en-US</dc:language>
  <cp:lastModifiedBy>user</cp:lastModifiedBy>
  <dcterms:modified xsi:type="dcterms:W3CDTF">2020-04-25T08:58:54Z</dcterms:modified>
  <cp:revision>19</cp:revision>
  <dc:subject/>
  <dc:title>Слайд 1</dc:title>
</cp:coreProperties>
</file>