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277-1FFD-4A10-AB50-BBB34B9A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88E-C133-427B-9990-5754EB44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99F75-14CB-4C55-9150-449A9BC0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FD718-5E13-405D-B157-91335B98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2CB61-99BF-454D-BD7A-93E1A859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85237-319D-4CCF-B25A-9B8F5670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B6DBF-759B-42AA-94B4-FAA6935F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36221-91D2-4738-98E9-A528F3B1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FC22F-2CE2-4D6D-BA1A-0B8E178B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5530E-11F7-4C91-B984-B5590BCD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3518B-D336-41BE-9C01-A177C727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1291-A626-4A9D-98B7-284CD17A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59EC-9B30-4298-8495-8951A98E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F06F-5F7D-41D8-92A5-6D93B09A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729E-2459-485A-AA86-8241C527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591E-F187-4BAC-B484-BCF419BB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34D5-AA0F-404F-B93E-BE1A2644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D190-E125-4005-8E89-9D7192F7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A643-D702-471A-9D86-2F87994E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B97B-D62C-434E-B9AD-1E0CF211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B84-9DDF-4B7A-8A42-C334B660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2F72-0772-4575-A93E-5F1B4846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1D87-3CA8-443E-8D32-00604E0E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AC29-2AF7-4862-AA31-8C4536EC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16F0-3180-4859-8095-433F1D92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E5E8-DDE0-40A3-A9B2-36D42D8B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A275A-3B50-417B-8016-4DCFC55A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9A981-170B-4E27-952D-E98602FD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54DA9-7936-4DE6-8611-9348F5E3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BC9EE-20E3-4C53-B48C-C6DDD7CE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009DD-A7AD-41DF-85EB-6E671621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FB92-EDF9-4870-8602-C36574C4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F6AF5-5AD0-4BBE-A743-B239CBA0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34D13-3397-41B2-962E-B4F78FEE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55ED1-1C9E-41E3-B8B7-CDA92446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34C7D-7827-4206-9ABD-80F8A9AA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3AF22-F44F-4A32-ABC2-63BB6024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81BB2-EEA6-49C2-A758-65AACAE9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790FA-BE95-46EB-BA89-0DCADE52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86E19-D1EC-42A1-B2A9-FEE048FC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71DDD-F3E1-4197-A4A6-C2E9C119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E9914-63D0-4297-9AA2-8F419C07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DF5C-1C96-4D73-9871-BD7BE43E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55BC0-B473-420C-8D4A-B6918E5E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F26B7-8139-4D14-B887-2AB99CC5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BCEA5-2940-4815-84B3-3D0EDE9F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6D307-1817-40BC-B71D-E1AFA4D1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12A1A-B3AF-4DFE-A1F0-6A05C4AD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39812-57CC-4139-9BBE-3BF92FC9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C7BFF-FACA-40EB-A62B-BD42C1E2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E8D25-31E7-4812-B06F-3B70FE46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42D50-F845-4673-BBD5-641DBCCC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3B5F1-299D-4733-8122-99B88075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E82-B018-42E5-9A16-5ADEFB23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B8DC4-D33B-47CC-897A-1851D9DA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2150A-9A26-4BCF-8A9E-770B5044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03729-4FC7-4CE0-9A11-145A57A6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3BD07-6B93-4F38-925D-82AA4D32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684A7-E13F-4A89-8ADA-7B7BECCC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5B162-8483-4B44-882A-A0CA9713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E441B-5542-4ACA-BFCE-59AD83BB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E3A5F-B746-4A31-92FE-754389E8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002D4-8A6E-43C6-A2C0-182FB3DB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200AD-294F-4588-94C8-84106FAB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A2E-D704-4F10-BB72-378D6D7F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CE9F0-9AE7-4873-9D01-2E93C693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02F19-AA54-47E1-9166-70BAD5E1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8641B-5CDD-4740-9981-8F11818A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B9D26-A2BE-4FF0-ABAC-A682C343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DF7F2-DDB1-4418-AED7-961AE13F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5C9FD-7901-4F37-BCD3-EA8E5712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B9E60-7AF0-4BE5-858A-FC497A77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ED8B7-6039-480B-8302-ED84D5EC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C9408-C60A-46F6-9A82-69AB6DC2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BFABF-EDDB-465A-9F1D-66509D9C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3B47-DC09-40ED-A31C-6A9F9987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57B62-5DBA-46D3-8F00-8F7A5FB0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9BB1E-B3C6-497E-AF69-B917B9FA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BA3CB-75EF-459C-9062-04D8D0E4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079FD-9880-46DA-9010-EE391FCA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9E4EF-7335-4D88-BE0D-C12A0D9B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7B7FC-1776-46A2-AE39-BAD1E4DF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7CCAF-D7CA-4F56-BE50-AFC5C343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061ED-0654-4AE8-86CD-061E36C2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75E9C-39C7-4616-A659-46BE9A20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8B0BD-4993-43AA-889E-A8E55346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A0B-A5C8-4596-A3FC-C885A7E1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5DE8A-895E-4A91-BAB0-820CCFFE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D2B6E-58F8-47E9-B703-6C4485BF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9C002-BEBB-41E6-BD2B-EC3C4F18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A6F58-32B1-4590-8703-7B889699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1005D-9A04-4948-80EC-5CDBBC9D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A2B8C-93D3-437F-B376-6499D6B6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C29F9-9D7C-4477-A4AE-24B4A9ED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CA679-69BD-4CFC-B7ED-FAD663B5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ABC0F-FD65-4642-8F5C-BCE1628A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3687E-3040-4833-8C91-726ECAAE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C4CC-0C53-43E1-BC9C-7E9BF578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1EEE8-8EF6-4133-BBDB-77677D51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EB8FD-5C7E-413D-A2EF-3F5AD8A5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3C907-8E04-49D5-890E-0384819C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73841-AE02-465B-9F74-87770DF6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1D6FC-A90C-4E95-A31A-6ACB804B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96CA3-45D3-4D75-9731-4F6888D8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754B9-2D23-4348-B989-54E00476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A159C-7DEE-42AD-AA0C-2EA211D8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B4C82-5396-4610-9F04-B5BA746F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06EF8-F15B-4F15-83F4-3A8D20A7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AA3C-7442-4968-BB07-90C8AE5E0025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FB7B-2EE8-4072-842C-BA8F9CA29F90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1B00-C1BC-4536-AC1C-08C3FD3C6D71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215A-5275-41B6-ADE7-D45C8A8A0EDD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E2B2-34F6-4F57-87A5-4FEC747FA77B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581D-DA8E-4281-8D9E-411BA60D1812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FEE9-AEEA-4CFE-B8D1-3274E06653F3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3132-2A0F-46E6-AB0A-4996954E0391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834E-6F1B-4362-9069-3C82DB81517F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3.xml"/><Relationship Id="rId3" Type="http://schemas.openxmlformats.org/officeDocument/2006/relationships/image" Target="../media/image5.wmf"/><Relationship Id="rId4" Type="http://schemas.openxmlformats.org/officeDocument/2006/relationships/slide" Target="slide3.xml"/><Relationship Id="rId5" Type="http://schemas.openxmlformats.org/officeDocument/2006/relationships/image" Target="../media/image6.wmf"/><Relationship Id="rId6" Type="http://schemas.openxmlformats.org/officeDocument/2006/relationships/slide" Target="slide3.xml"/><Relationship Id="rId7" Type="http://schemas.openxmlformats.org/officeDocument/2006/relationships/image" Target="../media/image7.wmf"/><Relationship Id="rId8" Type="http://schemas.openxmlformats.org/officeDocument/2006/relationships/slide" Target="slide3.xml"/><Relationship Id="rId9" Type="http://schemas.openxmlformats.org/officeDocument/2006/relationships/image" Target="../media/image8.wmf"/><Relationship Id="rId10" Type="http://schemas.openxmlformats.org/officeDocument/2006/relationships/slide" Target="slide3.xml"/><Relationship Id="rId11" Type="http://schemas.openxmlformats.org/officeDocument/2006/relationships/image" Target="../media/image9.wmf"/><Relationship Id="rId12" Type="http://schemas.openxmlformats.org/officeDocument/2006/relationships/slide" Target="slide3.xml"/><Relationship Id="rId13" Type="http://schemas.openxmlformats.org/officeDocument/2006/relationships/image" Target="../media/image10.wmf"/><Relationship Id="rId14" Type="http://schemas.openxmlformats.org/officeDocument/2006/relationships/slide" Target="slide3.xml"/><Relationship Id="rId15" Type="http://schemas.openxmlformats.org/officeDocument/2006/relationships/image" Target="../media/image11.wmf"/><Relationship Id="rId16" Type="http://schemas.openxmlformats.org/officeDocument/2006/relationships/slide" Target="slide3.xml"/><Relationship Id="rId17" Type="http://schemas.openxmlformats.org/officeDocument/2006/relationships/image" Target="../media/image12.wmf"/><Relationship Id="rId18" Type="http://schemas.openxmlformats.org/officeDocument/2006/relationships/image" Target="../media/image4.wmf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wmf"/><Relationship Id="rId3" Type="http://schemas.openxmlformats.org/officeDocument/2006/relationships/slide" Target="slide4.xml"/><Relationship Id="rId4" Type="http://schemas.openxmlformats.org/officeDocument/2006/relationships/image" Target="../media/image5.wmf"/><Relationship Id="rId5" Type="http://schemas.openxmlformats.org/officeDocument/2006/relationships/slide" Target="slide4.xml"/><Relationship Id="rId6" Type="http://schemas.openxmlformats.org/officeDocument/2006/relationships/image" Target="../media/image6.wmf"/><Relationship Id="rId7" Type="http://schemas.openxmlformats.org/officeDocument/2006/relationships/slide" Target="slide4.xml"/><Relationship Id="rId8" Type="http://schemas.openxmlformats.org/officeDocument/2006/relationships/image" Target="../media/image7.wmf"/><Relationship Id="rId9" Type="http://schemas.openxmlformats.org/officeDocument/2006/relationships/slide" Target="slide4.xml"/><Relationship Id="rId10" Type="http://schemas.openxmlformats.org/officeDocument/2006/relationships/image" Target="../media/image8.wmf"/><Relationship Id="rId11" Type="http://schemas.openxmlformats.org/officeDocument/2006/relationships/slide" Target="slide4.xml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slide" Target="slide4.xml"/><Relationship Id="rId15" Type="http://schemas.openxmlformats.org/officeDocument/2006/relationships/image" Target="../media/image11.wmf"/><Relationship Id="rId16" Type="http://schemas.openxmlformats.org/officeDocument/2006/relationships/slide" Target="slide4.xml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3.xml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wmf"/><Relationship Id="rId3" Type="http://schemas.openxmlformats.org/officeDocument/2006/relationships/slide" Target="slide5.xml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" Target="slide5.xml"/><Relationship Id="rId7" Type="http://schemas.openxmlformats.org/officeDocument/2006/relationships/image" Target="../media/image7.wmf"/><Relationship Id="rId8" Type="http://schemas.openxmlformats.org/officeDocument/2006/relationships/slide" Target="slide5.xml"/><Relationship Id="rId9" Type="http://schemas.openxmlformats.org/officeDocument/2006/relationships/image" Target="../media/image8.wmf"/><Relationship Id="rId10" Type="http://schemas.openxmlformats.org/officeDocument/2006/relationships/slide" Target="slide5.xml"/><Relationship Id="rId11" Type="http://schemas.openxmlformats.org/officeDocument/2006/relationships/image" Target="../media/image9.wmf"/><Relationship Id="rId12" Type="http://schemas.openxmlformats.org/officeDocument/2006/relationships/slide" Target="slide5.xml"/><Relationship Id="rId13" Type="http://schemas.openxmlformats.org/officeDocument/2006/relationships/image" Target="../media/image10.wmf"/><Relationship Id="rId14" Type="http://schemas.openxmlformats.org/officeDocument/2006/relationships/slide" Target="slide5.xml"/><Relationship Id="rId15" Type="http://schemas.openxmlformats.org/officeDocument/2006/relationships/image" Target="../media/image11.wmf"/><Relationship Id="rId16" Type="http://schemas.openxmlformats.org/officeDocument/2006/relationships/slide" Target="slide5.xml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4.xml"/><Relationship Id="rId20" Type="http://schemas.openxmlformats.org/officeDocument/2006/relationships/image" Target="../media/image6.wmf"/><Relationship Id="rId2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wmf"/><Relationship Id="rId3" Type="http://schemas.openxmlformats.org/officeDocument/2006/relationships/slide" Target="slide6.xml"/><Relationship Id="rId4" Type="http://schemas.openxmlformats.org/officeDocument/2006/relationships/image" Target="../media/image5.wmf"/><Relationship Id="rId5" Type="http://schemas.openxmlformats.org/officeDocument/2006/relationships/slide" Target="slide6.xml"/><Relationship Id="rId6" Type="http://schemas.openxmlformats.org/officeDocument/2006/relationships/image" Target="../media/image6.wmf"/><Relationship Id="rId7" Type="http://schemas.openxmlformats.org/officeDocument/2006/relationships/slide" Target="slide6.xml"/><Relationship Id="rId8" Type="http://schemas.openxmlformats.org/officeDocument/2006/relationships/image" Target="../media/image7.wmf"/><Relationship Id="rId9" Type="http://schemas.openxmlformats.org/officeDocument/2006/relationships/slide" Target="slide6.xml"/><Relationship Id="rId10" Type="http://schemas.openxmlformats.org/officeDocument/2006/relationships/image" Target="../media/image8.wmf"/><Relationship Id="rId11" Type="http://schemas.openxmlformats.org/officeDocument/2006/relationships/slide" Target="slide6.xml"/><Relationship Id="rId12" Type="http://schemas.openxmlformats.org/officeDocument/2006/relationships/image" Target="../media/image9.wmf"/><Relationship Id="rId13" Type="http://schemas.openxmlformats.org/officeDocument/2006/relationships/slide" Target="slide6.xml"/><Relationship Id="rId14" Type="http://schemas.openxmlformats.org/officeDocument/2006/relationships/image" Target="../media/image10.wmf"/><Relationship Id="rId15" Type="http://schemas.openxmlformats.org/officeDocument/2006/relationships/slide" Target="slide6.xml"/><Relationship Id="rId16" Type="http://schemas.openxmlformats.org/officeDocument/2006/relationships/image" Target="../media/image11.wmf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5.xml"/><Relationship Id="rId20" Type="http://schemas.openxmlformats.org/officeDocument/2006/relationships/image" Target="../media/image12.wmf"/><Relationship Id="rId2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wmf"/><Relationship Id="rId3" Type="http://schemas.openxmlformats.org/officeDocument/2006/relationships/slide" Target="slide7.xml"/><Relationship Id="rId4" Type="http://schemas.openxmlformats.org/officeDocument/2006/relationships/image" Target="../media/image5.wmf"/><Relationship Id="rId5" Type="http://schemas.openxmlformats.org/officeDocument/2006/relationships/slide" Target="slide7.xml"/><Relationship Id="rId6" Type="http://schemas.openxmlformats.org/officeDocument/2006/relationships/image" Target="../media/image6.wmf"/><Relationship Id="rId7" Type="http://schemas.openxmlformats.org/officeDocument/2006/relationships/slide" Target="slide7.xml"/><Relationship Id="rId8" Type="http://schemas.openxmlformats.org/officeDocument/2006/relationships/image" Target="../media/image7.wmf"/><Relationship Id="rId9" Type="http://schemas.openxmlformats.org/officeDocument/2006/relationships/slide" Target="slide7.xml"/><Relationship Id="rId10" Type="http://schemas.openxmlformats.org/officeDocument/2006/relationships/image" Target="../media/image8.wmf"/><Relationship Id="rId11" Type="http://schemas.openxmlformats.org/officeDocument/2006/relationships/slide" Target="slide7.xml"/><Relationship Id="rId12" Type="http://schemas.openxmlformats.org/officeDocument/2006/relationships/image" Target="../media/image9.wmf"/><Relationship Id="rId13" Type="http://schemas.openxmlformats.org/officeDocument/2006/relationships/slide" Target="slide7.xml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wmf"/><Relationship Id="rId17" Type="http://schemas.openxmlformats.org/officeDocument/2006/relationships/image" Target="../media/image13.png"/><Relationship Id="rId18" Type="http://schemas.openxmlformats.org/officeDocument/2006/relationships/image" Target="../media/image11.wmf"/><Relationship Id="rId19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TextBox 3"/>
          <p:cNvGrpSpPr/>
          <p:nvPr/>
        </p:nvGrpSpPr>
        <p:grpSpPr>
          <a:xfrm>
            <a:off x="1030320" y="1127160"/>
            <a:ext cx="7004160" cy="2030400"/>
            <a:chOff x="1030320" y="1127160"/>
            <a:chExt cx="7004160" cy="2030400"/>
          </a:xfrm>
        </p:grpSpPr>
        <p:pic>
          <p:nvPicPr>
            <p:cNvPr id="400" name="TextBox 3" descr=""/>
            <p:cNvPicPr/>
            <p:nvPr/>
          </p:nvPicPr>
          <p:blipFill>
            <a:blip r:embed="rId1"/>
            <a:stretch/>
          </p:blipFill>
          <p:spPr>
            <a:xfrm>
              <a:off x="1030320" y="1127160"/>
              <a:ext cx="700416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285920" y="1285920"/>
              <a:ext cx="6491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звивающая игр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«Найди такой же объект.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Box 4"/>
          <p:cNvSpPr/>
          <p:nvPr/>
        </p:nvSpPr>
        <p:spPr>
          <a:xfrm>
            <a:off x="1466280" y="40719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Franklin Gothic Book"/>
              </a:rPr>
              <a:t>Цель: развитие вним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1071720" y="1428840"/>
            <a:ext cx="7000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кажи в таблице  тот предм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торый изображен сле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сли ответ верный, ты услышишь аплодисмент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бы перейти к следующему заданию, кликни левую кнопку мы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Рисунок 13" descr="J0215358.WMF"/>
          <p:cNvPicPr/>
          <p:nvPr/>
        </p:nvPicPr>
        <p:blipFill>
          <a:blip r:embed="rId1"/>
          <a:stretch/>
        </p:blipFill>
        <p:spPr>
          <a:xfrm>
            <a:off x="5000760" y="25718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14" descr="J0215360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86680" y="2571840"/>
            <a:ext cx="1530000" cy="113004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15" descr="J0215361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429240" y="1143000"/>
            <a:ext cx="1149480" cy="100476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6" descr="J0215362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7" descr="J0215363.WM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18" descr="J0215155.WM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9" descr="J0215163.WM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429240" y="4286160"/>
            <a:ext cx="1208160" cy="114948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429000" y="428616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22" descr="J0215358.WMF"/>
          <p:cNvPicPr/>
          <p:nvPr/>
        </p:nvPicPr>
        <p:blipFill>
          <a:blip r:embed="rId18"/>
          <a:stretch/>
        </p:blipFill>
        <p:spPr>
          <a:xfrm>
            <a:off x="857160" y="2214720"/>
            <a:ext cx="1627200" cy="2301840"/>
          </a:xfrm>
          <a:prstGeom prst="rect">
            <a:avLst/>
          </a:prstGeom>
          <a:ln w="0">
            <a:noFill/>
          </a:ln>
        </p:spPr>
      </p:pic>
      <p:pic>
        <p:nvPicPr>
          <p:cNvPr id="423" name="j0214098.wav" descr=""/>
          <p:cNvPicPr/>
          <p:nvPr/>
        </p:nvPicPr>
        <p:blipFill>
          <a:blip r:embed="rId19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4745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0760" y="25718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86680" y="4286160"/>
            <a:ext cx="1530000" cy="113040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000760" y="1214280"/>
            <a:ext cx="1149120" cy="100512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57960" y="928800"/>
            <a:ext cx="1249200" cy="136836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429000" y="414324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19" descr="J0215163.WMF"/>
          <p:cNvPicPr/>
          <p:nvPr/>
        </p:nvPicPr>
        <p:blipFill>
          <a:blip r:embed="rId13"/>
          <a:stretch/>
        </p:blipFill>
        <p:spPr>
          <a:xfrm>
            <a:off x="6572160" y="257184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286080" y="2714760"/>
            <a:ext cx="1201680" cy="111096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4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23" descr="J0215163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500040" y="2286000"/>
            <a:ext cx="2252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745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672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14920" y="4214880"/>
            <a:ext cx="1530360" cy="11304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15" descr="J0215361.WMF"/>
          <p:cNvPicPr/>
          <p:nvPr/>
        </p:nvPicPr>
        <p:blipFill>
          <a:blip r:embed="rId5"/>
          <a:stretch/>
        </p:blipFill>
        <p:spPr>
          <a:xfrm>
            <a:off x="3500280" y="4429080"/>
            <a:ext cx="1149480" cy="100476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6" descr="J0215362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17" descr="J0215363.WM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8" descr="J0215155.WM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19" descr="J0215163.WM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929120" y="271476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46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429240" y="1143000"/>
            <a:ext cx="1202040" cy="111132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500880" y="264312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6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3" name="Рисунок 22" descr="J0215361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85840" y="2143080"/>
            <a:ext cx="2611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1000" fill="hold"/>
                                        <p:tgtEl>
                                          <p:spTgt spid="4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745" fill="hold"/>
                                        <p:tgtEl>
                                          <p:spTgt spid="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6720" y="421488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86680" y="2571840"/>
            <a:ext cx="1530000" cy="113004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29120" y="1214280"/>
            <a:ext cx="1149480" cy="100512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57960" y="1000080"/>
            <a:ext cx="1249200" cy="136836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7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000760" y="4286160"/>
            <a:ext cx="1071360" cy="115884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19" descr="J0215163.WM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929120" y="2643120"/>
            <a:ext cx="1208160" cy="114948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20" descr="J0215161.WMF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429000" y="428616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21" descr="J0215368.WMF"/>
          <p:cNvPicPr/>
          <p:nvPr/>
        </p:nvPicPr>
        <p:blipFill>
          <a:blip r:embed="rId17"/>
          <a:stretch/>
        </p:blipFill>
        <p:spPr>
          <a:xfrm>
            <a:off x="3571920" y="264312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8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23" descr="J0215368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42960" y="2000160"/>
            <a:ext cx="19018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745" fill="hold"/>
                                        <p:tgtEl>
                                          <p:spTgt spid="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1484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9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43160" y="1071720"/>
            <a:ext cx="1530360" cy="1130040"/>
          </a:xfrm>
          <a:prstGeom prst="rect">
            <a:avLst/>
          </a:prstGeom>
          <a:ln w="0">
            <a:noFill/>
          </a:ln>
        </p:spPr>
      </p:pic>
      <p:pic>
        <p:nvPicPr>
          <p:cNvPr id="49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500880" y="4429080"/>
            <a:ext cx="1149120" cy="100476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9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286680" y="2857680"/>
            <a:ext cx="1412640" cy="992160"/>
          </a:xfrm>
          <a:prstGeom prst="rect">
            <a:avLst/>
          </a:prstGeom>
          <a:ln w="0">
            <a:noFill/>
          </a:ln>
        </p:spPr>
      </p:pic>
      <p:pic>
        <p:nvPicPr>
          <p:cNvPr id="49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19" descr="J0215163.WM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500880" y="107172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20" descr="J0215161.WMF"/>
          <p:cNvPicPr/>
          <p:nvPr/>
        </p:nvPicPr>
        <p:blipFill>
          <a:blip r:embed="rId15"/>
          <a:stretch/>
        </p:blipFill>
        <p:spPr>
          <a:xfrm>
            <a:off x="4929120" y="278604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21" descr="J0215368.WMF"/>
          <p:cNvPicPr/>
          <p:nvPr/>
        </p:nvPicPr>
        <p:blipFill>
          <a:blip r:embed="rId16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502" name="j0214098.wav" descr=""/>
          <p:cNvPicPr/>
          <p:nvPr/>
        </p:nvPicPr>
        <p:blipFill>
          <a:blip r:embed="rId17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22" descr="J0215161.WMF"/>
          <p:cNvPicPr/>
          <p:nvPr/>
        </p:nvPicPr>
        <p:blipFill>
          <a:blip r:embed="rId18"/>
          <a:stretch/>
        </p:blipFill>
        <p:spPr>
          <a:xfrm>
            <a:off x="428760" y="2571840"/>
            <a:ext cx="23968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1000" fill="hold"/>
                                        <p:tgtEl>
                                          <p:spTgt spid="5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745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Рисунок 13" descr="J0215358.WMF"/>
          <p:cNvPicPr/>
          <p:nvPr/>
        </p:nvPicPr>
        <p:blipFill>
          <a:blip r:embed="rId1"/>
          <a:stretch/>
        </p:blipFill>
        <p:spPr>
          <a:xfrm>
            <a:off x="371484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14" descr="J0215360.WMF"/>
          <p:cNvPicPr/>
          <p:nvPr/>
        </p:nvPicPr>
        <p:blipFill>
          <a:blip r:embed="rId2"/>
          <a:stretch/>
        </p:blipFill>
        <p:spPr>
          <a:xfrm>
            <a:off x="3143160" y="1071720"/>
            <a:ext cx="1530360" cy="113004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5" descr="J0215361.WMF"/>
          <p:cNvPicPr/>
          <p:nvPr/>
        </p:nvPicPr>
        <p:blipFill>
          <a:blip r:embed="rId3"/>
          <a:stretch/>
        </p:blipFill>
        <p:spPr>
          <a:xfrm>
            <a:off x="6500880" y="4429080"/>
            <a:ext cx="1149120" cy="1004760"/>
          </a:xfrm>
          <a:prstGeom prst="rect">
            <a:avLst/>
          </a:prstGeom>
          <a:ln w="0">
            <a:noFill/>
          </a:ln>
        </p:spPr>
      </p:pic>
      <p:pic>
        <p:nvPicPr>
          <p:cNvPr id="516" name="Рисунок 16" descr="J0215362.WMF"/>
          <p:cNvPicPr/>
          <p:nvPr/>
        </p:nvPicPr>
        <p:blipFill>
          <a:blip r:embed="rId4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17" descr="J0215363.WMF"/>
          <p:cNvPicPr/>
          <p:nvPr/>
        </p:nvPicPr>
        <p:blipFill>
          <a:blip r:embed="rId5"/>
          <a:stretch/>
        </p:blipFill>
        <p:spPr>
          <a:xfrm>
            <a:off x="6286680" y="2857680"/>
            <a:ext cx="1412640" cy="992160"/>
          </a:xfrm>
          <a:prstGeom prst="rect">
            <a:avLst/>
          </a:prstGeom>
          <a:ln w="0">
            <a:noFill/>
          </a:ln>
        </p:spPr>
      </p:pic>
      <p:pic>
        <p:nvPicPr>
          <p:cNvPr id="518" name="Рисунок 18" descr="J0215155.WMF"/>
          <p:cNvPicPr/>
          <p:nvPr/>
        </p:nvPicPr>
        <p:blipFill>
          <a:blip r:embed="rId6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19" descr="J0215163.WMF"/>
          <p:cNvPicPr/>
          <p:nvPr/>
        </p:nvPicPr>
        <p:blipFill>
          <a:blip r:embed="rId7"/>
          <a:stretch/>
        </p:blipFill>
        <p:spPr>
          <a:xfrm>
            <a:off x="6500880" y="107172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520" name="Рисунок 20" descr="J0215161.WMF"/>
          <p:cNvPicPr/>
          <p:nvPr/>
        </p:nvPicPr>
        <p:blipFill>
          <a:blip r:embed="rId8"/>
          <a:stretch/>
        </p:blipFill>
        <p:spPr>
          <a:xfrm>
            <a:off x="4929120" y="278604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21" descr="J0215368.WMF"/>
          <p:cNvPicPr/>
          <p:nvPr/>
        </p:nvPicPr>
        <p:blipFill>
          <a:blip r:embed="rId9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522" name="j0214098.wav" descr=""/>
          <p:cNvPicPr/>
          <p:nvPr/>
        </p:nvPicPr>
        <p:blipFill>
          <a:blip r:embed="rId10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23" descr="J0215363.WMF"/>
          <p:cNvPicPr/>
          <p:nvPr/>
        </p:nvPicPr>
        <p:blipFill>
          <a:blip r:embed="rId11"/>
          <a:stretch/>
        </p:blipFill>
        <p:spPr>
          <a:xfrm>
            <a:off x="0" y="2571840"/>
            <a:ext cx="25430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83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84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4745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extBox 2" descr=""/>
          <p:cNvPicPr/>
          <p:nvPr/>
        </p:nvPicPr>
        <p:blipFill>
          <a:blip r:embed="rId1"/>
          <a:stretch/>
        </p:blipFill>
        <p:spPr>
          <a:xfrm>
            <a:off x="2859120" y="2146320"/>
            <a:ext cx="30542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4:47:34Z</dcterms:created>
  <dc:creator>ОЕМ</dc:creator>
  <dc:description/>
  <dc:language>en-US</dc:language>
  <cp:lastModifiedBy>user</cp:lastModifiedBy>
  <dcterms:modified xsi:type="dcterms:W3CDTF">2020-04-25T08:58:54Z</dcterms:modified>
  <cp:revision>19</cp:revision>
  <dc:subject/>
  <dc:title>Слайд 1</dc:title>
</cp:coreProperties>
</file>