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672-5C6B-43F6-B26D-F8352623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4415-9073-40BB-A88B-F82069DF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F489-95B5-4FD4-98C1-1CEB7B10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1C3C-332C-4B70-B925-2952156C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EE02-2B06-4024-9540-E0459725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2EB5-D3E0-42A2-99CE-30CFDD9D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821-2FAC-428F-B8FD-70C8D887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BE15-5DCD-45C2-BFDC-3F921A8E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F5CC-4BA1-4288-8972-FA98CB7A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54D7-06E1-4D09-965D-E50D61A0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A6AC-7E45-448F-B2D4-8D518B0A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701A-1FAF-412A-A10D-E22F3F21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654F-7F95-4E09-AC8C-A12E67E1AD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&#1050;&#1091;&#1087;&#1088;&#1080;&#1077;&#1085;&#1082;&#1086;%20&#1050;&#1088;&#1080;&#1089;&#1090;&#1080;&#1085;&#1072;.ppt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2786040" y="3286080"/>
            <a:ext cx="61437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«Учителя Детчинской школы – участники Великой Отечественной войн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95280" y="1309680"/>
            <a:ext cx="8493120" cy="34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2490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Times New Roman"/>
                <a:ea typeface="Calibri"/>
              </a:rPr>
              <a:t>Цель  работ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90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f2f2f2"/>
                </a:solidFill>
                <a:latin typeface="Times New Roman"/>
                <a:ea typeface="Calibri"/>
              </a:rPr>
              <a:t>проследить жизненный путь   учителей Детчинской школы  - ветеранов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490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490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90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Times New Roman"/>
                <a:ea typeface="Calibri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2f2f2"/>
              </a:buClr>
              <a:buFont typeface="Times New Roman"/>
              <a:buChar char="•"/>
              <a:tabLst>
                <a:tab algn="l" pos="2490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Times New Roman"/>
                <a:ea typeface="Calibri"/>
              </a:rPr>
              <a:t>Изучить биографию учителей школы </a:t>
            </a:r>
            <a:r>
              <a:rPr b="0" lang="ru-RU" sz="2400" spc="-1" strike="noStrike">
                <a:solidFill>
                  <a:srgbClr val="f2f2f2"/>
                </a:solidFill>
                <a:latin typeface="Calibri"/>
                <a:ea typeface="Calibri"/>
              </a:rPr>
              <a:t>–</a:t>
            </a:r>
            <a:r>
              <a:rPr b="0" lang="ru-RU" sz="2400" spc="-1" strike="noStrike">
                <a:solidFill>
                  <a:srgbClr val="f2f2f2"/>
                </a:solidFill>
                <a:latin typeface="Times New Roman"/>
                <a:ea typeface="Calibri"/>
              </a:rPr>
              <a:t> ветеранов Великой Отечественной вой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2f2f2"/>
              </a:buClr>
              <a:buFont typeface="Times New Roman"/>
              <a:buChar char="•"/>
              <a:tabLst>
                <a:tab algn="l" pos="2490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Times New Roman"/>
                <a:ea typeface="Calibri"/>
              </a:rPr>
              <a:t>Собрать сохранившийся материал об учителях </a:t>
            </a:r>
            <a:r>
              <a:rPr b="0" lang="ru-RU" sz="2400" spc="-1" strike="noStrike">
                <a:solidFill>
                  <a:srgbClr val="f2f2f2"/>
                </a:solidFill>
                <a:latin typeface="Calibri"/>
                <a:ea typeface="Calibri"/>
              </a:rPr>
              <a:t>–</a:t>
            </a:r>
            <a:r>
              <a:rPr b="0" lang="ru-RU" sz="2400" spc="-1" strike="noStrike">
                <a:solidFill>
                  <a:srgbClr val="f2f2f2"/>
                </a:solidFill>
                <a:latin typeface="Times New Roman"/>
                <a:ea typeface="Calibri"/>
              </a:rPr>
              <a:t>ветера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4" descr="C:\Users\Михан\Desktop\мои\SDC11004.JPG"/>
          <p:cNvPicPr/>
          <p:nvPr/>
        </p:nvPicPr>
        <p:blipFill>
          <a:blip r:embed="rId2"/>
          <a:stretch/>
        </p:blipFill>
        <p:spPr>
          <a:xfrm>
            <a:off x="539640" y="404640"/>
            <a:ext cx="3618000" cy="2578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DSCN0682"/>
          <p:cNvPicPr/>
          <p:nvPr/>
        </p:nvPicPr>
        <p:blipFill>
          <a:blip r:embed="rId3"/>
          <a:stretch/>
        </p:blipFill>
        <p:spPr>
          <a:xfrm>
            <a:off x="5076720" y="404640"/>
            <a:ext cx="3670560" cy="2625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C:\Documents and Settings\user\Рабочий стол\конф\IMG_4048.jpg"/>
          <p:cNvPicPr/>
          <p:nvPr/>
        </p:nvPicPr>
        <p:blipFill>
          <a:blip r:embed="rId4"/>
          <a:stretch/>
        </p:blipFill>
        <p:spPr>
          <a:xfrm>
            <a:off x="3348000" y="3716280"/>
            <a:ext cx="3113280" cy="23335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6"/>
          <p:cNvSpPr/>
          <p:nvPr/>
        </p:nvSpPr>
        <p:spPr>
          <a:xfrm>
            <a:off x="2340000" y="3141720"/>
            <a:ext cx="51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треча с ветера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7"/>
          <p:cNvSpPr/>
          <p:nvPr/>
        </p:nvSpPr>
        <p:spPr>
          <a:xfrm>
            <a:off x="2771640" y="6165720"/>
            <a:ext cx="45370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 с документами в школьном муз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rial"/>
              </a:rPr>
              <a:t>Степанчико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rial"/>
              </a:rPr>
              <a:t>Евдокия Иван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G:\фоторгав\степанчикова.jpg"/>
          <p:cNvPicPr/>
          <p:nvPr/>
        </p:nvPicPr>
        <p:blipFill>
          <a:blip r:embed="rId2"/>
          <a:stretch/>
        </p:blipFill>
        <p:spPr>
          <a:xfrm>
            <a:off x="3143160" y="1285920"/>
            <a:ext cx="2959200" cy="407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50" name="Прямоугольник 6"/>
          <p:cNvGrpSpPr/>
          <p:nvPr/>
        </p:nvGrpSpPr>
        <p:grpSpPr>
          <a:xfrm>
            <a:off x="6340320" y="1968480"/>
            <a:ext cx="2767320" cy="2554200"/>
            <a:chOff x="6340320" y="1968480"/>
            <a:chExt cx="2767320" cy="2554200"/>
          </a:xfrm>
        </p:grpSpPr>
        <p:pic>
          <p:nvPicPr>
            <p:cNvPr id="51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6340320" y="1968480"/>
              <a:ext cx="2767320" cy="25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429240" y="2000160"/>
              <a:ext cx="2500560" cy="23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Arial"/>
                </a:rPr>
                <a:t>Награждена орденом Отечественной войны </a:t>
              </a:r>
              <a:r>
                <a:rPr b="0" lang="en-US" sz="1800" spc="-1" strike="noStrike">
                  <a:solidFill>
                    <a:srgbClr val="0d0d0d"/>
                  </a:solidFill>
                  <a:latin typeface="Arial"/>
                </a:rPr>
                <a:t>II</a:t>
              </a:r>
              <a:r>
                <a:rPr b="0" lang="ru-RU" sz="1800" spc="-1" strike="noStrike">
                  <a:solidFill>
                    <a:srgbClr val="0d0d0d"/>
                  </a:solidFill>
                  <a:latin typeface="Arial"/>
                </a:rPr>
                <a:t> степени , медалью « За доблестный труд», значком « Отличник народного просвещения»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5"/>
          <p:cNvSpPr/>
          <p:nvPr/>
        </p:nvSpPr>
        <p:spPr>
          <a:xfrm>
            <a:off x="2883240" y="3244680"/>
            <a:ext cx="366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2f2f2"/>
                </a:solidFill>
                <a:latin typeface="Arial"/>
              </a:rPr>
              <a:t>Родилась 27 марта 1923 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rial"/>
              </a:rPr>
              <a:t>Рощин Николай Лук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2f2f2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2f2f2"/>
                </a:solidFill>
                <a:latin typeface="Arial"/>
              </a:rPr>
              <a:t>18 декабря 1911 г.   - 15 марта 19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G:\фоторгав\пппппп.jpg"/>
          <p:cNvPicPr/>
          <p:nvPr/>
        </p:nvPicPr>
        <p:blipFill>
          <a:blip r:embed="rId2"/>
          <a:stretch/>
        </p:blipFill>
        <p:spPr>
          <a:xfrm>
            <a:off x="3071880" y="1071720"/>
            <a:ext cx="3139920" cy="4130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" name="Прямоугольник 3"/>
          <p:cNvSpPr/>
          <p:nvPr/>
        </p:nvSpPr>
        <p:spPr>
          <a:xfrm>
            <a:off x="6357960" y="1785960"/>
            <a:ext cx="2786040" cy="314316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Награждён двумя орденами Красной Звезды, медалями «За боевые заслуги», «За оборону Ленинграда», «За взятие  Будапешта», «За победу над Германией», «За победу над Японией» и другими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142920" y="214200"/>
            <a:ext cx="9001080" cy="89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лчанов Дмитрий Дмитриеви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8 мая 1897 г. – 7 февраля 195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G:\фоторгав\молчанов.jpg"/>
          <p:cNvPicPr/>
          <p:nvPr/>
        </p:nvPicPr>
        <p:blipFill>
          <a:blip r:embed="rId2"/>
          <a:stretch/>
        </p:blipFill>
        <p:spPr>
          <a:xfrm>
            <a:off x="2928960" y="928800"/>
            <a:ext cx="3078000" cy="415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" name="Прямоугольник 4"/>
          <p:cNvSpPr/>
          <p:nvPr/>
        </p:nvSpPr>
        <p:spPr>
          <a:xfrm>
            <a:off x="6227640" y="907920"/>
            <a:ext cx="2630520" cy="446580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Награждён орденами Отечественной войны 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степени, Красной Звезды, двумя медалями «За отвагу», «За боевые заслуги», «За взятие Кенигсберга», «За победу над Германией», юбилейными медалями, орденом Трудового Красного Знамени, имеет звание «Заслуженный учитель РСФС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5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6286680" y="2214720"/>
            <a:ext cx="2857320" cy="250020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Награжден орденом Славы 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III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степени, медалями «За победу над Германией» и другими юбилейными медалями. Награжден знаком «Отличник народного просвещени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0" y="0"/>
            <a:ext cx="842976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Филиппов Дмитрий Петрови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6 июня 1916   -  12 декабря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1969 г 10 кл"/>
          <p:cNvPicPr/>
          <p:nvPr/>
        </p:nvPicPr>
        <p:blipFill>
          <a:blip r:embed="rId2"/>
          <a:srcRect l="33812" t="10001" r="55425" b="50001"/>
          <a:stretch/>
        </p:blipFill>
        <p:spPr>
          <a:xfrm>
            <a:off x="2060640" y="785880"/>
            <a:ext cx="32256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5632560" y="1144440"/>
            <a:ext cx="31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360" y="213840"/>
            <a:ext cx="8472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ОКЛОНИМСЯ ВЕЛИКИМ ТЕМ ГОД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ощин Николай Лук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олчанов Дмитрий Дмитри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Филиппов Дмитрий Пет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i0130r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86240" y="4143240"/>
            <a:ext cx="35784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2700"/>
                            </p:stCondLst>
                            <p:childTnLst>
                              <p:par>
                                <p:cTn id="1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08:38:00Z</dcterms:created>
  <dc:creator>сергей</dc:creator>
  <dc:description/>
  <dc:language>en-US</dc:language>
  <cp:lastModifiedBy>Tatyana</cp:lastModifiedBy>
  <dcterms:modified xsi:type="dcterms:W3CDTF">2015-04-14T13:06:30Z</dcterms:modified>
  <cp:revision>56</cp:revision>
  <dc:subject/>
  <dc:title>Слайд 1</dc:title>
</cp:coreProperties>
</file>