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5B587-EB79-4970-A6E6-41BBABFE7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2F7D8-4EEB-445F-AEAA-15C56A278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94D8-E2E9-4C9B-AF99-4388E9AB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BC1D0-5534-416F-9291-1C8887235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163E-09D3-4DF3-8DB3-DE8C8886B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7AE2-0C3F-4D88-B6E7-1107D6E3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EF30-080C-41FA-BBFD-48042505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BEA9B-D6DD-4E0D-986E-95B5CDFD1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CBC6-36AE-43BF-B67C-A13EE241D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6E593-F266-4DD8-983B-00B007920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BBE82-1CDB-4013-8D39-48F7B549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4F0F-B264-4D3D-BCFB-37A25B44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F79F4-55CC-444D-835B-4A1AE537C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3D366-4C8B-45AE-BDD6-5EEA23C5E0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6BAA7-DE17-4102-853F-F2D81DBB8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D5BBB-15FD-469A-B050-68543E2D5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FF07-02D2-4616-AE5A-72D67A017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A6A6C8-23D2-486D-90A9-AB07B8DF1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45C5A1-197C-4855-835E-3E62FCF6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3BCCDA-2980-420C-9A3E-8FA42B907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6B7303-E076-489D-ACA1-F3DB054BD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BD871C-9668-4A0A-873D-8B9993CB6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EF0AC-CEF7-4F47-9231-A89178BE3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714995-063E-42FE-85E7-8480AD42D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0A492-B256-44EE-BD92-70BF6FEFE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365F00-AE3F-4491-A64A-207AF438A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CD41AA-30C5-4614-BBB7-9FC5600F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1B7051-8D37-42C0-8794-010976DB4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1A07C6-B7BB-46DD-B470-0B73E2D9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57894-32C0-4F71-9044-66BB5AA97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50C45-4FB8-4BD2-8AC8-9E3EADC99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1DA892-600E-4A4B-864D-0A297953F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13AB90-490A-4968-B185-F66FFA19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A96D-5AE6-4851-9449-20446FC43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0A18C-4224-46BF-9998-60CBDD92C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9B1FD-218E-4A70-A0D8-2A6CFF697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51CCDD-2D4D-4481-BBCC-18224F5F2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0B9487-E585-4C3D-8379-5A3BF59E7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5BC7F-129C-4D50-AC57-48F53EE5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76CBF7-A91F-48B4-B88A-5BD6251FD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9CFFA5-D32C-4BDC-93D0-6C81812C3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CC9E07-8D44-4986-A284-8C6F64FAC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307591-116F-46C9-B5D5-F31516661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4B5B3-8B11-4B6A-91A6-885B61583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B967-A268-4669-8FC6-57819C095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0A6611-18DA-48A8-ADDE-09CF0FBA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E141F2-9811-4F0A-BF89-BD91B92A4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3F64A8-008B-42D0-962F-0B82DDB73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4F4040-9956-4343-BD13-FD7B55D5A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17243A-1B9F-4899-8688-268760837D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4D7A2F-DFD6-4848-B624-90669409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06EEC1-1537-4089-AF5D-A1ED252F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4F562E-7E32-486F-A479-78DE1095F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FDD43F-48BB-401F-AA64-2904717F5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EEC053-7D55-4582-8AF0-C8E523F99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13281-0182-4E17-B3B0-89138159B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C45BBF-ACCE-405F-9E86-A434E1881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E4414-D399-4DA5-8AB1-5FFF47EBE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442F6D-24F4-487E-8513-FF5C3F790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0533D8-314E-447F-896C-7E329A45B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FE6844-9B87-4A4D-947F-579E5E47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2700A3-5830-4988-B615-DE3F4D906F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636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DD95183-2ED7-4170-96B7-79C85229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A33FFE-5E3F-4772-92CE-2628E1070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4893DB-B9B2-48DB-8E54-06E2AC890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EA4939-2C56-4926-AD90-2B7048FF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5C1F-25AE-4730-960B-395DF325F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67066E-66D9-4BAB-B8E2-BAAA7F9F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46294C-5130-41A1-9CF5-331F7EB5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/>
          </p:nvPr>
        </p:nvSpPr>
        <p:spPr>
          <a:xfrm>
            <a:off x="45684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6"/>
          <p:cNvSpPr>
            <a:spLocks noGrp="1"/>
          </p:cNvSpPr>
          <p:nvPr>
            <p:ph/>
          </p:nvPr>
        </p:nvSpPr>
        <p:spPr>
          <a:xfrm>
            <a:off x="298188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7"/>
          <p:cNvSpPr>
            <a:spLocks noGrp="1"/>
          </p:cNvSpPr>
          <p:nvPr>
            <p:ph/>
          </p:nvPr>
        </p:nvSpPr>
        <p:spPr>
          <a:xfrm>
            <a:off x="5506920" y="3964320"/>
            <a:ext cx="24044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F6F5B6-C7E1-4380-8C4E-DA7E1D12C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283280" y="396432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6CFF-CDCC-4E81-98FF-9CB0103AC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3964320"/>
            <a:ext cx="74674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8CF-262A-481B-9A99-303F9F8DB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27C73-1189-4A6A-85DF-5F00FA6EB9D2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E6033-9B39-498B-9542-7E3BB2D02294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42424"/>
            </a:gs>
            <a:gs pos="100000">
              <a:srgbClr val="7d7d7d"/>
            </a:gs>
          </a:gsLst>
          <a:lin ang="1296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олилиния 8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Полилиния 10"/>
          <p:cNvSpPr/>
          <p:nvPr/>
        </p:nvSpPr>
        <p:spPr>
          <a:xfrm>
            <a:off x="6105600" y="0"/>
            <a:ext cx="30384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1608" y="1590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6DBF64-02BF-432F-9611-25080F5C0AF2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0B44D-FE5E-4811-AA24-83D3D437188F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олилиния 11"/>
          <p:cNvSpPr/>
          <p:nvPr/>
        </p:nvSpPr>
        <p:spPr>
          <a:xfrm>
            <a:off x="0" y="4751280"/>
            <a:ext cx="9144000" cy="2113200"/>
          </a:xfrm>
          <a:custGeom>
            <a:avLst/>
            <a:gdLst>
              <a:gd name="textAreaLeft" fmla="*/ 0 w 9144000"/>
              <a:gd name="textAreaRight" fmla="*/ 9144360 w 9144000"/>
              <a:gd name="textAreaTop" fmla="*/ 0 h 2113200"/>
              <a:gd name="textAreaBottom" fmla="*/ 2113560 h 2113200"/>
            </a:gdLst>
            <a:ahLst/>
            <a:rect l="textAreaLeft" t="textAreaTop" r="textAreaRight" b="textAreaBottom"/>
            <a:pathLst>
              <a:path w="5760" h="1331">
                <a:moveTo>
                  <a:pt x="0" y="1066"/>
                </a:moveTo>
                <a:lnTo>
                  <a:pt x="0" y="1331"/>
                </a:lnTo>
                <a:lnTo>
                  <a:pt x="5760" y="1331"/>
                </a:lnTo>
                <a:lnTo>
                  <a:pt x="5760" y="0"/>
                </a:lnTo>
                <a:cubicBezTo>
                  <a:pt x="3220" y="1206"/>
                  <a:pt x="2250" y="1146"/>
                  <a:pt x="0" y="1066"/>
                </a:cubicBezTo>
                <a:close/>
              </a:path>
            </a:pathLst>
          </a:custGeom>
          <a:solidFill>
            <a:srgbClr val="7c7c7c">
              <a:alpha val="45000"/>
            </a:srgbClr>
          </a:solidFill>
          <a:ln w="0">
            <a:noFill/>
          </a:ln>
          <a:effectLst>
            <a:outerShdw dist="44280" dir="162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Полилиния 15"/>
          <p:cNvSpPr/>
          <p:nvPr/>
        </p:nvSpPr>
        <p:spPr>
          <a:xfrm>
            <a:off x="7315200" y="0"/>
            <a:ext cx="1828800" cy="6858000"/>
          </a:xfrm>
          <a:custGeom>
            <a:avLst/>
            <a:gdLst/>
            <a:ahLst/>
            <a:rect l="l" t="t" r="r" b="b"/>
            <a:pathLst>
              <a:path w="1914" h="4329">
                <a:moveTo>
                  <a:pt x="1914" y="9"/>
                </a:moveTo>
                <a:lnTo>
                  <a:pt x="1914" y="4329"/>
                </a:lnTo>
                <a:lnTo>
                  <a:pt x="204" y="4327"/>
                </a:lnTo>
                <a:cubicBezTo>
                  <a:pt x="1288" y="3574"/>
                  <a:pt x="2082" y="1734"/>
                  <a:pt x="0" y="0"/>
                </a:cubicBezTo>
                <a:lnTo>
                  <a:pt x="1914" y="9"/>
                </a:lnTo>
                <a:close/>
              </a:path>
            </a:pathLst>
          </a:custGeom>
          <a:solidFill>
            <a:srgbClr val="595959">
              <a:alpha val="40000"/>
            </a:srgbClr>
          </a:solidFill>
          <a:ln w="0">
            <a:noFill/>
          </a:ln>
          <a:effectLst>
            <a:outerShdw dist="50760" dir="10800000" blurRad="0" rotWithShape="0">
              <a:srgbClr val="000000">
                <a:alpha val="4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dt" idx="13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ftr" idx="14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sldNum" idx="15"/>
          </p:nvPr>
        </p:nvSpPr>
        <p:spPr>
          <a:xfrm>
            <a:off x="815616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A810B-E23C-445D-8BDA-81BABBA30AF0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b3b3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Franklin Gothic Book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382680">
              <a:spcBef>
                <a:spcPts val="751"/>
              </a:spcBef>
              <a:buClr>
                <a:srgbClr val="6ea0b0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2160" indent="-272880">
              <a:spcBef>
                <a:spcPts val="751"/>
              </a:spcBef>
              <a:buClr>
                <a:srgbClr val="6ea0b0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04760" indent="-255600">
              <a:spcBef>
                <a:spcPts val="751"/>
              </a:spcBef>
              <a:buClr>
                <a:srgbClr val="ccaf0a"/>
              </a:buClr>
              <a:buSzPct val="85000"/>
              <a:buFont typeface="Arial"/>
              <a:buChar char="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79440" indent="-236520">
              <a:spcBef>
                <a:spcPts val="751"/>
              </a:spcBef>
              <a:buClr>
                <a:srgbClr val="8d89a4"/>
              </a:buClr>
              <a:buSzPct val="9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8960" indent="-182520">
              <a:spcBef>
                <a:spcPts val="751"/>
              </a:spcBef>
              <a:buClr>
                <a:srgbClr val="7485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8960" indent="-182520">
              <a:spcBef>
                <a:spcPts val="751"/>
              </a:spcBef>
              <a:buClr>
                <a:srgbClr val="ffff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 type="dt" idx="16"/>
          </p:nvPr>
        </p:nvSpPr>
        <p:spPr>
          <a:xfrm>
            <a:off x="456840" y="6420960"/>
            <a:ext cx="2133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9b9a98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 type="ftr" idx="17"/>
          </p:nvPr>
        </p:nvSpPr>
        <p:spPr>
          <a:xfrm>
            <a:off x="3124080" y="6420960"/>
            <a:ext cx="289584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 type="sldNum" idx="18"/>
          </p:nvPr>
        </p:nvSpPr>
        <p:spPr>
          <a:xfrm>
            <a:off x="8152920" y="6420960"/>
            <a:ext cx="762120" cy="36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9b9a98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515E-C4A5-4455-A1F5-67DE1A36841F}" type="slidenum">
              <a:rPr b="0" lang="ru-RU" sz="1000" spc="-1" strike="noStrike">
                <a:solidFill>
                  <a:srgbClr val="9b9a98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39640" y="1052640"/>
            <a:ext cx="7470720" cy="4091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Franklin Gothic Book"/>
              </a:rPr>
              <a:t>Проверочная работа.</a:t>
            </a:r>
            <a:endParaRPr b="0" lang="en-US" sz="6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Пётр Ильич …….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6" name="Рисунок 4" descr="0661.BMP"/>
          <p:cNvPicPr/>
          <p:nvPr/>
        </p:nvPicPr>
        <p:blipFill>
          <a:blip r:embed="rId1"/>
          <a:srcRect l="15805" t="3135" r="15805" b="12995"/>
          <a:stretch/>
        </p:blipFill>
        <p:spPr>
          <a:xfrm>
            <a:off x="2357280" y="1000080"/>
            <a:ext cx="4356360" cy="56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2920" y="213840"/>
            <a:ext cx="8686800" cy="8413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Franklin Gothic Book"/>
              </a:rPr>
              <a:t>Модест Петрович ……….</a:t>
            </a:r>
            <a:endParaRPr b="0" lang="en-US" sz="4600" spc="-1" strike="noStrike">
              <a:solidFill>
                <a:srgbClr val="ffffff"/>
              </a:solidFill>
              <a:latin typeface="Franklin Gothic Book"/>
            </a:endParaRPr>
          </a:p>
        </p:txBody>
      </p:sp>
      <p:pic>
        <p:nvPicPr>
          <p:cNvPr id="258" name="Рисунок 2" descr="0047.BMP"/>
          <p:cNvPicPr/>
          <p:nvPr/>
        </p:nvPicPr>
        <p:blipFill>
          <a:blip r:embed="rId1"/>
          <a:srcRect l="15805" t="3135" r="15805" b="12995"/>
          <a:stretch/>
        </p:blipFill>
        <p:spPr>
          <a:xfrm>
            <a:off x="2786040" y="1071720"/>
            <a:ext cx="4211640" cy="55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14200" y="214200"/>
            <a:ext cx="8686800" cy="550080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ffffff"/>
                </a:solidFill>
                <a:latin typeface="Franklin Gothic Book"/>
              </a:rPr>
              <a:t>Угадай, кто друзья у Бабы Яги.</a:t>
            </a:r>
            <a:endParaRPr b="0" lang="en-US" sz="8000" spc="-1" strike="noStrike">
              <a:solidFill>
                <a:srgbClr val="ffffff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457200" y="785880"/>
            <a:ext cx="3178080" cy="534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1" name="Picture 3" descr="I:\Documents and Settings\Admin\Рабочий стол\загадки про бабу ягу\16461535.jpg"/>
          <p:cNvPicPr/>
          <p:nvPr/>
        </p:nvPicPr>
        <p:blipFill>
          <a:blip r:embed="rId1"/>
          <a:stretch/>
        </p:blipFill>
        <p:spPr>
          <a:xfrm>
            <a:off x="3780000" y="260280"/>
            <a:ext cx="4330440" cy="620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5219280" y="1213920"/>
            <a:ext cx="3924360" cy="358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Picture 3" descr="I:\Documents and Settings\Admin\Рабочий стол\загадки про бабу ягу\116630.jpg"/>
          <p:cNvPicPr/>
          <p:nvPr/>
        </p:nvPicPr>
        <p:blipFill>
          <a:blip r:embed="rId1"/>
          <a:stretch/>
        </p:blipFill>
        <p:spPr>
          <a:xfrm>
            <a:off x="468360" y="0"/>
            <a:ext cx="4286160" cy="666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457200" y="1600200"/>
            <a:ext cx="2170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19040" indent="-3826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3" descr="I:\Documents and Settings\Admin\Рабочий стол\загадки про бабу ягу\i_008.jpg"/>
          <p:cNvPicPr/>
          <p:nvPr/>
        </p:nvPicPr>
        <p:blipFill>
          <a:blip r:embed="rId1"/>
          <a:stretch/>
        </p:blipFill>
        <p:spPr>
          <a:xfrm>
            <a:off x="2411280" y="403200"/>
            <a:ext cx="6369120" cy="597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6084720" y="1643040"/>
            <a:ext cx="30592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4" descr="I:\Documents and Settings\Admin\Рабочий стол\загадки про бабу ягу\1307197839_0_461cd_21ca5737_l.jpeg"/>
          <p:cNvPicPr/>
          <p:nvPr/>
        </p:nvPicPr>
        <p:blipFill>
          <a:blip r:embed="rId1"/>
          <a:stretch/>
        </p:blipFill>
        <p:spPr>
          <a:xfrm>
            <a:off x="395280" y="171360"/>
            <a:ext cx="4836960" cy="638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8507520" cy="308304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Franklin Gothic Book"/>
              </a:rPr>
              <a:t>Отгадай?</a:t>
            </a:r>
            <a:br>
              <a:rPr sz="4800"/>
            </a:br>
            <a:r>
              <a:rPr b="1" lang="en-US" sz="4800" spc="-1" strike="noStrike">
                <a:solidFill>
                  <a:srgbClr val="ffffff"/>
                </a:solidFill>
                <a:latin typeface="Franklin Gothic Book"/>
              </a:rPr>
              <a:t>(</a:t>
            </a:r>
            <a:r>
              <a:rPr b="0" i="1" lang="ru-RU" sz="3200" spc="-1" strike="noStrike">
                <a:solidFill>
                  <a:srgbClr val="ffffff"/>
                </a:solidFill>
                <a:latin typeface="Franklin Gothic Book"/>
              </a:rPr>
              <a:t>что звучит, кто композитор? Постарайся вспомнить всё, что ты знаешь об этом музыкальном произведении</a:t>
            </a:r>
            <a:r>
              <a:rPr b="1" lang="ru-RU" sz="4800" spc="-1" strike="noStrike">
                <a:solidFill>
                  <a:srgbClr val="ffffff"/>
                </a:solidFill>
                <a:latin typeface="Franklin Gothic Book"/>
              </a:rPr>
              <a:t>). </a:t>
            </a:r>
            <a:endParaRPr b="0" lang="en-US" sz="4800" spc="-1" strike="noStrike">
              <a:solidFill>
                <a:srgbClr val="ffffff"/>
              </a:solidFill>
              <a:latin typeface="Franklin Gothic Book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57200" y="1844280"/>
            <a:ext cx="3657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9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https://youtu.be/Rf18K4ZYkV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267080" y="1844280"/>
            <a:ext cx="365760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9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92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  <a:p>
            <a:pPr marL="3492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ffff"/>
                </a:solidFill>
                <a:uFillTx/>
                <a:latin typeface="Arial"/>
              </a:rPr>
              <a:t>https://youtu.be/pZxVebxaKwM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7T10:13:20Z</dcterms:created>
  <dc:creator>Admin</dc:creator>
  <dc:description/>
  <dc:language>en-US</dc:language>
  <cp:lastModifiedBy>Админ</cp:lastModifiedBy>
  <dcterms:modified xsi:type="dcterms:W3CDTF">2020-04-22T09:00:55Z</dcterms:modified>
  <cp:revision>20</cp:revision>
  <dc:subject/>
  <dc:title>«Знакомьтесь, Баба-Яга» Библиотечный урок </dc:title>
</cp:coreProperties>
</file>