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2439-39A9-42B1-95A5-2A4EC385D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4A5F-BB01-4FDE-B4E1-0799424A3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ED53-9282-47F5-8023-D578ED685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E63B-CA14-43E9-A871-C8E523CAD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F332-8410-4328-BD10-848B87DEC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622D0-FA76-49EA-9807-C409C98C1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D0F68-AA65-41FB-B8CF-BD335C4A0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7583-9699-4F73-9EDD-90704C3A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01499-68B4-43E9-B785-62CC4F079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EB6D8-9B83-4E96-99DA-3583351F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F35D0-6897-41A1-8EF4-556A8915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0732-C988-47D3-8824-46316067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E1F41-2B86-4AC1-8313-571FA9112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F0386-A887-42DB-B7F9-05E535979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1895D-078B-4D9A-AF40-591C6749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2F512-3928-4EE8-82A5-A9681725E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933CE-5227-49DB-91CF-E9100EB59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9B8BD-F0DE-48B1-A443-839C7F26B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AE40C0-953E-423C-8E7F-EECD110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73BD2-B748-474E-A63B-58E721CD2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E18C7-467A-4036-A32F-22D9E6B2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A4054-3985-4A7F-A672-5F25D890B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762-AC7F-44AE-A6B7-CE5F092F2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5F8A6-6194-432B-BB44-172D738E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20103-FFC0-4ED1-80A7-2470F18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0B39C-ABCF-4AD1-921D-76403FDA2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301A2-148D-43F2-81AB-1021F7E2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77421-4563-4FA6-A20A-F55DC199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97074-BEB1-4825-AD86-9C8185EB7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96A57-FDEC-4681-823F-036CFA824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0865-D843-41F4-AFF9-C378FCF5D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E5C9-F414-46C0-8399-CE060B57E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53203E-732B-4B26-A469-41A5FCBB9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0536-C85B-43BD-8153-6E0016B5F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828EF-F750-4688-9936-AA026743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E12360-1B11-4411-BBAE-B88A76E4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E5A5EE-C212-470A-8418-8A3B73DAC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D7573-CA64-49D5-A7BA-4328B7A1C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3FFA4-DBC4-406C-9471-6BBA8179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AD47B-49A7-48FC-B711-C1C25DC16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E934D-B767-46D0-9E0E-E4A900AF1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35DBD-C2F2-4087-9217-F580AB81F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0B278-9911-4215-8126-58FC8A946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AE4CC-D41D-451B-B48C-9068EA879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A6C3-78EC-4EDC-9687-C239FD8B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CE737C-B921-4909-BF72-11CAE3F0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917EE8-0803-48F7-B8B9-059B1B56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AB6EF-F537-4549-941A-E0D3412A5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D839A-9974-4619-99C2-B7C5B24C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20924-F2AE-4B42-98B6-B8B716E93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8F8E0-FDC8-441E-B1A7-5DF9F6853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6235E-B2F8-401D-BAA5-B966287F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609B-6D70-4919-BFA1-CF24827D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16C35-4789-48E6-8E22-94935AD9B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60B68-CE22-4934-B237-4D7B3D0A2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38C48-CCD7-44C9-8CB2-FBD99C3C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C7C1DA-DE7A-4BAF-AF3C-0290EA53C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37F6E-0E1F-412B-9714-FBFAEF69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72B662-85C0-44C9-BD87-0D4C86D67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C8567F-7E99-4741-BB85-C8283EFC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66F25-4268-47C2-8E45-4D0CF9C8A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BB776B-98AE-419C-8885-0C83F949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78B06-7DDF-4674-B24F-C2FC73E6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234D6D-FCA7-4135-B5CA-74D30286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8A59F1-2BE0-4280-9F38-7F0F4FE4C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424C3-5423-4DFB-970D-E0F742F00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E83D-1E86-4FAF-B0BE-8BEC05B5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C6CEA-7FA7-4845-BC45-709DE8914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209409-66DB-4220-9F65-CCF0FFA4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1C8F0-2722-4B97-B19A-4A1223CDB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8B98-3D67-4A2E-B1F7-C99E5B72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493D-B69D-40AD-8A28-83EB18861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9D21B-47FF-48C7-A4D2-9E63557373D3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6CC3A-9B11-442A-955A-EADF7CA6F3A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DA99A-1F84-4339-8027-1D3E8E48592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1674C-0BBC-4587-8F4F-A5B4C4F8BA79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B923-B715-421F-A0E9-D95BC3C5669D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34B1D-61B8-4832-8804-77D13BE7F15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470720" cy="409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Franklin Gothic Book"/>
              </a:rPr>
              <a:t>Проверочная работа.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ётр Ильич ……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6" name="Рисунок 4" descr="0661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357280" y="1000080"/>
            <a:ext cx="43563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одест Петрович ………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Рисунок 2" descr="0047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786040" y="1071720"/>
            <a:ext cx="42116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Franklin Gothic Book"/>
              </a:rPr>
              <a:t>Угадай, кто друзья у Бабы Яги.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785880"/>
            <a:ext cx="31780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I:\Documents and Settings\Admin\Рабочий стол\загадки про бабу ягу\16461535.jpg"/>
          <p:cNvPicPr/>
          <p:nvPr/>
        </p:nvPicPr>
        <p:blipFill>
          <a:blip r:embed="rId1"/>
          <a:stretch/>
        </p:blipFill>
        <p:spPr>
          <a:xfrm>
            <a:off x="3780000" y="260280"/>
            <a:ext cx="433044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219280" y="1213920"/>
            <a:ext cx="392436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I:\Documents and Settings\Admin\Рабочий стол\загадки про бабу ягу\116630.jpg"/>
          <p:cNvPicPr/>
          <p:nvPr/>
        </p:nvPicPr>
        <p:blipFill>
          <a:blip r:embed="rId1"/>
          <a:stretch/>
        </p:blipFill>
        <p:spPr>
          <a:xfrm>
            <a:off x="468360" y="0"/>
            <a:ext cx="42861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I:\Documents and Settings\Admin\Рабочий стол\загадки про бабу ягу\i_008.jpg"/>
          <p:cNvPicPr/>
          <p:nvPr/>
        </p:nvPicPr>
        <p:blipFill>
          <a:blip r:embed="rId1"/>
          <a:stretch/>
        </p:blipFill>
        <p:spPr>
          <a:xfrm>
            <a:off x="2411280" y="403200"/>
            <a:ext cx="6369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084720" y="1643040"/>
            <a:ext cx="30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I:\Documents and Settings\Admin\Рабочий стол\загадки про бабу ягу\1307197839_0_461cd_21ca5737_l.jpeg"/>
          <p:cNvPicPr/>
          <p:nvPr/>
        </p:nvPicPr>
        <p:blipFill>
          <a:blip r:embed="rId1"/>
          <a:stretch/>
        </p:blipFill>
        <p:spPr>
          <a:xfrm>
            <a:off x="395280" y="171360"/>
            <a:ext cx="48369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308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Franklin Gothic Book"/>
              </a:rPr>
              <a:t>Отгадай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что звучит, кто композитор? Постарайся вспомнить всё, что ты знаешь об этом музыкальном произведении</a:t>
            </a:r>
            <a:r>
              <a:rPr b="1" lang="ru-RU" sz="4800" spc="-1" strike="noStrike">
                <a:solidFill>
                  <a:srgbClr val="ffffff"/>
                </a:solidFill>
                <a:latin typeface="Franklin Gothic Book"/>
              </a:rPr>
              <a:t>). 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844280"/>
            <a:ext cx="365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https://youtu.be/Rf18K4ZYk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267080" y="1844280"/>
            <a:ext cx="365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https://youtu.be/pZxVebxaKw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0:13:20Z</dcterms:created>
  <dc:creator>Admin</dc:creator>
  <dc:description/>
  <dc:language>en-US</dc:language>
  <cp:lastModifiedBy>Админ</cp:lastModifiedBy>
  <dcterms:modified xsi:type="dcterms:W3CDTF">2020-04-22T09:00:55Z</dcterms:modified>
  <cp:revision>20</cp:revision>
  <dc:subject/>
  <dc:title>«Знакомьтесь, Баба-Яга» Библиотечный урок </dc:title>
</cp:coreProperties>
</file>