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A20596-C635-4573-A4BA-B5790804732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B0C79-5D25-426F-BC3B-71C77172779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5728E96-8457-412F-A241-4BBCC7B6E71D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22C47-E3F4-48E1-9B68-1EF15769A77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0F58DF-650C-4F72-AD97-03A4636141A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5A3E-FA02-45AF-B255-706719F5D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8673-8AF5-4F6E-BD16-C64985DDE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6E75-7E39-42DF-B1E0-8D31AD533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E76C5-31D3-462B-8D60-46D641BF2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BBAEF-5257-4FA5-98BD-0A0C5CB2F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CB9A6-8C63-4688-8E94-4082828D7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92C4-9EFC-4B67-B1CF-C39D576A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C129E-CBBA-4238-830A-772EEC20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E586C-BF8F-42E0-84EA-22BB61894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FF28-BE10-430F-8CA7-4E48F98E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5038-46AD-4C14-9FCC-4FD57A05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F405-3BEA-46F5-B577-322F67D9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7E8DF-5230-4513-BF50-8CFFC501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52A3-748C-467B-BC45-8D342192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45B7E-A4AC-40DF-8134-3872AF64D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685CD-4380-475F-8A49-5626FEB2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993C-95C2-482D-AE32-85DBBD2ED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930454-7678-4A1B-9CA1-DA323F4D3CE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00FD1-5FB5-406D-B232-897818AF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299091-6C83-4C83-BE56-ADC26036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5CEFF4-1783-4938-AC2D-3815257C3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592B7C-055B-42D8-8FF1-DEFD59E0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4076-77FF-490C-B434-445A522B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9F0FEB-371D-4A5D-97D0-1FFCC551A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8E9899-0CD1-4315-AB30-9D4F9DEF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63830-0445-4EB6-884A-80C08C11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A74A3-E61B-4D29-94B3-2CB1C6127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E736E0-9770-4680-AED2-BCCE504D9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D1DAA0-4D9D-42D1-A5E2-7D66EECDF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A56F86-775F-4063-92F6-2947041133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9B70-E4B9-4D58-B4D6-8EBEE34F6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FC9-3206-4B10-9B85-13A86D94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904A-8844-4DDC-836B-EC079F79D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3862-59D9-45C2-BFF9-48186CF7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A87C-6979-4782-A438-80D93588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5483-1F9C-43D1-811C-6423A37E0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408AE78-C440-4705-9062-12D231503BC0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BBBBCA1-F6EB-4BD3-BAB8-BBC8DC75BB2A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2465B30-C2DB-430E-B740-3986A651F308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wy6RxfX_kk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jU12ROLg_U" TargetMode="External"/><Relationship Id="rId2" Type="http://schemas.openxmlformats.org/officeDocument/2006/relationships/hyperlink" Target="https://www.youtube.com/watch?v=YjU12ROLg_U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2008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Поход в музыкальный зоопарк».</a:t>
            </a:r>
            <a:br>
              <a:rPr sz="4400"/>
            </a:br>
            <a:r>
              <a:rPr b="1" lang="ru-RU" sz="4400" spc="-1" strike="noStrike">
                <a:solidFill>
                  <a:srgbClr val="f61897"/>
                </a:solidFill>
                <a:latin typeface="Times New Roman"/>
              </a:rPr>
              <a:t> </a:t>
            </a:r>
            <a:br>
              <a:rPr sz="2700"/>
            </a:b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50920" y="5000760"/>
            <a:ext cx="4537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alibri"/>
              </a:rPr>
              <a:t>Подготовительная группа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alibri"/>
              </a:rPr>
              <a:t>1 занятие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2714400" cy="180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Здравствуйте ребята!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Начинаем наше занятие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то из вас знает, что такое зоопарк?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ы бывали там?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ейчас мы с вами отправимся  в зоопарк, только не простой, а музыкальный?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984400" cy="370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4788000" y="5292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080" y="49291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26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ШАРЛЬ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КАМИЛЬ СЕН-САНС</a:t>
            </a:r>
            <a:br>
              <a:rPr sz="2800"/>
            </a:br>
            <a:r>
              <a:rPr b="1" lang="ru-RU" sz="2800" spc="-1" strike="noStrike">
                <a:solidFill>
                  <a:srgbClr val="f61897"/>
                </a:solidFill>
                <a:latin typeface="Calibri"/>
              </a:rPr>
              <a:t>(1835 - 1921) </a:t>
            </a:r>
            <a:br>
              <a:rPr sz="2800"/>
            </a:br>
            <a:endParaRPr b="1" lang="en-US" sz="2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624120" y="549000"/>
            <a:ext cx="5112000" cy="61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писал музыку к нашему шутливому зоопарку французский композитор К.Сен-Санс. Когда он был таким маленьким, как вы, очень любил прислушиваться к звукам, которые его окружали. Это умение слушать и слышать звуки и помогли ему сочинять прекрасную музыку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2" descr="сен-санс 3"/>
          <p:cNvPicPr/>
          <p:nvPr/>
        </p:nvPicPr>
        <p:blipFill>
          <a:blip r:embed="rId2"/>
          <a:stretch/>
        </p:blipFill>
        <p:spPr>
          <a:xfrm>
            <a:off x="457200" y="2205000"/>
            <a:ext cx="3192480" cy="37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Сегодня в зоопарке будет настоящий карнавал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Карнавал, на который я вас приглашаю, будет совсем необычным.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Во-первых, это карнавал не людей, а животных. 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Во-вторых, он музыкальный. Это значит, что всех его персонажей, мы услышим, потому что расскажет нам о них музыка. 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Любой праздник обычно открывают самые знатные гости.</a:t>
            </a:r>
            <a:br>
              <a:rPr sz="3200"/>
            </a:br>
            <a:endParaRPr b="1" lang="en-US" sz="32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114560" y="1916280"/>
            <a:ext cx="7057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тгадай загад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303640" y="2565360"/>
            <a:ext cx="46796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Устрашающе крас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Он свиреп и желтогр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Даже хвост совсем не про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С кисточкою длинны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Лапы сильны и могу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Рык несётся выш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Ведь не зря он –царь 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В жаркой Африке св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167"/>
          <p:cNvPicPr/>
          <p:nvPr/>
        </p:nvPicPr>
        <p:blipFill>
          <a:blip r:embed="rId1"/>
          <a:stretch/>
        </p:blipFill>
        <p:spPr>
          <a:xfrm>
            <a:off x="361800" y="109440"/>
            <a:ext cx="1392480" cy="153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1317"/>
          <p:cNvPicPr/>
          <p:nvPr/>
        </p:nvPicPr>
        <p:blipFill>
          <a:blip r:embed="rId3"/>
          <a:stretch/>
        </p:blipFill>
        <p:spPr>
          <a:xfrm>
            <a:off x="2556000" y="189000"/>
            <a:ext cx="150156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1709"/>
          <p:cNvPicPr/>
          <p:nvPr/>
        </p:nvPicPr>
        <p:blipFill>
          <a:blip r:embed="rId4"/>
          <a:stretch/>
        </p:blipFill>
        <p:spPr>
          <a:xfrm>
            <a:off x="7172280" y="189000"/>
            <a:ext cx="1719360" cy="168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2599"/>
          <p:cNvPicPr/>
          <p:nvPr/>
        </p:nvPicPr>
        <p:blipFill>
          <a:blip r:embed="rId5"/>
          <a:stretch/>
        </p:blipFill>
        <p:spPr>
          <a:xfrm>
            <a:off x="4716360" y="231840"/>
            <a:ext cx="151308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3284"/>
          <p:cNvPicPr/>
          <p:nvPr/>
        </p:nvPicPr>
        <p:blipFill>
          <a:blip r:embed="rId6"/>
          <a:stretch/>
        </p:blipFill>
        <p:spPr>
          <a:xfrm>
            <a:off x="7172280" y="234144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417747"/>
          <p:cNvPicPr/>
          <p:nvPr/>
        </p:nvPicPr>
        <p:blipFill>
          <a:blip r:embed="rId7"/>
          <a:stretch/>
        </p:blipFill>
        <p:spPr>
          <a:xfrm>
            <a:off x="7164360" y="443700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1171328010_f"/>
          <p:cNvPicPr/>
          <p:nvPr/>
        </p:nvPicPr>
        <p:blipFill>
          <a:blip r:embed="rId8"/>
          <a:stretch/>
        </p:blipFill>
        <p:spPr>
          <a:xfrm>
            <a:off x="250920" y="4930920"/>
            <a:ext cx="20527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221760"/>
            <a:ext cx="792936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«Королевский марш льва».</a:t>
            </a:r>
            <a:br>
              <a:rPr sz="4800"/>
            </a:b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90560" y="1417320"/>
            <a:ext cx="609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слушайте внимательно и скажите: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Nwy6RxfX_kk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Каким вы видите льва 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- Как он движется?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(Лев не просто идет, он шествует по своим владениям, важно, с достоинством, как и положено королевской особе).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6" descr="3284"/>
          <p:cNvPicPr/>
          <p:nvPr/>
        </p:nvPicPr>
        <p:blipFill>
          <a:blip r:embed="rId2"/>
          <a:stretch/>
        </p:blipFill>
        <p:spPr>
          <a:xfrm>
            <a:off x="457200" y="2133720"/>
            <a:ext cx="25351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1897"/>
                </a:solidFill>
                <a:latin typeface="Calibri"/>
              </a:rPr>
              <a:t>Послушайте следующую музыкальную загадку:</a:t>
            </a:r>
            <a:endParaRPr b="1" lang="en-US" sz="36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80000" y="1600200"/>
            <a:ext cx="49068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Ах, какой же он горластый»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По утрам кричит всем «Здравствуй!»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На головке гребешок. Кто же это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Ну, а Петины подружки-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И хохлатки, и пеструшки-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Шумно крыльями махали,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Громко клювами стучали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456000" cy="302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1162080" y="5110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Bookman Old Style"/>
              </a:rPr>
              <a:t>Куры и петух.</a:t>
            </a:r>
            <a:br>
              <a:rPr sz="4800"/>
            </a:br>
            <a:r>
              <a:rPr b="1" lang="ru-RU" sz="2800" spc="-1" strike="noStrike" u="sng">
                <a:solidFill>
                  <a:srgbClr val="0000ff"/>
                </a:solidFill>
                <a:uFillTx/>
                <a:latin typeface="Bookman Old Style"/>
                <a:hlinkClick r:id="rId1"/>
              </a:rPr>
              <a:t>https://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Bookman Old Style"/>
                <a:hlinkClick r:id="rId2"/>
              </a:rPr>
              <a:t>www.youtube.com/watch?v=YjU12ROLg_U</a:t>
            </a:r>
            <a:r>
              <a:rPr b="1" lang="ru-RU" sz="2800" spc="-1" strike="noStrike" u="sng">
                <a:solidFill>
                  <a:srgbClr val="f61897"/>
                </a:solidFill>
                <a:uFillTx/>
                <a:latin typeface="Calibri"/>
              </a:rPr>
              <a:t> </a:t>
            </a:r>
            <a:endParaRPr b="1" lang="en-US" sz="2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988640"/>
            <a:ext cx="79293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выми пришли курицы. Их голоса невозможно спутать ни с чьими другими. Куриное кудахтанье передается в музыке с большим юмором. Неожиданно куры замолкают. Их бестолковая суматоха  внезапно прерывается. Как вы думаете почему?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(Это запел Петух).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7236000" y="5286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4"/>
          <a:stretch/>
        </p:blipFill>
        <p:spPr>
          <a:xfrm>
            <a:off x="928800" y="542916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Домашнее задание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2276280"/>
            <a:ext cx="79293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Раскрась любого  понравившегося из персонажей.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0-04-26T18:23:22Z</dcterms:modified>
  <cp:revision>19</cp:revision>
  <dc:subject/>
  <dc:title>                           Тема урока:        «Поход в музыкальный зоопарк»   </dc:title>
</cp:coreProperties>
</file>