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5.jpeg" ContentType="image/jpeg"/>
  <Override PartName="/ppt/media/image14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61897"/>
                </a:solidFill>
                <a:latin typeface="Calibri"/>
              </a:rPr>
              <a:t>Click to move the slide</a:t>
            </a: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9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0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1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EEF028-8B55-4AFB-A16E-C078B180CB4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F5E186-8438-4279-B833-6F9D933D4AA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0" y="-110160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8E2FA9FA-3E9C-4729-8B65-5DFF74178B36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72B4D3-F133-49B8-B75B-7B9EEF12B39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4129A7D-6A9F-4E07-A118-EA692D21B210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9516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318B-7CCC-4755-A65E-C5271CAFA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96432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B0567-7527-4622-BE44-F858960AC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176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F0C7-20BD-44E5-A1E0-E5110D4DB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008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9100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008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9100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B883-A89D-414F-B36D-530AD2819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DC041-A1AD-4267-A9C3-A9116BBEB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28800" y="160020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56453-CBD3-45C8-85FC-CC0D0F9A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A2AAD-1CED-450E-87DB-A47616E4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991F1-A670-4C9A-BBC4-145F7124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BA999-409C-496F-9C40-9CDFBDD6F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28800" y="274320"/>
            <a:ext cx="7929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BC64A-D91B-418C-87D5-36860BF9F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F3492-E922-49FE-96D2-429A80346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60020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5E578-C575-4AE4-879A-C6DF2ACC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9176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AC14FC-E362-4898-A4E9-462A7F227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085AF-8498-477D-9153-69AB15445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28800" y="396432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F3D1F-6407-48DF-84AD-A50548CFE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9176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0CC2C-ECDD-4B2B-AEBD-2E93891A3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008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9100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2880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008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9100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A4E4-AA46-48FE-9440-355BEE7AC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BCD6B4-D8E5-4847-8A10-D7D99EFD987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28800" y="160020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9CB0C5-CA8F-4A9A-A0A4-C67D5CF83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D415F35-000D-427D-84BA-D1E4BEF9F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F58C59A-F9C0-4220-AC55-D774FF5F3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193F3F-801A-4A9B-82CE-4A157D78AE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40A1-F021-4BE7-9DAD-F0510D22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928800" y="274320"/>
            <a:ext cx="7929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B22233-D44A-4F87-B987-03CFBA9DF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047F3FE-07EE-4423-892E-E7190D15F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9176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283B69B-15BD-423D-9540-D156A728E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A72FD2-8999-44F0-B03F-034C7A319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928800" y="396432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DBF924-6E6E-4538-BE63-280FBB5D8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99176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EA1394-56DD-444E-B0C1-5C89F8AC5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61008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29100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92880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61008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29100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0F1FED9-090A-424D-8D02-7E45F47FBED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53FEE-ABA6-4247-9E71-B084AD352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D725-F16C-4B73-B34F-6566F733C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28800" y="274320"/>
            <a:ext cx="7929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8B9F-9D1F-4CC0-A453-59BE33BB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3E117-9A8F-4016-8280-C3DB2644A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176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7D2EC-F691-479F-A67D-C712E6A87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271A-B21F-4C81-8958-2CE7A8156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61897"/>
                </a:solidFill>
                <a:latin typeface="Calibri"/>
              </a:rPr>
              <a:t>Click to edit the title text format</a:t>
            </a: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60020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b0f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Times New Roman"/>
              </a:rPr>
              <a:t>11.4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b0f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F22C853-E994-4F5C-B5A6-1BDCBB2FF051}" type="slidenum">
              <a:rPr b="0" lang="ru-RU" sz="1200" spc="-1" strike="noStrike">
                <a:solidFill>
                  <a:srgbClr val="00b0f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61897"/>
                </a:solidFill>
                <a:latin typeface="Calibri"/>
              </a:rPr>
              <a:t>Click to edit the title text format</a:t>
            </a: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28800" y="160020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b0f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Times New Roman"/>
              </a:rPr>
              <a:t>11.4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b0f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EB40E22D-256C-458A-A106-BBAD38D5F68D}" type="slidenum">
              <a:rPr b="0" lang="ru-RU" sz="1200" spc="-1" strike="noStrike">
                <a:solidFill>
                  <a:srgbClr val="00b0f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61897"/>
                </a:solidFill>
                <a:latin typeface="Calibri"/>
              </a:rPr>
              <a:t>Click to edit the title text format</a:t>
            </a: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28800" y="160020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b0f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Times New Roman"/>
              </a:rPr>
              <a:t>11.4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b0f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DDA3845-E94D-4CE5-A434-D9C9B1A4F141}" type="slidenum">
              <a:rPr b="0" lang="ru-RU" sz="1200" spc="-1" strike="noStrike">
                <a:solidFill>
                  <a:srgbClr val="00b0f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Nwy6RxfX_kk" TargetMode="External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YjU12ROLg_U" TargetMode="External"/><Relationship Id="rId2" Type="http://schemas.openxmlformats.org/officeDocument/2006/relationships/hyperlink" Target="https://www.youtube.com/watch?v=YjU12ROLg_U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5840" y="928800"/>
            <a:ext cx="82008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r>
              <a:rPr b="1" lang="ru-RU" sz="4400" spc="-1" strike="noStrike">
                <a:solidFill>
                  <a:srgbClr val="c0504d"/>
                </a:solidFill>
                <a:latin typeface="Times New Roman"/>
              </a:rPr>
              <a:t>      </a:t>
            </a:r>
            <a:r>
              <a:rPr b="1" lang="ru-RU" sz="4400" spc="-1" strike="noStrike">
                <a:solidFill>
                  <a:srgbClr val="c0504d"/>
                </a:solidFill>
                <a:latin typeface="Times New Roman"/>
              </a:rPr>
              <a:t>«Поход в музыкальный зоопарк».</a:t>
            </a:r>
            <a:br>
              <a:rPr sz="4400"/>
            </a:br>
            <a:r>
              <a:rPr b="1" lang="ru-RU" sz="4400" spc="-1" strike="noStrike">
                <a:solidFill>
                  <a:srgbClr val="f61897"/>
                </a:solidFill>
                <a:latin typeface="Times New Roman"/>
              </a:rPr>
              <a:t> </a:t>
            </a:r>
            <a:br>
              <a:rPr sz="2700"/>
            </a:br>
            <a:endParaRPr b="1" lang="en-US" sz="44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3850920" y="5000760"/>
            <a:ext cx="45370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alibri"/>
              </a:rPr>
              <a:t>Подготовительная группа.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575f6d"/>
                </a:solidFill>
                <a:latin typeface="Calibri"/>
              </a:rPr>
              <a:t>1 занятие.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3714840" y="2714760"/>
            <a:ext cx="2714400" cy="1807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61897"/>
                </a:solidFill>
                <a:latin typeface="Calibri"/>
              </a:rPr>
              <a:t>Здравствуйте ребята!</a:t>
            </a: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599840"/>
            <a:ext cx="548316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1f497d"/>
                </a:solidFill>
                <a:latin typeface="Calibri"/>
              </a:rPr>
              <a:t>Начинаем наше занятие.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Кто из вас знает, что такое зоопарк? 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Вы бывали там?  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Сейчас мы с вами отправимся  в зоопарк, только не простой, а музыкальный?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4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11.4.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1" descr=""/>
          <p:cNvPicPr/>
          <p:nvPr/>
        </p:nvPicPr>
        <p:blipFill>
          <a:blip r:embed="rId1"/>
          <a:stretch/>
        </p:blipFill>
        <p:spPr>
          <a:xfrm>
            <a:off x="5940360" y="1773360"/>
            <a:ext cx="2984400" cy="37004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"/>
          <p:cNvPicPr/>
          <p:nvPr/>
        </p:nvPicPr>
        <p:blipFill>
          <a:blip r:embed="rId2"/>
          <a:stretch/>
        </p:blipFill>
        <p:spPr>
          <a:xfrm>
            <a:off x="4788000" y="529272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7858080" y="4929120"/>
            <a:ext cx="1428840" cy="14288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3008160" cy="2637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ШАРЛЬ </a:t>
            </a:r>
            <a:br>
              <a:rPr sz="2800"/>
            </a:br>
            <a:r>
              <a:rPr b="1" lang="ru-RU" sz="2800" spc="-1" strike="noStrike">
                <a:solidFill>
                  <a:srgbClr val="ff0066"/>
                </a:solidFill>
                <a:latin typeface="Tahoma"/>
              </a:rPr>
              <a:t>КАМИЛЬ СЕН-САНС</a:t>
            </a:r>
            <a:br>
              <a:rPr sz="2800"/>
            </a:br>
            <a:r>
              <a:rPr b="1" lang="ru-RU" sz="2800" spc="-1" strike="noStrike">
                <a:solidFill>
                  <a:srgbClr val="f61897"/>
                </a:solidFill>
                <a:latin typeface="Calibri"/>
              </a:rPr>
              <a:t>(1835 - 1921) </a:t>
            </a:r>
            <a:br>
              <a:rPr sz="2800"/>
            </a:br>
            <a:endParaRPr b="1" lang="en-US" sz="2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624120" y="549000"/>
            <a:ext cx="5112000" cy="61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Написал музыку к нашему шутливому зоопарку французский композитор К.Сен-Санс. Когда он был таким маленьким, как вы, очень любил прислушиваться к звукам, которые его окружали. Это умение слушать и слышать звуки и помогли ему сочинять прекрасную музыку.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34600"/>
            <a:ext cx="3008160" cy="46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4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41" name="Picture 2" descr="сен-санс 3"/>
          <p:cNvPicPr/>
          <p:nvPr/>
        </p:nvPicPr>
        <p:blipFill>
          <a:blip r:embed="rId2"/>
          <a:stretch/>
        </p:blipFill>
        <p:spPr>
          <a:xfrm>
            <a:off x="457200" y="2205000"/>
            <a:ext cx="3192480" cy="37814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8508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61897"/>
                </a:solidFill>
                <a:latin typeface="Calibri"/>
              </a:rPr>
              <a:t>Сегодня в зоопарке будет настоящий карнавал.</a:t>
            </a:r>
            <a:br>
              <a:rPr sz="3200"/>
            </a:br>
            <a:br>
              <a:rPr sz="3200"/>
            </a:br>
            <a:r>
              <a:rPr b="1" lang="ru-RU" sz="3200" spc="-1" strike="noStrike">
                <a:solidFill>
                  <a:srgbClr val="f61897"/>
                </a:solidFill>
                <a:latin typeface="Calibri"/>
              </a:rPr>
              <a:t> Карнавал, на который я вас приглашаю, будет совсем необычным.</a:t>
            </a:r>
            <a:br>
              <a:rPr sz="3200"/>
            </a:br>
            <a:r>
              <a:rPr b="1" lang="ru-RU" sz="3200" spc="-1" strike="noStrike">
                <a:solidFill>
                  <a:srgbClr val="f61897"/>
                </a:solidFill>
                <a:latin typeface="Calibri"/>
              </a:rPr>
              <a:t> Во-первых, это карнавал не людей, а животных. </a:t>
            </a:r>
            <a:br>
              <a:rPr sz="3200"/>
            </a:br>
            <a:r>
              <a:rPr b="1" lang="ru-RU" sz="3200" spc="-1" strike="noStrike">
                <a:solidFill>
                  <a:srgbClr val="f61897"/>
                </a:solidFill>
                <a:latin typeface="Calibri"/>
              </a:rPr>
              <a:t>Во-вторых, он музыкальный. Это значит, что всех его персонажей, мы услышим, потому что расскажет нам о них музыка. </a:t>
            </a:r>
            <a:br>
              <a:rPr sz="3200"/>
            </a:br>
            <a:r>
              <a:rPr b="1" lang="ru-RU" sz="3200" spc="-1" strike="noStrike">
                <a:solidFill>
                  <a:srgbClr val="f61897"/>
                </a:solidFill>
                <a:latin typeface="Calibri"/>
              </a:rPr>
              <a:t> Любой праздник обычно открывают самые знатные гости.</a:t>
            </a:r>
            <a:br>
              <a:rPr sz="3200"/>
            </a:br>
            <a:endParaRPr b="1" lang="en-US" sz="32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43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11.4.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5"/>
          <p:cNvSpPr/>
          <p:nvPr/>
        </p:nvSpPr>
        <p:spPr>
          <a:xfrm>
            <a:off x="2014560" y="1700280"/>
            <a:ext cx="525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7"/>
          <p:cNvSpPr/>
          <p:nvPr/>
        </p:nvSpPr>
        <p:spPr>
          <a:xfrm>
            <a:off x="1114560" y="1916280"/>
            <a:ext cx="70578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3200" spc="-1" strike="noStrike">
                <a:solidFill>
                  <a:srgbClr val="003300"/>
                </a:solidFill>
                <a:latin typeface="Arial"/>
              </a:rPr>
              <a:t>Отгадай загадк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2303640" y="2565360"/>
            <a:ext cx="467964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Segoe UI Semibold"/>
                <a:ea typeface="Segoe UI Semibold"/>
              </a:rPr>
              <a:t>Устрашающе красив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Segoe UI Semibold"/>
                <a:ea typeface="Segoe UI Semibold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Segoe UI Semibold"/>
                <a:ea typeface="Segoe UI Semibold"/>
              </a:rPr>
              <a:t>Он свиреп и желтогри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Segoe UI Semibold"/>
                <a:ea typeface="Segoe UI Semibold"/>
              </a:rPr>
              <a:t>Даже хвост совсем не прост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Segoe UI Semibold"/>
                <a:ea typeface="Segoe UI Semibold"/>
              </a:rPr>
              <a:t>С кисточкою длинный хво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Segoe UI Semibold"/>
                <a:ea typeface="Segoe UI Semibold"/>
              </a:rPr>
              <a:t>Лапы сильны и могуч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Segoe UI Semibold"/>
                <a:ea typeface="Segoe UI Semibold"/>
              </a:rPr>
              <a:t>Рык несётся выше туч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Segoe UI Semibold"/>
                <a:ea typeface="Segoe UI Semibold"/>
              </a:rPr>
              <a:t>Ведь не зря он –царь звер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Segoe UI Semibold"/>
                <a:ea typeface="Segoe UI Semibold"/>
              </a:rPr>
              <a:t>В жаркой Африке сво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Picture 9" descr="167"/>
          <p:cNvPicPr/>
          <p:nvPr/>
        </p:nvPicPr>
        <p:blipFill>
          <a:blip r:embed="rId1"/>
          <a:stretch/>
        </p:blipFill>
        <p:spPr>
          <a:xfrm>
            <a:off x="361800" y="109440"/>
            <a:ext cx="1392480" cy="15321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0" descr="360"/>
          <p:cNvPicPr/>
          <p:nvPr/>
        </p:nvPicPr>
        <p:blipFill>
          <a:blip r:embed="rId2"/>
          <a:stretch/>
        </p:blipFill>
        <p:spPr>
          <a:xfrm>
            <a:off x="250920" y="2476440"/>
            <a:ext cx="1446120" cy="19033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2" descr="1317"/>
          <p:cNvPicPr/>
          <p:nvPr/>
        </p:nvPicPr>
        <p:blipFill>
          <a:blip r:embed="rId3"/>
          <a:stretch/>
        </p:blipFill>
        <p:spPr>
          <a:xfrm>
            <a:off x="2556000" y="189000"/>
            <a:ext cx="1501560" cy="15112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3" descr="1709"/>
          <p:cNvPicPr/>
          <p:nvPr/>
        </p:nvPicPr>
        <p:blipFill>
          <a:blip r:embed="rId4"/>
          <a:stretch/>
        </p:blipFill>
        <p:spPr>
          <a:xfrm>
            <a:off x="7172280" y="189000"/>
            <a:ext cx="1719360" cy="16891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5" descr="2599"/>
          <p:cNvPicPr/>
          <p:nvPr/>
        </p:nvPicPr>
        <p:blipFill>
          <a:blip r:embed="rId5"/>
          <a:stretch/>
        </p:blipFill>
        <p:spPr>
          <a:xfrm>
            <a:off x="4716360" y="231840"/>
            <a:ext cx="1513080" cy="1387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16" descr="3284"/>
          <p:cNvPicPr/>
          <p:nvPr/>
        </p:nvPicPr>
        <p:blipFill>
          <a:blip r:embed="rId6"/>
          <a:stretch/>
        </p:blipFill>
        <p:spPr>
          <a:xfrm>
            <a:off x="7172280" y="2341440"/>
            <a:ext cx="1647720" cy="194472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17" descr="417747"/>
          <p:cNvPicPr/>
          <p:nvPr/>
        </p:nvPicPr>
        <p:blipFill>
          <a:blip r:embed="rId7"/>
          <a:stretch/>
        </p:blipFill>
        <p:spPr>
          <a:xfrm>
            <a:off x="7164360" y="4437000"/>
            <a:ext cx="1663560" cy="213372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19" descr="1171328010_f"/>
          <p:cNvPicPr/>
          <p:nvPr/>
        </p:nvPicPr>
        <p:blipFill>
          <a:blip r:embed="rId8"/>
          <a:stretch/>
        </p:blipFill>
        <p:spPr>
          <a:xfrm>
            <a:off x="250920" y="4930920"/>
            <a:ext cx="2052720" cy="153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28800" y="221760"/>
            <a:ext cx="7929360" cy="1195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800"/>
            </a:br>
            <a:r>
              <a:rPr b="1" lang="ru-RU" sz="4800" spc="-1" strike="noStrike">
                <a:solidFill>
                  <a:srgbClr val="f61897"/>
                </a:solidFill>
                <a:latin typeface="Calibri"/>
              </a:rPr>
              <a:t>«Королевский марш льва».</a:t>
            </a:r>
            <a:br>
              <a:rPr sz="4800"/>
            </a:b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2590560" y="1417320"/>
            <a:ext cx="60958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Послушайте внимательно и скажите: 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s://www.youtube.com/watch?v=Nwy6RxfX_kk</a:t>
            </a:r>
            <a:r>
              <a:rPr b="0" lang="ru-RU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         </a:t>
            </a:r>
            <a:r>
              <a:rPr b="1" lang="ru-RU" sz="2800" spc="-1" strike="noStrike">
                <a:solidFill>
                  <a:srgbClr val="1f497d"/>
                </a:solidFill>
                <a:latin typeface="Calibri"/>
              </a:rPr>
              <a:t>- </a:t>
            </a:r>
            <a:r>
              <a:rPr b="0" lang="ru-RU" sz="2800" spc="-1" strike="noStrike">
                <a:solidFill>
                  <a:srgbClr val="1f497d"/>
                </a:solidFill>
                <a:latin typeface="Calibri"/>
              </a:rPr>
              <a:t>Каким вы видите льва ?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f497d"/>
                </a:solidFill>
                <a:latin typeface="Calibri"/>
              </a:rPr>
              <a:t>         </a:t>
            </a:r>
            <a:r>
              <a:rPr b="0" lang="ru-RU" sz="2800" spc="-1" strike="noStrike">
                <a:solidFill>
                  <a:srgbClr val="1f497d"/>
                </a:solidFill>
                <a:latin typeface="Calibri"/>
              </a:rPr>
              <a:t>- Как он движется?</a:t>
            </a:r>
            <a:br>
              <a:rPr sz="2800"/>
            </a:b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1f497d"/>
                </a:solidFill>
                <a:latin typeface="Calibri"/>
              </a:rPr>
              <a:t>(Лев не просто идет, он шествует по своим владениям, важно, с достоинством, как и положено королевской особе).</a:t>
            </a:r>
            <a:br>
              <a:rPr sz="2400"/>
            </a:b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7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11.4.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16" descr="3284"/>
          <p:cNvPicPr/>
          <p:nvPr/>
        </p:nvPicPr>
        <p:blipFill>
          <a:blip r:embed="rId2"/>
          <a:stretch/>
        </p:blipFill>
        <p:spPr>
          <a:xfrm>
            <a:off x="457200" y="2133720"/>
            <a:ext cx="253512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61897"/>
                </a:solidFill>
                <a:latin typeface="Calibri"/>
              </a:rPr>
              <a:t>Послушайте следующую музыкальную загадку:</a:t>
            </a:r>
            <a:endParaRPr b="1" lang="en-US" sz="36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780000" y="1600200"/>
            <a:ext cx="4906800" cy="512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Calibri"/>
              </a:rPr>
              <a:t>Ах, какой же он горластый»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Calibri"/>
              </a:rPr>
              <a:t>По утрам кричит всем «Здравствуй!»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Calibri"/>
              </a:rPr>
              <a:t>На головке гребешок. Кто же это</a:t>
            </a:r>
            <a:r>
              <a:rPr b="0" lang="ru-RU" sz="2800" spc="-1" strike="noStrike">
                <a:solidFill>
                  <a:srgbClr val="1f497d"/>
                </a:solidFill>
                <a:latin typeface="Calibri"/>
              </a:rPr>
              <a:t>?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i="1" lang="ru-RU" sz="2800" spc="-1" strike="noStrike">
                <a:solidFill>
                  <a:srgbClr val="1f497d"/>
                </a:solidFill>
                <a:latin typeface="Calibri"/>
              </a:rPr>
              <a:t>Ну, а Петины подружки-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Calibri"/>
              </a:rPr>
              <a:t>И хохлатки, и пеструшки-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Calibri"/>
              </a:rPr>
              <a:t>Шумно крыльями махали,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1f497d"/>
                </a:solidFill>
                <a:latin typeface="Calibri"/>
              </a:rPr>
              <a:t>Громко клювами стучали.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1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11.4.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2" descr=""/>
          <p:cNvPicPr/>
          <p:nvPr/>
        </p:nvPicPr>
        <p:blipFill>
          <a:blip r:embed="rId1"/>
          <a:stretch/>
        </p:blipFill>
        <p:spPr>
          <a:xfrm>
            <a:off x="108000" y="1844640"/>
            <a:ext cx="3456000" cy="3024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4" descr=""/>
          <p:cNvPicPr/>
          <p:nvPr/>
        </p:nvPicPr>
        <p:blipFill>
          <a:blip r:embed="rId2"/>
          <a:stretch/>
        </p:blipFill>
        <p:spPr>
          <a:xfrm>
            <a:off x="1162080" y="5110200"/>
            <a:ext cx="142884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71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61897"/>
                </a:solidFill>
                <a:latin typeface="Bookman Old Style"/>
              </a:rPr>
              <a:t>Куры и петух.</a:t>
            </a:r>
            <a:br>
              <a:rPr sz="4800"/>
            </a:br>
            <a:r>
              <a:rPr b="1" lang="ru-RU" sz="2800" spc="-1" strike="noStrike" u="sng">
                <a:solidFill>
                  <a:srgbClr val="0000ff"/>
                </a:solidFill>
                <a:uFillTx/>
                <a:latin typeface="Bookman Old Style"/>
                <a:hlinkClick r:id="rId1"/>
              </a:rPr>
              <a:t>https://</a:t>
            </a:r>
            <a:r>
              <a:rPr b="1" lang="ru-RU" sz="2800" spc="-1" strike="noStrike" u="sng">
                <a:solidFill>
                  <a:srgbClr val="0000ff"/>
                </a:solidFill>
                <a:uFillTx/>
                <a:latin typeface="Bookman Old Style"/>
                <a:hlinkClick r:id="rId2"/>
              </a:rPr>
              <a:t>www.youtube.com/watch?v=YjU12ROLg_U</a:t>
            </a:r>
            <a:r>
              <a:rPr b="1" lang="ru-RU" sz="2800" spc="-1" strike="noStrike" u="sng">
                <a:solidFill>
                  <a:srgbClr val="f61897"/>
                </a:solidFill>
                <a:uFillTx/>
                <a:latin typeface="Calibri"/>
              </a:rPr>
              <a:t> </a:t>
            </a:r>
            <a:endParaRPr b="1" lang="en-US" sz="2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928800" y="1988640"/>
            <a:ext cx="7929360" cy="458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Первыми пришли курицы. Их голоса невозможно спутать ни с чьими другими. Куриное кудахтанье передается в музыке с большим юмором. Неожиданно куры замолкают. Их бестолковая суматоха  внезапно прерывается. Как вы думаете почему?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                  </a:t>
            </a:r>
            <a:r>
              <a:rPr b="0" i="1" lang="ru-RU" sz="2800" spc="-1" strike="noStrike">
                <a:solidFill>
                  <a:srgbClr val="1f497d"/>
                </a:solidFill>
                <a:latin typeface="Calibri"/>
              </a:rPr>
              <a:t>(Это запел Петух). </a:t>
            </a:r>
            <a:endParaRPr b="0" lang="en-US" sz="28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66" name="Picture 3" descr=""/>
          <p:cNvPicPr/>
          <p:nvPr/>
        </p:nvPicPr>
        <p:blipFill>
          <a:blip r:embed="rId3"/>
          <a:stretch/>
        </p:blipFill>
        <p:spPr>
          <a:xfrm>
            <a:off x="7236000" y="528624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"/>
          <p:cNvPicPr/>
          <p:nvPr/>
        </p:nvPicPr>
        <p:blipFill>
          <a:blip r:embed="rId4"/>
          <a:stretch/>
        </p:blipFill>
        <p:spPr>
          <a:xfrm>
            <a:off x="928800" y="5429160"/>
            <a:ext cx="1428480" cy="14288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61897"/>
                </a:solidFill>
                <a:latin typeface="Calibri"/>
              </a:rPr>
              <a:t>Домашнее задание:</a:t>
            </a: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928800" y="2276280"/>
            <a:ext cx="7929360" cy="384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1f497d"/>
                </a:solidFill>
                <a:latin typeface="Calibri"/>
              </a:rPr>
              <a:t>Раскрась любого  понравившегося из персонажей.</a:t>
            </a:r>
            <a:endParaRPr b="0" lang="en-US" sz="48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11.4.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</cp:lastModifiedBy>
  <dcterms:modified xsi:type="dcterms:W3CDTF">2020-04-26T18:23:22Z</dcterms:modified>
  <cp:revision>19</cp:revision>
  <dc:subject/>
  <dc:title>                           Тема урока:        «Поход в музыкальный зоопарк»   </dc:title>
</cp:coreProperties>
</file>