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4.jpeg" ContentType="image/jpeg"/>
  <Override PartName="/ppt/media/image3.gif" ContentType="image/gif"/>
  <Override PartName="/ppt/media/image23.jpeg" ContentType="image/jpeg"/>
  <Override PartName="/ppt/media/image2.jpeg" ContentType="image/jpe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move the slide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dt" idx="9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10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11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BF91AF-9F2D-4790-B80B-7A5845B16A6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6"/>
          <p:cNvSpPr/>
          <p:nvPr/>
        </p:nvSpPr>
        <p:spPr>
          <a:xfrm>
            <a:off x="427824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1047B2-7AD3-402C-966A-3E84F2BDF0E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 Unicode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0" y="0"/>
            <a:ext cx="1440" cy="1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0" y="-1101600"/>
            <a:ext cx="1440" cy="548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Arial"/>
              <a:ea typeface="Arial Unicode MS"/>
            </a:endParaRPr>
          </a:p>
        </p:txBody>
      </p:sp>
      <p:sp>
        <p:nvSpPr>
          <p:cNvPr id="188" name="Text Box 3"/>
          <p:cNvSpPr/>
          <p:nvPr/>
        </p:nvSpPr>
        <p:spPr>
          <a:xfrm>
            <a:off x="0" y="0"/>
            <a:ext cx="144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843DFF0-7EB3-4F3B-ACC7-235EAF78D121}" type="slidenum">
              <a:rPr b="0" lang="ru-RU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4D0-9DB4-48D0-BFCE-CA51286C9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B74AC-CA7C-4022-87E7-41B3665CA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4088-A6BF-4017-AE34-1BD452961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7DB5-B0AF-4432-8B5B-5E82CF26F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47033-1C65-4F30-B80B-3F99AF36B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11CBB-BB67-442D-93B8-9C89F42E9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6ED49-795F-419C-A269-949A6DBB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8199E-E684-4419-AD12-364E20676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6C57C-EE5D-4C2B-B29B-4B6DBC19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9403-D78B-4595-8739-038423AA8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FEFFC-E176-4E17-80A3-C2B673CBB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5AF9-DA2D-4671-BF74-79EAE273B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48EEB-2259-4B26-83D9-B79DA2B6D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0D4D9-B4EB-4ECC-9EDD-57707857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2F800-2C2B-4707-8860-472E2110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F9FC3-AD8F-43B5-927C-1A046213E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F8BF-D2DE-4723-B463-A824FF172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2ED9DF-45BE-4584-BC47-A3764DCA796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3F8160-AFBF-423F-839E-F9D0909D1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8261DFB-4032-48A1-9F8A-FD238916F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F8B0E30-8512-4F1B-A98A-502D2213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E64C5C-78DA-4059-9E0D-560BB4177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0B62-9B20-4283-913B-C17851193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4E1BD5-40A4-48B1-B82C-9D24120E2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0FB5E9-4074-455D-8A79-81D0B170B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A234B3F-9FE8-4B63-82A7-B5CC99403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E4FD9F-F575-459A-B165-6CA52819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C22A1C-ADFB-4D0A-BE5C-08545805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C8D04CC-F5E5-4D88-9A3C-0BC9170D5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61008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291000" y="160020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9288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61008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291000" y="3964320"/>
            <a:ext cx="2553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669AF2-BB59-4740-9763-2DD52B9E126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036A7-4254-413C-8BFF-31005FFE6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2E85-FD9F-4A5E-85B8-951BA42A6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28800" y="274320"/>
            <a:ext cx="7929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D5D0-0D7F-4DD0-B11B-BF1AAAD4C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63EF-EF77-4E5C-81C5-1C158AFB8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91760" y="396432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915E5-776F-47AB-B2C4-EF8FBF080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2880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91760" y="1600200"/>
            <a:ext cx="3869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28800" y="3964320"/>
            <a:ext cx="7929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79D9-4181-4704-A345-B2B2334F3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377F01-FD3E-4E5E-991F-B74623A3A570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3C457F-FF9B-43F1-A2D6-E82FB4038E7C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61897"/>
                </a:solidFill>
                <a:latin typeface="Calibri"/>
              </a:rPr>
              <a:t>Click to edit the title text format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558ed5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1f497d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1f497d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0b0f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51959F29-4BEF-4DFD-A6FA-A3EDB6260E73}" type="slidenum">
              <a:rPr b="0" lang="ru-RU" sz="1200" spc="-1" strike="noStrike">
                <a:solidFill>
                  <a:srgbClr val="00b0f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image" Target="../media/image13.jpeg"/><Relationship Id="rId9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20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21.jpeg"/><Relationship Id="rId7" Type="http://schemas.openxmlformats.org/officeDocument/2006/relationships/image" Target="../media/image10.jpeg"/><Relationship Id="rId8" Type="http://schemas.openxmlformats.org/officeDocument/2006/relationships/image" Target="../media/image11.jpeg"/><Relationship Id="rId9" Type="http://schemas.openxmlformats.org/officeDocument/2006/relationships/image" Target="../media/image12.jpeg"/><Relationship Id="rId10" Type="http://schemas.openxmlformats.org/officeDocument/2006/relationships/image" Target="../media/image13.jpeg"/><Relationship Id="rId11" Type="http://schemas.openxmlformats.org/officeDocument/2006/relationships/image" Target="../media/image22.png"/><Relationship Id="rId1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85840" y="928800"/>
            <a:ext cx="82008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700"/>
            </a:br>
            <a:br>
              <a:rPr sz="2700"/>
            </a:b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      </a:t>
            </a:r>
            <a:r>
              <a:rPr b="1" lang="ru-RU" sz="4400" spc="-1" strike="noStrike">
                <a:solidFill>
                  <a:srgbClr val="c0504d"/>
                </a:solidFill>
                <a:latin typeface="Times New Roman"/>
              </a:rPr>
              <a:t>«Поход в музыкальный зоопарк».</a:t>
            </a:r>
            <a:br>
              <a:rPr sz="4400"/>
            </a:br>
            <a:r>
              <a:rPr b="1" lang="ru-RU" sz="4400" spc="-1" strike="noStrike">
                <a:solidFill>
                  <a:srgbClr val="f61897"/>
                </a:solidFill>
                <a:latin typeface="Times New Roman"/>
              </a:rPr>
              <a:t> </a:t>
            </a:r>
            <a:br>
              <a:rPr sz="2700"/>
            </a:b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858920" y="5000760"/>
            <a:ext cx="3529080" cy="10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alibri"/>
              </a:rPr>
              <a:t>Второе занятие.</a:t>
            </a:r>
            <a:endParaRPr b="0" lang="en-US" sz="3000" spc="-1" strike="noStrike">
              <a:solidFill>
                <a:srgbClr val="1f497d"/>
              </a:solidFill>
              <a:latin typeface="Calibri"/>
            </a:endParaRPr>
          </a:p>
        </p:txBody>
      </p:sp>
      <p:pic>
        <p:nvPicPr>
          <p:cNvPr id="131" name="Picture 3" descr=""/>
          <p:cNvPicPr/>
          <p:nvPr/>
        </p:nvPicPr>
        <p:blipFill>
          <a:blip r:embed="rId1"/>
          <a:stretch/>
        </p:blipFill>
        <p:spPr>
          <a:xfrm>
            <a:off x="3714840" y="2714760"/>
            <a:ext cx="2714400" cy="1807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193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f61897"/>
                </a:solidFill>
                <a:latin typeface="Calibri"/>
              </a:rPr>
              <a:t>Домашнее задание:</a:t>
            </a:r>
            <a:br>
              <a:rPr sz="2800"/>
            </a:br>
            <a:r>
              <a:rPr b="1" lang="ru-RU" sz="2400" spc="-1" strike="noStrike">
                <a:solidFill>
                  <a:srgbClr val="f61897"/>
                </a:solidFill>
                <a:latin typeface="Calibri"/>
              </a:rPr>
              <a:t>Составь рассказ и расскажи родителям.</a:t>
            </a:r>
            <a:br>
              <a:rPr sz="24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«Мой аквариум».</a:t>
            </a:r>
            <a:br>
              <a:rPr sz="4800"/>
            </a:b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285840" y="2205000"/>
            <a:ext cx="8572320" cy="451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днажды, на день  моего рождения……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 был (а) очень рад(а) …………………………………………………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Скоро, в моем аквариуме появились ...................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Рыбки были ……………………………………………………………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Я с удовольствием за ними ухаживал (а)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Больше всего мне нравилось смотреть, как ..................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Однажды, мне приснился удивительный сон ………………………...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f497d"/>
                </a:solidFill>
                <a:latin typeface="Calibri"/>
              </a:rPr>
              <a:t>Это  было так необыкновенно …………………………………………</a:t>
            </a: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8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Рисунок 4" descr="https://go4.imgsmail.ru/imgpreview?key=38b7ac7174e85efe2dadf2b96607bd1e&amp;mb=webimage_preview_319&amp;w=72&amp;h=72&amp;crop=1"/>
          <p:cNvPicPr/>
          <p:nvPr/>
        </p:nvPicPr>
        <p:blipFill>
          <a:blip r:embed="rId1"/>
          <a:stretch/>
        </p:blipFill>
        <p:spPr>
          <a:xfrm>
            <a:off x="798480" y="692280"/>
            <a:ext cx="1252440" cy="116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28800" y="274680"/>
            <a:ext cx="7929360" cy="6081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В заключении послушайте весёлый финал этого произведения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усть он вам поднимет настроение.</a:t>
            </a:r>
            <a:br>
              <a:rPr sz="4800"/>
            </a:br>
            <a:r>
              <a:rPr b="1" lang="ru-RU" sz="4400" spc="-1" strike="noStrike" u="sng">
                <a:solidFill>
                  <a:srgbClr val="f61897"/>
                </a:solidFill>
                <a:uFillTx/>
                <a:latin typeface="Calibri"/>
              </a:rPr>
              <a:t>https://www.youtube.com/watch?v=dqywaJv8ii0 </a:t>
            </a:r>
            <a:endParaRPr b="1" lang="en-US" sz="44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8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Здравствуйте ребята!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56840" y="1267920"/>
            <a:ext cx="548316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одолжаем наше путешествие по музыкальному зоопарку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Вопросы на повторение: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Назови композитора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 какими музыкальными произведениями этого композитора мы знакомились на прошлом занятии?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34" name="Дата 4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6186600" y="5292720"/>
            <a:ext cx="1428480" cy="142884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2" descr="сен-санс 3"/>
          <p:cNvPicPr/>
          <p:nvPr/>
        </p:nvPicPr>
        <p:blipFill>
          <a:blip r:embed="rId2"/>
          <a:stretch/>
        </p:blipFill>
        <p:spPr>
          <a:xfrm>
            <a:off x="5651640" y="1539720"/>
            <a:ext cx="3063600" cy="36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7"/>
          <p:cNvSpPr/>
          <p:nvPr/>
        </p:nvSpPr>
        <p:spPr>
          <a:xfrm>
            <a:off x="2014560" y="2122560"/>
            <a:ext cx="4956120" cy="281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  <a:ea typeface="DFKai-SB"/>
              </a:rPr>
              <a:t>Сен-Сан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33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5400" spc="-1" strike="noStrike">
                <a:solidFill>
                  <a:srgbClr val="953735"/>
                </a:solidFill>
                <a:latin typeface="Arial"/>
                <a:ea typeface="DFKai-SB"/>
              </a:rPr>
              <a:t>«Карнавал животных»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8"/>
          <p:cNvSpPr/>
          <p:nvPr/>
        </p:nvSpPr>
        <p:spPr>
          <a:xfrm>
            <a:off x="2303640" y="2565360"/>
            <a:ext cx="4679640" cy="43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9" descr="167"/>
          <p:cNvPicPr/>
          <p:nvPr/>
        </p:nvPicPr>
        <p:blipFill>
          <a:blip r:embed="rId1"/>
          <a:stretch/>
        </p:blipFill>
        <p:spPr>
          <a:xfrm>
            <a:off x="361800" y="109440"/>
            <a:ext cx="1392480" cy="1532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12" descr="1317"/>
          <p:cNvPicPr/>
          <p:nvPr/>
        </p:nvPicPr>
        <p:blipFill>
          <a:blip r:embed="rId3"/>
          <a:stretch/>
        </p:blipFill>
        <p:spPr>
          <a:xfrm>
            <a:off x="2556000" y="189000"/>
            <a:ext cx="1501560" cy="1511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3" descr="1709"/>
          <p:cNvPicPr/>
          <p:nvPr/>
        </p:nvPicPr>
        <p:blipFill>
          <a:blip r:embed="rId4"/>
          <a:stretch/>
        </p:blipFill>
        <p:spPr>
          <a:xfrm>
            <a:off x="7172280" y="189000"/>
            <a:ext cx="1719360" cy="16891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5" descr="2599"/>
          <p:cNvPicPr/>
          <p:nvPr/>
        </p:nvPicPr>
        <p:blipFill>
          <a:blip r:embed="rId5"/>
          <a:stretch/>
        </p:blipFill>
        <p:spPr>
          <a:xfrm>
            <a:off x="4716360" y="231840"/>
            <a:ext cx="1513080" cy="1387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6" descr="3284"/>
          <p:cNvPicPr/>
          <p:nvPr/>
        </p:nvPicPr>
        <p:blipFill>
          <a:blip r:embed="rId6"/>
          <a:stretch/>
        </p:blipFill>
        <p:spPr>
          <a:xfrm>
            <a:off x="7172280" y="234144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7" descr="417747"/>
          <p:cNvPicPr/>
          <p:nvPr/>
        </p:nvPicPr>
        <p:blipFill>
          <a:blip r:embed="rId7"/>
          <a:stretch/>
        </p:blipFill>
        <p:spPr>
          <a:xfrm>
            <a:off x="6970680" y="472428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9" descr="1171328010_f"/>
          <p:cNvPicPr/>
          <p:nvPr/>
        </p:nvPicPr>
        <p:blipFill>
          <a:blip r:embed="rId8"/>
          <a:stretch/>
        </p:blipFill>
        <p:spPr>
          <a:xfrm>
            <a:off x="250920" y="4930920"/>
            <a:ext cx="205272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Продолжаем наше занятие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Отгадай загадку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928800" y="2060280"/>
            <a:ext cx="792936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Родственник он лошади,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Маленького роста,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аупрямится когда, 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двинуть, ох, не просто!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https://www.youtube.com/watch?v=G3Wsk8k1bzg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Рисунок 4" descr="https://go3.imgsmail.ru/imgpreview?key=2a7c3e5bc2062172829edfa38de1948c&amp;mb=webimage_preview_685&amp;w=72&amp;h=72&amp;crop=1"/>
          <p:cNvPicPr/>
          <p:nvPr/>
        </p:nvPicPr>
        <p:blipFill>
          <a:blip r:embed="rId1"/>
          <a:stretch/>
        </p:blipFill>
        <p:spPr>
          <a:xfrm>
            <a:off x="5834160" y="2492280"/>
            <a:ext cx="3024000" cy="28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" dur="5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" dur="500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" dur="500"/>
                                        <p:tgtEl>
                                          <p:spTgt spid="1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2" descr="417747"/>
          <p:cNvPicPr/>
          <p:nvPr/>
        </p:nvPicPr>
        <p:blipFill>
          <a:blip r:embed="rId1"/>
          <a:stretch/>
        </p:blipFill>
        <p:spPr>
          <a:xfrm>
            <a:off x="5435640" y="333360"/>
            <a:ext cx="2736720" cy="30956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3" descr="1150460176-smp"/>
          <p:cNvPicPr/>
          <p:nvPr/>
        </p:nvPicPr>
        <p:blipFill>
          <a:blip r:embed="rId2"/>
          <a:stretch/>
        </p:blipFill>
        <p:spPr>
          <a:xfrm>
            <a:off x="422280" y="3429000"/>
            <a:ext cx="4221000" cy="316692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4"/>
          <p:cNvSpPr/>
          <p:nvPr/>
        </p:nvSpPr>
        <p:spPr>
          <a:xfrm>
            <a:off x="468360" y="593640"/>
            <a:ext cx="3960720" cy="30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Arial"/>
              </a:rPr>
              <a:t>Персонаж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500" spc="-1" strike="noStrike">
                <a:solidFill>
                  <a:srgbClr val="cc0000"/>
                </a:solidFill>
                <a:latin typeface="Arial"/>
              </a:rPr>
              <a:t>с длинными ушам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812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5"/>
          <p:cNvSpPr/>
          <p:nvPr/>
        </p:nvSpPr>
        <p:spPr>
          <a:xfrm>
            <a:off x="5219640" y="3860640"/>
            <a:ext cx="3457800" cy="21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Это, конечно, осел; его крики забавно переданы взвизгиваниями и тянущимися звуками скрипок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Следующая загадка: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928800" y="1600200"/>
            <a:ext cx="792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Зверь в Австралии живет,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Скачет радостно вперед.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А детишек носит в сумке,</a:t>
            </a:r>
            <a:br>
              <a:rPr sz="3200"/>
            </a:br>
            <a:r>
              <a:rPr b="0" lang="ru-RU" sz="3200" spc="-1" strike="noStrike">
                <a:solidFill>
                  <a:srgbClr val="1f497d"/>
                </a:solidFill>
                <a:latin typeface="Calibri"/>
              </a:rPr>
              <a:t>Прямо на огромном пузе.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1f497d"/>
                </a:solidFill>
                <a:uFillTx/>
                <a:latin typeface="Calibri"/>
              </a:rPr>
              <a:t>https://www.youtube.com/watch?v=CAQrtE3dA-M</a:t>
            </a: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f497d"/>
              </a:solidFill>
              <a:latin typeface="Calibri"/>
            </a:endParaRPr>
          </a:p>
        </p:txBody>
      </p:sp>
      <p:sp>
        <p:nvSpPr>
          <p:cNvPr id="15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78560" y="3141720"/>
            <a:ext cx="3279600" cy="2259000"/>
          </a:xfrm>
          <a:prstGeom prst="rect">
            <a:avLst/>
          </a:prstGeom>
          <a:ln w="0">
            <a:noFill/>
          </a:ln>
        </p:spPr>
      </p:pic>
      <p:pic>
        <p:nvPicPr>
          <p:cNvPr id="160" name="Рисунок 5" descr=""/>
          <p:cNvPicPr/>
          <p:nvPr/>
        </p:nvPicPr>
        <p:blipFill>
          <a:blip r:embed="rId2"/>
          <a:stretch/>
        </p:blipFill>
        <p:spPr>
          <a:xfrm>
            <a:off x="5460840" y="1730520"/>
            <a:ext cx="3395880" cy="12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928800" y="274320"/>
            <a:ext cx="7929360" cy="553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Вот и закончилось наше путешествие по музыкальному зоопарку.</a:t>
            </a:r>
            <a:br>
              <a:rPr sz="4800"/>
            </a:b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А сейчас проверим, что нового вы узнали.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929040" y="274680"/>
            <a:ext cx="4929120" cy="579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61897"/>
                </a:solidFill>
                <a:latin typeface="Calibri"/>
              </a:rPr>
              <a:t>Назови композитора.</a:t>
            </a:r>
            <a:endParaRPr b="1" lang="en-US" sz="4800" spc="-1" strike="noStrike">
              <a:solidFill>
                <a:srgbClr val="f61897"/>
              </a:solidFill>
              <a:latin typeface="Calibri"/>
            </a:endParaRPr>
          </a:p>
        </p:txBody>
      </p:sp>
      <p:sp>
        <p:nvSpPr>
          <p:cNvPr id="164" name="Дата 2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b0f0"/>
                </a:solidFill>
                <a:latin typeface="Arial"/>
              </a:rPr>
              <a:t>11.4.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сен-санс 2"/>
          <p:cNvPicPr/>
          <p:nvPr/>
        </p:nvPicPr>
        <p:blipFill>
          <a:blip r:embed="rId1"/>
          <a:stretch/>
        </p:blipFill>
        <p:spPr>
          <a:xfrm>
            <a:off x="755640" y="476280"/>
            <a:ext cx="32450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5"/>
          <p:cNvSpPr/>
          <p:nvPr/>
        </p:nvSpPr>
        <p:spPr>
          <a:xfrm>
            <a:off x="2014560" y="1700280"/>
            <a:ext cx="5256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8"/>
          <p:cNvSpPr/>
          <p:nvPr/>
        </p:nvSpPr>
        <p:spPr>
          <a:xfrm>
            <a:off x="2347920" y="2246400"/>
            <a:ext cx="4645080" cy="21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Monotype Corsiva"/>
              </a:rPr>
              <a:t>Голоса каких   животны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5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Monotype Corsiva"/>
              </a:rPr>
              <a:t>вы услышали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9" descr="167"/>
          <p:cNvPicPr/>
          <p:nvPr/>
        </p:nvPicPr>
        <p:blipFill>
          <a:blip r:embed="rId1"/>
          <a:stretch/>
        </p:blipFill>
        <p:spPr>
          <a:xfrm>
            <a:off x="250920" y="260280"/>
            <a:ext cx="1703160" cy="187344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10" descr="360"/>
          <p:cNvPicPr/>
          <p:nvPr/>
        </p:nvPicPr>
        <p:blipFill>
          <a:blip r:embed="rId2"/>
          <a:stretch/>
        </p:blipFill>
        <p:spPr>
          <a:xfrm>
            <a:off x="250920" y="2476440"/>
            <a:ext cx="1446120" cy="190332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940"/>
          <p:cNvPicPr/>
          <p:nvPr/>
        </p:nvPicPr>
        <p:blipFill>
          <a:blip r:embed="rId3"/>
          <a:stretch/>
        </p:blipFill>
        <p:spPr>
          <a:xfrm>
            <a:off x="4788000" y="5216400"/>
            <a:ext cx="2232000" cy="12668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1317"/>
          <p:cNvPicPr/>
          <p:nvPr/>
        </p:nvPicPr>
        <p:blipFill>
          <a:blip r:embed="rId4"/>
          <a:stretch/>
        </p:blipFill>
        <p:spPr>
          <a:xfrm>
            <a:off x="2556000" y="189000"/>
            <a:ext cx="1717560" cy="1728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1709"/>
          <p:cNvPicPr/>
          <p:nvPr/>
        </p:nvPicPr>
        <p:blipFill>
          <a:blip r:embed="rId5"/>
          <a:stretch/>
        </p:blipFill>
        <p:spPr>
          <a:xfrm>
            <a:off x="7020000" y="189000"/>
            <a:ext cx="1871640" cy="183816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4" descr="2360"/>
          <p:cNvPicPr/>
          <p:nvPr/>
        </p:nvPicPr>
        <p:blipFill>
          <a:blip r:embed="rId6"/>
          <a:stretch/>
        </p:blipFill>
        <p:spPr>
          <a:xfrm>
            <a:off x="7020000" y="2492280"/>
            <a:ext cx="1865160" cy="139860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5" descr="2599"/>
          <p:cNvPicPr/>
          <p:nvPr/>
        </p:nvPicPr>
        <p:blipFill>
          <a:blip r:embed="rId7"/>
          <a:stretch/>
        </p:blipFill>
        <p:spPr>
          <a:xfrm>
            <a:off x="4859280" y="260280"/>
            <a:ext cx="1800360" cy="16509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16" descr="3284"/>
          <p:cNvPicPr/>
          <p:nvPr/>
        </p:nvPicPr>
        <p:blipFill>
          <a:blip r:embed="rId8"/>
          <a:stretch/>
        </p:blipFill>
        <p:spPr>
          <a:xfrm>
            <a:off x="2843280" y="4581360"/>
            <a:ext cx="1647720" cy="194472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7" descr="417747"/>
          <p:cNvPicPr/>
          <p:nvPr/>
        </p:nvPicPr>
        <p:blipFill>
          <a:blip r:embed="rId9"/>
          <a:stretch/>
        </p:blipFill>
        <p:spPr>
          <a:xfrm>
            <a:off x="7164360" y="4437000"/>
            <a:ext cx="1663560" cy="213372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1171328010_f"/>
          <p:cNvPicPr/>
          <p:nvPr/>
        </p:nvPicPr>
        <p:blipFill>
          <a:blip r:embed="rId10"/>
          <a:stretch/>
        </p:blipFill>
        <p:spPr>
          <a:xfrm>
            <a:off x="250920" y="4687920"/>
            <a:ext cx="2376360" cy="1782720"/>
          </a:xfrm>
          <a:prstGeom prst="rect">
            <a:avLst/>
          </a:prstGeom>
          <a:ln w="0">
            <a:noFill/>
          </a:ln>
        </p:spPr>
      </p:pic>
      <p:pic>
        <p:nvPicPr>
          <p:cNvPr id="178" name="Финал.mp3" descr=""/>
          <p:cNvPicPr/>
          <p:nvPr/>
        </p:nvPicPr>
        <p:blipFill>
          <a:blip r:embed="rId11"/>
          <a:stretch/>
        </p:blipFill>
        <p:spPr>
          <a:xfrm>
            <a:off x="4429080" y="78588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0640" fill="hold"/>
                                        <p:tgtEl>
                                          <p:spTgt spid="1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Админ</cp:lastModifiedBy>
  <dcterms:modified xsi:type="dcterms:W3CDTF">2020-04-26T18:20:58Z</dcterms:modified>
  <cp:revision>24</cp:revision>
  <dc:subject/>
  <dc:title>                           Тема урока:        «Поход в музыкальный зоопарк»   </dc:title>
</cp:coreProperties>
</file>