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gif" ContentType="image/gif"/>
  <Override PartName="/ppt/media/image23.jpeg" ContentType="image/jpeg"/>
  <Override PartName="/ppt/media/image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A3EC2C-4328-4CE4-B9C5-4A0234A452C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C1A5B7-D4F4-4356-AF58-F5EE03C6772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B10DEFC-0595-4B35-84E8-D0EF47240CA5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89DB-206A-4211-B352-4215DA588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CDD5-4DE2-4E4A-899E-273743EE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F4CF-0ECA-4E23-9BA0-327CF5C32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3D59-997B-4B7B-9B05-C1886E209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B2573-61BE-441A-A10A-3DEEF8C8E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705A3-C683-4519-BFCE-42C89F5BD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DA1B-278F-4D1A-BA12-72B264A1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3CD0-8D4D-4B41-80ED-A77E7D3C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6C11A-BA75-4204-80AB-2C986C2F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7DF24-B27D-4B7B-BF50-4C1B34A86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37D8-088A-41B6-BAA8-AE0CBD6D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EF6A-4C6E-4470-872D-7D24E3657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7E479-FCF7-46E3-80AE-E958C381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BC31B-E530-492B-9C50-43D88C24B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6BA81-170D-4D11-9EC6-0F573D1BF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F90E-5217-4E79-8D52-F29F7F408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14F8-DCD2-47E8-93BF-57A5B44B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202DE7-CC57-4C05-A055-5263701C6E6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F04966-56CE-45F9-95AE-E89C66B15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BFC18-E54C-4352-BC9B-FF255303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56E111-445F-4AF4-9EDE-A32615EB2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3A64EB-A272-43C5-B1BC-9ABF33C62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9FE3-E797-430B-8613-031C69445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A7BC18-D88F-4A2C-8BCC-CFC07E890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A76659-250D-4BB8-BCB1-3B9286B2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B723D2-CC32-4878-8C50-20E6F1E33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C1B25-722F-4465-8F3B-2E02DF38C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E13F13-601F-40BF-931B-9BCACB9EA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FE0F1F-96B6-42D3-80CD-F4CC07F9A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198DD62-C7C0-4B2A-A330-33BB035AA4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1C92-5640-4A6E-84ED-41C208B1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B550-4DD9-46CB-B013-4526954FC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465-596B-4A26-8A32-CBFB7DF1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815F-117D-489D-88E1-A552753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9B0E-00FA-4D9E-A499-493D3F41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17E4-3A6B-4DBD-BF6C-5D04508EB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073DB3E-0F74-4727-A44D-E5DD21163711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D6AE216-4E10-4A59-B036-5CE2E4A66040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A080D8D-2CD2-4D92-B42B-7A4BE307E0FF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1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2008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Поход в музыкальный зоопарк».</a:t>
            </a:r>
            <a:br>
              <a:rPr sz="4400"/>
            </a:br>
            <a:r>
              <a:rPr b="1" lang="ru-RU" sz="4400" spc="-1" strike="noStrike">
                <a:solidFill>
                  <a:srgbClr val="f61897"/>
                </a:solidFill>
                <a:latin typeface="Times New Roman"/>
              </a:rPr>
              <a:t> </a:t>
            </a:r>
            <a:br>
              <a:rPr sz="2700"/>
            </a:br>
            <a:endParaRPr b="1" lang="en-US" sz="44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858920" y="5000760"/>
            <a:ext cx="3529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alibri"/>
              </a:rPr>
              <a:t>Второе занятие.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14840" y="2714760"/>
            <a:ext cx="2714400" cy="180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61897"/>
                </a:solidFill>
                <a:latin typeface="Calibri"/>
              </a:rPr>
              <a:t>Домашнее задание:</a:t>
            </a:r>
            <a:br>
              <a:rPr sz="2800"/>
            </a:br>
            <a:r>
              <a:rPr b="1" lang="ru-RU" sz="2400" spc="-1" strike="noStrike">
                <a:solidFill>
                  <a:srgbClr val="f61897"/>
                </a:solidFill>
                <a:latin typeface="Calibri"/>
              </a:rPr>
              <a:t>Составь рассказ и расскажи родителям.</a:t>
            </a:r>
            <a:br>
              <a:rPr sz="24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«Мой аквариум».</a:t>
            </a:r>
            <a:br>
              <a:rPr sz="4800"/>
            </a:b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85840" y="2205000"/>
            <a:ext cx="857232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днажды, на день  моего рождения……………………………………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Я был (а) очень рад(а) …………………………………………………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коро, в моем аквариуме появились ....................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Рыбки были …………………………………………………………….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Я с удовольствием за ними ухаживал (а)………………………………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Больше всего мне нравилось смотреть, как ...................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днажды, мне приснился удивительный сон ……………………….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Это  было так необыкновенно …………………………………………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4" descr="https://go4.imgsmail.ru/imgpreview?key=38b7ac7174e85efe2dadf2b96607bd1e&amp;mb=webimage_preview_319&amp;w=72&amp;h=72&amp;crop=1"/>
          <p:cNvPicPr/>
          <p:nvPr/>
        </p:nvPicPr>
        <p:blipFill>
          <a:blip r:embed="rId1"/>
          <a:stretch/>
        </p:blipFill>
        <p:spPr>
          <a:xfrm>
            <a:off x="798480" y="692280"/>
            <a:ext cx="125244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60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В заключении послушайте весёлый финал этого произведения.</a:t>
            </a: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Пусть он вам поднимет настроение.</a:t>
            </a:r>
            <a:br>
              <a:rPr sz="4800"/>
            </a:br>
            <a:r>
              <a:rPr b="1" lang="ru-RU" sz="4400" spc="-1" strike="noStrike" u="sng">
                <a:solidFill>
                  <a:srgbClr val="f61897"/>
                </a:solidFill>
                <a:uFillTx/>
                <a:latin typeface="Calibri"/>
              </a:rPr>
              <a:t>https://www.youtube.com/watch?v=dqywaJv8ii0 </a:t>
            </a:r>
            <a:endParaRPr b="1" lang="en-US" sz="44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Здравствуйте ребята!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67920"/>
            <a:ext cx="5483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одолжаем наше путешествие по музыкальному зоопарку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Вопросы на повторение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зови композитора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 какими музыкальными произведениями этого композитора мы знакомились на прошлом занятии?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186600" y="5292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сен-санс 3"/>
          <p:cNvPicPr/>
          <p:nvPr/>
        </p:nvPicPr>
        <p:blipFill>
          <a:blip r:embed="rId2"/>
          <a:stretch/>
        </p:blipFill>
        <p:spPr>
          <a:xfrm>
            <a:off x="5651640" y="1539720"/>
            <a:ext cx="3063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2014560" y="170028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014560" y="2122560"/>
            <a:ext cx="495612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Arial"/>
                <a:ea typeface="DFKai-SB"/>
              </a:rPr>
              <a:t>Сен-Сан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Arial"/>
                <a:ea typeface="DFKai-SB"/>
              </a:rPr>
              <a:t>«Карнавал животных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303640" y="2565360"/>
            <a:ext cx="46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167"/>
          <p:cNvPicPr/>
          <p:nvPr/>
        </p:nvPicPr>
        <p:blipFill>
          <a:blip r:embed="rId1"/>
          <a:stretch/>
        </p:blipFill>
        <p:spPr>
          <a:xfrm>
            <a:off x="361800" y="109440"/>
            <a:ext cx="1392480" cy="153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360"/>
          <p:cNvPicPr/>
          <p:nvPr/>
        </p:nvPicPr>
        <p:blipFill>
          <a:blip r:embed="rId2"/>
          <a:stretch/>
        </p:blipFill>
        <p:spPr>
          <a:xfrm>
            <a:off x="250920" y="2476440"/>
            <a:ext cx="1446120" cy="190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1317"/>
          <p:cNvPicPr/>
          <p:nvPr/>
        </p:nvPicPr>
        <p:blipFill>
          <a:blip r:embed="rId3"/>
          <a:stretch/>
        </p:blipFill>
        <p:spPr>
          <a:xfrm>
            <a:off x="2556000" y="189000"/>
            <a:ext cx="150156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1709"/>
          <p:cNvPicPr/>
          <p:nvPr/>
        </p:nvPicPr>
        <p:blipFill>
          <a:blip r:embed="rId4"/>
          <a:stretch/>
        </p:blipFill>
        <p:spPr>
          <a:xfrm>
            <a:off x="7172280" y="189000"/>
            <a:ext cx="1719360" cy="1689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2599"/>
          <p:cNvPicPr/>
          <p:nvPr/>
        </p:nvPicPr>
        <p:blipFill>
          <a:blip r:embed="rId5"/>
          <a:stretch/>
        </p:blipFill>
        <p:spPr>
          <a:xfrm>
            <a:off x="4716360" y="231840"/>
            <a:ext cx="151308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3284"/>
          <p:cNvPicPr/>
          <p:nvPr/>
        </p:nvPicPr>
        <p:blipFill>
          <a:blip r:embed="rId6"/>
          <a:stretch/>
        </p:blipFill>
        <p:spPr>
          <a:xfrm>
            <a:off x="7172280" y="2341440"/>
            <a:ext cx="1647720" cy="194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417747"/>
          <p:cNvPicPr/>
          <p:nvPr/>
        </p:nvPicPr>
        <p:blipFill>
          <a:blip r:embed="rId7"/>
          <a:stretch/>
        </p:blipFill>
        <p:spPr>
          <a:xfrm>
            <a:off x="6970680" y="4724280"/>
            <a:ext cx="1663560" cy="2133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1171328010_f"/>
          <p:cNvPicPr/>
          <p:nvPr/>
        </p:nvPicPr>
        <p:blipFill>
          <a:blip r:embed="rId8"/>
          <a:stretch/>
        </p:blipFill>
        <p:spPr>
          <a:xfrm>
            <a:off x="250920" y="4930920"/>
            <a:ext cx="20527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Продолжаем наше занятие.</a:t>
            </a: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Отгадай загадку: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28800" y="2060280"/>
            <a:ext cx="79293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Родственник он лошади,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аленького роста,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аупрямится когда,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двинуть, ох, не просто!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https://www.youtube.com/watch?v=G3Wsk8k1bz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4" descr="https://go3.imgsmail.ru/imgpreview?key=2a7c3e5bc2062172829edfa38de1948c&amp;mb=webimage_preview_685&amp;w=72&amp;h=72&amp;crop=1"/>
          <p:cNvPicPr/>
          <p:nvPr/>
        </p:nvPicPr>
        <p:blipFill>
          <a:blip r:embed="rId1"/>
          <a:stretch/>
        </p:blipFill>
        <p:spPr>
          <a:xfrm>
            <a:off x="5834160" y="2492280"/>
            <a:ext cx="3024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417747"/>
          <p:cNvPicPr/>
          <p:nvPr/>
        </p:nvPicPr>
        <p:blipFill>
          <a:blip r:embed="rId1"/>
          <a:stretch/>
        </p:blipFill>
        <p:spPr>
          <a:xfrm>
            <a:off x="5435640" y="333360"/>
            <a:ext cx="2736720" cy="309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1150460176-smp"/>
          <p:cNvPicPr/>
          <p:nvPr/>
        </p:nvPicPr>
        <p:blipFill>
          <a:blip r:embed="rId2"/>
          <a:stretch/>
        </p:blipFill>
        <p:spPr>
          <a:xfrm>
            <a:off x="422280" y="3429000"/>
            <a:ext cx="4221000" cy="3166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468360" y="593640"/>
            <a:ext cx="396072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Arial"/>
              </a:rPr>
              <a:t>Персона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Arial"/>
              </a:rPr>
              <a:t>с длинными ушам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8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219640" y="3860640"/>
            <a:ext cx="34578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, конечно, осел; его крики забавно переданы взвизгиваниями и тянущимися звуками скрип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Следующая загадка: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верь в Австралии живет,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качет радостно вперед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А детишек носит в сумке,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ямо на огромном пузе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https://www.youtube.com/watch?v=CAQrtE3dA-M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78560" y="3141720"/>
            <a:ext cx="3279600" cy="2259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"/>
          <p:cNvPicPr/>
          <p:nvPr/>
        </p:nvPicPr>
        <p:blipFill>
          <a:blip r:embed="rId2"/>
          <a:stretch/>
        </p:blipFill>
        <p:spPr>
          <a:xfrm>
            <a:off x="5460840" y="1730520"/>
            <a:ext cx="339588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Вот и закончилось наше путешествие по музыкальному зоопарку.</a:t>
            </a: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А сейчас проверим, что нового вы узнали.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29040" y="274680"/>
            <a:ext cx="492912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Назови композитора.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сен-санс 2"/>
          <p:cNvPicPr/>
          <p:nvPr/>
        </p:nvPicPr>
        <p:blipFill>
          <a:blip r:embed="rId1"/>
          <a:stretch/>
        </p:blipFill>
        <p:spPr>
          <a:xfrm>
            <a:off x="755640" y="476280"/>
            <a:ext cx="32450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2014560" y="170028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347920" y="2246400"/>
            <a:ext cx="4645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Monotype Corsiva"/>
              </a:rPr>
              <a:t>Голоса каких   живот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Monotype Corsiva"/>
              </a:rPr>
              <a:t>вы услыша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167"/>
          <p:cNvPicPr/>
          <p:nvPr/>
        </p:nvPicPr>
        <p:blipFill>
          <a:blip r:embed="rId1"/>
          <a:stretch/>
        </p:blipFill>
        <p:spPr>
          <a:xfrm>
            <a:off x="250920" y="260280"/>
            <a:ext cx="1703160" cy="187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360"/>
          <p:cNvPicPr/>
          <p:nvPr/>
        </p:nvPicPr>
        <p:blipFill>
          <a:blip r:embed="rId2"/>
          <a:stretch/>
        </p:blipFill>
        <p:spPr>
          <a:xfrm>
            <a:off x="250920" y="2476440"/>
            <a:ext cx="1446120" cy="1903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940"/>
          <p:cNvPicPr/>
          <p:nvPr/>
        </p:nvPicPr>
        <p:blipFill>
          <a:blip r:embed="rId3"/>
          <a:stretch/>
        </p:blipFill>
        <p:spPr>
          <a:xfrm>
            <a:off x="4788000" y="521640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1317"/>
          <p:cNvPicPr/>
          <p:nvPr/>
        </p:nvPicPr>
        <p:blipFill>
          <a:blip r:embed="rId4"/>
          <a:stretch/>
        </p:blipFill>
        <p:spPr>
          <a:xfrm>
            <a:off x="2556000" y="189000"/>
            <a:ext cx="1717560" cy="1728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1709"/>
          <p:cNvPicPr/>
          <p:nvPr/>
        </p:nvPicPr>
        <p:blipFill>
          <a:blip r:embed="rId5"/>
          <a:stretch/>
        </p:blipFill>
        <p:spPr>
          <a:xfrm>
            <a:off x="7020000" y="189000"/>
            <a:ext cx="1871640" cy="1838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2360"/>
          <p:cNvPicPr/>
          <p:nvPr/>
        </p:nvPicPr>
        <p:blipFill>
          <a:blip r:embed="rId6"/>
          <a:stretch/>
        </p:blipFill>
        <p:spPr>
          <a:xfrm>
            <a:off x="7020000" y="2492280"/>
            <a:ext cx="1865160" cy="139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2599"/>
          <p:cNvPicPr/>
          <p:nvPr/>
        </p:nvPicPr>
        <p:blipFill>
          <a:blip r:embed="rId7"/>
          <a:stretch/>
        </p:blipFill>
        <p:spPr>
          <a:xfrm>
            <a:off x="4859280" y="260280"/>
            <a:ext cx="1800360" cy="1650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3284"/>
          <p:cNvPicPr/>
          <p:nvPr/>
        </p:nvPicPr>
        <p:blipFill>
          <a:blip r:embed="rId8"/>
          <a:stretch/>
        </p:blipFill>
        <p:spPr>
          <a:xfrm>
            <a:off x="2843280" y="4581360"/>
            <a:ext cx="1647720" cy="19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417747"/>
          <p:cNvPicPr/>
          <p:nvPr/>
        </p:nvPicPr>
        <p:blipFill>
          <a:blip r:embed="rId9"/>
          <a:stretch/>
        </p:blipFill>
        <p:spPr>
          <a:xfrm>
            <a:off x="7164360" y="4437000"/>
            <a:ext cx="1663560" cy="213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1171328010_f"/>
          <p:cNvPicPr/>
          <p:nvPr/>
        </p:nvPicPr>
        <p:blipFill>
          <a:blip r:embed="rId10"/>
          <a:stretch/>
        </p:blipFill>
        <p:spPr>
          <a:xfrm>
            <a:off x="250920" y="468792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78" name="Финал.mp3" descr=""/>
          <p:cNvPicPr/>
          <p:nvPr/>
        </p:nvPicPr>
        <p:blipFill>
          <a:blip r:embed="rId11"/>
          <a:stretch/>
        </p:blipFill>
        <p:spPr>
          <a:xfrm>
            <a:off x="4429080" y="785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20640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0-04-26T18:20:58Z</dcterms:modified>
  <cp:revision>24</cp:revision>
  <dc:subject/>
  <dc:title>                           Тема урока:        «Поход в музыкальный зоопарк»   </dc:title>
</cp:coreProperties>
</file>