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B09-3436-4367-8927-00C5BFD7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3FE-8E65-4796-90D0-EF83D82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663-D08B-4280-A4CF-8F4847EA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37B-1221-476E-B2ED-4B31DF88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CFF7-8DAD-4BE6-8F93-60EB38F9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D4B-B9A2-49BA-9448-584B124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19D6-27AF-4608-B304-B163653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E37E-8212-41DF-BA3B-51B816B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61E-21A2-44E0-8D13-528931BA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8D3-11A1-4EFA-897D-E1161B3E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BE1-1788-4442-9001-CA8CB98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629-1CD6-47A2-A541-376B778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FC9-85C4-4BB5-91DC-C4B8249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B6D-5011-4BA3-90C2-DA089EA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3FC-C503-4FBD-A6F9-C8119CBB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CAED-ED8C-4B7C-A607-8A453EB7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605-4AC2-4948-817F-76710350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939-EB9B-4F31-A552-F63C29CE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35B-E360-4FF4-ADEC-A3C5AFD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691-4192-43ED-9A24-B29636B0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70C-C7F1-472B-A94E-97D57DA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5E1-537D-4030-A479-79A4937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584-C92F-4EAD-B3CA-A10123F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034-C210-4C59-ABB2-00E20D4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A7B6-F9FC-4712-8B55-612B3F446D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52BF-BA3F-4F2B-B668-CB54E7A5EB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2;&#1088;&#1096;&#1072;&#1083;_&#1057;&#1086;&#1074;&#1077;&#1090;&#1089;&#1082;&#1086;&#1075;&#1086;_&#1057;&#1086;&#1102;&#1079;&#1072;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0808"/>
                </a:solidFill>
                <a:latin typeface="Tahoma"/>
              </a:rPr>
              <a:t>«Парад Победы 1945 года»</a:t>
            </a:r>
            <a:br>
              <a:rPr sz="4400"/>
            </a:br>
            <a:r>
              <a:rPr b="0" lang="ru-RU" sz="2000" spc="-1" strike="noStrike">
                <a:solidFill>
                  <a:srgbClr val="960808"/>
                </a:solidFill>
                <a:latin typeface="Tahoma"/>
              </a:rPr>
              <a:t>Презентация по истории России для учащихся 1-11 кл.</a:t>
            </a:r>
            <a:endParaRPr b="0" lang="en-US" sz="2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89" name="Picture 8" descr="img1"/>
          <p:cNvPicPr/>
          <p:nvPr/>
        </p:nvPicPr>
        <p:blipFill>
          <a:blip r:embed="rId1"/>
          <a:stretch/>
        </p:blipFill>
        <p:spPr>
          <a:xfrm>
            <a:off x="1523880" y="1219320"/>
            <a:ext cx="599436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228600" y="5791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412a"/>
                </a:solidFill>
                <a:latin typeface="Tahoma"/>
              </a:rPr>
              <a:t>Память</a:t>
            </a:r>
            <a:br>
              <a:rPr sz="4000"/>
            </a:b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7" name="Picture 8" descr="1280px-Stamp_1946_1029"/>
          <p:cNvPicPr/>
          <p:nvPr/>
        </p:nvPicPr>
        <p:blipFill>
          <a:blip r:embed="rId1"/>
          <a:stretch/>
        </p:blipFill>
        <p:spPr>
          <a:xfrm>
            <a:off x="685800" y="1066680"/>
            <a:ext cx="426708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280px-Stamp_of_USSR_1028"/>
          <p:cNvPicPr/>
          <p:nvPr/>
        </p:nvPicPr>
        <p:blipFill>
          <a:blip r:embed="rId2"/>
          <a:stretch/>
        </p:blipFill>
        <p:spPr>
          <a:xfrm>
            <a:off x="152280" y="4267080"/>
            <a:ext cx="548640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Парад_Победы_марка_России_1995"/>
          <p:cNvPicPr/>
          <p:nvPr/>
        </p:nvPicPr>
        <p:blipFill>
          <a:blip r:embed="rId3"/>
          <a:stretch/>
        </p:blipFill>
        <p:spPr>
          <a:xfrm>
            <a:off x="5896080" y="762120"/>
            <a:ext cx="3247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5d262bf555b8e08f21029438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V5gixNPwrSQ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7200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412a"/>
                </a:solidFill>
                <a:latin typeface="Castellar"/>
              </a:rPr>
              <a:t>С ПОБЕДОЙ!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2" name="Picture 7" descr="100702921_2564540_1245"/>
          <p:cNvPicPr/>
          <p:nvPr/>
        </p:nvPicPr>
        <p:blipFill>
          <a:blip r:embed="rId1"/>
          <a:stretch/>
        </p:blipFill>
        <p:spPr>
          <a:xfrm>
            <a:off x="0" y="0"/>
            <a:ext cx="9144000" cy="389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640"/>
          <p:cNvPicPr/>
          <p:nvPr/>
        </p:nvPicPr>
        <p:blipFill>
          <a:blip r:embed="rId2"/>
          <a:stretch/>
        </p:blipFill>
        <p:spPr>
          <a:xfrm>
            <a:off x="5105520" y="3825720"/>
            <a:ext cx="40384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d1df"/>
                </a:solidFill>
                <a:latin typeface="Tahoma"/>
              </a:rPr>
              <a:t>Парад Победы принимал                                 </a:t>
            </a:r>
            <a:r>
              <a:rPr b="0" lang="ru-RU" sz="28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Маршал Советского Союза</a:t>
            </a:r>
            <a:r>
              <a:rPr b="0" lang="ru-RU" sz="2800" spc="-1" strike="noStrike">
                <a:solidFill>
                  <a:srgbClr val="d1d1df"/>
                </a:solidFill>
                <a:latin typeface="Tahoma"/>
              </a:rPr>
              <a:t> Г. К. Жуков.</a:t>
            </a:r>
            <a:r>
              <a:rPr b="0" lang="ru-RU" sz="40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5" name="Picture 7" descr="112762733_ZHukov_na_kone_element701342misc26442EB9C1D8493EB5CBA09"/>
          <p:cNvPicPr/>
          <p:nvPr/>
        </p:nvPicPr>
        <p:blipFill>
          <a:blip r:embed="rId2"/>
          <a:stretch/>
        </p:blipFill>
        <p:spPr>
          <a:xfrm>
            <a:off x="4495680" y="3368520"/>
            <a:ext cx="4648320" cy="348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104404922_GKZHukov_1945"/>
          <p:cNvPicPr/>
          <p:nvPr/>
        </p:nvPicPr>
        <p:blipFill>
          <a:blip r:embed="rId3"/>
          <a:stretch/>
        </p:blipFill>
        <p:spPr>
          <a:xfrm>
            <a:off x="0" y="1295280"/>
            <a:ext cx="44956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1df"/>
                </a:solidFill>
                <a:latin typeface="Tahoma"/>
              </a:rPr>
              <a:t>Командовал парадом Маршал Советского Союза К. К. Рокоссовский</a:t>
            </a:r>
            <a:r>
              <a:rPr b="0" lang="ru-RU" sz="4000" spc="-1" strike="noStrike">
                <a:solidFill>
                  <a:srgbClr val="d1d1d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8" name="Picture 7" descr="61225649"/>
          <p:cNvPicPr/>
          <p:nvPr/>
        </p:nvPicPr>
        <p:blipFill>
          <a:blip r:embed="rId1"/>
          <a:stretch/>
        </p:blipFill>
        <p:spPr>
          <a:xfrm>
            <a:off x="5519880" y="1523880"/>
            <a:ext cx="3624120" cy="533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2565024"/>
          <p:cNvPicPr/>
          <p:nvPr/>
        </p:nvPicPr>
        <p:blipFill>
          <a:blip r:embed="rId2"/>
          <a:stretch/>
        </p:blipFill>
        <p:spPr>
          <a:xfrm>
            <a:off x="152280" y="190512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152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1" name="Picture 6" descr="c669810093d6"/>
          <p:cNvPicPr/>
          <p:nvPr/>
        </p:nvPicPr>
        <p:blipFill>
          <a:blip r:embed="rId1"/>
          <a:stretch/>
        </p:blipFill>
        <p:spPr>
          <a:xfrm>
            <a:off x="152280" y="304920"/>
            <a:ext cx="4875480" cy="3089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м по площади прошёл сводный полк барабанщиков-суворовцев, за ним шли сводные полки фронтов (в порядке их расположения на театре военных действий — с севера на юг): Карельского, Ленинградского, 1-го Прибалтийского , 3-го, 2-го и 1-го Белорусских, 1-го, 2-го, 3-го и 4-го Украинских, сводный полк Военно-Морского Флота. В составе полка 1-го Белорусского фронта особой колонной прошли представители Войска Польского. Впереди сводных полков фронтов шли командующие фронтами и армиями, Герои Советского Союза несли знамёна прославленных частей и соединений. Для каждого сводного полка оркестр исполнял особый марш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9" descr="28878377"/>
          <p:cNvPicPr/>
          <p:nvPr/>
        </p:nvPicPr>
        <p:blipFill>
          <a:blip r:embed="rId2"/>
          <a:stretch/>
        </p:blipFill>
        <p:spPr>
          <a:xfrm>
            <a:off x="533520" y="3581280"/>
            <a:ext cx="44193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ш сводных полков завершала колонна солдат, нёсших 200 опущенных знамён и штандартов разгромленных немецких войск. Эти знамёна под дробь барабанов были брошены на специальный помост у подножия Мавзолея Ленина. Первым был брошен Фёдором Легкошкуром лейбштандарт LSSAH — батальона СС личной охраны Гитл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2973437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175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ие немецких з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ён 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ренно пр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лось в пер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ках, ч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 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черкну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вращение к 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битому в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у. После 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да пер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ки и деревянный 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ст были 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жественно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же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pobeda_4"/>
          <p:cNvPicPr/>
          <p:nvPr/>
        </p:nvPicPr>
        <p:blipFill>
          <a:blip r:embed="rId1"/>
          <a:stretch/>
        </p:blipFill>
        <p:spPr>
          <a:xfrm>
            <a:off x="1447920" y="2362320"/>
            <a:ext cx="640080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1" name="Picture 7" descr="IMG_4043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личному приказу И. В. Сталина на его кителе был пронесён служебный пёс-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ёр Джуль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с, обнаруживший более 7 тысяч мин и 150 снарядов, раненый незадолго до окончания вой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-360"/>
            <a:ext cx="84582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 торжественным 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шем прошли част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ковского 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низона: сводный полк Наркомата обороны, 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нной а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мии, 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нные и су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вские учили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ная 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ная бри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тиллерийские, 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механизированные, 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ушно-десантные и 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ковые ч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 и 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азд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6D0C0101-C3A8-477F-B9AF-F9F7FC64BB72_w974_n_s"/>
          <p:cNvPicPr/>
          <p:nvPr/>
        </p:nvPicPr>
        <p:blipFill>
          <a:blip r:embed="rId1"/>
          <a:stretch/>
        </p:blipFill>
        <p:spPr>
          <a:xfrm>
            <a:off x="380880" y="2438280"/>
            <a:ext cx="83059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16:56:33Z</dcterms:created>
  <dc:creator>Пользователь</dc:creator>
  <dc:description/>
  <dc:language>en-US</dc:language>
  <cp:lastModifiedBy>Natasha</cp:lastModifiedBy>
  <dcterms:modified xsi:type="dcterms:W3CDTF">2020-04-29T10:29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