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C18E-FED2-4308-A026-62781E18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C7A-E66C-4960-8126-98EC4802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D772-3A9C-4184-A1C3-DFED5126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35E2-F8BF-412E-84FE-42574EE2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E9BE-DFBE-417C-A70D-3D613617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3373-94DA-4DB8-9564-79E7C28B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81F2-73A5-48A1-810E-0634B71B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37B4-1984-4EA9-8051-5C789E35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6941-1A62-4070-9E5C-CCEE6536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11CE-ADD5-4584-9A3A-C7C01111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C758-93D2-4376-AE66-4B2FB0B4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83F0-A3B7-46D2-AF0E-FF6D2F07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9C5A-8937-4562-BF28-E5412D8079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hyperlink" Target="http://www.70mb.ru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hyperlink" Target="http://www.1gb.ru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hyperlink" Target="http://guru-host.ru/free_hosting.php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hyperlink" Target="http://www.ascont.ru/constructor-and-hosting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676440" y="633240"/>
            <a:ext cx="7748280" cy="3249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8504280" cy="5502600"/>
          </a:xfrm>
          <a:prstGeom prst="rect">
            <a:avLst/>
          </a:prstGeom>
          <a:ln w="0">
            <a:noFill/>
          </a:ln>
        </p:spPr>
      </p:pic>
      <p:sp>
        <p:nvSpPr>
          <p:cNvPr id="141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4360" y="765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70mb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айт «Бесплатный хостин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351640" cy="459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611280" y="90792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1gb.ru/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йт платный хостинг «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501480" y="2205000"/>
            <a:ext cx="8391600" cy="39592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684360" y="98100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guru-host.ru/free_hosting.php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йт «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uru-host.ru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282160" cy="4689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539640" y="76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ascont.ru/constructor-and-hostin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йт платн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стинг «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CON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Что выбр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68360" y="765000"/>
            <a:ext cx="8424720" cy="35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атным хостингом пользуются крупные компании. Они получают удобное для прочтения и запоминания доменное имя второго уровня, которое может совпадать с названием компа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астные лица и небольшие компании пользуются бесплатным хостингом. Ограничения: небольшое дисковое пространство, ограничение размера отдельного файла, доменное имя только третьего уровня и т. д. Главный недостаток -  на страницы вашего сайта без вашего согласия добавляется коммерческая рекл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http://gbook.ru/sites/default/files/imagecache/body/11.jpg"/>
          <p:cNvPicPr/>
          <p:nvPr/>
        </p:nvPicPr>
        <p:blipFill>
          <a:blip r:embed="rId2"/>
          <a:stretch/>
        </p:blipFill>
        <p:spPr>
          <a:xfrm>
            <a:off x="5572080" y="4143240"/>
            <a:ext cx="2857680" cy="2352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4"/>
          <p:cNvSpPr/>
          <p:nvPr/>
        </p:nvSpPr>
        <p:spPr>
          <a:xfrm>
            <a:off x="500040" y="4429080"/>
            <a:ext cx="48578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серверов, предоставляющих бесплатный хостинг, можно получить поиском по запросу «бесплатный хостинг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68360" y="1700280"/>
            <a:ext cx="352728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особы создания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5003640" y="981000"/>
            <a:ext cx="3673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зык разм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пертекст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003640" y="1773360"/>
            <a:ext cx="3673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кстовый ред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oft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003640" y="2565360"/>
            <a:ext cx="3673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ML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дакто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руктор сай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H="1">
            <a:off x="3995640" y="1989000"/>
            <a:ext cx="10080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H="1">
            <a:off x="3995640" y="1341360"/>
            <a:ext cx="936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 flipH="1" flipV="1">
            <a:off x="3995640" y="2133360"/>
            <a:ext cx="100800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539640" y="3284640"/>
            <a:ext cx="8280360" cy="76428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воначально следует продумать содержание и структуру сай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539640" y="5589720"/>
            <a:ext cx="8282160" cy="76428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д размещением сайта в сети Интернет следует провести его тестиров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539640" y="4292640"/>
            <a:ext cx="8280360" cy="109944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наполнении страниц сайта информационными материалами следует придерживаться определённых рекоменд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ехнология создания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468360" y="2833560"/>
            <a:ext cx="295128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Язык размет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ипертекс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Hyper Text Markup Languag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3635280" y="2833560"/>
            <a:ext cx="216216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ов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дакт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6156360" y="2833560"/>
            <a:ext cx="273672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зу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ML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дактор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структор сай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1"/>
          <p:cNvSpPr/>
          <p:nvPr/>
        </p:nvSpPr>
        <p:spPr>
          <a:xfrm>
            <a:off x="611280" y="4562640"/>
            <a:ext cx="259236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 размеча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альны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ками – тег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2"/>
          <p:cNvSpPr/>
          <p:nvPr/>
        </p:nvSpPr>
        <p:spPr>
          <a:xfrm>
            <a:off x="3421080" y="4562640"/>
            <a:ext cx="259236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умен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храняют ка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иц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3"/>
          <p:cNvSpPr/>
          <p:nvPr/>
        </p:nvSpPr>
        <p:spPr>
          <a:xfrm>
            <a:off x="6227640" y="4562640"/>
            <a:ext cx="273708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Microsoft FrontP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uCoz, Сайткрафт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 flipH="1">
            <a:off x="2700000" y="2112840"/>
            <a:ext cx="1871640" cy="64944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6"/>
          <p:cNvSpPr/>
          <p:nvPr/>
        </p:nvSpPr>
        <p:spPr>
          <a:xfrm>
            <a:off x="4716360" y="2112840"/>
            <a:ext cx="0" cy="72072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7"/>
          <p:cNvSpPr/>
          <p:nvPr/>
        </p:nvSpPr>
        <p:spPr>
          <a:xfrm>
            <a:off x="4932360" y="2112840"/>
            <a:ext cx="1800360" cy="72072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8"/>
          <p:cNvSpPr/>
          <p:nvPr/>
        </p:nvSpPr>
        <p:spPr>
          <a:xfrm>
            <a:off x="1835280" y="398628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4643280" y="398628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7451640" y="398628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835280" y="1465200"/>
            <a:ext cx="5689440" cy="64764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собы создания сай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зда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4357800" y="1357200"/>
            <a:ext cx="4317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eb-дизайнер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алист, проектирующий структуру Web-сайта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бирающий способы подачи информации и выполняющий художественное оформление Web-прое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legonko.ru/wp-content/uploads/2010/08/web-design.jpg"/>
          <p:cNvPicPr/>
          <p:nvPr/>
        </p:nvPicPr>
        <p:blipFill>
          <a:blip r:embed="rId2"/>
          <a:stretch/>
        </p:blipFill>
        <p:spPr>
          <a:xfrm>
            <a:off x="571680" y="9288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928800" y="3714840"/>
            <a:ext cx="792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дим сайт школьного творческого объединения «Компьютерная графика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4 правила, которые должен помнить web дизайнер"/>
          <p:cNvPicPr/>
          <p:nvPr/>
        </p:nvPicPr>
        <p:blipFill>
          <a:blip r:embed="rId3"/>
          <a:stretch/>
        </p:blipFill>
        <p:spPr>
          <a:xfrm>
            <a:off x="5286240" y="4162320"/>
            <a:ext cx="3191040" cy="2695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держание и структура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39640" y="765000"/>
            <a:ext cx="835344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держание с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олжно отражать творческую жизнь участников объединения, привлекать внимание единомышлен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539640" y="1700280"/>
            <a:ext cx="835344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план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разбиение общего содержания на смысловые разделы и отдельные страницы с указанием связей между ни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54144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ст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262908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ере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471816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6805440" y="3862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з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сыл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1476360" y="4654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1476360" y="544680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то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>
            <a:off x="1476360" y="6238800"/>
            <a:ext cx="1800360" cy="43200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н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5"/>
          <p:cNvSpPr/>
          <p:nvPr/>
        </p:nvSpPr>
        <p:spPr>
          <a:xfrm>
            <a:off x="5724360" y="4654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6"/>
          <p:cNvSpPr/>
          <p:nvPr/>
        </p:nvSpPr>
        <p:spPr>
          <a:xfrm>
            <a:off x="5724360" y="5519880"/>
            <a:ext cx="1800360" cy="50148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7"/>
          <p:cNvSpPr/>
          <p:nvPr/>
        </p:nvSpPr>
        <p:spPr>
          <a:xfrm>
            <a:off x="5724360" y="6238800"/>
            <a:ext cx="1800360" cy="43200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1476360" y="3646440"/>
            <a:ext cx="612144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>
            <a:off x="147636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349236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1"/>
          <p:cNvSpPr/>
          <p:nvPr/>
        </p:nvSpPr>
        <p:spPr>
          <a:xfrm>
            <a:off x="565308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2"/>
          <p:cNvSpPr/>
          <p:nvPr/>
        </p:nvSpPr>
        <p:spPr>
          <a:xfrm>
            <a:off x="759780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>
            <a:off x="4573440" y="3430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4"/>
          <p:cNvSpPr/>
          <p:nvPr/>
        </p:nvSpPr>
        <p:spPr>
          <a:xfrm>
            <a:off x="3997440" y="4510080"/>
            <a:ext cx="0" cy="20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5005440" y="4510080"/>
            <a:ext cx="0" cy="20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3276720" y="3141720"/>
            <a:ext cx="2520720" cy="35856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ая стра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6"/>
          <p:cNvSpPr/>
          <p:nvPr/>
        </p:nvSpPr>
        <p:spPr>
          <a:xfrm flipH="1">
            <a:off x="3276720" y="494172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7"/>
          <p:cNvSpPr/>
          <p:nvPr/>
        </p:nvSpPr>
        <p:spPr>
          <a:xfrm flipH="1">
            <a:off x="3276720" y="566244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8"/>
          <p:cNvSpPr/>
          <p:nvPr/>
        </p:nvSpPr>
        <p:spPr>
          <a:xfrm flipH="1">
            <a:off x="3276720" y="652608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9"/>
          <p:cNvSpPr/>
          <p:nvPr/>
        </p:nvSpPr>
        <p:spPr>
          <a:xfrm flipH="1">
            <a:off x="5005440" y="494172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0"/>
          <p:cNvSpPr/>
          <p:nvPr/>
        </p:nvSpPr>
        <p:spPr>
          <a:xfrm flipH="1">
            <a:off x="5005440" y="566244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1"/>
          <p:cNvSpPr/>
          <p:nvPr/>
        </p:nvSpPr>
        <p:spPr>
          <a:xfrm flipH="1">
            <a:off x="5005440" y="652608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2"/>
          <p:cNvSpPr/>
          <p:nvPr/>
        </p:nvSpPr>
        <p:spPr>
          <a:xfrm>
            <a:off x="1547640" y="2637000"/>
            <a:ext cx="59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ab4"/>
                </a:solidFill>
                <a:latin typeface="Arial"/>
              </a:rPr>
              <a:t>Иерархическая структура сай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9640" y="62064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главной странице размещают название сайта, тематическое графическое изображение, короткий текст с описанием содержания сайта, главное меню - ссылки на основные разделы сай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6408720" cy="4397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2050920" y="2143080"/>
            <a:ext cx="5786640" cy="4714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94" name="Picture 11" descr=""/>
          <p:cNvPicPr/>
          <p:nvPr/>
        </p:nvPicPr>
        <p:blipFill>
          <a:blip r:embed="rId4"/>
          <a:stretch/>
        </p:blipFill>
        <p:spPr>
          <a:xfrm>
            <a:off x="1403280" y="2133720"/>
            <a:ext cx="6962760" cy="45147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39640" y="620640"/>
            <a:ext cx="820908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ая страница сайта, как правило, имеет несколько постоянных элементов, которые всегда находятся на одних и тех же местах. Эт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68360" y="1557360"/>
            <a:ext cx="820908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1904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головок сайта, расположенный в самом верх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иц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лавное меню, как правило, размещаемое в левой ч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иц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771640" y="3068640"/>
            <a:ext cx="5616720" cy="3168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987640" y="3213000"/>
            <a:ext cx="525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4714920" y="3284640"/>
            <a:ext cx="3384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4282920" y="3932280"/>
            <a:ext cx="396108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5435640" y="4005360"/>
            <a:ext cx="2663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356000" y="5013360"/>
            <a:ext cx="36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ле ввода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4859280" y="5877000"/>
            <a:ext cx="2879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2843280" y="407664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2843280" y="436392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2843280" y="465300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898560" y="299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898560" y="378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898560" y="4581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755640" y="5373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ордин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3"/>
          <p:cNvSpPr/>
          <p:nvPr/>
        </p:nvSpPr>
        <p:spPr>
          <a:xfrm>
            <a:off x="2266920" y="3213000"/>
            <a:ext cx="1081080" cy="28728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4"/>
          <p:cNvSpPr/>
          <p:nvPr/>
        </p:nvSpPr>
        <p:spPr>
          <a:xfrm>
            <a:off x="2411280" y="4005360"/>
            <a:ext cx="863640" cy="21564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2195640" y="4940280"/>
            <a:ext cx="1079280" cy="43344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2411280" y="5516640"/>
            <a:ext cx="2592360" cy="50472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2843280" y="494028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2771640" y="6461280"/>
            <a:ext cx="55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ный шаблон страниц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2195640" y="1844640"/>
            <a:ext cx="662292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тавьте точку в названиях сайта и страниц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ни состоят из одного предло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2195640" y="2637000"/>
            <a:ext cx="6622920" cy="57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я пунктов меню делайте кратк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2195640" y="3357720"/>
            <a:ext cx="6622920" cy="502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ыбирайте для страниц пёстрый ф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2195640" y="4005360"/>
            <a:ext cx="6622920" cy="79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размещайте на странице слишком 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ых и художественных бло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2195640" y="4941720"/>
            <a:ext cx="662292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ишите слишком длинных текс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2195640" y="5661000"/>
            <a:ext cx="6624360" cy="720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ждом абзаце использ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и и  те же приёмы форматир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1187280" y="220500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1187280" y="292428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>
            <a:off x="1187280" y="357336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7"/>
          <p:cNvSpPr/>
          <p:nvPr/>
        </p:nvSpPr>
        <p:spPr>
          <a:xfrm>
            <a:off x="1187280" y="436572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1187280" y="522936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1187280" y="609300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0"/>
          <p:cNvSpPr/>
          <p:nvPr/>
        </p:nvSpPr>
        <p:spPr>
          <a:xfrm>
            <a:off x="900000" y="836640"/>
            <a:ext cx="7848720" cy="79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комендации при наполнении страниц сай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онными материал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1187280" y="1628640"/>
            <a:ext cx="0" cy="4464360"/>
          </a:xfrm>
          <a:prstGeom prst="line">
            <a:avLst/>
          </a:prstGeom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естирова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68360" y="765000"/>
            <a:ext cx="8424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естирование сайт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проверка того, что сайт правильно отображается разными браузерам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ы хорошо читаются на выбранном фон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исунки расположены на своих местах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иперссылки обеспечивают правильные перех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стирование проводят перед размещением сайта в сети Интер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http://developerguru.net/wp-content/uploads/2010/08/browsers2.jpg"/>
          <p:cNvPicPr/>
          <p:nvPr/>
        </p:nvPicPr>
        <p:blipFill>
          <a:blip r:embed="rId2"/>
          <a:stretch/>
        </p:blipFill>
        <p:spPr>
          <a:xfrm>
            <a:off x="4643280" y="3786120"/>
            <a:ext cx="4000680" cy="2714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http://www.ligaprint.ru/resources/images/1%20test.jpg"/>
          <p:cNvPicPr/>
          <p:nvPr/>
        </p:nvPicPr>
        <p:blipFill>
          <a:blip r:embed="rId3"/>
          <a:stretch/>
        </p:blipFill>
        <p:spPr>
          <a:xfrm>
            <a:off x="928800" y="3929040"/>
            <a:ext cx="3344760" cy="2508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428760" y="10000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Хостинг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услуга по размещению сайта на сервере, постоянно находящемся в сети Интернет; хостинг может быть как платным, так и бесплатны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http://seoart.com.ua/images/Hosting.jpg"/>
          <p:cNvPicPr/>
          <p:nvPr/>
        </p:nvPicPr>
        <p:blipFill>
          <a:blip r:embed="rId2"/>
          <a:stretch/>
        </p:blipFill>
        <p:spPr>
          <a:xfrm>
            <a:off x="2706840" y="2567160"/>
            <a:ext cx="3870000" cy="338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Ирина</cp:lastModifiedBy>
  <dcterms:modified xsi:type="dcterms:W3CDTF">2020-05-02T15:30:55Z</dcterms:modified>
  <cp:revision>120</cp:revision>
  <dc:subject/>
  <dc:title>Презентация PowerPoint</dc:title>
</cp:coreProperties>
</file>