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897-C647-4524-A1C6-5080F8D5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892-A713-4669-B040-BE5B8D12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E33-41F0-4DD1-9CA7-E1708219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946-5E47-4FDF-9A89-20E0D4C7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DCF-ABD1-4819-9378-C2E16482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568-7D61-4B5D-A835-8EAF4418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328-1395-4291-94AB-BD287DA3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1B1-D17A-474E-A847-B57D2E55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4CA-46EA-48AE-8C23-884FE973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E80-A33C-4CD7-BD61-B23CEBA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D4A-EA5C-47D8-A084-F6722AD8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1D6-5F60-4704-AB98-3C998892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620-1841-4CDF-87EA-26C50A410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633240"/>
            <a:ext cx="7748280" cy="32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ина</cp:lastModifiedBy>
  <dcterms:modified xsi:type="dcterms:W3CDTF">2020-05-02T15:30:55Z</dcterms:modified>
  <cp:revision>120</cp:revision>
  <dc:subject/>
  <dc:title>Презентация PowerPoint</dc:title>
</cp:coreProperties>
</file>