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4B67-CB4A-4664-AB81-3106A32C6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268A-BC61-405A-884F-6F5091DF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7734-211E-4729-AFDD-400E3656A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786B-1B30-429D-B36F-5B696D2D3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ECA0-605B-44C5-A890-7B441D067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C9162-517B-4556-9A43-BC6AEF53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FD193-4B71-49BD-9DAA-7048EF01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E1A1-C919-491B-A32D-315901B6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9543-3C96-496F-BE51-30778038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976F-3460-4F19-9E4F-A491F767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069B-526B-417B-B2BB-20EA94E6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4A4D-1432-4250-AABF-05F7FB73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68CD5-4EBC-4AF6-AFE8-606469B9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3A4B6-A93F-41AE-B250-49456391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6CAF-6F5E-46AD-BB08-282A0590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CA8D-0555-4AE2-97E3-D7F92FC12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24DC-902D-47F1-AA56-FC7480B49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D694-AFB6-4625-9B2E-878DE7F2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AB9E-CED6-4C13-8EA2-621C393E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DD4F-607E-426D-BC78-D8E10344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29F2-F17B-4861-9B09-34D4669F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9BF7-8BA5-4AD4-9FDB-8FB1CD6D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F2AA-D93F-42A6-B3B7-71ED189A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E8CC-48B5-4C34-95F4-B8B20438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912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652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656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855B-5FD0-4D5A-92E9-ED1CD78DD57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0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080"/>
              <a:ext cx="1203120" cy="68565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1600"/>
                <a:chOff x="8381880" y="360"/>
                <a:chExt cx="762120" cy="227160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360"/>
                  <a:ext cx="279360" cy="275400"/>
                  <a:chOff x="870732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360"/>
                    <a:ext cx="279360" cy="275400"/>
                    <a:chOff x="870732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852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custGeom>
                      <a:avLst/>
                      <a:gdLst>
                        <a:gd name="textAreaLeft" fmla="*/ 0 w 141120"/>
                        <a:gd name="textAreaRight" fmla="*/ 141480 w 14112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306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0560"/>
                    <a:ext cx="42480" cy="5724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79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76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296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812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96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96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4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9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920"/>
                <a:ext cx="828720" cy="4708800"/>
                <a:chOff x="7848720" y="1600920"/>
                <a:chExt cx="828720" cy="47088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09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960"/>
              <a:ext cx="1190520" cy="193932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9320"/>
                <a:gd name="textAreaBottom" fmla="*/ 1939680 h 193932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200"/>
              <a:ext cx="1219320" cy="199944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9440"/>
                <a:gd name="textAreaBottom" fmla="*/ 1999800 h 199944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8440"/>
              <a:ext cx="1231920" cy="403596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5960"/>
                <a:gd name="textAreaBottom" fmla="*/ 4035960 h 403596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800"/>
              <a:ext cx="979560" cy="218376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3760"/>
                <a:gd name="textAreaBottom" fmla="*/ 2184120 h 218376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8040"/>
              <a:ext cx="914400" cy="504720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7200"/>
                <a:gd name="textAreaBottom" fmla="*/ 5047560 h 504720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3160"/>
              <a:ext cx="909720" cy="30708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0800"/>
                <a:gd name="textAreaBottom" fmla="*/ 3071160 h 307080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080"/>
              <a:ext cx="576360" cy="335196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1960"/>
                <a:gd name="textAreaBottom" fmla="*/ 3352320 h 335196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2520"/>
              <a:ext cx="300240" cy="335232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2320"/>
                <a:gd name="textAreaBottom" fmla="*/ 3352680 h 335232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2520"/>
              <a:ext cx="8892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4680" y="3316680"/>
              <a:ext cx="6856560" cy="225360"/>
            </a:xfrm>
            <a:custGeom>
              <a:avLst/>
              <a:gdLst>
                <a:gd name="textAreaLeft" fmla="*/ 668160 w 6856560"/>
                <a:gd name="textAreaRight" fmla="*/ 6188400 w 68565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E3C4-75E1-48CE-BF41-FB39E7F818AF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9"/>
          <p:cNvSpPr/>
          <p:nvPr/>
        </p:nvSpPr>
        <p:spPr>
          <a:xfrm>
            <a:off x="468360" y="2800440"/>
            <a:ext cx="619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324000" y="2911320"/>
            <a:ext cx="756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спользование интерактивного пособия «Лэпбук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уроках бурятской литературы  в начальной школ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2916360" y="4729320"/>
            <a:ext cx="475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Calibri"/>
              </a:rPr>
              <a:t>Олзобоева Оксана Борисовн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Calibri"/>
              </a:rPr>
              <a:t>учитель начальных классов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Calibri"/>
              </a:rPr>
              <a:t>МБОУ </a:t>
            </a:r>
            <a:r>
              <a:rPr b="0" lang="ru-RU" sz="2000" spc="-1" strike="noStrike">
                <a:solidFill>
                  <a:srgbClr val="2f1311"/>
                </a:solidFill>
                <a:latin typeface="Calibri"/>
                <a:ea typeface="Calibri"/>
              </a:rPr>
              <a:t>«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Calibri"/>
              </a:rPr>
              <a:t>Боргойская СОШ</a:t>
            </a:r>
            <a:r>
              <a:rPr b="0" lang="ru-RU" sz="2000" spc="-1" strike="noStrike">
                <a:solidFill>
                  <a:srgbClr val="2f1311"/>
                </a:solidFill>
                <a:latin typeface="Calibri"/>
                <a:ea typeface="Calibri"/>
              </a:rPr>
              <a:t>»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Calibri"/>
              </a:rPr>
              <a:t>РБ, Джидинский район, у. Боргой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5" name="Picture 11" descr="Открыть изображение"/>
          <p:cNvPicPr/>
          <p:nvPr/>
        </p:nvPicPr>
        <p:blipFill>
          <a:blip r:embed="rId1"/>
          <a:stretch/>
        </p:blipFill>
        <p:spPr>
          <a:xfrm>
            <a:off x="250920" y="2602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1"/>
          <p:cNvSpPr/>
          <p:nvPr/>
        </p:nvSpPr>
        <p:spPr>
          <a:xfrm>
            <a:off x="468360" y="260280"/>
            <a:ext cx="7199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эпбук – это не просто метод, помогающий закрепить и отработать полученные знания на уроке, это полет фантазии, который может дать непредсказуемые результаты, это исследование, которые однажды начавшись, будет продолжаться всю жизнь, ведь если посеять в ребенке «зерно» открытия и исследования, оно будет расти и увеличиваться. Исходя из наставлений В.А. Сухомлинского, что «чтение…не сводится к умению читать, этим умением оно только начинается», учитель должен стремиться не к чтению ради чтения, а к чтению, как самостоятельной деятельности ребенка в мире книг, с которого и начинается образование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"/>
          <p:cNvSpPr/>
          <p:nvPr/>
        </p:nvSpPr>
        <p:spPr>
          <a:xfrm>
            <a:off x="3276720" y="196560"/>
            <a:ext cx="446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кажи мне, я забываю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кажи мне, я могу запомнить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зволь мне сделать это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 это станет моим навсегд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(Китайская пословица</a:t>
            </a:r>
            <a:r>
              <a:rPr b="0" i="1" lang="ru-RU" sz="1200" spc="-1" strike="noStrike">
                <a:solidFill>
                  <a:srgbClr val="002060"/>
                </a:solidFill>
                <a:latin typeface="Calibri"/>
                <a:ea typeface="Times New Roman"/>
              </a:rPr>
              <a:t>)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Picture 3" descr="Открыть изображение"/>
          <p:cNvPicPr/>
          <p:nvPr/>
        </p:nvPicPr>
        <p:blipFill>
          <a:blip r:embed="rId1"/>
          <a:stretch/>
        </p:blipFill>
        <p:spPr>
          <a:xfrm>
            <a:off x="611280" y="2565360"/>
            <a:ext cx="4321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1"/>
          <p:cNvSpPr/>
          <p:nvPr/>
        </p:nvSpPr>
        <p:spPr>
          <a:xfrm>
            <a:off x="250920" y="333360"/>
            <a:ext cx="72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Актуальность проекта: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Время не стоит на месте, наше </a:t>
            </a: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современное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 общество требует новой системы </a:t>
            </a: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образования - </a:t>
            </a:r>
            <a:r>
              <a:rPr b="0" i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«</a:t>
            </a:r>
            <a:r>
              <a:rPr b="1" i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инновационного обучения</a:t>
            </a:r>
            <a:r>
              <a:rPr b="0" i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»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. Важным аспектом современного Российского образования является «научить учиться самому»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900000" y="2997360"/>
            <a:ext cx="568980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1"/>
          <p:cNvSpPr/>
          <p:nvPr/>
        </p:nvSpPr>
        <p:spPr>
          <a:xfrm>
            <a:off x="539640" y="336600"/>
            <a:ext cx="6985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расширить знания учащихся по бурятской литератур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Задачи:  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ознакомиться с лэпбуком, как объектом накопления и систематизации различной информации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-познакомиться с макетами разнообразных лэпбуков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-обозначить круг интересующих вопросов для изготовления лэпбука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-разработать макет и распределить направления работы по группам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-обобщить полученные знания;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-оформить лэпбук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3"/>
          <p:cNvSpPr/>
          <p:nvPr/>
        </p:nvSpPr>
        <p:spPr>
          <a:xfrm>
            <a:off x="179280" y="260280"/>
            <a:ext cx="756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Лэпбук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 – это интерактивная тематическая папка, где для представления материала используются вращающиеся и высовывающиеся элементы, кармашки, окошки, конверты, чистые листочки для заметок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4140360" y="4005360"/>
            <a:ext cx="3609720" cy="23144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"/>
          <p:cNvPicPr/>
          <p:nvPr/>
        </p:nvPicPr>
        <p:blipFill>
          <a:blip r:embed="rId2"/>
          <a:stretch/>
        </p:blipFill>
        <p:spPr>
          <a:xfrm>
            <a:off x="395280" y="2133720"/>
            <a:ext cx="35481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"/>
          <p:cNvSpPr/>
          <p:nvPr/>
        </p:nvSpPr>
        <p:spPr>
          <a:xfrm>
            <a:off x="0" y="416520"/>
            <a:ext cx="781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Главная ценность </a:t>
            </a:r>
            <a:r>
              <a:rPr b="0" i="1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</a:t>
            </a:r>
            <a:r>
              <a:rPr b="1" i="1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Лэпбука</a:t>
            </a:r>
            <a:r>
              <a:rPr b="0" i="1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»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информативен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прочен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эстетичен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вариативен 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доступен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пригоден к использованию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395280" y="3284640"/>
            <a:ext cx="71010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"/>
          <p:cNvSpPr/>
          <p:nvPr/>
        </p:nvSpPr>
        <p:spPr>
          <a:xfrm>
            <a:off x="324000" y="187200"/>
            <a:ext cx="734364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я интерактивное пособие лэпбук на уроках бурятской литературы в начальной школе можно выделить положительные стороны этой технологии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разных форм организации деятельности учащихся (индивидуальной, парной или групповой работа)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ая работа с родителям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чная работ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ие задания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ход в обучении (индивидуальный, дифференцируемый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539640" y="3500280"/>
            <a:ext cx="2881440" cy="2808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"/>
          <p:cNvPicPr/>
          <p:nvPr/>
        </p:nvPicPr>
        <p:blipFill>
          <a:blip r:embed="rId2"/>
          <a:stretch/>
        </p:blipFill>
        <p:spPr>
          <a:xfrm>
            <a:off x="4067280" y="3429000"/>
            <a:ext cx="3313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"/>
          <p:cNvSpPr/>
          <p:nvPr/>
        </p:nvSpPr>
        <p:spPr>
          <a:xfrm>
            <a:off x="179280" y="304560"/>
            <a:ext cx="7236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вая системность работы с книгой, используя технологию «Лэпбук», мы имеем возможность наблюдать, что уровень готовности у детей к самостоятельному чтению и отношение к нему неизмеримо повышается. По результатам мониторинга было выявлено, что работа по изготовлению и применению на уроках лэпбука очень нравится детям. Повысился читательский интерес, улучшились показатели по смысловому чтению и технике чтения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79280" y="3500280"/>
            <a:ext cx="3668760" cy="2205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Открыть изображение"/>
          <p:cNvPicPr/>
          <p:nvPr/>
        </p:nvPicPr>
        <p:blipFill>
          <a:blip r:embed="rId2"/>
          <a:stretch/>
        </p:blipFill>
        <p:spPr>
          <a:xfrm>
            <a:off x="4500720" y="3357720"/>
            <a:ext cx="2879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5219640" cy="2808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"/>
          <p:cNvPicPr/>
          <p:nvPr/>
        </p:nvPicPr>
        <p:blipFill>
          <a:blip r:embed="rId2"/>
          <a:stretch/>
        </p:blipFill>
        <p:spPr>
          <a:xfrm>
            <a:off x="179280" y="328464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4:29:28Z</dcterms:created>
  <dc:creator>alena</dc:creator>
  <dc:description/>
  <dc:language>en-US</dc:language>
  <cp:lastModifiedBy>Admin</cp:lastModifiedBy>
  <dcterms:modified xsi:type="dcterms:W3CDTF">2020-03-03T17:47:45Z</dcterms:modified>
  <cp:revision>17</cp:revision>
  <dc:subject/>
  <dc:title>Слайд 1</dc:title>
</cp:coreProperties>
</file>