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03A-3F89-4E39-830E-9BD6EA16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E65-0733-4877-AFED-1F1027B1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481-708B-444A-83C4-F4151324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4F3-CE83-4D52-A0FF-6D1DB377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2E87-8AD8-461B-8891-424851C1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DF81-2E16-4374-87F6-1CC48F51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C10E-EED3-46C9-9744-A1A2C62B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7858-65BD-4313-B9EE-01E7C29B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6F3-2ED6-46C9-8F38-999447B2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1B65-B792-4697-959D-74E1109D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8ABD-3E03-41D6-BBEA-68EEB02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CBE-BDF4-4903-8531-271407F4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DDA2-C6F9-408B-BD55-67A1104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B4EB-CBC1-43A3-A4E7-68950F7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65A8-E08A-426A-929F-1756D0D1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3EA0-988F-4B4A-870C-47DEE56B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B29-A22A-4BBE-AB7E-E3D38413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8F4-4B73-4A97-BA4D-176ED86B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11B-CEAD-4C9E-AC1F-F8819DC6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F77-A1CB-4739-AEDF-FD11ABB7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5E0-1D9C-4930-BC40-6A7FBB38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93E-3FA8-4F8B-8F92-4F23C9BB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33F-B844-4F4B-9608-E8D161D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E06-1CDB-4AD5-917D-6D3652C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1AE8-2699-4827-89B3-F4031BD21F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0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5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2C78-9AE3-4FA0-B5A7-9374FBC27BB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9"/>
          <p:cNvSpPr/>
          <p:nvPr/>
        </p:nvSpPr>
        <p:spPr>
          <a:xfrm>
            <a:off x="468360" y="2800440"/>
            <a:ext cx="61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4000" y="291132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интерактивного пособия «Лэпбук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уроках бурятской литературы  в начальной шко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2916360" y="4729320"/>
            <a:ext cx="47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Олзобоева Оксана Борисо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МБОУ 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Боргойская СОШ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Calibri"/>
              </a:rPr>
              <a:t>РБ, Джидинский район, у. Борго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11" descr="Открыть изображение"/>
          <p:cNvPicPr/>
          <p:nvPr/>
        </p:nvPicPr>
        <p:blipFill>
          <a:blip r:embed="rId1"/>
          <a:stretch/>
        </p:blipFill>
        <p:spPr>
          <a:xfrm>
            <a:off x="250920" y="260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468360" y="260280"/>
            <a:ext cx="719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пбук – это не просто метод, помогающий закрепить и отработать полученные знания на уроке, это полет фантазии, который может дать непредсказуемые результаты, это исследование, которые однажды начавшись, будет продолжаться всю жизнь, ведь если посеять в ребенке «зерно» открытия и исследования, оно будет расти и увеличиваться. Исходя из наставлений В.А. Сухомлинского, что «чтение…не сводится к умению читать, этим умением оно только начинается», учитель должен стремиться не к чтению ради чтения, а к чтению, как самостоятельной деятельности ребенка в мире книг, с которого и начинается образова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276720" y="19656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ажи мне, я забыва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жи мне, я могу запомнит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оль мне сделать эт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это станет моим навсег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Китайская пословица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3" descr="Открыть изображение"/>
          <p:cNvPicPr/>
          <p:nvPr/>
        </p:nvPicPr>
        <p:blipFill>
          <a:blip r:embed="rId1"/>
          <a:stretch/>
        </p:blipFill>
        <p:spPr>
          <a:xfrm>
            <a:off x="611280" y="2565360"/>
            <a:ext cx="432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250920" y="333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ктуальность проекта: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Время не стоит на месте, наше 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овременное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общество требует новой системы 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образования - </a:t>
            </a:r>
            <a:r>
              <a:rPr b="0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инновационного обучения</a:t>
            </a:r>
            <a:r>
              <a:rPr b="0" i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. Важным аспектом современного Российского образования является «научить учиться самому»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56898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539640" y="336600"/>
            <a:ext cx="698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асширить знания учащихся по бурятской литерату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Задачи: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знакомиться с лэпбуком, как объектом накопления и систематизации различной информации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познакомиться с макетами разнообразных лэпбук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бозначить круг интересующих вопросов для изготовления лэпбука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разработать макет и распределить направления работы по группам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бобщить полученные знания;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оформить лэпбу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179280" y="26028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эпбук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– это интерактивная тематическая папка, где для представления материала используются вращающиеся и высовывающиеся элементы, кармашки, окошки, конверты, чистые листочки для замет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3609720" cy="231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548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0" y="416520"/>
            <a:ext cx="78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Главная ценность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Лэпбука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информатив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оч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эстетич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вариативен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доступен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годен к использовани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7101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24000" y="187200"/>
            <a:ext cx="73436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интерактивное пособие лэпбук на уроках бурятской литературы в начальной школе можно выделить положительные стороны этой технологи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ных форм организации деятельности учащихся (индивидуальной, парной или групповой работа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работа с родител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я рабо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 зада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в обучении (индивидуальный, дифференцируемы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2881440" cy="2808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3313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179280" y="304560"/>
            <a:ext cx="72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я системность работы с книгой, используя технологию «Лэпбук», мы имеем возможность наблюдать, что уровень готовности у детей к самостоятельному чтению и отношение к нему неизмеримо повышается. По результатам мониторинга было выявлено, что работа по изготовлению и применению на уроках лэпбука очень нравится детям. Повысился читательский интерес, улучшились показатели по смысловому чтению и технике чт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3668760" cy="2205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Открыть изображение"/>
          <p:cNvPicPr/>
          <p:nvPr/>
        </p:nvPicPr>
        <p:blipFill>
          <a:blip r:embed="rId2"/>
          <a:stretch/>
        </p:blipFill>
        <p:spPr>
          <a:xfrm>
            <a:off x="4500720" y="3357720"/>
            <a:ext cx="2879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21964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29:28Z</dcterms:created>
  <dc:creator>alena</dc:creator>
  <dc:description/>
  <dc:language>en-US</dc:language>
  <cp:lastModifiedBy>Admin</cp:lastModifiedBy>
  <dcterms:modified xsi:type="dcterms:W3CDTF">2020-03-03T17:47:45Z</dcterms:modified>
  <cp:revision>17</cp:revision>
  <dc:subject/>
  <dc:title>Слайд 1</dc:title>
</cp:coreProperties>
</file>