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215-D5F3-455E-9716-B9366A3E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453-17BA-4047-942D-7AAAC67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C4A-25A3-41AA-A539-5581DC84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731-4FC5-4FDD-8A27-A67F1CEA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36A-330A-4834-B0D8-54EDD9EF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B89-7066-48B6-8423-E8E558D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AD6C-FACD-4511-A9DC-CAA695A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AB8-13E3-4BD6-A7E0-30E8826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4FF-9089-4E81-A153-CF81D48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3CD-EA3F-49ED-9BD9-E38CB46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F934-E3C4-4A28-8162-F59D2C3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4C9-CFA3-4440-A009-1388A7B2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BBE-B672-4F08-97B9-5C1046F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C9E6-4FD3-4B41-BF8D-501A507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2478-2FCE-4CEC-85B6-5C40996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DEBB-9C93-47CE-AC2B-8C751A61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CA4-0550-4A6B-9C03-24E8F5D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584-9A3E-4FF3-93DB-7EA14FD9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A9B-94AC-40C1-B5ED-6DFF5F8D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7B5-A915-48BC-BCCC-C009317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147-AA20-440D-9BC2-A9B11D5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034-2995-4C2F-A55F-56F5EF0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DA1-077A-4451-A8A5-4AA14B2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754-4363-41E9-A5AE-4A50F99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505B-EAA9-48A5-8662-B9A031CD8D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44D-D6AD-4172-9E2D-DC76A8FB463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9"/>
          <p:cNvSpPr/>
          <p:nvPr/>
        </p:nvSpPr>
        <p:spPr>
          <a:xfrm>
            <a:off x="468360" y="2800440"/>
            <a:ext cx="61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4000" y="291132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интерактивного пособия «Лэпбу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уроках бурятской литературы  в начальной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916360" y="4729320"/>
            <a:ext cx="47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Олзобоева Оксана Борисо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МБОУ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Боргойская СОШ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РБ, Джидинский район, у. Борго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11" descr="Открыть изображение"/>
          <p:cNvPicPr/>
          <p:nvPr/>
        </p:nvPicPr>
        <p:blipFill>
          <a:blip r:embed="rId1"/>
          <a:stretch/>
        </p:blipFill>
        <p:spPr>
          <a:xfrm>
            <a:off x="250920" y="260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68360" y="260280"/>
            <a:ext cx="719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пбук – это не просто метод, помогающий закрепить и отработать полученные знания на уроке, это полет фантазии, который может дать непредсказуемые результаты, это исследование, которые однажды начавшись, будет продолжаться всю жизнь, ведь если посеять в ребенке «зерно» открытия и исследования, оно будет расти и увеличиваться. Исходя из наставлений В.А. Сухомлинского, что «чтение…не сводится к умению читать, этим умением оно только начинается», учитель должен стремиться не к чтению ради чтения, а к чтению, как самостоятельной деятельности ребенка в мире книг, с которого и начинается образ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276720" y="1965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ажи мне, я забыва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мне, я могу запомни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оль мне сделать эт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это станет моим навсег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Китайская пословица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3" descr="Открыть изображение"/>
          <p:cNvPicPr/>
          <p:nvPr/>
        </p:nvPicPr>
        <p:blipFill>
          <a:blip r:embed="rId1"/>
          <a:stretch/>
        </p:blipFill>
        <p:spPr>
          <a:xfrm>
            <a:off x="611280" y="2565360"/>
            <a:ext cx="432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50920" y="333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ктуальность проекта: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Время не стоит на месте, наше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временное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общество требует новой системы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ния - 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новационного обучения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Важным аспектом современного Российского образования является «научить учиться самому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56898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39640" y="336600"/>
            <a:ext cx="698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ширить знания учащихся по бурятской литерату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чи: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знакомиться с лэпбуком, как объектом накопления и систематизации различной информаци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познакомиться с макетами разнообразных лэпбук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значить круг интересующих вопросов для изготовления лэпбук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разработать макет и распределить направления работы по группа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бщить полученные знания;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формить лэпбу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179280" y="26028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эпбук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– это интерактивная тематическая папка, где для представления материала используются вращающиеся и высовывающиеся элементы, кармашки, окошки, конверты, чистые листочки для замет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3609720" cy="23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548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416520"/>
            <a:ext cx="78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Главная ценность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эпбука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нформатив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о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эстети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ариативен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доступ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годен к использовани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101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24000" y="187200"/>
            <a:ext cx="7343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интерактивное пособие лэпбук на уроках бурятской литературы в начальной школе можно выделить положительные стороны этой технологи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ых форм организации деятельности учащихся (индивидуальной, парной или групповой работа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 с родител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рабо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зад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в обучении (индивидуальный, дифференцируемы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3313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79280" y="304560"/>
            <a:ext cx="72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я системность работы с книгой, используя технологию «Лэпбук», мы имеем возможность наблюдать, что уровень готовности у детей к самостоятельному чтению и отношение к нему неизмеримо повышается. По результатам мониторинга было выявлено, что работа по изготовлению и применению на уроках лэпбука очень нравится детям. Повысился читательский интерес, улучшились показатели по смысловому чтению и технике чт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668760" cy="2205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Открыть изображение"/>
          <p:cNvPicPr/>
          <p:nvPr/>
        </p:nvPicPr>
        <p:blipFill>
          <a:blip r:embed="rId2"/>
          <a:stretch/>
        </p:blipFill>
        <p:spPr>
          <a:xfrm>
            <a:off x="4500720" y="3357720"/>
            <a:ext cx="287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1964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9:28Z</dcterms:created>
  <dc:creator>alena</dc:creator>
  <dc:description/>
  <dc:language>en-US</dc:language>
  <cp:lastModifiedBy>Admin</cp:lastModifiedBy>
  <dcterms:modified xsi:type="dcterms:W3CDTF">2020-03-03T17:47:45Z</dcterms:modified>
  <cp:revision>17</cp:revision>
  <dc:subject/>
  <dc:title>Слайд 1</dc:title>
</cp:coreProperties>
</file>