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6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3AE2-332F-41E6-ACD7-FE24B951C1E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0AC5-FED1-4505-8041-8D4DBB564F6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FAB9-E906-4FAA-BF7F-09133A958D9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1035-4EC2-4650-BEBB-2DF289A6974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3B89-C851-4255-BAEA-66AB52BF4DE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53DA8-F04F-4D54-85FE-21DB422DD4E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578C1-A58F-49D6-8DCC-5BC2A455CF1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9DCA-3EAE-4ADB-810B-E68BDBF5FDF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D579-436F-4D18-A671-2B2E5273764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169B-F359-4113-BBAA-AC9769718C8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6F06C-BDA6-4ABE-91DF-1F2B8950773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1533-F216-48BB-9C2C-1766214CE58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2CFD-2451-4759-A316-A9211CF993C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F5A8-7623-46B1-A886-62929D90FE0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390EB-FEE4-442D-8DFA-77ADE58D019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8726-D27B-4046-93F0-0080A3E50C0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8D8C-1AE6-4A7D-B3F4-B7B49BFA681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67FED-186D-4A69-B4C7-E149A0D401D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B6EB-87C4-421A-9CEB-D019B060DEB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AAAC-FF64-42BB-BE7E-159A962A0A3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A202A-7197-4FA9-8FBE-1BDBF4C0E13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53417-82DA-46B4-9EB1-E878321610C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00C18-42A7-49CD-842F-BA602AB2794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8F2E-AAE6-46D4-A2F6-14D60313E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F24A-5ADF-4B2D-B48C-3A407294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0052-0562-44E2-9F79-105EEBCCA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7421-2E81-4F4C-91CF-AFB22C0A2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0FDB-1B95-48BF-AEAF-8690BA03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9A15-CECB-41E3-9DFA-15416BE2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C5B1-740F-4DA5-8C9D-437A4805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780A-2A5D-43EB-8F32-B9BD2881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56C9-64E3-49B0-9634-070215AC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9868-1222-4379-AE01-A26F2B8C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D23E-AAA0-4D14-8CC2-7B684A78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034D-D3F6-4AD6-9B82-96557737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ccff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459AF-B3B3-48A4-9B46-0D74AE4609D3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696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9999"/>
                </a:solidFill>
                <a:latin typeface="Baskerville Old Face"/>
              </a:rPr>
              <a:t>ОДЕЖДА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9026640" y="-2332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ИЖАМ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" name="Picture 6" descr="000803_1052_5426_vnvv"/>
          <p:cNvPicPr/>
          <p:nvPr/>
        </p:nvPicPr>
        <p:blipFill>
          <a:blip r:embed="rId1"/>
          <a:stretch/>
        </p:blipFill>
        <p:spPr>
          <a:xfrm>
            <a:off x="2971800" y="1486080"/>
            <a:ext cx="3449520" cy="5371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2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205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МУЖСКАЯ ОДЕЖД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3" name="Picture 6" descr="000803_1056_5190_vnvv"/>
          <p:cNvPicPr/>
          <p:nvPr/>
        </p:nvPicPr>
        <p:blipFill>
          <a:blip r:embed="rId1"/>
          <a:stretch/>
        </p:blipFill>
        <p:spPr>
          <a:xfrm>
            <a:off x="5638680" y="1219320"/>
            <a:ext cx="3308400" cy="4430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000803_1056_5194_vnvv"/>
          <p:cNvPicPr/>
          <p:nvPr/>
        </p:nvPicPr>
        <p:blipFill>
          <a:blip r:embed="rId2"/>
          <a:stretch/>
        </p:blipFill>
        <p:spPr>
          <a:xfrm>
            <a:off x="304920" y="2209680"/>
            <a:ext cx="4495680" cy="4394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904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ИДЖАК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Picture 5" descr="000803_1052_5381_vnvv"/>
          <p:cNvPicPr/>
          <p:nvPr/>
        </p:nvPicPr>
        <p:blipFill>
          <a:blip r:embed="rId1"/>
          <a:stretch/>
        </p:blipFill>
        <p:spPr>
          <a:xfrm>
            <a:off x="2486160" y="1447920"/>
            <a:ext cx="4584600" cy="502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796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3276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КОСТЮМ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Picture 5" descr="000803_1052_5452_vnvv"/>
          <p:cNvPicPr/>
          <p:nvPr/>
        </p:nvPicPr>
        <p:blipFill>
          <a:blip r:embed="rId1"/>
          <a:stretch/>
        </p:blipFill>
        <p:spPr>
          <a:xfrm>
            <a:off x="3352680" y="228600"/>
            <a:ext cx="2806920" cy="63658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6553080" y="533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 Black"/>
              </a:rPr>
              <a:t>ПИДЖАК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6324480" y="52578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 Black"/>
              </a:rPr>
              <a:t>БРЮКИ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Line 8"/>
          <p:cNvSpPr/>
          <p:nvPr/>
        </p:nvSpPr>
        <p:spPr>
          <a:xfrm flipH="1">
            <a:off x="5028840" y="91440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Line 9"/>
          <p:cNvSpPr/>
          <p:nvPr/>
        </p:nvSpPr>
        <p:spPr>
          <a:xfrm flipH="1" flipV="1">
            <a:off x="5181480" y="464832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Picture 10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3602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ДЖИНСОВАЯ КУРТ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Picture 5" descr="000803_1052_5411_vnvv"/>
          <p:cNvPicPr/>
          <p:nvPr/>
        </p:nvPicPr>
        <p:blipFill>
          <a:blip r:embed="rId1"/>
          <a:stretch/>
        </p:blipFill>
        <p:spPr>
          <a:xfrm>
            <a:off x="1905120" y="1523880"/>
            <a:ext cx="5357520" cy="4426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55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ДЖИНСОВЫЕ ШТАНЫ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5" descr="000803_1052_5410_vnvv"/>
          <p:cNvPicPr/>
          <p:nvPr/>
        </p:nvPicPr>
        <p:blipFill>
          <a:blip r:embed="rId1"/>
          <a:stretch/>
        </p:blipFill>
        <p:spPr>
          <a:xfrm>
            <a:off x="3429000" y="1295280"/>
            <a:ext cx="2509920" cy="5399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2565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 Black"/>
              </a:rPr>
              <a:t>СВИТЕР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Picture 5" descr="000803_1052_5359_vnvv"/>
          <p:cNvPicPr/>
          <p:nvPr/>
        </p:nvPicPr>
        <p:blipFill>
          <a:blip r:embed="rId1"/>
          <a:stretch/>
        </p:blipFill>
        <p:spPr>
          <a:xfrm>
            <a:off x="2362320" y="1600200"/>
            <a:ext cx="4671720" cy="46767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87631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876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РУБАШ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5" descr="000803_1052_5419_vnvv"/>
          <p:cNvPicPr/>
          <p:nvPr/>
        </p:nvPicPr>
        <p:blipFill>
          <a:blip r:embed="rId1"/>
          <a:stretch/>
        </p:blipFill>
        <p:spPr>
          <a:xfrm>
            <a:off x="1752480" y="1600200"/>
            <a:ext cx="5738760" cy="4568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891072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156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ШОРТЫ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5" descr="000803_1052_5432_vnvv"/>
          <p:cNvPicPr/>
          <p:nvPr/>
        </p:nvPicPr>
        <p:blipFill>
          <a:blip r:embed="rId1"/>
          <a:stretch/>
        </p:blipFill>
        <p:spPr>
          <a:xfrm>
            <a:off x="2514600" y="2286000"/>
            <a:ext cx="3962520" cy="3524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687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БАННЫЙ ХАЛАТ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Picture 5" descr="000803_1052_5376_vnvv"/>
          <p:cNvPicPr/>
          <p:nvPr/>
        </p:nvPicPr>
        <p:blipFill>
          <a:blip r:embed="rId1"/>
          <a:stretch/>
        </p:blipFill>
        <p:spPr>
          <a:xfrm>
            <a:off x="2743200" y="1066680"/>
            <a:ext cx="3621240" cy="5562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2225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5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 Black"/>
              </a:rPr>
              <a:t>ЖЕНСКАЯ ОДЕЖД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" name="Picture 5" descr="000803_1052_5304_vnvv"/>
          <p:cNvPicPr/>
          <p:nvPr/>
        </p:nvPicPr>
        <p:blipFill>
          <a:blip r:embed="rId1"/>
          <a:stretch/>
        </p:blipFill>
        <p:spPr>
          <a:xfrm>
            <a:off x="6858000" y="380880"/>
            <a:ext cx="1930320" cy="5902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000803_1053_9736_vnvv"/>
          <p:cNvPicPr/>
          <p:nvPr/>
        </p:nvPicPr>
        <p:blipFill>
          <a:blip r:embed="rId2"/>
          <a:stretch/>
        </p:blipFill>
        <p:spPr>
          <a:xfrm>
            <a:off x="685800" y="914400"/>
            <a:ext cx="1841400" cy="5791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000803_1053_9796_vnvv"/>
          <p:cNvPicPr/>
          <p:nvPr/>
        </p:nvPicPr>
        <p:blipFill>
          <a:blip r:embed="rId3"/>
          <a:stretch/>
        </p:blipFill>
        <p:spPr>
          <a:xfrm>
            <a:off x="3276720" y="1143000"/>
            <a:ext cx="2943000" cy="54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"/>
          <p:cNvPicPr/>
          <p:nvPr/>
        </p:nvPicPr>
        <p:blipFill>
          <a:blip r:embed="rId4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2714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ЖИЛЕТ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Picture 5" descr="000803_1052_5361_vnvv"/>
          <p:cNvPicPr/>
          <p:nvPr/>
        </p:nvPicPr>
        <p:blipFill>
          <a:blip r:embed="rId1"/>
          <a:stretch/>
        </p:blipFill>
        <p:spPr>
          <a:xfrm>
            <a:off x="2971800" y="1143000"/>
            <a:ext cx="3178080" cy="5257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727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АЛЬТО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8" name="Picture 5" descr="000803_1052_5399_vnvv"/>
          <p:cNvPicPr/>
          <p:nvPr/>
        </p:nvPicPr>
        <p:blipFill>
          <a:blip r:embed="rId1"/>
          <a:stretch/>
        </p:blipFill>
        <p:spPr>
          <a:xfrm>
            <a:off x="2971800" y="1219320"/>
            <a:ext cx="3855960" cy="5333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2"/>
          <a:stretch/>
        </p:blipFill>
        <p:spPr>
          <a:xfrm>
            <a:off x="87631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727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99"/>
                </a:solidFill>
                <a:latin typeface="Arial Black"/>
              </a:rPr>
              <a:t>КОНЕЦ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697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ДУБЛЕН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" name="Picture 5" descr="000803_1052_5398_vnvv"/>
          <p:cNvPicPr/>
          <p:nvPr/>
        </p:nvPicPr>
        <p:blipFill>
          <a:blip r:embed="rId1"/>
          <a:stretch/>
        </p:blipFill>
        <p:spPr>
          <a:xfrm>
            <a:off x="3124080" y="1371600"/>
            <a:ext cx="3729240" cy="5181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245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ЛАЩ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" name="Picture 5" descr="000803_1052_5430_vnvv"/>
          <p:cNvPicPr/>
          <p:nvPr/>
        </p:nvPicPr>
        <p:blipFill>
          <a:blip r:embed="rId1"/>
          <a:stretch/>
        </p:blipFill>
        <p:spPr>
          <a:xfrm>
            <a:off x="3200400" y="1219320"/>
            <a:ext cx="2654280" cy="5510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757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АЛЬТО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" name="Picture 5" descr="000803_1052_5389_vnvv"/>
          <p:cNvPicPr/>
          <p:nvPr/>
        </p:nvPicPr>
        <p:blipFill>
          <a:blip r:embed="rId1"/>
          <a:stretch/>
        </p:blipFill>
        <p:spPr>
          <a:xfrm>
            <a:off x="2666880" y="1447920"/>
            <a:ext cx="3829320" cy="5194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986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ПЛАТЬЕ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5" name="Picture 5" descr="000803_1052_5396_vnvv"/>
          <p:cNvPicPr/>
          <p:nvPr/>
        </p:nvPicPr>
        <p:blipFill>
          <a:blip r:embed="rId1"/>
          <a:stretch/>
        </p:blipFill>
        <p:spPr>
          <a:xfrm>
            <a:off x="3200400" y="1295280"/>
            <a:ext cx="2938320" cy="5334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5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ХАЛАТ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8" name="Picture 5" descr="000803_1052_5375_vnvv"/>
          <p:cNvPicPr/>
          <p:nvPr/>
        </p:nvPicPr>
        <p:blipFill>
          <a:blip r:embed="rId1"/>
          <a:stretch/>
        </p:blipFill>
        <p:spPr>
          <a:xfrm>
            <a:off x="2590920" y="1143000"/>
            <a:ext cx="4197240" cy="53974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856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33526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БЛУЗКА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" name="Picture 5" descr="000803_1052_5420_vnvv"/>
          <p:cNvPicPr/>
          <p:nvPr/>
        </p:nvPicPr>
        <p:blipFill>
          <a:blip r:embed="rId1"/>
          <a:stretch/>
        </p:blipFill>
        <p:spPr>
          <a:xfrm>
            <a:off x="3200400" y="1143000"/>
            <a:ext cx="3086280" cy="5483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6095880" y="51814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99"/>
                </a:solidFill>
                <a:latin typeface="Arial Black"/>
              </a:rPr>
              <a:t>САРАФАН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Line 8"/>
          <p:cNvSpPr/>
          <p:nvPr/>
        </p:nvSpPr>
        <p:spPr>
          <a:xfrm>
            <a:off x="2743200" y="1066680"/>
            <a:ext cx="76212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Line 9"/>
          <p:cNvSpPr/>
          <p:nvPr/>
        </p:nvSpPr>
        <p:spPr>
          <a:xfrm flipH="1" flipV="1">
            <a:off x="5181480" y="4724280"/>
            <a:ext cx="10670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2784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99"/>
                </a:solidFill>
                <a:latin typeface="Arial Black"/>
              </a:rPr>
              <a:t>ЮБКА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7" name="Picture 5" descr="000803_1052_5440_vnvv"/>
          <p:cNvPicPr/>
          <p:nvPr/>
        </p:nvPicPr>
        <p:blipFill>
          <a:blip r:embed="rId1"/>
          <a:stretch/>
        </p:blipFill>
        <p:spPr>
          <a:xfrm>
            <a:off x="3352680" y="1676520"/>
            <a:ext cx="2527560" cy="4937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2"/>
          <a:stretch/>
        </p:blipFill>
        <p:spPr>
          <a:xfrm>
            <a:off x="868680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866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ЕМ</cp:lastModifiedBy>
  <dcterms:modified xsi:type="dcterms:W3CDTF">2010-01-19T04:36:3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