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0896-94BF-4C8A-9C59-F3A21F5AAB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333-DBBC-41B0-9349-44B16DD977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9199-FBA6-4608-BFD1-1EAB7ECDC8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5F4E-F60B-469E-B70B-BCAFFB0A90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694B-54DC-469A-88CD-721133D967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E8FD-CF15-4EFA-965D-044AAD4BDE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5E11-5CB6-4222-9803-AF0D3A421C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78E6-AA03-43B7-B047-B2A294A2EA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A84-90D7-488D-86D2-B240543211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E5FE-40E6-4A4A-8428-FA5EF6CADC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6DB7-5E6D-4463-8C55-B12EA1FED2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C323-40DA-4423-8D87-092AC1E4DB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4FA9-2E3D-4C60-81BB-F383DD459A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C58F-D091-4C9B-83AB-3CD9F2576D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4508-248E-498E-8A15-422E63E4FF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068D-81FF-4F95-A98B-44E4AB6411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F1AE-153F-4224-BFCE-1DCB72AA2C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C7C1-122D-4ECE-B566-5F6132BD12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0838-E5E3-4779-B454-CE28BB5EAC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1ED3-5CCB-4D4B-943D-E33EABD700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0D06-A23D-4EF8-AC87-18E4197D41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CDA4-D6AE-4FB0-AF7F-99F66D2ECB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9276-77B8-4E05-855F-3009957059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021-41F3-41F4-99A3-D80B6AFC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D56-0BF0-4CF5-B671-D7A21DF2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747-02C2-4DE0-8C54-E3136D66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512-A942-4D9B-9B46-894F85B6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2BE-003F-4B48-BB93-E2C60FBE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542-4EA2-4695-A286-0927843A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C88-5420-4C0F-9290-95AD3B95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E83-2B47-468C-B79F-50395EB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759-B5DD-4F57-B26E-BD6FF763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141-4ADF-49B3-997D-6CD36330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11B-7919-4277-B806-1B25F604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241-BB2C-469A-954A-FCA2972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9F12-96A3-43BD-86E5-2C5B25AAD47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Baskerville Old Face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2664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ЖА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6" descr="000803_1052_5426_vnvv"/>
          <p:cNvPicPr/>
          <p:nvPr/>
        </p:nvPicPr>
        <p:blipFill>
          <a:blip r:embed="rId1"/>
          <a:stretch/>
        </p:blipFill>
        <p:spPr>
          <a:xfrm>
            <a:off x="2971800" y="1486080"/>
            <a:ext cx="3449520" cy="53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0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УЖ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000803_1056_5190_vnvv"/>
          <p:cNvPicPr/>
          <p:nvPr/>
        </p:nvPicPr>
        <p:blipFill>
          <a:blip r:embed="rId1"/>
          <a:stretch/>
        </p:blipFill>
        <p:spPr>
          <a:xfrm>
            <a:off x="5638680" y="1219320"/>
            <a:ext cx="3308400" cy="443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00803_1056_5194_vnvv"/>
          <p:cNvPicPr/>
          <p:nvPr/>
        </p:nvPicPr>
        <p:blipFill>
          <a:blip r:embed="rId2"/>
          <a:stretch/>
        </p:blipFill>
        <p:spPr>
          <a:xfrm>
            <a:off x="304920" y="2209680"/>
            <a:ext cx="4495680" cy="439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52_5381_vnvv"/>
          <p:cNvPicPr/>
          <p:nvPr/>
        </p:nvPicPr>
        <p:blipFill>
          <a:blip r:embed="rId1"/>
          <a:stretch/>
        </p:blipFill>
        <p:spPr>
          <a:xfrm>
            <a:off x="2486160" y="1447920"/>
            <a:ext cx="458460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9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27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ОСТЮМ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52_5452_vnvv"/>
          <p:cNvPicPr/>
          <p:nvPr/>
        </p:nvPicPr>
        <p:blipFill>
          <a:blip r:embed="rId1"/>
          <a:stretch/>
        </p:blipFill>
        <p:spPr>
          <a:xfrm>
            <a:off x="3352680" y="228600"/>
            <a:ext cx="2806920" cy="6365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553080" y="533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324480" y="5257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БРЮК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028840" y="9144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9"/>
          <p:cNvSpPr/>
          <p:nvPr/>
        </p:nvSpPr>
        <p:spPr>
          <a:xfrm flipH="1" flipV="1">
            <a:off x="5181480" y="46483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АЯ КУРТ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5" descr="000803_1052_5411_vnvv"/>
          <p:cNvPicPr/>
          <p:nvPr/>
        </p:nvPicPr>
        <p:blipFill>
          <a:blip r:embed="rId1"/>
          <a:stretch/>
        </p:blipFill>
        <p:spPr>
          <a:xfrm>
            <a:off x="1905120" y="1523880"/>
            <a:ext cx="5357520" cy="442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5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ЫЕ ШТА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000803_1052_5410_vnvv"/>
          <p:cNvPicPr/>
          <p:nvPr/>
        </p:nvPicPr>
        <p:blipFill>
          <a:blip r:embed="rId1"/>
          <a:stretch/>
        </p:blipFill>
        <p:spPr>
          <a:xfrm>
            <a:off x="3429000" y="1295280"/>
            <a:ext cx="2509920" cy="539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СВИТ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000803_1052_5359_vnvv"/>
          <p:cNvPicPr/>
          <p:nvPr/>
        </p:nvPicPr>
        <p:blipFill>
          <a:blip r:embed="rId1"/>
          <a:stretch/>
        </p:blipFill>
        <p:spPr>
          <a:xfrm>
            <a:off x="2362320" y="1600200"/>
            <a:ext cx="4671720" cy="467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87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РУБАШ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52_5419_vnvv"/>
          <p:cNvPicPr/>
          <p:nvPr/>
        </p:nvPicPr>
        <p:blipFill>
          <a:blip r:embed="rId1"/>
          <a:stretch/>
        </p:blipFill>
        <p:spPr>
          <a:xfrm>
            <a:off x="1752480" y="1600200"/>
            <a:ext cx="5738760" cy="45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5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ШОР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000803_1052_5432_vnvv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68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АННЫЙ ХАЛА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52_5376_vnvv"/>
          <p:cNvPicPr/>
          <p:nvPr/>
        </p:nvPicPr>
        <p:blipFill>
          <a:blip r:embed="rId1"/>
          <a:stretch/>
        </p:blipFill>
        <p:spPr>
          <a:xfrm>
            <a:off x="2743200" y="1066680"/>
            <a:ext cx="3621240" cy="556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2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ЖЕН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" descr="000803_1052_5304_vnvv"/>
          <p:cNvPicPr/>
          <p:nvPr/>
        </p:nvPicPr>
        <p:blipFill>
          <a:blip r:embed="rId1"/>
          <a:stretch/>
        </p:blipFill>
        <p:spPr>
          <a:xfrm>
            <a:off x="6858000" y="380880"/>
            <a:ext cx="1930320" cy="5902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3_9736_vnvv"/>
          <p:cNvPicPr/>
          <p:nvPr/>
        </p:nvPicPr>
        <p:blipFill>
          <a:blip r:embed="rId2"/>
          <a:stretch/>
        </p:blipFill>
        <p:spPr>
          <a:xfrm>
            <a:off x="685800" y="914400"/>
            <a:ext cx="1841400" cy="579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803_1053_9796_vnvv"/>
          <p:cNvPicPr/>
          <p:nvPr/>
        </p:nvPicPr>
        <p:blipFill>
          <a:blip r:embed="rId3"/>
          <a:stretch/>
        </p:blipFill>
        <p:spPr>
          <a:xfrm>
            <a:off x="3276720" y="1143000"/>
            <a:ext cx="29430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1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ЖИЛЕ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000803_1052_5361_vnvv"/>
          <p:cNvPicPr/>
          <p:nvPr/>
        </p:nvPicPr>
        <p:blipFill>
          <a:blip r:embed="rId1"/>
          <a:stretch/>
        </p:blipFill>
        <p:spPr>
          <a:xfrm>
            <a:off x="2971800" y="1143000"/>
            <a:ext cx="317808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2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000803_1052_5399_vnvv"/>
          <p:cNvPicPr/>
          <p:nvPr/>
        </p:nvPicPr>
        <p:blipFill>
          <a:blip r:embed="rId1"/>
          <a:stretch/>
        </p:blipFill>
        <p:spPr>
          <a:xfrm>
            <a:off x="2971800" y="1219320"/>
            <a:ext cx="3855960" cy="533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2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69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УБЛЕ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000803_1052_5398_vnvv"/>
          <p:cNvPicPr/>
          <p:nvPr/>
        </p:nvPicPr>
        <p:blipFill>
          <a:blip r:embed="rId1"/>
          <a:stretch/>
        </p:blipFill>
        <p:spPr>
          <a:xfrm>
            <a:off x="3124080" y="1371600"/>
            <a:ext cx="372924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Щ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000803_1052_5430_vnvv"/>
          <p:cNvPicPr/>
          <p:nvPr/>
        </p:nvPicPr>
        <p:blipFill>
          <a:blip r:embed="rId1"/>
          <a:stretch/>
        </p:blipFill>
        <p:spPr>
          <a:xfrm>
            <a:off x="3200400" y="1219320"/>
            <a:ext cx="2654280" cy="55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000803_1052_5389_vnvv"/>
          <p:cNvPicPr/>
          <p:nvPr/>
        </p:nvPicPr>
        <p:blipFill>
          <a:blip r:embed="rId1"/>
          <a:stretch/>
        </p:blipFill>
        <p:spPr>
          <a:xfrm>
            <a:off x="2666880" y="1447920"/>
            <a:ext cx="3829320" cy="519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Т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000803_1052_5396_vnvv"/>
          <p:cNvPicPr/>
          <p:nvPr/>
        </p:nvPicPr>
        <p:blipFill>
          <a:blip r:embed="rId1"/>
          <a:stretch/>
        </p:blipFill>
        <p:spPr>
          <a:xfrm>
            <a:off x="3200400" y="1295280"/>
            <a:ext cx="2938320" cy="533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ХАЛАТ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52_5375_vnvv"/>
          <p:cNvPicPr/>
          <p:nvPr/>
        </p:nvPicPr>
        <p:blipFill>
          <a:blip r:embed="rId1"/>
          <a:stretch/>
        </p:blipFill>
        <p:spPr>
          <a:xfrm>
            <a:off x="2590920" y="1143000"/>
            <a:ext cx="4197240" cy="539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85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ЛУЗ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2_5420_vnvv"/>
          <p:cNvPicPr/>
          <p:nvPr/>
        </p:nvPicPr>
        <p:blipFill>
          <a:blip r:embed="rId1"/>
          <a:stretch/>
        </p:blipFill>
        <p:spPr>
          <a:xfrm>
            <a:off x="3200400" y="1143000"/>
            <a:ext cx="3086280" cy="548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0958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АРАФ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743200" y="10666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181480" y="47242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ЮБ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2_5440_vnvv"/>
          <p:cNvPicPr/>
          <p:nvPr/>
        </p:nvPicPr>
        <p:blipFill>
          <a:blip r:embed="rId1"/>
          <a:stretch/>
        </p:blipFill>
        <p:spPr>
          <a:xfrm>
            <a:off x="3352680" y="1676520"/>
            <a:ext cx="2527560" cy="493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36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