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397-4D8E-4546-83D1-99C15C30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32D-5B4C-4AD9-A267-1733F9DD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B4C-87E4-4898-897D-4F743726F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FB38-3110-48DA-97D7-8B268F14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5D32-9614-46A7-B517-9123A2486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978C-AEF4-4CC8-9489-2F9B8439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576E-3541-4201-9814-76AB58C3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E35DE-CBD7-4011-817F-2EC02507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33AFE-8E49-4BAB-8C11-9098F17D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AFBB-9640-496C-B26A-83376C5F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FC459-8056-4F9D-A36E-3C87E72C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145-7E2C-4FC7-A4F8-D264CA74F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6009C-1449-43A2-ADB8-437A3E78A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A2D2-F58A-49C2-B065-1F672D0E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81D1-AC5C-453B-B2D8-137094DD4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B1AD-76E5-48B6-B385-9D75D9EAE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BF6B-2591-48B1-AB8A-12BCC8B04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C54-AEDE-4D39-A908-2ACA36B7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DA47-8074-4D69-BCE8-DD7E4A9B1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B59B-4E6A-40BA-819C-3EAED28E7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09EF-3C56-4FA3-8DF7-3BEB0EDD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55DF-1D3E-4276-A528-6E060554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1BC9-6198-4543-89CA-ED750CC7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917D-90BE-40EE-92D5-69C96D67B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3FC6-2C59-4917-AE77-FD4C95E893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3326-2B3B-46CB-9CD6-E6AEB0A957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Наставничество молодого педагог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оспитатель МБДОУ ДС№31 «Медвежоно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.Б. Боровск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оспитывая детей, стремитесь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ить ребенка таким, каков он е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ажать в каждом ребенке лич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валить, поощрять, ободрять, создавая положительную эмоциональную атмосфер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мечать не недостатки ребенка, а динамику его развит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делать родителей своими союзниками в деле воспита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говаривать с ребенком заботливым, ободряющим тон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ощрять стремление ребенка задавать вопрос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детском саду запрещается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ичать и наказывать дете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ставлять проступки детей на всеобщее обозрени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ходить к детям с плохим настроение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суждать с родителями поведение чужого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влять детей одних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нижать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Конкурс профессионального мастерства «Молодой педагог»  </a:t>
            </a:r>
            <a:br>
              <a:rPr sz="3200"/>
            </a:b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2" descr="C:\Users\Егор\Desktop\Наставничество выступление\Молодой педагог 2016\2016-04-07-1023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Наши  конкурсан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3" name="Picture 3" descr="C:\Users\Егор\Desktop\Наставничество выступление\Молодой педагог 2016\2016-04-07-1024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ворческий мараф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Picture 4" descr="C:\Users\Егор\Desktop\Наставничество выступление\Молодой педагог 2016\2016-04-07-1028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Творческий марафон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7" name="Picture 2" descr="C:\Users\Егор\Desktop\Наставничество выступление\Молодой педагог 2016\2016-04-07-1029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9" name="Picture 2" descr="C:\Users\Егор\Desktop\Наставничество выступление\Молодой педагог 2016\2016-04-07-1035.jpg"/>
          <p:cNvPicPr/>
          <p:nvPr/>
        </p:nvPicPr>
        <p:blipFill>
          <a:blip r:embed="rId1"/>
          <a:stretch/>
        </p:blipFill>
        <p:spPr>
          <a:xfrm>
            <a:off x="1112760" y="1905120"/>
            <a:ext cx="74581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.С. Макаренко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 мной работали десятки молодых педагогов. Я убедился, что как бы человек успешно не кончил педагогический вуз, как бы он не был талантлив, а если не будет учиться на опыте, никогда не будет хорошим педагогом, я сам учился у более старых педагогов…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b7"/>
                </a:solidFill>
                <a:latin typeface="Arial Black"/>
              </a:rPr>
              <a:t>Цель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наставничества в ДОУ 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азание поддержки молодым педагогическим работникам в их профессиональном становлении; формирование в ДОУ кадрового яд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b7"/>
                </a:solidFill>
                <a:latin typeface="Arial Black"/>
              </a:rPr>
              <a:t>Задачи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наставничества в ДОУ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ировать у молодых специалистов интерес к педагогической деятельности и закрепить их профессиональную деятельность в дошкольном учреждени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корить процесс профессионального становления воспитателя, развить его способности самостоятельно и качественно выполнять возложенные на него обязанности по занимаемой должност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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особствовать успешной адаптации молодых специалистов к корпоративной культуре, правилам поведения в ДО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 ДОУ - работает «Клуб молодой педагог»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Создание в ДОУ условий для  профессионального роста молодых специалистов, способствующих снижению проблем адаптации и успешному вхождению в профессиональную деятельность молодого педагог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Памятка для молодых специалистов 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Arial Black"/>
              </a:rPr>
              <a:t>"Правила поведения и общения воспитателя в ДОУ"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тарайтесь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меть в душе прекрасный идеал, высокую мечту и стремиться к ней. Быть лучше, помня, что совершенствованию нет предел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и профессионально, быть в курсе последних достижений педагогической науки, не останавливаться на достигну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ть всегда в равновесии, сдерживая отрицательные эмо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ходить из конфликтных ситуаций с достоинством и юмор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щать, сочувствовать, сопереживать, быть великодушным и снисходительны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Жить легко, просто и радостно. Видеть во всем положительно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61760" y="838080"/>
            <a:ext cx="7854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всегда доброжелательным. Дружелюбие – основа вашего здоровь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сюду навести порядок и уют, создать оазис доброты, любви и красоты – в душе, в семье, на работе. Прививайте это детя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добрым и честным. Помните, что добро, сделанное вами, всегда вернется к вам многократно увеличенны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омните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599840"/>
            <a:ext cx="8083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"Терпение – дар Неба". Обладающий терпением не унизится до раздра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да есть тот, кому нужна ваша помощь, кому труднее, чем ва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ликая миссия женщины – нести в мир любовь, красоту и гармон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ллектив – это тоже семья. Укрепляйте мир нашей семьи добрыми мыслями, добрыми словами, добрыми дел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ши объяснения должны быть простыми и понятными детя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гда ребенок разговаривает с вами, слушайте его внимательн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купитесь на похвалу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 создавайте конфликтных ситуаций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едите за внешностью и поведени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ше отношение к работе, людям, предметам – образец для подраж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ервый</cp:lastModifiedBy>
  <dcterms:modified xsi:type="dcterms:W3CDTF">2020-05-04T08:00:23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