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6AC-21F9-4533-927C-8C919CFB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144-179A-4059-BC3B-669847CB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4EC-81D8-4B80-90B7-C39D89D0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F84-CB77-48DF-8680-2B675164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7879-F2B1-4EB3-945F-1269530A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822C-C74F-460A-8A17-E517672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B167-7CF9-46C8-9919-FE0E0C77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BC19-0F67-4663-A76F-A3E5E2E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3DE9-8BCD-4C7B-A86B-87747FF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ABFC-40F0-4FC7-B97C-E6FFB611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FFFA-06E6-4DB9-B28C-9EC32FC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435-849C-4A74-A870-2905B46C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8398-6B6F-43A8-9F1C-8A6AA86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403C-0ED4-4225-95A5-4E04DAA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28DB-11BE-4641-B884-0DA6F19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BE10-459C-40AE-8CEE-3084180E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407B-F46A-4E7A-B752-6D6902C9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B64-D229-43BA-AC2F-7DDD788B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404-1B6C-49F8-8E04-7987DB7A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CC2-E27F-4718-891F-0D3E00E7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9ED-1CB9-4EF3-86BB-3C1165F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124-EC50-469C-91BD-0D750A4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E7-046C-4465-ADA1-E64C7AC1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F05-3AA6-4138-8A1D-E936836A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935A-3F33-44A2-A70E-AB100D6363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F7C-F233-4E18-B60F-9489803846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Наставничество молодого педагог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ь МБДОУ ДС№31 «Медвежо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Б. Боров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спитывая детей, стремитесь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ь ребенка таким, каков он е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ажать в каждом ребенке ли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валить, поощрять, ободрять, создавая положительную эмоциональную атмосфе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ать не недостатки ребенка, а динамику его разви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родителей своими союзниками в деле вос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варивать с ребенком заботливым, ободряющим то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щрять стремление ребенка задавать вопрос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детском саду запрещается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чать и наказывать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авлять проступки детей на всеобщее обозр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ходить к детям с плохим настро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ать с родителями поведение чужого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лять детей одн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жать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Конкурс профессионального мастерства «Молодой педагог» 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2" descr="C:\Users\Егор\Desktop\Наставничество выступление\Молодой педагог 2016\2016-04-07-1023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ши  конкурса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C:\Users\Егор\Desktop\Наставничество выступление\Молодой педагог 2016\2016-04-07-1024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й мара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C:\Users\Егор\Desktop\Наставничество выступление\Молодой педагог 2016\2016-04-07-1028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й мара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2" descr="C:\Users\Егор\Desktop\Наставничество выступление\Молодой педагог 2016\2016-04-07-1029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2" descr="C:\Users\Егор\Desktop\Наставничество выступление\Молодой педагог 2016\2016-04-07-1035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.С. Макаренко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 мной работали десятки молодых педагогов. Я убедился, что как бы человек успешно не кончил педагогический вуз, как бы он не был талантлив, а если не будет учиться на опыте, никогда не будет хорошим педагогом, я сам учился у более старых педагогов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Цел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наставничества в ДОУ 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ание поддержки молодым педагогическим работникам в их профессиональном становлении; формирование в ДОУ кадрового я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Задач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наставничества в ДОУ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овать у молодых специалистов интерес к педагогической деятельности и закрепить их профессиональную деятельность в дошкольном учрежден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ить процесс профессионального становления воспитателя, развить его способности самостоятельно и качественно выполнять возложенные на него обязанности по занимаемой долж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овать успешной адаптации молодых специалистов к корпоративной культуре, правилам поведения в Д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ДОУ - работает «Клуб молодой педагог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здание в ДОУ условий для  профессионального роста молодых специалистов, способствующих снижению проблем адаптации и успешному вхождению в профессиональную деятельность молодого педаг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амятка для молодых специалистов 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"Правила поведения и общения воспитателя в ДОУ"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йте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в душе прекрасный идеал, высокую мечту и стремиться к ней. Быть лучше, помня, что совершенствованию нет преде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 профессионально, быть в курсе последних достижений педагогической науки, не останавливаться на достигну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всегда в равновесии, сдерживая отрицательные эмо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ить из конфликтных ситуаций с достоинством и юмор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щать, сочувствовать, сопереживать, быть великодушным и снисходитель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ть легко, просто и радостно. Видеть во всем положительн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1760" y="83808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всегда доброжелательным. Дружелюбие – основа вашего здоров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юду навести порядок и уют, создать оазис доброты, любви и красоты – в душе, в семье, на работе. Прививайте это детя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добрым и честным. Помните, что добро, сделанное вами, всегда вернется к вам многократно увеличенны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мните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599840"/>
            <a:ext cx="808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ерпение – дар Неба". Обладающий терпением не унизится до разд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да есть тот, кому нужна ваша помощь, кому труднее, чем в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ая миссия женщины – нести в мир любовь, красоту и гармо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ектив – это тоже семья. Укрепляйте мир нашей семьи добрыми мыслями, добрыми словами, добрыми де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ши объяснения должны быть простыми и понятными дет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ребенок разговаривает с вами, слушайте его внимате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купитесь на похва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оздавайте конфликтных ситуац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ите за внешностью и повед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ше отношение к работе, людям, предметам – образец для подраж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вый</cp:lastModifiedBy>
  <dcterms:modified xsi:type="dcterms:W3CDTF">2020-05-04T08:00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