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2BD-ECF0-4D15-AC18-2A9E3631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28E-0816-4E4E-B532-611AF9FB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FD6-E4E4-425F-8DE1-A38A4F55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CB2-AD03-4F07-B45D-19896099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D45F-0823-407C-80AD-A84161A8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7ECD-B207-4C81-9E8F-D06A29F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E60F-9899-4706-8933-616A3B3E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FC9F-06AA-4DD8-A62C-BC1E568E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28D5-F471-494A-B55B-139B42EE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E019-F6FB-454F-8F01-82048FEA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D0A4-ACBE-41DD-8275-8444F7E5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CF9-C8AA-42A4-9690-61521D38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CCA8-7CF4-4A0D-A178-0FF5640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0B6E-1442-402A-9478-A59763B3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CFF7-F6A3-4107-992A-2265534C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E315-4D1C-452E-AA0D-03848983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997C-3349-466D-9EBE-41C31E2A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5F8-7927-4497-B65F-F3BE2CCF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AC6-64BF-4763-A6CA-DDBA3A7D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206-F526-4DEF-AA02-88F2CD15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834-3AF2-464D-B1FC-919145ED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593-4595-4537-9DDB-FBCF746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479-6DEE-4BAA-B43D-8BC4A68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9D5-2352-4AF5-A323-E45AF1E6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5BDA-659A-40F4-8179-DA38F29851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07BB-5B88-4E76-B961-D618DE1127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Наставничество молодого педагог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тель МБДОУ ДС№31 «Медвежон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Б. Боровс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спитывая детей, стремитесь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ь ребенка таким, каков он е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ажать в каждом ребенке ли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валить, поощрять, ободрять, создавая положительную эмоциональную атмосфер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ать не недостатки ребенка, а динамику его разви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ть родителей своими союзниками в деле вос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говаривать с ребенком заботливым, ободряющим то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ощрять стремление ребенка задавать вопрос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детском саду запрещается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ичать и наказывать де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авлять проступки детей на всеобщее обозр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ходить к детям с плохим настроен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ать с родителями поведение чужого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влять детей одн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жать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Конкурс профессионального мастерства «Молодой педагог»  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2" descr="C:\Users\Егор\Desktop\Наставничество выступление\Молодой педагог 2016\2016-04-07-1023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ши  конкурсан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C:\Users\Егор\Desktop\Наставничество выступление\Молодой педагог 2016\2016-04-07-1024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ворческий мараф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C:\Users\Егор\Desktop\Наставничество выступление\Молодой педагог 2016\2016-04-07-1028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ворческий мараф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2" descr="C:\Users\Егор\Desktop\Наставничество выступление\Молодой педагог 2016\2016-04-07-1029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2" descr="C:\Users\Егор\Desktop\Наставничество выступление\Молодой педагог 2016\2016-04-07-1035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.С. Макаренко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 мной работали десятки молодых педагогов. Я убедился, что как бы человек успешно не кончил педагогический вуз, как бы он не был талантлив, а если не будет учиться на опыте, никогда не будет хорошим педагогом, я сам учился у более старых педагогов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Цель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наставничества в ДОУ –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азание поддержки молодым педагогическим работникам в их профессиональном становлении; формирование в ДОУ кадрового я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Задач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наставничества в ДОУ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овать у молодых специалистов интерес к педагогической деятельности и закрепить их профессиональную деятельность в дошкольном учрежден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ить процесс профессионального становления воспитателя, развить его способности самостоятельно и качественно выполнять возложенные на него обязанности по занимаемой долж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овать успешной адаптации молодых специалистов к корпоративной культуре, правилам поведения в ДО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ДОУ - работает «Клуб молодой педагог»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оздание в ДОУ условий для  профессионального роста молодых специалистов, способствующих снижению проблем адаптации и успешному вхождению в профессиональную деятельность молодого педаг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амятка для молодых специалистов 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"Правила поведения и общения воспитателя в ДОУ"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йтес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в душе прекрасный идеал, высокую мечту и стремиться к ней. Быть лучше, помня, что совершенствованию нет преде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 профессионально, быть в курсе последних достижений педагогической науки, не останавливаться на достигну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ть всегда в равновесии, сдерживая отрицательные эмо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ить из конфликтных ситуаций с достоинством и юмор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щать, сочувствовать, сопереживать, быть великодушным и снисходитель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ть легко, просто и радостно. Видеть во всем положительно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1760" y="838080"/>
            <a:ext cx="7854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всегда доброжелательным. Дружелюбие – основа вашего здоровь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юду навести порядок и уют, создать оазис доброты, любви и красоты – в душе, в семье, на работе. Прививайте это детя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добрым и честным. Помните, что добро, сделанное вами, всегда вернется к вам многократно увеличенны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мните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599840"/>
            <a:ext cx="808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ерпение – дар Неба". Обладающий терпением не унизится до разд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да есть тот, кому нужна ваша помощь, кому труднее, чем в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ликая миссия женщины – нести в мир любовь, красоту и гармо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лектив – это тоже семья. Укрепляйте мир нашей семьи добрыми мыслями, добрыми словами, добрыми де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ши объяснения должны быть простыми и понятными дет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ребенок разговаривает с вами, слушайте его вниматель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купитесь на похва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оздавайте конфликтных ситуац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дите за внешностью и поведени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ше отношение к работе, людям, предметам – образец для подраж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вый</cp:lastModifiedBy>
  <dcterms:modified xsi:type="dcterms:W3CDTF">2020-05-04T08:00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