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9C3E-8A69-4339-9208-B7B80C342F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0E19-68E2-4AF9-AB11-50DB777FF6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C29-616E-48E6-A71F-0D2C6040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7D3-C650-4811-9088-00FAA2AA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52B-95C4-40FB-9765-D871C07D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FF1-5E6C-4C63-AF30-134EDF00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9941-9F59-4117-ACA2-97DB4F32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71DE-FDB1-4BF1-B993-49B3D8C3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3BE9-993E-4DA8-BC0F-E5F50DB1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43D2-4DF5-49D5-A19C-816C78E4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0610-4359-4792-ADA1-EEA6C946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8967-FA56-42EF-B493-8975E3A8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436C-93C3-4673-8C27-94500CBB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EFF-1D29-4222-A3C8-64F45102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FC1B-B7BD-4CBD-B754-FAEF85E3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DEEB-A08B-433C-A133-46649EA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C939-24BD-4A63-A849-4AD9B9BD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6FE3-2374-4022-B799-83239945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85B2-EC93-4765-874C-ED9651C6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C8A4-AA1E-48EF-B7A5-018A1D55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D5A5-C2BE-4B05-86BC-59403F18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55F9-5C69-4E7F-86D4-C0C98E2A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7AD4-EC4B-478B-A8CF-9CBB17DD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11BC2-6A09-4D4F-B221-BA40F093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602-34B7-4A90-BC22-96A31838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0A9C9-AB71-4360-8AA2-31BA74C0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6D34-C1DC-48DB-946C-D39C5D6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1386C-A634-4576-9073-4568F082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02B4-7110-445F-91C8-73E62976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BDE6E-EA87-4C12-B539-1D98F0DD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BAD4-B971-45F0-8522-B45FA37F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D617-9C1A-456F-9DC9-6608F29F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E0F-97FD-4482-A6A6-40606E45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41B-8FB3-47DC-A8D7-C43FF38A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698-2798-4BE7-AA02-140B0A03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E54-8EC0-4EA2-8EAC-4C778AE9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BFC-B78D-45AB-80FE-0F0A5F2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700-07E1-4A27-8873-A80FDF70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2823-B3F1-4BD6-B62D-A5757A7E2D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4886-5DE3-4006-BB2C-410347F3D3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C2DC-D3CB-4408-9D63-9C45A24416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95280" y="692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етвл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алгоритмическая конструкция, в которой в зависимости от результата проверки условия («да» или «нет») предусмотрен выбор одной из двух последовательностей действий (ветве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2"/>
          <a:stretch/>
        </p:blipFill>
        <p:spPr>
          <a:xfrm>
            <a:off x="2340000" y="3068640"/>
            <a:ext cx="4319640" cy="3486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395280" y="206064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, в основе которых лежит структура «ветвление», называ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ветвляющими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5" descr="http://img-fotki.yandex.ru/get/4608/sovaryaz-sova.1/0_5c8b9_728f857d_L"/>
          <p:cNvPicPr/>
          <p:nvPr/>
        </p:nvPicPr>
        <p:blipFill>
          <a:blip r:embed="rId3"/>
          <a:stretch/>
        </p:blipFill>
        <p:spPr>
          <a:xfrm>
            <a:off x="1908000" y="3068640"/>
            <a:ext cx="5185080" cy="345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6"/>
          <p:cNvSpPr/>
          <p:nvPr/>
        </p:nvSpPr>
        <p:spPr>
          <a:xfrm>
            <a:off x="468360" y="0"/>
            <a:ext cx="867564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,b:integer; d: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,b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:=a+b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d mod 2=0 then d:=a*b else d:=a/b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d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ая прямоугольная выноска 2"/>
          <p:cNvSpPr/>
          <p:nvPr/>
        </p:nvSpPr>
        <p:spPr>
          <a:xfrm>
            <a:off x="5724360" y="549360"/>
            <a:ext cx="2735280" cy="1584360"/>
          </a:xfrm>
          <a:prstGeom prst="wedgeRoundRectCallout">
            <a:avLst>
              <a:gd name="adj1" fmla="val -26148"/>
              <a:gd name="adj2" fmla="val 75199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 –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умма,частное,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из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287280" y="1773360"/>
            <a:ext cx="885672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ва числа. Вычесть из большего меньш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6"/>
          <p:cNvSpPr/>
          <p:nvPr/>
        </p:nvSpPr>
        <p:spPr>
          <a:xfrm>
            <a:off x="1187280" y="0"/>
            <a:ext cx="7777440" cy="68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,b,d:integer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,b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a&gt;b then d:=a-b else d:=b-a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d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ая прямоугольная выноска 2"/>
          <p:cNvSpPr/>
          <p:nvPr/>
        </p:nvSpPr>
        <p:spPr>
          <a:xfrm>
            <a:off x="5580000" y="549360"/>
            <a:ext cx="3095640" cy="1439640"/>
          </a:xfrm>
          <a:prstGeom prst="wedgeRoundRectCallout">
            <a:avLst>
              <a:gd name="adj1" fmla="val -23435"/>
              <a:gd name="adj2" fmla="val 69513"/>
              <a:gd name="adj3" fmla="val 16667"/>
            </a:avLst>
          </a:prstGeom>
          <a:solidFill>
            <a:srgbClr val="4f81bd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ерв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втор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d –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разность чис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287280" y="1773360"/>
            <a:ext cx="8856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число. Если оно больше 10, разделить его на 2, если меньше или равно 10, то умножить на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6"/>
          <p:cNvSpPr/>
          <p:nvPr/>
        </p:nvSpPr>
        <p:spPr>
          <a:xfrm>
            <a:off x="1187280" y="115920"/>
            <a:ext cx="7777440" cy="68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: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a&lt;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hen a:=a*5 else a:=a/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6"/>
          <p:cNvSpPr/>
          <p:nvPr/>
        </p:nvSpPr>
        <p:spPr>
          <a:xfrm>
            <a:off x="287280" y="1773360"/>
            <a:ext cx="8856720" cy="62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программу, которая спрашивает возраст человека и, если ему 18 лет и больше, сообщает “Замечательно. Вы уже можете водить автомобиль”, а в противном случае – “К сожалению, водить автомобиль Вам рановато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6"/>
          <p:cNvSpPr/>
          <p:nvPr/>
        </p:nvSpPr>
        <p:spPr>
          <a:xfrm>
            <a:off x="1187280" y="115920"/>
            <a:ext cx="7777440" cy="87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: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a&gt;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 then Writeln (‘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мечательно. Вы уже можете водить автомоби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 else Writeln (‘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сожалению, водить автомобиль Вам рановат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стые и составные 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8360" y="620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ст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условия состоят из одной операции сравнения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став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условия получаются из простых с помощью логических связок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95280" y="1773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Алгоритм определения принадлежности точк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отрезк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;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]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7"/>
          <p:cNvGrpSpPr/>
          <p:nvPr/>
        </p:nvGrpSpPr>
        <p:grpSpPr>
          <a:xfrm>
            <a:off x="1403280" y="2492280"/>
            <a:ext cx="6118200" cy="3457800"/>
            <a:chOff x="1403280" y="2492280"/>
            <a:chExt cx="6118200" cy="3457800"/>
          </a:xfrm>
        </p:grpSpPr>
        <p:sp>
          <p:nvSpPr>
            <p:cNvPr id="194" name="AutoShape 48"/>
            <p:cNvSpPr/>
            <p:nvPr/>
          </p:nvSpPr>
          <p:spPr>
            <a:xfrm>
              <a:off x="3780000" y="2781360"/>
              <a:ext cx="143640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, B,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49"/>
            <p:cNvSpPr/>
            <p:nvPr/>
          </p:nvSpPr>
          <p:spPr>
            <a:xfrm>
              <a:off x="2843280" y="3500280"/>
              <a:ext cx="3311280" cy="8654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&gt;=A) and (X&lt;=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50"/>
            <p:cNvSpPr/>
            <p:nvPr/>
          </p:nvSpPr>
          <p:spPr>
            <a:xfrm>
              <a:off x="1403280" y="4724280"/>
              <a:ext cx="143676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51"/>
            <p:cNvSpPr/>
            <p:nvPr/>
          </p:nvSpPr>
          <p:spPr>
            <a:xfrm>
              <a:off x="6084720" y="4724280"/>
              <a:ext cx="143676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52"/>
            <p:cNvSpPr/>
            <p:nvPr/>
          </p:nvSpPr>
          <p:spPr>
            <a:xfrm>
              <a:off x="4500720" y="24922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53"/>
            <p:cNvSpPr/>
            <p:nvPr/>
          </p:nvSpPr>
          <p:spPr>
            <a:xfrm>
              <a:off x="2124000" y="39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4"/>
            <p:cNvSpPr/>
            <p:nvPr/>
          </p:nvSpPr>
          <p:spPr>
            <a:xfrm>
              <a:off x="2340000" y="35733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5"/>
            <p:cNvSpPr/>
            <p:nvPr/>
          </p:nvSpPr>
          <p:spPr>
            <a:xfrm>
              <a:off x="6227640" y="35733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6"/>
            <p:cNvSpPr/>
            <p:nvPr/>
          </p:nvSpPr>
          <p:spPr>
            <a:xfrm>
              <a:off x="6084720" y="393372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7"/>
            <p:cNvSpPr/>
            <p:nvPr/>
          </p:nvSpPr>
          <p:spPr>
            <a:xfrm>
              <a:off x="4500720" y="3213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58"/>
            <p:cNvSpPr/>
            <p:nvPr/>
          </p:nvSpPr>
          <p:spPr>
            <a:xfrm>
              <a:off x="6804000" y="393372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9"/>
            <p:cNvSpPr/>
            <p:nvPr/>
          </p:nvSpPr>
          <p:spPr>
            <a:xfrm>
              <a:off x="2124000" y="393372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60"/>
            <p:cNvSpPr/>
            <p:nvPr/>
          </p:nvSpPr>
          <p:spPr>
            <a:xfrm>
              <a:off x="6804000" y="5157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61"/>
            <p:cNvSpPr/>
            <p:nvPr/>
          </p:nvSpPr>
          <p:spPr>
            <a:xfrm>
              <a:off x="2124000" y="5157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2"/>
            <p:cNvSpPr/>
            <p:nvPr/>
          </p:nvSpPr>
          <p:spPr>
            <a:xfrm>
              <a:off x="4572000" y="566100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63"/>
            <p:cNvSpPr/>
            <p:nvPr/>
          </p:nvSpPr>
          <p:spPr>
            <a:xfrm>
              <a:off x="2124000" y="5661000"/>
              <a:ext cx="244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64"/>
            <p:cNvSpPr/>
            <p:nvPr/>
          </p:nvSpPr>
          <p:spPr>
            <a:xfrm>
              <a:off x="4572000" y="5661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23"/>
          <p:cNvSpPr/>
          <p:nvPr/>
        </p:nvSpPr>
        <p:spPr>
          <a:xfrm>
            <a:off x="611280" y="6165720"/>
            <a:ext cx="4824360" cy="0"/>
          </a:xfrm>
          <a:prstGeom prst="line">
            <a:avLst/>
          </a:prstGeom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4"/>
          <p:cNvSpPr/>
          <p:nvPr/>
        </p:nvSpPr>
        <p:spPr>
          <a:xfrm>
            <a:off x="154764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5"/>
          <p:cNvSpPr/>
          <p:nvPr/>
        </p:nvSpPr>
        <p:spPr>
          <a:xfrm>
            <a:off x="4427640" y="6021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6"/>
          <p:cNvSpPr/>
          <p:nvPr/>
        </p:nvSpPr>
        <p:spPr>
          <a:xfrm>
            <a:off x="298764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5940360" y="59500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5435640" y="5950080"/>
            <a:ext cx="34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ринадл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111456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262584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406728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5364000" y="5950080"/>
            <a:ext cx="37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Не принадл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2627280" y="6308640"/>
            <a:ext cx="100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06728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Заголовок 2"/>
          <p:cNvSpPr/>
          <p:nvPr/>
        </p:nvSpPr>
        <p:spPr>
          <a:xfrm>
            <a:off x="611280" y="14292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Условный оператор Сложные 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68360" y="1916280"/>
            <a:ext cx="5688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program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n_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x, a, b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Определение принадле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чки отрезку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Введите а, b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readln (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Введите x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readln 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if (x&gt;=a)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and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(x&lt;=b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Точка принадлежит отрезку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else 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Точка не принадлежит отрезку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7"/>
          <p:cNvGrpSpPr/>
          <p:nvPr/>
        </p:nvGrpSpPr>
        <p:grpSpPr>
          <a:xfrm>
            <a:off x="4551480" y="2349360"/>
            <a:ext cx="4592160" cy="3143520"/>
            <a:chOff x="4551480" y="2349360"/>
            <a:chExt cx="4592160" cy="3143520"/>
          </a:xfrm>
        </p:grpSpPr>
        <p:sp>
          <p:nvSpPr>
            <p:cNvPr id="226" name="AutoShape 48"/>
            <p:cNvSpPr/>
            <p:nvPr/>
          </p:nvSpPr>
          <p:spPr>
            <a:xfrm>
              <a:off x="6335280" y="261216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, b,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49"/>
            <p:cNvSpPr/>
            <p:nvPr/>
          </p:nvSpPr>
          <p:spPr>
            <a:xfrm>
              <a:off x="5632200" y="3265560"/>
              <a:ext cx="2485440" cy="7866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&gt;=a) and (x&lt;=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50"/>
            <p:cNvSpPr/>
            <p:nvPr/>
          </p:nvSpPr>
          <p:spPr>
            <a:xfrm>
              <a:off x="4551480" y="437832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51"/>
            <p:cNvSpPr/>
            <p:nvPr/>
          </p:nvSpPr>
          <p:spPr>
            <a:xfrm>
              <a:off x="8065440" y="437832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52"/>
            <p:cNvSpPr/>
            <p:nvPr/>
          </p:nvSpPr>
          <p:spPr>
            <a:xfrm>
              <a:off x="6876360" y="23493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53"/>
            <p:cNvSpPr/>
            <p:nvPr/>
          </p:nvSpPr>
          <p:spPr>
            <a:xfrm>
              <a:off x="5092200" y="3659760"/>
              <a:ext cx="59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4"/>
            <p:cNvSpPr/>
            <p:nvPr/>
          </p:nvSpPr>
          <p:spPr>
            <a:xfrm>
              <a:off x="4908960" y="333216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5"/>
            <p:cNvSpPr/>
            <p:nvPr/>
          </p:nvSpPr>
          <p:spPr>
            <a:xfrm>
              <a:off x="8172720" y="333216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6"/>
            <p:cNvSpPr/>
            <p:nvPr/>
          </p:nvSpPr>
          <p:spPr>
            <a:xfrm>
              <a:off x="8065440" y="3659760"/>
              <a:ext cx="5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7"/>
            <p:cNvSpPr/>
            <p:nvPr/>
          </p:nvSpPr>
          <p:spPr>
            <a:xfrm>
              <a:off x="6876360" y="30045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8"/>
            <p:cNvSpPr/>
            <p:nvPr/>
          </p:nvSpPr>
          <p:spPr>
            <a:xfrm>
              <a:off x="8605440" y="365976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9"/>
            <p:cNvSpPr/>
            <p:nvPr/>
          </p:nvSpPr>
          <p:spPr>
            <a:xfrm>
              <a:off x="5092200" y="365976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0"/>
            <p:cNvSpPr/>
            <p:nvPr/>
          </p:nvSpPr>
          <p:spPr>
            <a:xfrm>
              <a:off x="8605440" y="4772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1"/>
            <p:cNvSpPr/>
            <p:nvPr/>
          </p:nvSpPr>
          <p:spPr>
            <a:xfrm>
              <a:off x="5092200" y="4772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62"/>
            <p:cNvSpPr/>
            <p:nvPr/>
          </p:nvSpPr>
          <p:spPr>
            <a:xfrm>
              <a:off x="6930000" y="5230080"/>
              <a:ext cx="167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63"/>
            <p:cNvSpPr/>
            <p:nvPr/>
          </p:nvSpPr>
          <p:spPr>
            <a:xfrm>
              <a:off x="5092200" y="5230080"/>
              <a:ext cx="183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64"/>
            <p:cNvSpPr/>
            <p:nvPr/>
          </p:nvSpPr>
          <p:spPr>
            <a:xfrm>
              <a:off x="6930000" y="523008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4"/>
          <p:cNvSpPr/>
          <p:nvPr/>
        </p:nvSpPr>
        <p:spPr>
          <a:xfrm>
            <a:off x="395280" y="981000"/>
            <a:ext cx="842472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записи любого алгоритма достаточ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ёх основных алгоритмических констру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структур): следования, ветвления, повт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алгоритмическая конструкция, в которой в зависимости от результата проверки условия (да или нет) предусмотрен выбор одной из двух последовательностей действий (ветв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в основе которых лежит структура «ветвление»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етвляющими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олная форма 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5"/>
          <p:cNvGrpSpPr/>
          <p:nvPr/>
        </p:nvGrpSpPr>
        <p:grpSpPr>
          <a:xfrm>
            <a:off x="5148360" y="620640"/>
            <a:ext cx="3601800" cy="3097080"/>
            <a:chOff x="5148360" y="620640"/>
            <a:chExt cx="3601800" cy="3097080"/>
          </a:xfrm>
        </p:grpSpPr>
        <p:sp>
          <p:nvSpPr>
            <p:cNvPr id="137" name="Rectangle 36"/>
            <p:cNvSpPr/>
            <p:nvPr/>
          </p:nvSpPr>
          <p:spPr>
            <a:xfrm>
              <a:off x="5148360" y="2277720"/>
              <a:ext cx="1441440" cy="433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йствие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7"/>
            <p:cNvSpPr/>
            <p:nvPr/>
          </p:nvSpPr>
          <p:spPr>
            <a:xfrm>
              <a:off x="6156360" y="1125360"/>
              <a:ext cx="1584360" cy="719280"/>
            </a:xfrm>
            <a:prstGeom prst="flowChartDecision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8"/>
            <p:cNvSpPr/>
            <p:nvPr/>
          </p:nvSpPr>
          <p:spPr>
            <a:xfrm>
              <a:off x="7308720" y="2277720"/>
              <a:ext cx="1441440" cy="433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йствие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39"/>
            <p:cNvSpPr/>
            <p:nvPr/>
          </p:nvSpPr>
          <p:spPr>
            <a:xfrm>
              <a:off x="6948360" y="62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0"/>
            <p:cNvSpPr/>
            <p:nvPr/>
          </p:nvSpPr>
          <p:spPr>
            <a:xfrm>
              <a:off x="5867280" y="14857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1"/>
            <p:cNvSpPr/>
            <p:nvPr/>
          </p:nvSpPr>
          <p:spPr>
            <a:xfrm>
              <a:off x="8029440" y="14857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2"/>
            <p:cNvSpPr/>
            <p:nvPr/>
          </p:nvSpPr>
          <p:spPr>
            <a:xfrm>
              <a:off x="5867280" y="2709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3"/>
            <p:cNvSpPr/>
            <p:nvPr/>
          </p:nvSpPr>
          <p:spPr>
            <a:xfrm>
              <a:off x="8029440" y="2709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4"/>
            <p:cNvSpPr/>
            <p:nvPr/>
          </p:nvSpPr>
          <p:spPr>
            <a:xfrm>
              <a:off x="6948360" y="3213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45"/>
            <p:cNvSpPr/>
            <p:nvPr/>
          </p:nvSpPr>
          <p:spPr>
            <a:xfrm>
              <a:off x="7740720" y="148572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6"/>
            <p:cNvSpPr/>
            <p:nvPr/>
          </p:nvSpPr>
          <p:spPr>
            <a:xfrm>
              <a:off x="5869080" y="148572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7"/>
            <p:cNvSpPr/>
            <p:nvPr/>
          </p:nvSpPr>
          <p:spPr>
            <a:xfrm flipH="1">
              <a:off x="5869080" y="321300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8"/>
            <p:cNvSpPr/>
            <p:nvPr/>
          </p:nvSpPr>
          <p:spPr>
            <a:xfrm flipH="1">
              <a:off x="6948000" y="321300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2960" y="1000080"/>
            <a:ext cx="414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с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&lt;условие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&lt;действия 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нач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&lt;действия 2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9640" y="3213000"/>
          <a:ext cx="5083200" cy="3008520"/>
        </p:xfrm>
        <a:graphic>
          <a:graphicData uri="http://schemas.openxmlformats.org/drawingml/2006/table">
            <a:tbl>
              <a:tblPr/>
              <a:tblGrid>
                <a:gridCol w="508320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d5ed"/>
                    </a:solidFill>
                  </a:tcPr>
                </a:tc>
              </a:tr>
              <a:tr h="24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писание частиц НЕ, 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а под удар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сать 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ач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сать 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d5ed"/>
                    </a:solidFill>
                  </a:tcPr>
                </a:tc>
              </a:tr>
            </a:tbl>
          </a:graphicData>
        </a:graphic>
      </p:graphicFrame>
      <p:pic>
        <p:nvPicPr>
          <p:cNvPr id="152" name="Picture 28" descr="http://wiki.vspu.ru/_media/workroom/ikto/m5/tatiana_du/0004-007-razrjady-chastits.png"/>
          <p:cNvPicPr/>
          <p:nvPr/>
        </p:nvPicPr>
        <p:blipFill>
          <a:blip r:embed="rId2"/>
          <a:stretch/>
        </p:blipFill>
        <p:spPr>
          <a:xfrm>
            <a:off x="6372360" y="3459240"/>
            <a:ext cx="2259000" cy="339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Заголовок 2"/>
          <p:cNvSpPr/>
          <p:nvPr/>
        </p:nvSpPr>
        <p:spPr>
          <a:xfrm>
            <a:off x="539640" y="189000"/>
            <a:ext cx="860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бщий вид условного опера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286000" y="3143160"/>
            <a:ext cx="485784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нак «;» не стави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5280" y="907920"/>
            <a:ext cx="849780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ная форма условного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условие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оператор_1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оператор_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95280" y="2060640"/>
            <a:ext cx="8497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кращённая форма условного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условие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оператор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833480" y="5805360"/>
            <a:ext cx="2667240" cy="719280"/>
          </a:xfrm>
          <a:prstGeom prst="rect">
            <a:avLst/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Оп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856040" y="5805360"/>
            <a:ext cx="2667240" cy="719280"/>
          </a:xfrm>
          <a:prstGeom prst="rect">
            <a:avLst/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3203640" y="5445000"/>
            <a:ext cx="0" cy="360360"/>
          </a:xfrm>
          <a:prstGeom prst="line">
            <a:avLst/>
          </a:prstGeom>
          <a:ln w="38160">
            <a:solidFill>
              <a:srgbClr val="01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6226200" y="5445000"/>
            <a:ext cx="0" cy="360360"/>
          </a:xfrm>
          <a:prstGeom prst="line">
            <a:avLst/>
          </a:prstGeom>
          <a:ln w="38160">
            <a:solidFill>
              <a:srgbClr val="01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195640" y="501336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219640" y="501336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ж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 flipV="1">
            <a:off x="3419640" y="458136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6156360" y="450864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197080" y="3860640"/>
            <a:ext cx="511164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- логическ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1643040" y="30002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445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900" spc="-1" strike="noStrike">
                <a:solidFill>
                  <a:srgbClr val="4f81bd"/>
                </a:solidFill>
                <a:latin typeface="Comic Sans MS"/>
              </a:rPr>
              <a:t>РЕШЕНИЕ ЗАДАЧ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179280" y="1844640"/>
            <a:ext cx="8964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число. Если оно неотрицательно, вычесть из него 10, в противном случае прибавить к нему 1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6"/>
          <p:cNvSpPr/>
          <p:nvPr/>
        </p:nvSpPr>
        <p:spPr>
          <a:xfrm>
            <a:off x="179280" y="1341360"/>
            <a:ext cx="87156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647640" y="333360"/>
            <a:ext cx="7777080" cy="68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:integer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a&gt;0 then a:=a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 else a:=a+10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287280" y="1773360"/>
            <a:ext cx="8856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ва числа. Если их произведение отрицательно, умножить его на -2 и вывести на экран, в противном случае увеличить е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 3 раза и вывести на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6"/>
          <p:cNvSpPr/>
          <p:nvPr/>
        </p:nvSpPr>
        <p:spPr>
          <a:xfrm>
            <a:off x="1187280" y="0"/>
            <a:ext cx="777744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,b,d:integer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,b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:=a*b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d&lt;0 then d:=d*(-2) else d:=d*3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d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ая прямоугольная выноска 2"/>
          <p:cNvSpPr/>
          <p:nvPr/>
        </p:nvSpPr>
        <p:spPr>
          <a:xfrm>
            <a:off x="5651640" y="549360"/>
            <a:ext cx="2592360" cy="1584360"/>
          </a:xfrm>
          <a:prstGeom prst="wedgeRoundRectCallout">
            <a:avLst>
              <a:gd name="adj1" fmla="val -26444"/>
              <a:gd name="adj2" fmla="val 6769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 –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из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6"/>
          <p:cNvSpPr/>
          <p:nvPr/>
        </p:nvSpPr>
        <p:spPr>
          <a:xfrm>
            <a:off x="287280" y="1773360"/>
            <a:ext cx="885672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ва числа. Если сумма этих чисел четная, найти произведение, в противном случае, найти частное этих чис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Пользователь</cp:lastModifiedBy>
  <dcterms:modified xsi:type="dcterms:W3CDTF">2020-04-15T08:08:07Z</dcterms:modified>
  <cp:revision>95</cp:revision>
  <dc:subject/>
  <dc:title>Презентация PowerPoint</dc:title>
</cp:coreProperties>
</file>