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4F1B-4766-4AB8-9E98-0D08E8FCAA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9A6B-286F-48A3-A10D-9F3A2EC3D4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F88-38C1-44D5-8E4A-7BB7A5C4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6A3-CA1B-4C48-9A40-A95FF9E5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CBE-8523-4651-995B-EEC0DB1E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5F0-FDC8-40CF-AC95-6D2E2AB6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3483-6AFB-434D-884A-D907BFD2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6858-151E-4085-A5DA-EE70CDE6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35EB-4F03-4390-AA76-BA549521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1436-80F0-43AB-91C0-1AC7D769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116F-0784-44B3-930A-2507A60C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890F-47A9-41A4-9EBF-6801F33B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016D-FABF-4365-8132-C268E3C0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AF7-7610-43FE-8793-30C995AD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DFA0-B155-422A-A151-EC08378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1412-B3C9-4E35-A2A2-B6848AD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2468-C662-4A1A-83D5-CDE8451E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2160-8957-421C-A870-D549D52C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2CE6-8F9B-4777-827C-12EF459E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3313-F4C0-4B04-A912-7A606462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94FA-5C44-4657-B6E7-5734002B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736C-8AF1-451F-8696-F4F41E94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587B-DE92-44DA-8A30-DF50E7EB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2640-C528-4BEA-97FD-55F033D5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130-9CE5-401B-BB74-212F27C4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C8AC-8BF6-4DD4-A2F0-29A92BEF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8CFE-3AE3-4A7E-AB53-120B4FDB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1D4C-6F92-4013-8C8F-A702D88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5F53-F545-492D-94D4-380AF4AC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38F0-A597-485F-B658-D887A875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0337-DDA5-49A0-BC20-B318FC1D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A3C3-5361-469F-931E-04B95AAD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F72-7EC3-4571-8DF8-61567FE1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127-FFE4-4239-B9E7-37B1F685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3A6-2258-4060-9740-4A24DAA4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40C-3E27-450C-8312-5026FBB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1A8-B4D3-43AE-9635-83C1C2A9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A0A-B67D-4A96-9C56-7E99A37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B72D-8E85-4946-A8B7-A70F465E4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86D8-21C7-4EFC-9DBD-3E2D19CB0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28D4-2FC2-4FDA-8DAB-CE07A8BB8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95280" y="692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етв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алгоритмическая конструкция, в которой в зависимости от результата проверки условия («да» или «нет») предусмотрен выбор одной из двух последовательностей действий (ветве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4319640" cy="3486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395280" y="2060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, в основе которых лежит структура «ветвление»,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ветвляющими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5" descr="http://img-fotki.yandex.ru/get/4608/sovaryaz-sova.1/0_5c8b9_728f857d_L"/>
          <p:cNvPicPr/>
          <p:nvPr/>
        </p:nvPicPr>
        <p:blipFill>
          <a:blip r:embed="rId3"/>
          <a:stretch/>
        </p:blipFill>
        <p:spPr>
          <a:xfrm>
            <a:off x="1908000" y="3068640"/>
            <a:ext cx="5185080" cy="345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468360" y="0"/>
            <a:ext cx="867564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,b:integer; d: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,b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:=a+b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d mod 2=0 then d:=a*b else d:=a/b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d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ая прямоугольная выноска 2"/>
          <p:cNvSpPr/>
          <p:nvPr/>
        </p:nvSpPr>
        <p:spPr>
          <a:xfrm>
            <a:off x="5724360" y="549360"/>
            <a:ext cx="2735280" cy="1584360"/>
          </a:xfrm>
          <a:prstGeom prst="wedgeRoundRectCallout">
            <a:avLst>
              <a:gd name="adj1" fmla="val -26148"/>
              <a:gd name="adj2" fmla="val 7519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 –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умма,частное,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287280" y="1773360"/>
            <a:ext cx="88567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ва числа. Вычесть из большего меньш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6"/>
          <p:cNvSpPr/>
          <p:nvPr/>
        </p:nvSpPr>
        <p:spPr>
          <a:xfrm>
            <a:off x="1187280" y="0"/>
            <a:ext cx="777744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,b,d:intege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,b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gt;b then d:=a-b else d:=b-a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d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ая прямоугольная выноска 2"/>
          <p:cNvSpPr/>
          <p:nvPr/>
        </p:nvSpPr>
        <p:spPr>
          <a:xfrm>
            <a:off x="5580000" y="549360"/>
            <a:ext cx="3095640" cy="1439640"/>
          </a:xfrm>
          <a:prstGeom prst="wedgeRoundRectCallout">
            <a:avLst>
              <a:gd name="adj1" fmla="val -23435"/>
              <a:gd name="adj2" fmla="val 69513"/>
              <a:gd name="adj3" fmla="val 16667"/>
            </a:avLst>
          </a:prstGeom>
          <a:solidFill>
            <a:srgbClr val="4f81bd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ерв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тор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 –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азность чис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287280" y="1773360"/>
            <a:ext cx="8856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число. Если оно больше 10, разделить его на 2, если меньше или равно 10, то умножить на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"/>
          <p:cNvSpPr/>
          <p:nvPr/>
        </p:nvSpPr>
        <p:spPr>
          <a:xfrm>
            <a:off x="1187280" y="115920"/>
            <a:ext cx="777744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: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lt;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hen a:=a*5 else a:=a/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6"/>
          <p:cNvSpPr/>
          <p:nvPr/>
        </p:nvSpPr>
        <p:spPr>
          <a:xfrm>
            <a:off x="287280" y="1773360"/>
            <a:ext cx="885672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программу, которая спрашивает возраст человека и, если ему 18 лет и больше, сообщает “Замечательно. Вы уже можете водить автомобиль”, а в противном случае – “К сожалению, водить автомобиль Вам рановато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6"/>
          <p:cNvSpPr/>
          <p:nvPr/>
        </p:nvSpPr>
        <p:spPr>
          <a:xfrm>
            <a:off x="1187280" y="115920"/>
            <a:ext cx="7777440" cy="87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: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gt;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 then Writeln (‘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мечательно. Вы уже можете водить автомоби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 else Writeln (‘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сожалению, водить автомобиль Вам ранова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стые и состав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620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ст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условия состоят из одной операции сравнения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став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условия получаются из простых с помощью логических связок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95280" y="1773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Алгоритм определения принадлежности точк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отрезк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;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]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7"/>
          <p:cNvGrpSpPr/>
          <p:nvPr/>
        </p:nvGrpSpPr>
        <p:grpSpPr>
          <a:xfrm>
            <a:off x="1403280" y="2492280"/>
            <a:ext cx="6118200" cy="3457800"/>
            <a:chOff x="1403280" y="2492280"/>
            <a:chExt cx="6118200" cy="3457800"/>
          </a:xfrm>
        </p:grpSpPr>
        <p:sp>
          <p:nvSpPr>
            <p:cNvPr id="194" name="AutoShape 48"/>
            <p:cNvSpPr/>
            <p:nvPr/>
          </p:nvSpPr>
          <p:spPr>
            <a:xfrm>
              <a:off x="3780000" y="2781360"/>
              <a:ext cx="143640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49"/>
            <p:cNvSpPr/>
            <p:nvPr/>
          </p:nvSpPr>
          <p:spPr>
            <a:xfrm>
              <a:off x="2843280" y="3500280"/>
              <a:ext cx="3311280" cy="8654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50"/>
            <p:cNvSpPr/>
            <p:nvPr/>
          </p:nvSpPr>
          <p:spPr>
            <a:xfrm>
              <a:off x="140328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51"/>
            <p:cNvSpPr/>
            <p:nvPr/>
          </p:nvSpPr>
          <p:spPr>
            <a:xfrm>
              <a:off x="608472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52"/>
            <p:cNvSpPr/>
            <p:nvPr/>
          </p:nvSpPr>
          <p:spPr>
            <a:xfrm>
              <a:off x="4500720" y="2492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53"/>
            <p:cNvSpPr/>
            <p:nvPr/>
          </p:nvSpPr>
          <p:spPr>
            <a:xfrm>
              <a:off x="2124000" y="39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4"/>
            <p:cNvSpPr/>
            <p:nvPr/>
          </p:nvSpPr>
          <p:spPr>
            <a:xfrm>
              <a:off x="234000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622764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6"/>
            <p:cNvSpPr/>
            <p:nvPr/>
          </p:nvSpPr>
          <p:spPr>
            <a:xfrm>
              <a:off x="6084720" y="393372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7"/>
            <p:cNvSpPr/>
            <p:nvPr/>
          </p:nvSpPr>
          <p:spPr>
            <a:xfrm>
              <a:off x="4500720" y="3213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680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>
              <a:off x="212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680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61"/>
            <p:cNvSpPr/>
            <p:nvPr/>
          </p:nvSpPr>
          <p:spPr>
            <a:xfrm>
              <a:off x="212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2"/>
            <p:cNvSpPr/>
            <p:nvPr/>
          </p:nvSpPr>
          <p:spPr>
            <a:xfrm>
              <a:off x="4572000" y="566100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63"/>
            <p:cNvSpPr/>
            <p:nvPr/>
          </p:nvSpPr>
          <p:spPr>
            <a:xfrm>
              <a:off x="2124000" y="566100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4"/>
            <p:cNvSpPr/>
            <p:nvPr/>
          </p:nvSpPr>
          <p:spPr>
            <a:xfrm>
              <a:off x="4572000" y="5661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23"/>
          <p:cNvSpPr/>
          <p:nvPr/>
        </p:nvSpPr>
        <p:spPr>
          <a:xfrm>
            <a:off x="611280" y="6165720"/>
            <a:ext cx="4824360" cy="0"/>
          </a:xfrm>
          <a:prstGeom prst="line">
            <a:avLst/>
          </a:prstGeom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4"/>
          <p:cNvSpPr/>
          <p:nvPr/>
        </p:nvSpPr>
        <p:spPr>
          <a:xfrm>
            <a:off x="154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5"/>
          <p:cNvSpPr/>
          <p:nvPr/>
        </p:nvSpPr>
        <p:spPr>
          <a:xfrm>
            <a:off x="4427640" y="602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6"/>
          <p:cNvSpPr/>
          <p:nvPr/>
        </p:nvSpPr>
        <p:spPr>
          <a:xfrm>
            <a:off x="298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5940360" y="59500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435640" y="5950080"/>
            <a:ext cx="34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111456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262584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5364000" y="5950080"/>
            <a:ext cx="37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Не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2627280" y="6308640"/>
            <a:ext cx="100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Заголовок 2"/>
          <p:cNvSpPr/>
          <p:nvPr/>
        </p:nvSpPr>
        <p:spPr>
          <a:xfrm>
            <a:off x="611280" y="14292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Условный оператор Слож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68360" y="1916280"/>
            <a:ext cx="5688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n_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x, a, b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Определение принадле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чки отрезку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Введите а, b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readln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Введите x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readln 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if (x&gt;=a)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and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(x&lt;=b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Точка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else 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'Точка не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7"/>
          <p:cNvGrpSpPr/>
          <p:nvPr/>
        </p:nvGrpSpPr>
        <p:grpSpPr>
          <a:xfrm>
            <a:off x="4551480" y="2349360"/>
            <a:ext cx="4592160" cy="3143520"/>
            <a:chOff x="4551480" y="2349360"/>
            <a:chExt cx="4592160" cy="3143520"/>
          </a:xfrm>
        </p:grpSpPr>
        <p:sp>
          <p:nvSpPr>
            <p:cNvPr id="226" name="AutoShape 48"/>
            <p:cNvSpPr/>
            <p:nvPr/>
          </p:nvSpPr>
          <p:spPr>
            <a:xfrm>
              <a:off x="6335280" y="261216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9"/>
            <p:cNvSpPr/>
            <p:nvPr/>
          </p:nvSpPr>
          <p:spPr>
            <a:xfrm>
              <a:off x="5632200" y="3265560"/>
              <a:ext cx="2485440" cy="7866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50"/>
            <p:cNvSpPr/>
            <p:nvPr/>
          </p:nvSpPr>
          <p:spPr>
            <a:xfrm>
              <a:off x="455148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51"/>
            <p:cNvSpPr/>
            <p:nvPr/>
          </p:nvSpPr>
          <p:spPr>
            <a:xfrm>
              <a:off x="806544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2"/>
            <p:cNvSpPr/>
            <p:nvPr/>
          </p:nvSpPr>
          <p:spPr>
            <a:xfrm>
              <a:off x="6876360" y="23493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3"/>
            <p:cNvSpPr/>
            <p:nvPr/>
          </p:nvSpPr>
          <p:spPr>
            <a:xfrm>
              <a:off x="5092200" y="3659760"/>
              <a:ext cx="59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4"/>
            <p:cNvSpPr/>
            <p:nvPr/>
          </p:nvSpPr>
          <p:spPr>
            <a:xfrm>
              <a:off x="4908960" y="333216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5"/>
            <p:cNvSpPr/>
            <p:nvPr/>
          </p:nvSpPr>
          <p:spPr>
            <a:xfrm>
              <a:off x="8172720" y="333216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6"/>
            <p:cNvSpPr/>
            <p:nvPr/>
          </p:nvSpPr>
          <p:spPr>
            <a:xfrm>
              <a:off x="8065440" y="365976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7"/>
            <p:cNvSpPr/>
            <p:nvPr/>
          </p:nvSpPr>
          <p:spPr>
            <a:xfrm>
              <a:off x="6876360" y="30045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8"/>
            <p:cNvSpPr/>
            <p:nvPr/>
          </p:nvSpPr>
          <p:spPr>
            <a:xfrm>
              <a:off x="860544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9"/>
            <p:cNvSpPr/>
            <p:nvPr/>
          </p:nvSpPr>
          <p:spPr>
            <a:xfrm>
              <a:off x="509220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0"/>
            <p:cNvSpPr/>
            <p:nvPr/>
          </p:nvSpPr>
          <p:spPr>
            <a:xfrm>
              <a:off x="860544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1"/>
            <p:cNvSpPr/>
            <p:nvPr/>
          </p:nvSpPr>
          <p:spPr>
            <a:xfrm>
              <a:off x="509220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62"/>
            <p:cNvSpPr/>
            <p:nvPr/>
          </p:nvSpPr>
          <p:spPr>
            <a:xfrm>
              <a:off x="6930000" y="5230080"/>
              <a:ext cx="167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63"/>
            <p:cNvSpPr/>
            <p:nvPr/>
          </p:nvSpPr>
          <p:spPr>
            <a:xfrm>
              <a:off x="5092200" y="5230080"/>
              <a:ext cx="183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4"/>
            <p:cNvSpPr/>
            <p:nvPr/>
          </p:nvSpPr>
          <p:spPr>
            <a:xfrm>
              <a:off x="6930000" y="523008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4"/>
          <p:cNvSpPr/>
          <p:nvPr/>
        </p:nvSpPr>
        <p:spPr>
          <a:xfrm>
            <a:off x="395280" y="981000"/>
            <a:ext cx="842472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записи любого алгоритма достаточ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ёх основных алгоритмических констру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структур): следования, ветвления, повт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алгоритмическая конструкция, в которой в зависимости от результата проверки условия (да или нет) предусмотрен выбор одной из двух последовательностей действий (ветв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в основе которых лежит структура «ветвление»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етвляющими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олная форма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5"/>
          <p:cNvGrpSpPr/>
          <p:nvPr/>
        </p:nvGrpSpPr>
        <p:grpSpPr>
          <a:xfrm>
            <a:off x="5148360" y="620640"/>
            <a:ext cx="3601800" cy="3097080"/>
            <a:chOff x="5148360" y="620640"/>
            <a:chExt cx="3601800" cy="3097080"/>
          </a:xfrm>
        </p:grpSpPr>
        <p:sp>
          <p:nvSpPr>
            <p:cNvPr id="137" name="Rectangle 36"/>
            <p:cNvSpPr/>
            <p:nvPr/>
          </p:nvSpPr>
          <p:spPr>
            <a:xfrm>
              <a:off x="514836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йств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7"/>
            <p:cNvSpPr/>
            <p:nvPr/>
          </p:nvSpPr>
          <p:spPr>
            <a:xfrm>
              <a:off x="6156360" y="1125360"/>
              <a:ext cx="1584360" cy="719280"/>
            </a:xfrm>
            <a:prstGeom prst="flowChartDecision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8"/>
            <p:cNvSpPr/>
            <p:nvPr/>
          </p:nvSpPr>
          <p:spPr>
            <a:xfrm>
              <a:off x="730872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йствие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9"/>
            <p:cNvSpPr/>
            <p:nvPr/>
          </p:nvSpPr>
          <p:spPr>
            <a:xfrm>
              <a:off x="6948360" y="62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0"/>
            <p:cNvSpPr/>
            <p:nvPr/>
          </p:nvSpPr>
          <p:spPr>
            <a:xfrm>
              <a:off x="586728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1"/>
            <p:cNvSpPr/>
            <p:nvPr/>
          </p:nvSpPr>
          <p:spPr>
            <a:xfrm>
              <a:off x="802944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586728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3"/>
            <p:cNvSpPr/>
            <p:nvPr/>
          </p:nvSpPr>
          <p:spPr>
            <a:xfrm>
              <a:off x="802944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4"/>
            <p:cNvSpPr/>
            <p:nvPr/>
          </p:nvSpPr>
          <p:spPr>
            <a:xfrm>
              <a:off x="6948360" y="3213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5"/>
            <p:cNvSpPr/>
            <p:nvPr/>
          </p:nvSpPr>
          <p:spPr>
            <a:xfrm>
              <a:off x="774072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6"/>
            <p:cNvSpPr/>
            <p:nvPr/>
          </p:nvSpPr>
          <p:spPr>
            <a:xfrm>
              <a:off x="586908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 flipH="1">
              <a:off x="5869080" y="321300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 flipH="1">
              <a:off x="6948000" y="32130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2960" y="1000080"/>
            <a:ext cx="414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с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&lt;услов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&lt;действия 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нач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&lt;действия 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9640" y="3213000"/>
          <a:ext cx="5083200" cy="3008520"/>
        </p:xfrm>
        <a:graphic>
          <a:graphicData uri="http://schemas.openxmlformats.org/drawingml/2006/table">
            <a:tbl>
              <a:tblPr/>
              <a:tblGrid>
                <a:gridCol w="508320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  <a:tr h="24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писание частиц НЕ,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под удар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ач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</a:tbl>
          </a:graphicData>
        </a:graphic>
      </p:graphicFrame>
      <p:pic>
        <p:nvPicPr>
          <p:cNvPr id="152" name="Picture 28" descr="http://wiki.vspu.ru/_media/workroom/ikto/m5/tatiana_du/0004-007-razrjady-chastits.png"/>
          <p:cNvPicPr/>
          <p:nvPr/>
        </p:nvPicPr>
        <p:blipFill>
          <a:blip r:embed="rId2"/>
          <a:stretch/>
        </p:blipFill>
        <p:spPr>
          <a:xfrm>
            <a:off x="6372360" y="3459240"/>
            <a:ext cx="2259000" cy="33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2"/>
          <p:cNvSpPr/>
          <p:nvPr/>
        </p:nvSpPr>
        <p:spPr>
          <a:xfrm>
            <a:off x="53964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бщий вид услов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286000" y="3143160"/>
            <a:ext cx="48578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нак «;» не став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5280" y="907920"/>
            <a:ext cx="84978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_1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оператор_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95280" y="2060640"/>
            <a:ext cx="8497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ён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83348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Оп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85604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320364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622620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195640" y="501336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219640" y="5013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 flipV="1">
            <a:off x="3419640" y="458136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6156360" y="450864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197080" y="3860640"/>
            <a:ext cx="511164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- логическ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164304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445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4f81bd"/>
                </a:solidFill>
                <a:latin typeface="Comic Sans MS"/>
              </a:rPr>
              <a:t>РЕШЕНИЕ ЗАДАЧ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179280" y="1844640"/>
            <a:ext cx="8964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число. Если оно неотрицательно, вычесть из него 10, в противном случае прибавить к нему 1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179280" y="1341360"/>
            <a:ext cx="87156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647640" y="333360"/>
            <a:ext cx="777708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:intege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a&gt;0 then a:=a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 else a:=a+10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a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287280" y="1773360"/>
            <a:ext cx="8856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ва числа. Если их произведение отрицательно, умножить его на -2 и вывести на экран, в противном случае увеличить е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 3 раза и вывести на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6"/>
          <p:cNvSpPr/>
          <p:nvPr/>
        </p:nvSpPr>
        <p:spPr>
          <a:xfrm>
            <a:off x="1187280" y="0"/>
            <a:ext cx="777744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am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 a,b,d:integer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ln (a,b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:=a*b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d&lt;0 then d:=d*(-2) else d:=d*3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ln (d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ая прямоугольная выноска 2"/>
          <p:cNvSpPr/>
          <p:nvPr/>
        </p:nvSpPr>
        <p:spPr>
          <a:xfrm>
            <a:off x="5651640" y="549360"/>
            <a:ext cx="2592360" cy="1584360"/>
          </a:xfrm>
          <a:prstGeom prst="wedgeRoundRectCallout">
            <a:avLst>
              <a:gd name="adj1" fmla="val -26444"/>
              <a:gd name="adj2" fmla="val 6769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 –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212760" y="536400"/>
            <a:ext cx="7529400" cy="1090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287280" y="1773360"/>
            <a:ext cx="885672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ва числа. Если сумма этих чисел четная, найти произведение, в противном случае, найти частное этих чис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0-04-15T08:08:07Z</dcterms:modified>
  <cp:revision>95</cp:revision>
  <dc:subject/>
  <dc:title>Презентация PowerPoint</dc:title>
</cp:coreProperties>
</file>