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968-0AAD-47C5-BA4C-C8C006C1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249-F22D-40DA-A094-6463A6D8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083-FCBD-49F5-88D9-5F81DB1F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0A3-4175-4B79-B813-A6BF28CB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984-2518-4418-A9C2-0C16C5E1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CB7-05AC-4EFA-B189-1B8B3300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2F5-DFA0-433D-9C52-4D7CCE85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CEB-7C73-45AF-A975-ECD46355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794-57E3-4C3F-AB6D-A533D195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EA6-C00C-4879-8147-8A4BF6D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A80-BF6D-4513-825C-B8F7C169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711-C38F-4882-B187-CB2B912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0A7F-E769-415F-AA7D-6A8182D20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методики воспитательной работы, основные принципы деятельностного подхода, виды и приемы современных 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5357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средней группы Васина Г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Технология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1413000"/>
            <a:ext cx="8858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следовательской деятельности в детском саду — сформировать у дошкольников основ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ючевые компетенции, способность к исследовательскому типу мыш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 и приемы организации экспериментально – исследовательск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ристические бес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новка и решение вопросов проблемного харак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ирование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создание моделей об изменениях в неживой природ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ксация результатов: наблюдений, опытов, экспериментов, трудов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погружение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краски, звуки, запахи и образы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ражание голосам и звукам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художественного сл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дактические игры, игровые обучающие и творчески развивающие ситу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ые поручения, действ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держание познавательно-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пыты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экспериментирова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Коллекционирование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классификационная раб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утешествие по кар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Путешествие по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реке време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ехнология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ТРИЗ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21392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З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теория решения изобретательских задач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ая создана ученым-изобретателем Т.С. Альтшулл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ит воспитывать и обучать ребенка под девизом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Творчество во всем!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ошкольный возраст уникален, ибо как сформируется ребенок, такова будет и его жизнь, именно поэтому важно не упустить этот период для раскрытия творческого потенциала каждого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ю использования данной технологии в детском саду является развитие, с одной стороны, таких качеств мышления, как гибкость, подвижность, системность, диалектичность; с другой – поисковой активности, стремления к новизне; речи и творческого вообра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задача использования ТРИЗ — технологии в дошкольном возрасте – это привить ребенку радость творческих откры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Информационно-коммуникационные техн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развивается современный ребенок, корен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м отличается от мира, в котором выросли его родители. Э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ъявляет качественно новые требования к дошкольному воспит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ервому звену непрерывного образования: образования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м современных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компьютер, интерактивная доска, планшет и др.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КТ в работе современного педаго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бор иллюстративного материала к занятиям и для оформления стендов, группы, кабинетов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канирование, интернет, принтер, презентация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бор дополнительного познавательного материала к занятиям, знакомство со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Личностно — ориентированная технолог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ются попытки создания условий личностно-ориентированных взаимодействий с детьми в развивающем пространстве, позволяющей ребенку проявить собственную активность, наиболее полно реализовать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рамках личностно-ориентированных технологий самостоятельными направлениями выделяю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манно-личностные технологии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сотрудничества реализует принцип демократизации дошкольного образования, равенство в отношениях педагога с ребенком, партнерство в системе взаимоотношений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Взрослый — ребено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едагог и дети создают условия развивающей среды, изготавливают пособия, игрушки, подарки к праздникам. Совместно определяют разнообразную творческую деятельность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игры, труд, концерты, праздники, развлечения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Технология проблемного обучения в детском са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ществуют четыре уровня проблемности в обуч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сам ставит проблему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задачу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сам решает её при активном слушании и обсуждении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ставит проблему, дети самостоятельно или под его руководством находят решение. Воспитатель направляет ребёнка на самостоятельные поиски путей решения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частично-поисковый метод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ставит проблему, воспитатель помогает её решить. У ребёнка воспитывается способность самостоятельно формулировать пробл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сам ставит проблему и сам её решает. Воспитатель даже не указывает на проблему: ребёнок должен увидеть её самостоятельно, а увидев, сформулировать и исследовать возможности и способы её решения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Исследовательский мет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итоге воспитывается способность самостоятельно анализир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ную ситуацию, самостоятельно находить правильный от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Технология портфолио дошкольни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фолио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ществует ряд функций портфоли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агностическая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фиксирует изменения и рост за определенный период времени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тельная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раскрывает весь спектр выполняемых работ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йтинговая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показывает диапазон умений и навыков ребенк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14560" y="-214560"/>
            <a:ext cx="9629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сновные методы вос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840" y="92880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тодами воспитания называют пути взаимосвязанной деятельности педагога и воспитанников, направленной на достижение целей воспитания. Опыт показывает, что взаимодействие воспитателя с воспитуемыми может осуществляться по-разному, в частности путем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епосредственного влияния на учеников (убеждение, нравоучение, требование, приказ, угроза, наказание, поощрение, личный пример, авторитет, просьба, совет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здания специальных условий, ситуаций и обстоятельств, которые побуждают воспитанника изменить собственное отношение к чему-либо, выразить свою позицию, осуществить поступок, проявить характер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спользования общественного мнения (референтной для воспитанника группы или коллектива – школьного, студенческого, профессионального), а также мнения значимого для него человек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вместной деятельности воспитателя и воспитанника (через общение и труд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бучения или самообразования, передачи информации или социального опыта, осуществляемых в кругу семьи, в процессе межличностного или профессионального общени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гружения в мир народных традиций и фольклорного творчества, чтения художественной литератур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Игровая технолог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ее включаются последователь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игр на обобщение предметов по определенным призна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Технология разноуровневого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дагогическая технология организации процесса, в рамках которого предполагается разный уровень усвоения учебного материала, то есть глубина и сложность одного и того же учебного материала различна в группах уровня А,Б, C, что дает возможность каждому воспитаннику овладевать учебным материалом на разном уровне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А, В, С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о не ниже базового, в зависимости от способностей и индивидуальных особенностей личности каждого воспитан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у технологии разноуровневого обучения составляют: психолого-педагогическая диагностика воспитанника; сетевое планирование; разноуровневый дидактический матери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Технология интегрированного занят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ированное занятие отличается от традиционного использованием межпредметных связей, предусматривающих лишь эпизодическое включение материала других предм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ирование — соединение знаний из разных образовательных областей на равноправной основе, дополняя друг друга. При этом решается несколько задач развития. В форме интегрированных занятий лучше проводить обобщающие занятия, презентации тем, итоговые зан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. Инклюзивное образов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ное (инклюзивное) образование – процесс интеграции, подразумевающий доступность образования для всех и создание образовательного пространства, соответствующего различным потребностям всех обучаем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инклюзивного образования обеспечивает равные права, доступность, возможность выбора подходящего образовательного маршрута для любого ребенка вне зависимости от его физических и других возмож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2. Здоровьесберегающие техн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оровьесберегающих технологий является обеспечение ребенку возможности сохранения здоровья, формирование у него необходимых знаний, умений, навыков по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оровьесберегающие педагогические технологии вклюсают все аспекты воздействия педагога на здоровье ребенка на разных уровнях – информационном, психологическом, био-энергетичес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5280" y="620280"/>
            <a:ext cx="81374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деляют три группы здоровьесберегающих технолог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Технологии сохранения и стимулирования здоровья: ритмопластика, динамические паузы, подвижные и спортивные игры, релаксация, технологии эстетической направленности, гимнастика пальчиковая, гимнастика для глаз, гимнастика дыхательная, гимнастика корригирующая, гимнастика ортопедическ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Технологии обучения здоровому образу жизни: коммуникативные игры, беседы из серии «Здоровье», самомассаж, точечный самомасса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Коррекционные технологии: арттерапия, технологии музыкального воздействия, сказкотерапия, технологии воздействия цветом, технологии коррекции поведения, психогимнастика, фонетическая и логопедическая ритм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alibri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alibri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системе методов воспитания существует несколько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классификаций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выделяемых по различным основания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 По 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характеру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действия на личность воспитанник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 убеждение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упражнение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ощрение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наказа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 По 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источнику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действия на личность воспитанник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словесные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проблемно-ситуативные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методы приучения и упражнени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методы стимулирова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методы торможени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методы руководства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ж) методы самовоспита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 По 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езультатам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действия на личность воспитанника выделяются методы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влияющие на нравственные установки, мотивы, отношения, формирующие представления, понятия, идеи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влияющие на привычки, определяющие тип повед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2560" y="214200"/>
            <a:ext cx="85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4. По 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аправленности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действия на личность воспитанника методы воспитания делятся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формирующие мировоззрение и осуществляющие обмен информаци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 организующие деятельность и стимулирующие мотивы поведения; в) оказывающие помощь воспитанникам и направленные на оценку их поступ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 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Бинарные 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тоды, предполагающие выделение пар методов «воспитания – самовоспитания». Это методы воздействи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на интеллектуальную сферу (убеждение – самоубеждение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мотивационную сферу (стимулирование (поощрение и наказание) –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тивация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эмоциональную сферу (внушение – самовнушение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волевую сферу (требование – упражнение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феру саморегуляции (коррекция поведения – самокоррекция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предметно-практическую сферу (воспитывающие ситуации –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циальные пробы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ж) экзистенциальную сферу (метод дилемм – рефлексия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1360" y="21384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инципы деятельностного подх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 деятельностным подходом понимают такой способ организации учебно-познавательной деятельности обучаемых, при котором они являются не пассивными «приёмниками» информации, а сами активно участвуют в учебном процесс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 деятельностного подхода является воспитание личности ребенка как субъекта жизнедеятельности. Быть субъектом – быть хозяином своей деятельности: ставить цели, решать задачи, отвечать за результат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уть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еятельностного подхода в обучении состоит в направлении «всех педагогических мер на организацию интенсивной, постоянно усложняющейся деятельности, ибо только через собственную деятельность человек усваивает науку и культуру, способы познания и преобразования мира, формирует и совершенствует личностные качества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ущность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деятельностного подхода раскрывается в принципе деятельности, который  можно охарактеризовать  китайской мудростью «Я слышу – я забываю, я вижу – я запоминаю, я делаю – я усваиваю». Еще Сократ говорил о том, что научиться играть на флейте можно только, играя  самому.  Точно также способности учащихся формируются лишь тогда, когда они  включены в самостоятельную учебно-познавательную деятельнос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0040" y="21420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  в практике преподава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беспечивается следующей системой дидактических принципов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нцип деятельности– заключается в том, что ученик, получая знания не в готовом виде, а, добывая их сам, осознает при этом содержание и формы своей учебной деятельности,  что способствует успешному формированию его способностей, общеучебных умений. Об этом принципе мы поговорим подробно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нцип непрерывности – означает преемственность между всеми ступенями и этапами обучения с учетом возрастных психологических особенностей развития детей. Непрерывность процесса обеспечивает инвариантностью технологии, а также преемственностью между всеми ступенями обучения содержания и методи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нцип целостности– предполагает формирование учащимися системного представления о мире, о роли и месте каждой науки в системе наук. У ребёнка должно быть сформировано обобщённое, целостное представление о мире (природе — обществе — самом себе), о роли и месте каждой науки в системе наук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нцип минимакса– заключается в следующем: школа должна предложить ученику возможность освоения содержания образования на максимальном для него уровне  и обеспечить при этом его усвоение на уровне социально безопасного минимума (государственного стандарта знаний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99680" y="571680"/>
            <a:ext cx="8086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 Принцип психологической комфортности– предполагает снятие всех стрессообразующих факторов учебного процесса, создание  на уроках доброжелательной атмосферы, развитие диалоговых форм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 Принцип вариативности– предполагает формирование учащимися способностей к адекватному принятию решений в ситуациях выбора, развитие у учащихся вариативного мышления, то есть понимания возможности различных вариантов решения проблемы, формирование способности к систематическому перебору вариантов и выбору оптимального вариа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 Принцип творчества– означает максимальную ориентацию на творческое начало в образовательном процессе, приобретение ими собственного опыта творческой деятельности. Еще Л.С. Выготский в замечательной книге «Педагогическая психология», опередившей свое время как минимум лет на 60, говорил о том, что в новой педагогике жизнь «раскрывается как система творчества… Каждая наша мысль, каждое наше движение и переживание являются стремлением к созданию новой действительности, прорывом вперед к чему-то новому». Для этого и сам процесс учения должен быть творческим. Он должен звать ребенка из «ограниченной и уравновешенной, устоявшейся абстракции к новому, еще не оцененном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временные педагогические технологии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7859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е время в педагогический лексикон прочно вошло понятие педагогической технологии. Технология – это совокупность приемов, применяемых в каком-либо деле, мастерстве, искусстве (толковый словарь). Есть множество определений понятия «педагогическая технология». Мы изберем следующее: это такое построение деятельности педагога, в которой все входящие в него действия представлены в определенной последовательности и целостности, а выполнение предполагает достижение необходимого результата и имеет прогнозируемы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400" y="428760"/>
            <a:ext cx="825804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числу современных образовательных технологий можно отне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ТРИЗ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ционно-коммуникац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но — ориентированная техн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 проблемного обучения в детском са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 портфолио дошк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овая техн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 разноуровнев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 интегрированного за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клюзив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10:48:43Z</dcterms:created>
  <dc:creator>Александр</dc:creator>
  <dc:description/>
  <dc:language>en-US</dc:language>
  <cp:lastModifiedBy>Галина</cp:lastModifiedBy>
  <dcterms:modified xsi:type="dcterms:W3CDTF">2019-02-26T18:50:38Z</dcterms:modified>
  <cp:revision>21</cp:revision>
  <dc:subject/>
  <dc:title>Слайд 1</dc:title>
</cp:coreProperties>
</file>