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B2B-3E5E-49CE-9304-00A29BAE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21D-6DEB-4D8C-963D-16F032E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85B-FFAB-4AC9-9A10-410235F3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689-7A3A-4CBB-99A7-9C8C7155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6B0-D17F-42F9-809C-91123A5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052-DC29-4490-8F06-E213690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E33-627E-4BA6-9ABA-79C8FCDA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E0C-3B1E-465A-A8C1-13C0A24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124-72A5-489E-8F29-F2EB61F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27F-2BDF-4B8B-827C-CEA64C7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956-281B-4AED-BB50-2BEC088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52A-420D-4C3E-8780-0FFC515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73ED-B67A-496B-9411-477944F6B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981000"/>
            <a:ext cx="835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руирование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чевого издели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2436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91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2997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789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11280" y="260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732720" y="260280"/>
            <a:ext cx="1904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80000" y="18900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32360" y="189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95640" y="1773360"/>
            <a:ext cx="856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95640" y="2852640"/>
            <a:ext cx="950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364500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95640" y="623736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32720" y="170028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732720" y="2852640"/>
            <a:ext cx="180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04000" y="623736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732720" y="371628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51280" y="198900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32360" y="198900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7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10920" y="638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47628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99736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76280"/>
            <a:ext cx="151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03640" y="476280"/>
            <a:ext cx="165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476280"/>
            <a:ext cx="0" cy="252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3640" y="5373720"/>
            <a:ext cx="2828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тка чертеж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11280" y="476280"/>
            <a:ext cx="4248360" cy="59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2436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91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997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789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95640" y="260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732720" y="260280"/>
            <a:ext cx="1904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80000" y="18900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32360" y="189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95640" y="1773360"/>
            <a:ext cx="856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95640" y="2852640"/>
            <a:ext cx="950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95640" y="364500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95640" y="623736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32720" y="170028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732720" y="2852640"/>
            <a:ext cx="180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04000" y="623736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32720" y="371628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08360" y="170028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32360" y="198900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9162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0" y="198900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5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95640" y="1989000"/>
            <a:ext cx="171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11640" y="184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916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67280" y="386064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24360" y="2708280"/>
            <a:ext cx="181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27640" y="2708280"/>
            <a:ext cx="180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56000" y="371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916280"/>
            <a:ext cx="28908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427640" y="350028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427640" y="652464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6165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3280" y="6093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11280" y="6237360"/>
            <a:ext cx="2089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627280" y="189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24000" y="62064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5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62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476280"/>
            <a:ext cx="71640" cy="1440"/>
          </a:xfrm>
          <a:custGeom>
            <a:avLst/>
            <a:gdLst/>
            <a:ahLst/>
            <a:rect l="l" t="t" r="r" b="b"/>
            <a:pathLst>
              <a:path w="45" h="1">
                <a:moveTo>
                  <a:pt x="0" y="0"/>
                </a:moveTo>
                <a:cubicBezTo>
                  <a:pt x="22" y="0"/>
                  <a:pt x="45" y="0"/>
                  <a:pt x="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197440" y="330840"/>
            <a:ext cx="573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6280"/>
            <a:ext cx="129564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32000" y="549360"/>
            <a:ext cx="144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49360"/>
            <a:ext cx="790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771280" y="47592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24000" y="907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50920" y="1341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24000" y="907920"/>
            <a:ext cx="142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924360" y="765720"/>
            <a:ext cx="115200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24000" y="1700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067280" y="69228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71640" y="765000"/>
            <a:ext cx="142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1</a:t>
            </a:r>
            <a:endParaRPr b="1" i="1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348000" y="836640"/>
            <a:ext cx="142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2</a:t>
            </a:r>
            <a:endParaRPr b="1" i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59280" y="189000"/>
            <a:ext cx="142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3</a:t>
            </a:r>
            <a:endParaRPr b="1" i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419640" y="189000"/>
            <a:ext cx="142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5</a:t>
            </a:r>
            <a:endParaRPr b="1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76360" y="404640"/>
            <a:ext cx="14292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987640" y="620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276720" y="69192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35280" y="90792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7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95640" y="1268280"/>
            <a:ext cx="171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40360" y="155736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411280" y="907920"/>
            <a:ext cx="1656000" cy="208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59280" y="1197000"/>
            <a:ext cx="142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4</a:t>
            </a:r>
            <a:endParaRPr b="1" i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1128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410920" y="47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10920" y="638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4581360"/>
            <a:ext cx="2971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нка чертеж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2436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91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2997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3789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95640" y="260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732720" y="476280"/>
            <a:ext cx="1904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780000" y="18900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932360" y="189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95640" y="1773360"/>
            <a:ext cx="856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195640" y="2852640"/>
            <a:ext cx="950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95640" y="364500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95640" y="623736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732720" y="170028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32720" y="2852640"/>
            <a:ext cx="180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04000" y="623736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732720" y="371628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08360" y="170028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32360" y="198900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19162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0" y="198900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5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95640" y="1989000"/>
            <a:ext cx="171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211640" y="184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1916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7280" y="386064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51280" y="3141720"/>
            <a:ext cx="181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427640" y="2708280"/>
            <a:ext cx="180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56000" y="371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1916280"/>
            <a:ext cx="28908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427640" y="350028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427640" y="652464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6165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3280" y="6093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411280" y="6237360"/>
            <a:ext cx="2089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627280" y="189000"/>
            <a:ext cx="2001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24000" y="62064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5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62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76280"/>
            <a:ext cx="71640" cy="1440"/>
          </a:xfrm>
          <a:custGeom>
            <a:avLst/>
            <a:gdLst/>
            <a:ahLst/>
            <a:rect l="l" t="t" r="r" b="b"/>
            <a:pathLst>
              <a:path w="45" h="1">
                <a:moveTo>
                  <a:pt x="0" y="0"/>
                </a:moveTo>
                <a:cubicBezTo>
                  <a:pt x="22" y="0"/>
                  <a:pt x="45" y="0"/>
                  <a:pt x="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97440" y="330840"/>
            <a:ext cx="573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476280"/>
            <a:ext cx="1295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549360"/>
            <a:ext cx="144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9360"/>
            <a:ext cx="790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71280" y="47592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924000" y="907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50920" y="1341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924000" y="907920"/>
            <a:ext cx="142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3924360" y="765720"/>
            <a:ext cx="115200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924000" y="1700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067280" y="69228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16360" y="620640"/>
            <a:ext cx="142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1</a:t>
            </a:r>
            <a:endParaRPr b="1" i="1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76720" y="765000"/>
            <a:ext cx="142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2</a:t>
            </a:r>
            <a:endParaRPr b="1" i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9280" y="333360"/>
            <a:ext cx="142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3</a:t>
            </a:r>
            <a:endParaRPr b="1" i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19640" y="404640"/>
            <a:ext cx="142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5</a:t>
            </a:r>
            <a:endParaRPr b="1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635280" y="90792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7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95640" y="1268280"/>
            <a:ext cx="171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40360" y="155736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59280" y="1197000"/>
            <a:ext cx="142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4</a:t>
            </a:r>
            <a:endParaRPr b="1" i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41128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47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10920" y="638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4762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12000" y="184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40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227640" y="40464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83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659640" y="18900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8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04000" y="836640"/>
            <a:ext cx="2858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0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227640" y="-2772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940360" y="404640"/>
            <a:ext cx="28728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579640" y="404640"/>
            <a:ext cx="360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9079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03640" y="9079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76720" y="765000"/>
            <a:ext cx="2858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1268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155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219640" y="1484280"/>
            <a:ext cx="1713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9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58920" y="907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998160" y="1198800"/>
            <a:ext cx="10051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907920"/>
            <a:ext cx="360360" cy="649440"/>
          </a:xfrm>
          <a:custGeom>
            <a:avLst/>
            <a:gdLst/>
            <a:ahLst/>
            <a:rect l="l" t="t" r="r" b="b"/>
            <a:pathLst>
              <a:path w="227" h="409">
                <a:moveTo>
                  <a:pt x="227" y="409"/>
                </a:moveTo>
                <a:cubicBezTo>
                  <a:pt x="200" y="307"/>
                  <a:pt x="174" y="205"/>
                  <a:pt x="136" y="137"/>
                </a:cubicBezTo>
                <a:cubicBezTo>
                  <a:pt x="98" y="69"/>
                  <a:pt x="23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643280" y="40464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642920" y="90792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88000" y="1125000"/>
            <a:ext cx="144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858920" y="177300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67280" y="371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24360" y="1844640"/>
            <a:ext cx="28728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364000" y="63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924000" y="623736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924000" y="6237000"/>
            <a:ext cx="1439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80000" y="3500280"/>
            <a:ext cx="1998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780000" y="6453360"/>
            <a:ext cx="1998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635280" y="602136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5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508720" y="6093000"/>
            <a:ext cx="856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06728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51280" y="2708280"/>
            <a:ext cx="181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4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84720" y="1700280"/>
            <a:ext cx="171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 7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867280" y="2421000"/>
            <a:ext cx="1717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8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56360" y="11592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9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35640" y="189000"/>
            <a:ext cx="28584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360" y="1197000"/>
            <a:ext cx="478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859280" y="981000"/>
            <a:ext cx="1144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1</a:t>
            </a:r>
            <a:endParaRPr b="1" lang="en-US" sz="1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56000" y="836640"/>
            <a:ext cx="2858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3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43280" y="1557360"/>
            <a:ext cx="200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32360" y="4581360"/>
            <a:ext cx="3600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троение перед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9640" y="40464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1640" y="1916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2436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03640" y="476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11280" y="191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2997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378936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19162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11640" y="184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1916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356000" y="371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1640" y="1916280"/>
            <a:ext cx="28908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6165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11280" y="6237360"/>
            <a:ext cx="2089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4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62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76280"/>
            <a:ext cx="71640" cy="1440"/>
          </a:xfrm>
          <a:custGeom>
            <a:avLst/>
            <a:gdLst/>
            <a:ahLst/>
            <a:rect l="l" t="t" r="r" b="b"/>
            <a:pathLst>
              <a:path w="45" h="1">
                <a:moveTo>
                  <a:pt x="0" y="0"/>
                </a:moveTo>
                <a:cubicBezTo>
                  <a:pt x="22" y="0"/>
                  <a:pt x="45" y="0"/>
                  <a:pt x="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197440" y="330840"/>
            <a:ext cx="573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476280"/>
            <a:ext cx="1295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32000" y="549360"/>
            <a:ext cx="144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49360"/>
            <a:ext cx="790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771280" y="47592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924000" y="907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850920" y="1341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24000" y="907920"/>
            <a:ext cx="142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3924360" y="765720"/>
            <a:ext cx="115200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924000" y="1700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411280" y="476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10920" y="476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10920" y="638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012000" y="184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659640" y="40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6227640" y="-2772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940360" y="404640"/>
            <a:ext cx="28728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5579640" y="404640"/>
            <a:ext cx="360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155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58920" y="907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998160" y="1198800"/>
            <a:ext cx="10051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3280" y="907920"/>
            <a:ext cx="360360" cy="649440"/>
          </a:xfrm>
          <a:custGeom>
            <a:avLst/>
            <a:gdLst/>
            <a:ahLst/>
            <a:rect l="l" t="t" r="r" b="b"/>
            <a:pathLst>
              <a:path w="227" h="409">
                <a:moveTo>
                  <a:pt x="227" y="409"/>
                </a:moveTo>
                <a:cubicBezTo>
                  <a:pt x="200" y="307"/>
                  <a:pt x="174" y="205"/>
                  <a:pt x="136" y="137"/>
                </a:cubicBezTo>
                <a:cubicBezTo>
                  <a:pt x="98" y="69"/>
                  <a:pt x="23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643280" y="40464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642920" y="90792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788000" y="112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858920" y="177300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067280" y="371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24360" y="1844640"/>
            <a:ext cx="28728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64000" y="63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924000" y="6237000"/>
            <a:ext cx="1439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227640" y="40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11280" y="620640"/>
            <a:ext cx="0" cy="576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916280"/>
            <a:ext cx="289080" cy="424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49360"/>
            <a:ext cx="790560" cy="358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2771280" y="475920"/>
            <a:ext cx="36036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411280" y="6237000"/>
            <a:ext cx="2089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132000" y="549360"/>
            <a:ext cx="144720" cy="57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549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924000" y="907920"/>
            <a:ext cx="142920" cy="433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643280" y="404640"/>
            <a:ext cx="936720" cy="503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59640" y="836640"/>
            <a:ext cx="0" cy="5545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940360" y="404640"/>
            <a:ext cx="287280" cy="1944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0000" y="404640"/>
            <a:ext cx="360360" cy="1944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24360" y="1844640"/>
            <a:ext cx="287280" cy="4392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4360" y="6237360"/>
            <a:ext cx="1439640" cy="144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00" y="6381720"/>
            <a:ext cx="12956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6227640" y="-2772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998160" y="1198800"/>
            <a:ext cx="10051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3280" y="907920"/>
            <a:ext cx="360360" cy="649440"/>
          </a:xfrm>
          <a:custGeom>
            <a:avLst/>
            <a:gdLst/>
            <a:ahLst/>
            <a:rect l="l" t="t" r="r" b="b"/>
            <a:pathLst>
              <a:path w="227" h="409">
                <a:moveTo>
                  <a:pt x="227" y="409"/>
                </a:moveTo>
                <a:cubicBezTo>
                  <a:pt x="200" y="307"/>
                  <a:pt x="174" y="205"/>
                  <a:pt x="136" y="137"/>
                </a:cubicBezTo>
                <a:cubicBezTo>
                  <a:pt x="98" y="69"/>
                  <a:pt x="23" y="23"/>
                  <a:pt x="0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211640" y="1772280"/>
            <a:ext cx="577440" cy="1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051280" y="330840"/>
            <a:ext cx="720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924360" y="837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0" t="3797" r="3489" b="5904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13693" t="0" r="13426" b="591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rcRect l="5052" t="0" r="4962" b="5904"/>
          <a:stretch/>
        </p:blipFill>
        <p:spPr>
          <a:xfrm>
            <a:off x="250920" y="0"/>
            <a:ext cx="47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49:15Z</dcterms:created>
  <dc:creator>Customer</dc:creator>
  <dc:description/>
  <dc:language>en-US</dc:language>
  <cp:lastModifiedBy>Customer</cp:lastModifiedBy>
  <dcterms:modified xsi:type="dcterms:W3CDTF">2017-12-06T17:19:09Z</dcterms:modified>
  <cp:revision>8</cp:revision>
  <dc:subject/>
  <dc:title>Слайд 1</dc:title>
</cp:coreProperties>
</file>