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68A-D289-426B-8C65-D1EAE638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E01-298E-4C81-B6DA-78F243EB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89A-7FE4-4CED-B475-B5BEA82D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7F3-9B86-49F7-9402-002858A3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F4F5-0217-4296-AD69-34903F49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94DF-6A89-4432-85A1-86191EB0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A4EE-DACF-4199-971B-E4E86351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6832-729B-4384-AD6B-430D5BEE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56AD-CA7E-49B2-9E54-14D9E990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A29E-E870-44A7-AFB7-3B3CA5F0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1DAC-9269-4AD6-ACB7-873665A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5DA-0A2F-413E-9D14-012653D6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6802-DD4F-42B9-8015-2315A145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546E-8989-420E-B593-C1209318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AC79-268D-44E4-944E-2E4B131D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F8E6-6F43-4E35-9316-31CBEBC2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E9BB-2CF7-4781-942A-311D72DE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0C5-0BAF-4E75-BF99-37618317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99E-6372-4C44-813C-55D5D10B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85F-461E-47EC-81CF-5E4A3FD8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AAB-9840-4D53-BDDF-A90C95E1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349-89DC-4067-967F-ADEB3D5C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20B-C9B0-4F6D-9AA7-1F9A6FE7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053-13D6-4271-BA3A-254A43EA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4EC9-F4E1-477E-ABAA-CA400084C1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62C6-854C-45E2-A23B-8BE3DAE5EE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b7"/>
                </a:solidFill>
                <a:latin typeface="Arial Black"/>
              </a:rPr>
              <a:t>Семейство </a:t>
            </a:r>
            <a:br>
              <a:rPr sz="6500"/>
            </a:br>
            <a:r>
              <a:rPr b="1" lang="ru-RU" sz="6500" spc="-1" strike="noStrike">
                <a:solidFill>
                  <a:srgbClr val="ffffb7"/>
                </a:solidFill>
                <a:latin typeface="Arial Black"/>
              </a:rPr>
              <a:t>Мотыльковые</a:t>
            </a:r>
            <a:endParaRPr b="1" lang="en-US" sz="65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071720" y="20718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6929280" y="20718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500200" y="471492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5643720" y="47149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5"/>
          <a:stretch/>
        </p:blipFill>
        <p:spPr>
          <a:xfrm>
            <a:off x="3857760" y="2357280"/>
            <a:ext cx="2066760" cy="15433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8"/>
          <p:cNvSpPr/>
          <p:nvPr/>
        </p:nvSpPr>
        <p:spPr>
          <a:xfrm>
            <a:off x="1009080" y="428760"/>
            <a:ext cx="7247520" cy="764280"/>
          </a:xfrm>
          <a:prstGeom prst="rect">
            <a:avLst/>
          </a:prstGeom>
          <a:solidFill>
            <a:srgbClr val="00cc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едставители семейств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2357280" y="1285920"/>
            <a:ext cx="4714920" cy="5246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1384560" y="357120"/>
            <a:ext cx="6445800" cy="764280"/>
          </a:xfrm>
          <a:prstGeom prst="rect">
            <a:avLst/>
          </a:prstGeom>
          <a:solidFill>
            <a:srgbClr val="00cc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убеньковые бакте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57120" y="8571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ая характеристика мотыльков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1989000"/>
            <a:ext cx="77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изненная форм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ревья – компассия малакк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устарники – акация жёлт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авы – горох посевн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785880" y="928800"/>
            <a:ext cx="770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стья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ые, с прилистника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цветие - голо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857160" y="928800"/>
            <a:ext cx="75614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веток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правильный с двойным околоцветнико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ормула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(5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(5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 (9+1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28800" y="4572000"/>
            <a:ext cx="60721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д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б – бо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8936" r="0" b="7583"/>
          <a:stretch/>
        </p:blipFill>
        <p:spPr>
          <a:xfrm>
            <a:off x="5500800" y="2357280"/>
            <a:ext cx="33242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20:32Z</dcterms:created>
  <dc:creator>User</dc:creator>
  <dc:description/>
  <dc:language>en-US</dc:language>
  <cp:lastModifiedBy>Сапрыкина Нина Дмитриевна</cp:lastModifiedBy>
  <dcterms:modified xsi:type="dcterms:W3CDTF">2010-02-24T08:54:59Z</dcterms:modified>
  <cp:revision>18</cp:revision>
  <dc:subject/>
  <dc:title>Семейство Розоцветные</dc:title>
</cp:coreProperties>
</file>