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52A8-1D92-4974-8F40-75BC6C639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9D9C-1A0C-47D0-A06A-F101AE84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81A9-CF2C-4B76-99C0-981E3F896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3130-5141-4FC0-ACF7-A585B534C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9BB5-8C98-4B93-BDFB-13404DFF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98C8-BB83-4E5C-B084-77D81A6D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84B5-200F-4D0F-A3A8-87E13695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D70B-FA64-45CF-9AE1-CC64EFC8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D4A0-3237-4290-95C3-D9EB70A0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29CB-EF5E-4935-BFD1-2AB32235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6657-4E00-4C84-9FB3-20B9547A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DE01-15BF-4262-9336-9B333EF7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EFC6-2F2E-468B-A27C-EB9CB585F0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О-МЕТОДИЧЕСКИЙ КОМПЛЕК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rcRect l="0" t="32219" r="0" b="0"/>
          <a:stretch/>
        </p:blipFill>
        <p:spPr>
          <a:xfrm>
            <a:off x="9360" y="1903320"/>
            <a:ext cx="913464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508720" y="2046240"/>
            <a:ext cx="3635280" cy="478152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"/>
          <p:cNvSpPr/>
          <p:nvPr/>
        </p:nvSpPr>
        <p:spPr>
          <a:xfrm>
            <a:off x="684360" y="981000"/>
            <a:ext cx="7775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т учебнико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кола России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ет собой целостную модель начальной школы, построенную на единых концептуальных основах и имеющую полное программно-методическое обеспеч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учебно-методическому комплекту приданы такие качества, как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ундаментальность, надёжность, стабильность, открытость новом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е должны быть неотъемлемыми характеристиками начальной школы для того, чтобы она могла с успехом выполнять свое высокое предназнач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192240" y="549360"/>
            <a:ext cx="878508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Обобщающими характеристиками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одержания комплекта являются следующ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ичностно-развивающий характер образования с приоритетом духовно-нравственного развития ребе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ждански-ориентированный характер образования, предусматривающий воспитание ребенка гражданином своей страны, развивающий чувства гражданственности и патриотиз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лобально-ориентированный характер образования, отвечающий новым задачам образования в эпоху глобал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коадекватный характер образования с приоритетным вниманием к проблемам экологической этики, воспитанию любви и бережного отношения к приро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rcRect l="0" t="1061" r="0" b="0"/>
          <a:stretch/>
        </p:blipFill>
        <p:spPr>
          <a:xfrm>
            <a:off x="23760" y="0"/>
            <a:ext cx="909648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250920" y="115920"/>
            <a:ext cx="280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учебников «Школа России» в Федеральном перечне учебников, рекомендуемых к использованию при реализации имеющих государственную аккредитацию образовательных программ начального общего, основного общего, среднего общего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3051000" y="168120"/>
            <a:ext cx="6093000" cy="65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324000" y="26028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Главная идея программы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 Росси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а стать школой духовно-нравственного развит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160720" y="1413000"/>
            <a:ext cx="496728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435640" y="1951200"/>
            <a:ext cx="3708360" cy="48765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"/>
          <p:cNvSpPr/>
          <p:nvPr/>
        </p:nvSpPr>
        <p:spPr>
          <a:xfrm>
            <a:off x="0" y="142920"/>
            <a:ext cx="871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Цели обуч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ринцип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214200" y="692280"/>
            <a:ext cx="873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оздание условий для развития личности младшего школьника, реализации его способностей, поддержка индивидуаль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освоение младшим школьником системы знаний, общеучебных и предметных умений и навык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формирование у ребенка интереса к учению и умения учить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формирование здоровьесберегающих навыков, обучение основам безопасной жизне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285840" y="4643280"/>
            <a:ext cx="857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оритет воспитания в образовательном процесс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ичностно-ориентированный и деятельностный характер обуч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четание инновационных подходов с традициями отечественного образ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179280" y="189000"/>
            <a:ext cx="878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МК  «Школа России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а таким  образом, что  все его важнейшие компоненты: предметное содержание, дидактическое  обеспечение, методическое сопровождение и художественно-полиграфическое исполнение направлены на достижение результатов освоения основной образовательной программы начального общего образования, учитывают требования к ее структуре и содержанию, отраженные в ФГО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216000" y="5732640"/>
            <a:ext cx="87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жнейшая задача российской школ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тановление российской гражданской идентичности обучающих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867040" y="2203560"/>
            <a:ext cx="34099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250920" y="2602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ализация методологической и методической основы ФГОС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организации учебной деятельности учащихся на основе системно-деятельностного подх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646200" y="1557360"/>
            <a:ext cx="764856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1337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1"/>
          <p:cNvSpPr/>
          <p:nvPr/>
        </p:nvSpPr>
        <p:spPr>
          <a:xfrm>
            <a:off x="88920" y="213372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новы религиозных культур и светской эти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92160" y="2852640"/>
            <a:ext cx="8858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учебного курса ОРКСЭ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обучающихся с основами православной, мусульманской, буддийской, иудейской культур, основами мировых религиозных культур и светской этик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редставлений младшего подростка о значении нравственных норм и ценносте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 знаний, понятий и представлений о духовной культуре и морали, полученных обучающимися в начальной школе, и формирование у них ценностно-смысловых мировоззренческих основ, обеспечивающих целостное восприятие отечественной истории и культуры при изучении гуманитарных предметов на ступени основной школ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пособностей школьников к общению в полиэтнической и многоконфессиональной среде на основе взаимного уважения и диалога во имя общественного мира и соглас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2"/>
          <p:cNvSpPr/>
          <p:nvPr/>
        </p:nvSpPr>
        <p:spPr>
          <a:xfrm>
            <a:off x="395280" y="620640"/>
            <a:ext cx="8034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рограмма разработана на основ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ОС НО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и духовно-нравственного развития и воспитания личности гражданина Росс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уемых результатов начального общего образова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ой программы начального общего образова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й к результатам освоения основной образовательной программы начального общего образова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2T05:52:01Z</dcterms:created>
  <dc:creator>Денис</dc:creator>
  <dc:description/>
  <dc:language>en-US</dc:language>
  <cp:lastModifiedBy>Анастасия Вотякова</cp:lastModifiedBy>
  <dcterms:modified xsi:type="dcterms:W3CDTF">2019-05-21T14:41:12Z</dcterms:modified>
  <cp:revision>23</cp:revision>
  <dc:subject/>
  <dc:title>Презентация PowerPoint</dc:title>
</cp:coreProperties>
</file>