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754-405A-4DC7-8788-AE896BC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B22-FD01-4DAE-8266-188F125A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7DE-11C9-4BB2-BC72-44B0490D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2F7-B91D-4FCA-9616-25DD1C7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BDF-57A2-40AE-81C6-BC67890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6235-7EDF-48A1-8F26-FEF001C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04C-AE59-4A8F-BCF7-8E90737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43E-4064-45BA-AD0A-11CBA3B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9199-566F-4C51-8F02-9922957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5907-67AB-4474-B7B4-6D02AC2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438-6858-43D5-8527-BC7B8F1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32A-0012-4255-BFD4-AE0CB74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A7A-1710-4609-BAA6-109C860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3D2F-1244-4F7B-B688-8670FAB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872A-AC5C-414F-AEF8-6106252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38D-8658-499C-BBD9-2AC9CD02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E3D4-AF82-42A4-8CAE-7716BB19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138B-4147-4C08-A750-8831A15C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6FEC-0731-4F96-806A-1DF0D1B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C34A-8A6C-4115-B0A1-7C535F2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80C7-035D-41BB-9155-4C562A1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62A2-BB8F-403D-8F24-3BE58B3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C4B-8D3B-4414-9D9A-50D64632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B41C-B614-43B8-98F5-91E879D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1013-A0F6-404A-9171-AB0F816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B296-9710-47B4-8078-314882F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BA8D-65B3-41C1-B473-B991053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1F5A-2E60-465B-BEF3-7600745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2D3A-7135-44D9-B351-B5EDD5E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2135-0E42-413B-A71D-531FDE3A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238-C139-455F-943C-EF72AF4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EE3-1265-4B67-B8FD-4CF2655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8E3-FFA8-4FAA-802A-DEB0F967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53A-327A-44D9-931A-AA251259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8E5-6FE2-492E-BD6C-F708794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EFD-E3FB-49F6-BDD4-10F8647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CCC-35B8-48AC-868B-DCC71A3F6892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94E-BDC7-4651-9B38-8FA82EA28B8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BF4-F87A-4FC9-A823-B8B9F30DC504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ИЙ КОМПЛЕКС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89000" y="2637000"/>
            <a:ext cx="87040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35880" y="3529080"/>
            <a:ext cx="2508120" cy="32986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"/>
          <p:cNvSpPr/>
          <p:nvPr/>
        </p:nvSpPr>
        <p:spPr>
          <a:xfrm>
            <a:off x="179280" y="260280"/>
            <a:ext cx="8856720" cy="631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основных универсальных учебных действий выделяют 4 ви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У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правлены на осознание, исследование и принятие жизненных ценностей, позволяют сориентироваться в нравственных нормах и правилах, выработать свою жизненную позицию в отношении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У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ют организацию учащимися своей учебной деятельности (целеполагание, планирование, прогнозирование, составление плана, контроль, коррекция, оценка, саморегуляц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У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ют социальную компетентность и ориентацию на других людей, умение слушать и вступать в диалог, участвовать в коллективном обсуждении проблем, интегрироваться в группу сверстников и строить продуктивное сотрудничество со взрослыми и сверст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У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еучебные (включая специально – предметные действия), логические (включая знаково – символические), постановку и решение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34080" y="18900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324000" y="642960"/>
            <a:ext cx="8034120" cy="521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а разработана на основ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и духовно-нравственного развития и воспитания личности гражданина Ро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х результатов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й к результатам освоения основной образовательной программы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4920" y="301680"/>
            <a:ext cx="8999640" cy="521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учебник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ую полное программно-методическое обеспе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учебно-методическому комплекту приданы такие качества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ость, надёжность, стабильность, открытость нов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должны быть неотъемлемыми характеристиками начальной школы для того, чтобы она могла с успехом выполнять свое высокое предназна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08000" y="549360"/>
            <a:ext cx="8785080" cy="484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ми характеристик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 комплекта являются следу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развивающий характер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-ориентированный характер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ый характер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ый характер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9960" y="259920"/>
            <a:ext cx="5484960" cy="604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т для 1-4 классов общеобразовательных учрежд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комплекта - Андрей Анатольевич Плешаков, кандидат педагогических наук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единого целостного данный комплект работает с 2001 года. Это один из самых известных и востребованных учебно-методических комплектов для обучения в начальных классах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постоянно обновляется и является надёжным инструментом реализации стандарта второго поко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59407" t="39137" r="8307" b="7982"/>
          <a:stretch/>
        </p:blipFill>
        <p:spPr>
          <a:xfrm>
            <a:off x="5900760" y="1413000"/>
            <a:ext cx="308592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968720" y="1638360"/>
            <a:ext cx="4175280" cy="43815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179280" y="1289160"/>
            <a:ext cx="4794480" cy="649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тапредметных и предметных результатов, соответствующих задачам современ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79280" y="115920"/>
            <a:ext cx="8964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е традиции российского образования и проверенные практикой иннов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 сегодня — 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50920" y="115920"/>
            <a:ext cx="280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чебни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деральном перечне учебников, рекомендуем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051000" y="168120"/>
            <a:ext cx="60930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324000" y="260280"/>
            <a:ext cx="8640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идея программ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Росс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стать школой духовно-нравственного разви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160720" y="1413000"/>
            <a:ext cx="4967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0" y="142920"/>
            <a:ext cx="87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обуч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14200" y="692280"/>
            <a:ext cx="873144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здание условий для развития личности младшего школьника, реализации его способностей, поддержка индивидуа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своение младшим школьником системы знаний, общеучебных и предметных умений и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ормирование у ребенка интереса к учению и умения учи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формирование здоровьесберегающих навыков, обучение основам безопасной жизне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85840" y="4643280"/>
            <a:ext cx="857232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ритет воспитания в образовательном проце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о-ориентированный и деятельностный характер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четание инновационных подходов с традициями отечествен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79280" y="189000"/>
            <a:ext cx="8785440" cy="192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 «Школа России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а таким  образом, что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его важнейшие компонент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е содержание, дидактическое  обеспечение, методическое сопровождение и художественно-полиграфическое исполн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достижение результатов освоения основной образовательной программы начального общего образова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требования к ее структуре и содержанию, отраженные в ФГ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216000" y="5300640"/>
            <a:ext cx="87120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задача российской школ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тановление российской гражданской идентичност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568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250920" y="260280"/>
            <a:ext cx="8713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методологической и методической основы ФГОС — организации учебной деятельности учащихся на основе системно-деятельностного подх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46200" y="1557360"/>
            <a:ext cx="76485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88920" y="2133720"/>
            <a:ext cx="8856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религиозных культур и светской э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92160" y="2852640"/>
            <a:ext cx="8858160" cy="366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чебного курса ОРКСЭ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младшего подростка о значении нравственных норм и ценнос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5:52:01Z</dcterms:created>
  <dc:creator>Денис</dc:creator>
  <dc:description/>
  <dc:language>en-US</dc:language>
  <cp:lastModifiedBy>Ирина</cp:lastModifiedBy>
  <dcterms:modified xsi:type="dcterms:W3CDTF">2020-03-03T14:05:38Z</dcterms:modified>
  <cp:revision>29</cp:revision>
  <dc:subject/>
  <dc:title>Презентация PowerPoint</dc:title>
</cp:coreProperties>
</file>