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5F253-1801-4450-99AF-3E17C25A95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5E52B-F6D7-41CE-89FA-999DE3DC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BA6D0-D9A2-4CAC-BBCF-70838CDA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6F7B3-AC8F-401B-AD0B-FD9E2E2FFB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751E1E-8ACC-40E2-8170-0C232C500B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9242F3-BCC5-4918-A92E-DB81050E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99154A-DB73-48D8-810A-7D60CF2A9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DE1C1C-5EEF-4FD2-B2D3-A003481C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72C83-E60C-4A0E-A572-481985B0C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F9647-D600-4EC6-9F69-BA3E33812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412953-DCBD-467B-BEBD-D562A071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B94D0-47BD-4B9A-AC77-D43DC304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14CEE-BA85-4C0D-9245-6A79CA00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38E290-D820-4DCE-915C-D0CA34ED1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BEF00-B8FF-4C2B-B0BA-D06C0CB9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2D06F9-13D7-4F74-9ADC-9F81DCD0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B24E2-83B5-45C5-A19F-5B7AB1133E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B3046-37D8-45E6-A28D-065AEDF8D4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8100B-069E-4471-9F9E-EBAEDC6A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6EC1-38FC-4222-94DA-03FC49D8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E33F4-26CB-4029-B527-23EEA1B4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2798-D29B-460C-B018-FF45874F5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9BFD5-924A-4DE3-B4D2-4B4FAB0D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F22A9-1AF6-40BF-9838-5597AFF1F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2919-4951-427F-B7FC-AE1733D5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60E6-AC93-40E6-9BBF-F27D7F49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E1EF-3125-43C1-86E2-4E18CB67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FED2-E757-4643-AE7D-2C16726A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6AA8A-0FA6-4ECE-9B49-D2E1FC8B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84FFE-5335-4029-9AB2-AD50A0A3D1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CBB76-FCA2-4E06-B48D-BFC0311D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C03FC-87CE-42F6-91B9-3115052DA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5E117-D9F1-4F5A-B2EC-101FE0F8B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7CBB2-3E2D-4576-BF67-7CBD9E1F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38C5E-4B67-4857-86E3-354AFEE0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695D9-5D98-4742-900C-0A25BC5B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115daa"/>
              </a:gs>
              <a:gs pos="100000">
                <a:srgbClr val="697ea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86882"/>
              </a:gs>
              <a:gs pos="100000">
                <a:srgbClr val="0670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50400" y="-255600"/>
            <a:ext cx="9234720" cy="1561320"/>
            <a:chOff x="-50400" y="-255600"/>
            <a:chExt cx="9234720" cy="1561320"/>
          </a:xfrm>
        </p:grpSpPr>
        <p:sp>
          <p:nvSpPr>
            <p:cNvPr id="3" name=""/>
            <p:cNvSpPr/>
            <p:nvPr/>
          </p:nvSpPr>
          <p:spPr>
            <a:xfrm rot="21420000">
              <a:off x="-28080" y="-15840"/>
              <a:ext cx="9180000" cy="108216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800">
              <a:solidFill>
                <a:srgbClr val="2470bb">
                  <a:alpha val="5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rot="21420000">
              <a:off x="-24840" y="106200"/>
              <a:ext cx="9192600" cy="88236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360">
              <a:solidFill>
                <a:srgbClr val="297fd5">
                  <a:alpha val="5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016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18360" tIns="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5.12.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2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38545D6-B19E-4A41-A66B-4BCF50401009}" type="slidenum">
              <a:rPr b="0" lang="ru-RU" sz="18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115daa"/>
              </a:gs>
              <a:gs pos="100000">
                <a:srgbClr val="697ea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86882"/>
              </a:gs>
              <a:gs pos="100000">
                <a:srgbClr val="0670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-50400" y="-255600"/>
            <a:ext cx="9234720" cy="1561320"/>
            <a:chOff x="-50400" y="-255600"/>
            <a:chExt cx="9234720" cy="1561320"/>
          </a:xfrm>
        </p:grpSpPr>
        <p:sp>
          <p:nvSpPr>
            <p:cNvPr id="49" name=""/>
            <p:cNvSpPr/>
            <p:nvPr/>
          </p:nvSpPr>
          <p:spPr>
            <a:xfrm rot="21420000">
              <a:off x="-28080" y="-15840"/>
              <a:ext cx="9180000" cy="108216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800">
              <a:solidFill>
                <a:srgbClr val="2470bb">
                  <a:alpha val="5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21420000">
              <a:off x="-24840" y="106200"/>
              <a:ext cx="9192600" cy="88236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360">
              <a:solidFill>
                <a:srgbClr val="297fd5">
                  <a:alpha val="5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5.12.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4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99E7DAE-A118-4394-90D8-6902ADB52288}" type="slidenum">
              <a:rPr b="0" lang="ru-RU" sz="18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115daa"/>
              </a:gs>
              <a:gs pos="100000">
                <a:srgbClr val="697ea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86882"/>
              </a:gs>
              <a:gs pos="100000">
                <a:srgbClr val="0670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-50400" y="-255600"/>
            <a:ext cx="9234720" cy="1561320"/>
            <a:chOff x="-50400" y="-255600"/>
            <a:chExt cx="9234720" cy="1561320"/>
          </a:xfrm>
        </p:grpSpPr>
        <p:sp>
          <p:nvSpPr>
            <p:cNvPr id="95" name=""/>
            <p:cNvSpPr/>
            <p:nvPr/>
          </p:nvSpPr>
          <p:spPr>
            <a:xfrm rot="21420000">
              <a:off x="-28080" y="-15840"/>
              <a:ext cx="9180000" cy="108216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800">
              <a:solidFill>
                <a:srgbClr val="2470bb">
                  <a:alpha val="5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rot="21420000">
              <a:off x="-24840" y="106200"/>
              <a:ext cx="9192600" cy="88236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360">
              <a:solidFill>
                <a:srgbClr val="297fd5">
                  <a:alpha val="5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920960"/>
            <a:ext cx="403704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638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263880" indent="-2638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263880" indent="-2638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263880" indent="-2638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63880" indent="-2638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63880" indent="-2638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63880" indent="-2638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5.12.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6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23BD8FA-AD26-4236-841B-5E590DB503D6}" type="slidenum">
              <a:rPr b="0" lang="ru-RU" sz="18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242852"/>
                </a:solidFill>
                <a:latin typeface="Calibri"/>
              </a:rPr>
              <a:t>Решение задач по теме:</a:t>
            </a:r>
            <a:br>
              <a:rPr sz="5000"/>
            </a:br>
            <a:r>
              <a:rPr b="0" lang="ru-RU" sz="5000" spc="-1" strike="noStrike">
                <a:solidFill>
                  <a:srgbClr val="242852"/>
                </a:solidFill>
                <a:latin typeface="Calibri"/>
              </a:rPr>
              <a:t>«Четырёхугольники»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000" spc="-1" strike="noStrike">
                <a:solidFill>
                  <a:srgbClr val="242852"/>
                </a:solidFill>
                <a:latin typeface="Calibri"/>
              </a:rPr>
              <a:t>Работаем в группах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1052640"/>
            <a:ext cx="822960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Третья групп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116000" y="1484280"/>
            <a:ext cx="698508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000" spc="-1" strike="noStrike">
                <a:solidFill>
                  <a:srgbClr val="242852"/>
                </a:solidFill>
                <a:latin typeface="Calibri"/>
              </a:rPr>
              <a:t>Повторение теории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052640"/>
            <a:ext cx="8229600" cy="52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556000" y="1052640"/>
            <a:ext cx="4103640" cy="52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000" spc="-1" strike="noStrike">
                <a:solidFill>
                  <a:srgbClr val="242852"/>
                </a:solidFill>
                <a:latin typeface="Calibri"/>
              </a:rPr>
              <a:t>Проверка домашнего задания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1197000"/>
            <a:ext cx="8229600" cy="51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Диагональ прямоугольника образует угол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600 с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одной из его сторон. Найдите угол между диагоналями этого прямоугольн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39640" y="3573360"/>
            <a:ext cx="381636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000" spc="-1" strike="noStrike">
                <a:solidFill>
                  <a:srgbClr val="242852"/>
                </a:solidFill>
                <a:latin typeface="Calibri"/>
              </a:rPr>
              <a:t>Проверка домашнего задания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8360" y="1197000"/>
            <a:ext cx="8300880" cy="51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Сторона АВ параллелограмма ABCD  вдвое больше стороны ВС. Точка К – середина стороны АВ. Докажите, что СК – биссектриса угла BC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71640" y="3789360"/>
            <a:ext cx="402912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000" spc="-1" strike="noStrike">
                <a:solidFill>
                  <a:srgbClr val="242852"/>
                </a:solidFill>
                <a:latin typeface="Calibri"/>
              </a:rPr>
              <a:t>Ответы к тест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ариант 1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7f8fa9"/>
              </a:buClr>
              <a:buSzPct val="95000"/>
              <a:buFont typeface="Times New Roman"/>
              <a:buAutoNum type="arabicPlain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7f8fa9"/>
              </a:buClr>
              <a:buSzPct val="95000"/>
              <a:buFont typeface="Times New Roman"/>
              <a:buAutoNum type="arabicPlain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     Б, В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7f8fa9"/>
              </a:buClr>
              <a:buSzPct val="95000"/>
              <a:buFont typeface="Times New Roman"/>
              <a:buAutoNum type="arabicPlain" startAt="4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7f8fa9"/>
              </a:buClr>
              <a:buSzPct val="95000"/>
              <a:buFont typeface="Times New Roman"/>
              <a:buAutoNum type="arabicPlain" startAt="4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6       Г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7     70, 11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3280" y="1915920"/>
            <a:ext cx="359568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8000"/>
          </a:bodyPr>
          <a:p>
            <a:pPr indent="0">
              <a:lnSpc>
                <a:spcPct val="90000"/>
              </a:lnSpc>
              <a:spcBef>
                <a:spcPts val="524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Вариант 2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     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     Б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3    В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6       Г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7       40, 14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000" spc="-1" strike="noStrike">
                <a:solidFill>
                  <a:srgbClr val="242852"/>
                </a:solidFill>
                <a:latin typeface="Calibri"/>
              </a:rPr>
              <a:t>Работаем устно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197000"/>
            <a:ext cx="8229600" cy="50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Дано: ABCD-четырёхугольни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СО =О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Доказать: ABCD-параллелограм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10872720" cy="576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826920" y="3284640"/>
            <a:ext cx="3745080" cy="272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000" spc="-1" strike="noStrike">
                <a:solidFill>
                  <a:srgbClr val="242852"/>
                </a:solidFill>
                <a:latin typeface="Calibri"/>
              </a:rPr>
              <a:t>Работаем вмест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5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равнобедренной трапеции основания равны 3 см и 5 см, а один из углов между боковой стороной и основанием равен 45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Найдите высоту трапец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52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00000" y="3645000"/>
            <a:ext cx="3600720" cy="240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000" spc="-1" strike="noStrike">
                <a:solidFill>
                  <a:srgbClr val="242852"/>
                </a:solidFill>
                <a:latin typeface="Calibri"/>
              </a:rPr>
              <a:t>Работаем в группах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042920" y="3573360"/>
            <a:ext cx="4105440" cy="22766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rcRect l="5118" t="0" r="5901" b="0"/>
          <a:stretch/>
        </p:blipFill>
        <p:spPr>
          <a:xfrm>
            <a:off x="250920" y="1557360"/>
            <a:ext cx="8713800" cy="16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000" spc="-1" strike="noStrike">
                <a:solidFill>
                  <a:srgbClr val="242852"/>
                </a:solidFill>
                <a:latin typeface="Calibri"/>
              </a:rPr>
              <a:t>Работаем в группах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5839" t="0" r="2925" b="0"/>
          <a:stretch/>
        </p:blipFill>
        <p:spPr>
          <a:xfrm>
            <a:off x="144360" y="1268280"/>
            <a:ext cx="8999640" cy="1584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971640" y="2924280"/>
            <a:ext cx="3816360" cy="2801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нформатика</cp:lastModifiedBy>
  <dcterms:modified xsi:type="dcterms:W3CDTF">2015-02-17T09:22:36Z</dcterms:modified>
  <cp:revision>1</cp:revision>
  <dc:subject/>
  <dc:title>Решение задач по теме: «Четырёхугольники»</dc:title>
</cp:coreProperties>
</file>