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AF9-91B4-4C86-B2B1-D3B32306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F93-6679-4478-8E8D-2700CF7D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5E8-4934-481F-BFEB-EFA24C73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F62-5A09-444F-ADC0-3FFB3D21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C6A-2D23-4BBA-A655-EA50ED02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18E9-D7DB-4509-A6AD-FAB00538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1BA-2E54-422F-82D1-7B315C3D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EF3A-B578-4B26-B4D9-B59A9BB3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12C5-156E-4477-BDFC-21159CA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F4CB-B159-4A97-8693-464678D3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9993-5AE9-4523-B35F-B3F7D5F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929-DE22-4F32-9995-9B60DF9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63F-339B-47C6-927B-663F4FA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152C-F3B9-45A7-99F7-7BEB49B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E517-B863-4577-A08C-96B7A3E5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E2EC-A50E-48FD-822D-9F7E38AD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5EC-CD0A-45DA-8D73-AE07A2F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E337-ACAF-48C1-A39C-5CB9F742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A3DF-0647-4473-B0F0-43A0E091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CDC7-B676-44F9-81D8-7EFD9DF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1B37-6944-4579-BFE8-C7D37FB3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63EA-D8DF-4BA4-85D3-A504ACE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588-AF2B-4300-B491-5E8E2AE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7D14-5616-4BF1-B6DE-B40BCD7D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2BD3-BB0B-4CF2-93AF-501C0C6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09EC-AAED-4C68-8731-C5728C7A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8A49-0E99-4F94-8B6B-D2BFBB4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607B-2502-475E-88E6-5FB027FC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22CF-C965-44DF-A2C2-A4BB953B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CAB1-CC45-41C0-BD9C-37A3941E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6DB-FF8E-4F55-99EA-3ECD940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E68-4D38-4C44-A3AB-BA49B729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680-4E5C-406F-9FB0-8B9A22A1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801-81F2-48A2-A5D0-B1B9F8C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601-17E7-4AC4-8DAE-EAB8C18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9DF-D56E-467A-96F0-8AD9B5BC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C397-81DF-42E7-A119-0D3650276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B57B-91FF-4378-AE50-AD119496E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3CD-9A3B-46E7-93BC-CE73E82C7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40840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утро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75 упр.1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в м..г..зине м..ш..нку. Я нарисовал воробья, в..рону и з..мл..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в магазине машинку. Я нарисовал воробья, ворону и земля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744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и множественное число глагол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5600" y="2590920"/>
            <a:ext cx="7970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определять числа глаго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8080" y="380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спомнить все то, что нам понадобиться о единственном и множественном чис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нать как определять число глагол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учиться определять число глагол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репить новые 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в единственном числе обозначает действие одного предмета: стучит, пишет, игр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во множественном числе обозначает действие двух или более предметов: стучат, пишут, игр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вонит (ед.ч.) – звонят (мн.ч.), летит (ед.ч.) – летят (мн.ч.), жужжит (ед.ч.) – жужжат (мн.ч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вторила (ед.ч.) – повторили (мн.ч.), говорил (ед.ч.) – говорили (мн.ч.), гремело (ед.ч.)  – гремели (мн.ч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ли –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л –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–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ла –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ть глаголы в ед.ч. и в мн.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576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ется (ед.ч.), ушли (мн.ч.), радуется (ед.ч.), смеются (мн.ч.), улыбнутся (мн.ч.), принес (ед.ч.), научусь (ед.ч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7T13:40:25Z</dcterms:created>
  <dc:creator>User</dc:creator>
  <dc:description/>
  <dc:language>en-US</dc:language>
  <cp:lastModifiedBy>User</cp:lastModifiedBy>
  <dcterms:modified xsi:type="dcterms:W3CDTF">2020-05-17T13:52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